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23.png" ContentType="image/png"/>
  <Override PartName="/ppt/media/image55.jpeg" ContentType="image/jpeg"/>
  <Override PartName="/ppt/media/image13.jpeg" ContentType="image/jpeg"/>
  <Override PartName="/ppt/media/image40.png" ContentType="image/png"/>
  <Override PartName="/ppt/media/image44.jpeg" ContentType="image/jpeg"/>
  <Override PartName="/ppt/media/image38.jpeg" ContentType="image/jpeg"/>
  <Override PartName="/ppt/media/image9.png" ContentType="image/png"/>
  <Override PartName="/ppt/media/image46.jpeg" ContentType="image/jpeg"/>
  <Override PartName="/ppt/media/image47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50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12.png" ContentType="image/png"/>
  <Override PartName="/ppt/media/image54.jpeg" ContentType="image/jpeg"/>
  <Override PartName="/ppt/media/image31.jpeg" ContentType="image/jpeg"/>
  <Override PartName="/ppt/media/image37.jpeg" ContentType="image/jpeg"/>
  <Override PartName="/ppt/media/image3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jpeg" ContentType="image/jpeg"/>
  <Override PartName="/ppt/media/image5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780000" y="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920" rIns="88920" tIns="44640" bIns="4464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"/>
          </p:nvPr>
        </p:nvSpPr>
        <p:spPr>
          <a:xfrm>
            <a:off x="37796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F87520-9F9F-4BA7-AE8B-6AAD8FD14B4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endure-network.eu/about_endure/all_the_news/guide_to_tackling_wcr_now_available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A1621A-9ADC-4581-8402-2A63FE260B8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"/>
          <p:cNvSpPr/>
          <p:nvPr/>
        </p:nvSpPr>
        <p:spPr>
          <a:xfrm>
            <a:off x="853920" y="74448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plus d’informations voi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ENDURE NETWORK - Guide to tackling WCR now available / All the news / About ENDURE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NDURE NETWORK - Learning IPM lessons from WCR in Hungary / All the news / About EN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NDURE NETWORK - New training leaflet: the participatory approach / All the news / About ENDUR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43A7FD-1115-40A4-99A0-B55617BB69D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ADE460-F0C1-4C43-A06A-18591C4E10A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81FDD0-BED2-4A37-9AF6-304D9BCEFCC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0DD343-50EA-4B2B-A537-D12D37742E3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1DCDA7-9268-4848-A35F-B834F65B975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778200" y="942660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0B9D-7A4C-47EC-8D4B-696957DB5BE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78144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78144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9428040"/>
            <a:ext cx="2870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870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27080" y="87300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73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2245A9-9E63-4494-81C8-4D1ED90520E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DC1FD0-8BC7-4DE1-B62F-6E3567D9DB3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D102A9-643F-4F39-BE52-4501947F49D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C4DEEF-787A-4853-A776-B9CCEF4A422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EE7272-8C4E-4013-A264-EA6EAFE48F7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25.xml"/><Relationship Id="rId26" Type="http://schemas.openxmlformats.org/officeDocument/2006/relationships/slideLayout" Target="../slideLayouts/slideLayout26.xml"/><Relationship Id="rId27" Type="http://schemas.openxmlformats.org/officeDocument/2006/relationships/slideLayout" Target="../slideLayouts/slideLayout27.xml"/><Relationship Id="rId28" Type="http://schemas.openxmlformats.org/officeDocument/2006/relationships/slideLayout" Target="../slideLayouts/slideLayout28.xml"/><Relationship Id="rId29" Type="http://schemas.openxmlformats.org/officeDocument/2006/relationships/slideLayout" Target="../slideLayouts/slideLayout29.xml"/><Relationship Id="rId30" Type="http://schemas.openxmlformats.org/officeDocument/2006/relationships/slideLayout" Target="../slideLayouts/slideLayout30.xml"/><Relationship Id="rId31" Type="http://schemas.openxmlformats.org/officeDocument/2006/relationships/slideLayout" Target="../slideLayouts/slideLayout31.xml"/><Relationship Id="rId32" Type="http://schemas.openxmlformats.org/officeDocument/2006/relationships/slideLayout" Target="../slideLayouts/slideLayout32.xml"/><Relationship Id="rId33" Type="http://schemas.openxmlformats.org/officeDocument/2006/relationships/slideLayout" Target="../slideLayouts/slideLayout33.xml"/><Relationship Id="rId34" Type="http://schemas.openxmlformats.org/officeDocument/2006/relationships/slideLayout" Target="../slideLayouts/slideLayout34.xml"/><Relationship Id="rId35" Type="http://schemas.openxmlformats.org/officeDocument/2006/relationships/slideLayout" Target="../slideLayouts/slideLayout35.xml"/><Relationship Id="rId3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37.xml"/><Relationship Id="rId26" Type="http://schemas.openxmlformats.org/officeDocument/2006/relationships/slideLayout" Target="../slideLayouts/slideLayout38.xml"/><Relationship Id="rId27" Type="http://schemas.openxmlformats.org/officeDocument/2006/relationships/slideLayout" Target="../slideLayouts/slideLayout39.xml"/><Relationship Id="rId28" Type="http://schemas.openxmlformats.org/officeDocument/2006/relationships/slideLayout" Target="../slideLayouts/slideLayout40.xml"/><Relationship Id="rId29" Type="http://schemas.openxmlformats.org/officeDocument/2006/relationships/slideLayout" Target="../slideLayouts/slideLayout41.xml"/><Relationship Id="rId30" Type="http://schemas.openxmlformats.org/officeDocument/2006/relationships/slideLayout" Target="../slideLayouts/slideLayout42.xml"/><Relationship Id="rId31" Type="http://schemas.openxmlformats.org/officeDocument/2006/relationships/slideLayout" Target="../slideLayouts/slideLayout43.xml"/><Relationship Id="rId32" Type="http://schemas.openxmlformats.org/officeDocument/2006/relationships/slideLayout" Target="../slideLayouts/slideLayout44.xml"/><Relationship Id="rId33" Type="http://schemas.openxmlformats.org/officeDocument/2006/relationships/slideLayout" Target="../slideLayouts/slideLayout45.xml"/><Relationship Id="rId34" Type="http://schemas.openxmlformats.org/officeDocument/2006/relationships/slideLayout" Target="../slideLayouts/slideLayout46.xml"/><Relationship Id="rId35" Type="http://schemas.openxmlformats.org/officeDocument/2006/relationships/slideLayout" Target="../slideLayouts/slideLayout47.xml"/><Relationship Id="rId3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0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Picture 14" descr="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14" name="Text Box 15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" name="Picture 16" descr="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7" descr="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17" name="Text Box 18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0" name="Text Box 7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14" descr="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6" descr="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8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4" descr="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5" descr="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7" descr="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8" descr="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9" descr="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0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5"/>
    <p:sldLayoutId id="2147483676" r:id="rId26"/>
    <p:sldLayoutId id="2147483677" r:id="rId27"/>
    <p:sldLayoutId id="2147483678" r:id="rId28"/>
    <p:sldLayoutId id="2147483679" r:id="rId29"/>
    <p:sldLayoutId id="2147483680" r:id="rId30"/>
    <p:sldLayoutId id="2147483681" r:id="rId31"/>
    <p:sldLayoutId id="2147483682" r:id="rId32"/>
    <p:sldLayoutId id="2147483683" r:id="rId33"/>
    <p:sldLayoutId id="2147483684" r:id="rId34"/>
    <p:sldLayoutId id="2147483685" r:id="rId35"/>
    <p:sldLayoutId id="2147483686" r:id="rId3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1" descr="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" descr="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0" descr="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2" descr="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3" descr="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4" descr="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5" descr="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6" descr="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7" descr="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8" descr="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9" descr="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0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5"/>
    <p:sldLayoutId id="2147483689" r:id="rId26"/>
    <p:sldLayoutId id="2147483690" r:id="rId27"/>
    <p:sldLayoutId id="2147483691" r:id="rId28"/>
    <p:sldLayoutId id="2147483692" r:id="rId29"/>
    <p:sldLayoutId id="2147483693" r:id="rId30"/>
    <p:sldLayoutId id="2147483694" r:id="rId31"/>
    <p:sldLayoutId id="2147483695" r:id="rId32"/>
    <p:sldLayoutId id="2147483696" r:id="rId33"/>
    <p:sldLayoutId id="2147483697" r:id="rId34"/>
    <p:sldLayoutId id="2147483698" r:id="rId35"/>
    <p:sldLayoutId id="2147483699" r:id="rId3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image" Target="../media/image35.pn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48402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2"/>
          <p:cNvSpPr/>
          <p:nvPr/>
        </p:nvSpPr>
        <p:spPr>
          <a:xfrm>
            <a:off x="539640" y="2924280"/>
            <a:ext cx="806472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utte Intégrée contre la CHRYSOMÈLE DES RACINES DU MAÏ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fr-FR" sz="2800" spc="-1" strike="noStrike">
                <a:solidFill>
                  <a:srgbClr val="000000"/>
                </a:solidFill>
                <a:latin typeface="Verdana"/>
              </a:rPr>
              <a:t>Diabrotica virgifera virgifera LeConte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 Europe Centrale et en Europe de l’Es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3642840" y="6415200"/>
            <a:ext cx="2143800" cy="4449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 C1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9" descr="EU logos"/>
          <p:cNvPicPr/>
          <p:nvPr/>
        </p:nvPicPr>
        <p:blipFill>
          <a:blip r:embed="rId2"/>
          <a:stretch/>
        </p:blipFill>
        <p:spPr>
          <a:xfrm>
            <a:off x="19080" y="6610320"/>
            <a:ext cx="160020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1280" y="13608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7bc623"/>
                </a:solidFill>
                <a:latin typeface="Verdana"/>
                <a:ea typeface="Arial"/>
              </a:rPr>
              <a:t>Protection Intégrée contre la Chrysomèle des racines du maïs </a:t>
            </a:r>
            <a:endParaRPr b="1" lang="en-US" sz="25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c0022b"/>
                </a:solidFill>
                <a:latin typeface="Verdana"/>
              </a:rPr>
              <a:t>Lutte chimique :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arve: Prévenir leur apparition/limiter les déprédations causées par les larves au cours de l’année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traitement des semences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traitement insecticide du sol au moment de semer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dultes : Prévenir la section des soies, limiter le nombre d’œufs et anticiper les déprédations causées par les larves l'année suivante      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application d’insecticides foliaires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pulvérisateur à haut dégagement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avion/hélicoptère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attirer et tuer (faible dose d’insecticide + inhibiteur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'alimentation)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>
              <a:lnSpc>
                <a:spcPct val="7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c0022b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c0022b"/>
                </a:solidFill>
                <a:latin typeface="Verdana"/>
              </a:rPr>
              <a:t>Nouvelles solutions de lutte :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aïs hybride GM (résistant à la Chrysomèle)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Couramment utilisé aux USA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 en cours d’homologation dans certains pays en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urope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P7044711"/>
          <p:cNvPicPr/>
          <p:nvPr/>
        </p:nvPicPr>
        <p:blipFill>
          <a:blip r:embed="rId1"/>
          <a:stretch/>
        </p:blipFill>
        <p:spPr>
          <a:xfrm>
            <a:off x="25560" y="4437000"/>
            <a:ext cx="3024000" cy="2266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P6223798"/>
          <p:cNvPicPr/>
          <p:nvPr/>
        </p:nvPicPr>
        <p:blipFill>
          <a:blip r:embed="rId2"/>
          <a:stretch/>
        </p:blipFill>
        <p:spPr>
          <a:xfrm>
            <a:off x="6012000" y="4437000"/>
            <a:ext cx="3036600" cy="22669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4"/>
          <p:cNvSpPr/>
          <p:nvPr/>
        </p:nvSpPr>
        <p:spPr>
          <a:xfrm>
            <a:off x="0" y="981000"/>
            <a:ext cx="9144000" cy="39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c0022b"/>
                </a:solidFill>
                <a:latin typeface="Arial"/>
              </a:rPr>
              <a:t>L’OBJECTIF DES AGRICULTEURS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st de </a:t>
            </a:r>
            <a:r>
              <a:rPr b="1" lang="fr-FR" sz="2400" spc="-1" strike="noStrike">
                <a:solidFill>
                  <a:srgbClr val="c0022b"/>
                </a:solidFill>
                <a:latin typeface="Arial"/>
              </a:rPr>
              <a:t>LUTTER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contre les ravageurs présents dans les parcel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2000" spc="-1" strike="noStrike">
                <a:solidFill>
                  <a:srgbClr val="00cc99"/>
                </a:solidFill>
                <a:latin typeface="Verdana"/>
              </a:rPr>
              <a:t>cepend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stratégie de lutte limitée à une seule parcelle n'est pas suffisamment efficace pour lutter contre la Chrysomèle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il faut don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Développer </a:t>
            </a:r>
            <a:r>
              <a:rPr b="1" lang="fr-FR" sz="2400" spc="-1" strike="noStrike">
                <a:solidFill>
                  <a:srgbClr val="c0022b"/>
                </a:solidFill>
                <a:latin typeface="Arial"/>
              </a:rPr>
              <a:t>UNE STRATÉGIE COMMUN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sée sur une </a:t>
            </a: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ENTENTE COMMUNE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5" descr="HPIM1146"/>
          <p:cNvPicPr/>
          <p:nvPr/>
        </p:nvPicPr>
        <p:blipFill>
          <a:blip r:embed="rId3"/>
          <a:stretch/>
        </p:blipFill>
        <p:spPr>
          <a:xfrm>
            <a:off x="3048120" y="4438800"/>
            <a:ext cx="3008160" cy="22651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500" spc="-1" strike="noStrike">
                <a:solidFill>
                  <a:srgbClr val="7bc623"/>
                </a:solidFill>
                <a:latin typeface="Verdana"/>
              </a:rPr>
              <a:t>Quel est le point de vue des agriculteurs?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Context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5964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La présence de la chrysomèle des racines du maïs (déprédations causées par les larves) a été observée en Europe pour la première fois en 1992,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1" lang="en-US" sz="22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Ce ravageur s’est ensuite rapidement propagé partout en Europe,</a:t>
            </a:r>
            <a:endParaRPr b="1" lang="en-US" sz="22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Extension par saut derrière la ligne d’extension actuelle</a:t>
            </a:r>
            <a:endParaRPr b="1" lang="en-US" sz="22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Introduction de la chrysomèle des racines du maïs venue d’outre-Atlantique.</a:t>
            </a:r>
            <a:endParaRPr b="1" lang="en-US" sz="22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6" descr="310_992_F1"/>
          <p:cNvPicPr/>
          <p:nvPr/>
        </p:nvPicPr>
        <p:blipFill>
          <a:blip r:embed="rId5"/>
          <a:stretch/>
        </p:blipFill>
        <p:spPr>
          <a:xfrm>
            <a:off x="5435640" y="4581360"/>
            <a:ext cx="3456000" cy="1814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" descr="EUROPEMap2009"/>
          <p:cNvPicPr/>
          <p:nvPr/>
        </p:nvPicPr>
        <p:blipFill>
          <a:blip r:embed="rId6"/>
          <a:stretch/>
        </p:blipFill>
        <p:spPr>
          <a:xfrm>
            <a:off x="2916360" y="4581360"/>
            <a:ext cx="2334960" cy="1835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4" descr="spread2000"/>
          <p:cNvPicPr/>
          <p:nvPr/>
        </p:nvPicPr>
        <p:blipFill>
          <a:blip r:embed="rId7"/>
          <a:stretch/>
        </p:blipFill>
        <p:spPr>
          <a:xfrm>
            <a:off x="324000" y="4581360"/>
            <a:ext cx="23428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1280" y="2091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500" spc="-1" strike="noStrike">
                <a:solidFill>
                  <a:srgbClr val="7bc623"/>
                </a:solidFill>
                <a:latin typeface="Verdana"/>
              </a:rPr>
              <a:t>Morphologie de la chrysomèle des racines du maïs</a:t>
            </a:r>
            <a:endParaRPr b="1" lang="en-US" sz="25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262" name="Picture 6" descr="15"/>
          <p:cNvPicPr/>
          <p:nvPr/>
        </p:nvPicPr>
        <p:blipFill>
          <a:blip r:embed="rId1"/>
          <a:stretch/>
        </p:blipFill>
        <p:spPr>
          <a:xfrm>
            <a:off x="2556000" y="5013360"/>
            <a:ext cx="2160360" cy="1420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"/>
          <p:cNvPicPr/>
          <p:nvPr/>
        </p:nvPicPr>
        <p:blipFill>
          <a:blip r:embed="rId2"/>
          <a:stretch/>
        </p:blipFill>
        <p:spPr>
          <a:xfrm>
            <a:off x="135000" y="5013360"/>
            <a:ext cx="2205000" cy="14479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2"/>
          <p:cNvSpPr/>
          <p:nvPr/>
        </p:nvSpPr>
        <p:spPr>
          <a:xfrm>
            <a:off x="468360" y="1197000"/>
            <a:ext cx="845964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6000"/>
              </a:lnSpc>
              <a:buSzPct val="102792"/>
              <a:buBlip>
                <a:blip r:embed="rId3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Oeufs: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0,5 mm, blanc crémeux, enterrés à 15-20cm de profondeur dans le sol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792"/>
              <a:buBlip>
                <a:blip r:embed="rId4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rves: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 stades larvaires, 1,2 mm (L1) – 1,5 cm (L3), blanc crémeux, stade  tête noir, sol, racines de maïs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792"/>
              <a:buBlip>
                <a:blip r:embed="rId5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upe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pupa libera) 7,5 mm, blanc crémeux, au stade inerte dans le sol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792"/>
              <a:buBlip>
                <a:blip r:embed="rId6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dultes :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,5 mm, jaunes avec trois striures noires, différences morphologiques entre les mâles et les femelles, s’attaquent à la plant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15" descr="4WCRfemale1"/>
          <p:cNvPicPr/>
          <p:nvPr/>
        </p:nvPicPr>
        <p:blipFill>
          <a:blip r:embed="rId7"/>
          <a:stretch/>
        </p:blipFill>
        <p:spPr>
          <a:xfrm>
            <a:off x="4932360" y="3860640"/>
            <a:ext cx="172728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6" descr="3WCR male1"/>
          <p:cNvPicPr/>
          <p:nvPr/>
        </p:nvPicPr>
        <p:blipFill>
          <a:blip r:embed="rId8"/>
          <a:stretch/>
        </p:blipFill>
        <p:spPr>
          <a:xfrm>
            <a:off x="4859280" y="5300640"/>
            <a:ext cx="1800360" cy="1349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7" descr="7adultsonear"/>
          <p:cNvPicPr/>
          <p:nvPr/>
        </p:nvPicPr>
        <p:blipFill>
          <a:blip r:embed="rId9"/>
          <a:stretch/>
        </p:blipFill>
        <p:spPr>
          <a:xfrm>
            <a:off x="6732720" y="4437000"/>
            <a:ext cx="21970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503280" y="1066680"/>
            <a:ext cx="8640720" cy="579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3" descr="PUPA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796000" y="5097600"/>
            <a:ext cx="2111400" cy="1452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larva72"/>
          <p:cNvPicPr/>
          <p:nvPr/>
        </p:nvPicPr>
        <p:blipFill>
          <a:blip r:embed="rId2"/>
          <a:stretch/>
        </p:blipFill>
        <p:spPr>
          <a:xfrm>
            <a:off x="6227640" y="2865600"/>
            <a:ext cx="1960560" cy="2185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200308cr_eggs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987640" y="1569960"/>
            <a:ext cx="3641760" cy="10494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6"/>
          <p:cNvSpPr/>
          <p:nvPr/>
        </p:nvSpPr>
        <p:spPr>
          <a:xfrm>
            <a:off x="685800" y="6743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481560" y="6743880"/>
            <a:ext cx="289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9" descr="DVVAST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1619280" y="5457960"/>
            <a:ext cx="1995480" cy="860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1"/>
          <p:cNvSpPr/>
          <p:nvPr/>
        </p:nvSpPr>
        <p:spPr>
          <a:xfrm>
            <a:off x="250920" y="2192400"/>
            <a:ext cx="7273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2"/>
          <p:cNvSpPr/>
          <p:nvPr/>
        </p:nvSpPr>
        <p:spPr>
          <a:xfrm>
            <a:off x="3160800" y="2452680"/>
            <a:ext cx="3265560" cy="3352680"/>
          </a:xfrm>
          <a:prstGeom prst="ellipse">
            <a:avLst/>
          </a:prstGeom>
          <a:solidFill>
            <a:srgbClr val="dddddd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598680" y="1557360"/>
            <a:ext cx="2174040" cy="9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es oeuf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hivernent da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e s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6518520" y="27939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6698160" y="3586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6661440" y="43527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6809760" y="52419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pa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1042920" y="2889360"/>
            <a:ext cx="2551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es insectes adultes meuren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1718640" y="459432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Ovipos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2430360" y="5392800"/>
            <a:ext cx="1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4060800" y="5780160"/>
            <a:ext cx="1791720" cy="9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merg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des insect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dul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2"/>
          <p:cNvSpPr/>
          <p:nvPr/>
        </p:nvSpPr>
        <p:spPr>
          <a:xfrm rot="1660200">
            <a:off x="5227200" y="2665440"/>
            <a:ext cx="1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23"/>
          <p:cNvSpPr/>
          <p:nvPr/>
        </p:nvSpPr>
        <p:spPr>
          <a:xfrm rot="657000">
            <a:off x="4071960" y="512244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I-VII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 rot="16105200">
            <a:off x="5866200" y="41436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 rot="3043800">
            <a:off x="5628240" y="315324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 rot="18457800">
            <a:off x="3176640" y="315756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II - I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7"/>
          <p:cNvSpPr/>
          <p:nvPr/>
        </p:nvSpPr>
        <p:spPr>
          <a:xfrm rot="3994200">
            <a:off x="3229200" y="445644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I-VII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8"/>
          <p:cNvSpPr/>
          <p:nvPr/>
        </p:nvSpPr>
        <p:spPr>
          <a:xfrm rot="18887400">
            <a:off x="5100840" y="50803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-VI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29"/>
          <p:cNvSpPr/>
          <p:nvPr/>
        </p:nvSpPr>
        <p:spPr>
          <a:xfrm>
            <a:off x="3754440" y="2986200"/>
            <a:ext cx="2152800" cy="2133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30"/>
          <p:cNvSpPr/>
          <p:nvPr/>
        </p:nvSpPr>
        <p:spPr>
          <a:xfrm rot="10357200">
            <a:off x="3785760" y="3030120"/>
            <a:ext cx="2046240" cy="2102040"/>
          </a:xfrm>
          <a:custGeom>
            <a:avLst/>
            <a:gdLst>
              <a:gd name="textAreaLeft" fmla="*/ 0 w 2046240"/>
              <a:gd name="textAreaRight" fmla="*/ 2046600 w 2046240"/>
              <a:gd name="textAreaTop" fmla="*/ 0 h 2102040"/>
              <a:gd name="textAreaBottom" fmla="*/ 1620000 h 2102040"/>
            </a:gdLst>
            <a:ahLst/>
            <a:rect l="textAreaLeft" t="textAreaTop" r="textAreaRight" b="textAreaBottom"/>
            <a:pathLst>
              <a:path w="21600" h="21600">
                <a:moveTo>
                  <a:pt x="3915" y="17733"/>
                </a:moveTo>
                <a:cubicBezTo>
                  <a:pt x="2067" y="15899"/>
                  <a:pt x="1029" y="13403"/>
                  <a:pt x="1029" y="10800"/>
                </a:cubicBezTo>
                <a:cubicBezTo>
                  <a:pt x="1029" y="5403"/>
                  <a:pt x="5403" y="1029"/>
                  <a:pt x="10800" y="1029"/>
                </a:cubicBezTo>
                <a:cubicBezTo>
                  <a:pt x="16196" y="1029"/>
                  <a:pt x="20571" y="5403"/>
                  <a:pt x="20571" y="10800"/>
                </a:cubicBezTo>
                <a:cubicBezTo>
                  <a:pt x="20571" y="13403"/>
                  <a:pt x="19532" y="15899"/>
                  <a:pt x="17684" y="17733"/>
                </a:cubicBezTo>
                <a:lnTo>
                  <a:pt x="18409" y="18463"/>
                </a:lnTo>
                <a:cubicBezTo>
                  <a:pt x="20451" y="16436"/>
                  <a:pt x="21600" y="13677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3677"/>
                  <a:pt x="1148" y="16436"/>
                  <a:pt x="3190" y="18463"/>
                </a:cubicBezTo>
                <a:close/>
              </a:path>
            </a:pathLst>
          </a:custGeom>
          <a:solidFill>
            <a:srgbClr val="66ff33"/>
          </a:solidFill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31"/>
          <p:cNvSpPr/>
          <p:nvPr/>
        </p:nvSpPr>
        <p:spPr>
          <a:xfrm rot="2531400">
            <a:off x="5678640" y="2757240"/>
            <a:ext cx="444240" cy="304560"/>
          </a:xfrm>
          <a:prstGeom prst="rightArrow">
            <a:avLst>
              <a:gd name="adj1" fmla="val 70000"/>
              <a:gd name="adj2" fmla="val 14181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2"/>
          <p:cNvSpPr/>
          <p:nvPr/>
        </p:nvSpPr>
        <p:spPr>
          <a:xfrm rot="9394800">
            <a:off x="5231880" y="5500800"/>
            <a:ext cx="446400" cy="304560"/>
          </a:xfrm>
          <a:prstGeom prst="rightArrow">
            <a:avLst>
              <a:gd name="adj1" fmla="val 70000"/>
              <a:gd name="adj2" fmla="val 142501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33"/>
          <p:cNvSpPr/>
          <p:nvPr/>
        </p:nvSpPr>
        <p:spPr>
          <a:xfrm rot="15843600">
            <a:off x="2926440" y="4056480"/>
            <a:ext cx="457200" cy="297000"/>
          </a:xfrm>
          <a:prstGeom prst="rightArrow">
            <a:avLst>
              <a:gd name="adj1" fmla="val 70000"/>
              <a:gd name="adj2" fmla="val 14966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9"/>
          <p:cNvSpPr/>
          <p:nvPr/>
        </p:nvSpPr>
        <p:spPr>
          <a:xfrm>
            <a:off x="0" y="0"/>
            <a:ext cx="52452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Cycle de vie de la chrysomèle des racines du maï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0"/>
          <p:cNvSpPr/>
          <p:nvPr/>
        </p:nvSpPr>
        <p:spPr>
          <a:xfrm>
            <a:off x="539640" y="6591240"/>
            <a:ext cx="2592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ource: S. Toepf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1280" y="2091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500" spc="-1" strike="noStrike">
                <a:solidFill>
                  <a:srgbClr val="7bc623"/>
                </a:solidFill>
                <a:latin typeface="Verdana"/>
              </a:rPr>
              <a:t>Dégâts causés par la chrysomèle des racines du maïs</a:t>
            </a:r>
            <a:endParaRPr b="1" lang="en-US" sz="25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301" name="Picture 4" descr="LODGING"/>
          <p:cNvPicPr/>
          <p:nvPr/>
        </p:nvPicPr>
        <p:blipFill>
          <a:blip r:embed="rId1"/>
          <a:stretch/>
        </p:blipFill>
        <p:spPr>
          <a:xfrm>
            <a:off x="0" y="4419720"/>
            <a:ext cx="2843280" cy="21319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10"/>
          <p:cNvSpPr/>
          <p:nvPr/>
        </p:nvSpPr>
        <p:spPr>
          <a:xfrm>
            <a:off x="684360" y="1197000"/>
            <a:ext cx="845964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6000"/>
              </a:lnSpc>
              <a:buSzPct val="102884"/>
              <a:buBlip>
                <a:blip r:embed="rId2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es larves ne se développent (pratiquement) que sur les racines de maï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884"/>
              <a:buBlip>
                <a:blip r:embed="rId3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orsque la racine est endommagée, elle cause la verse de la plante (symptôme en col de cygne)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884"/>
              <a:buBlip>
                <a:blip r:embed="rId4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 des déprédations causées par la larve de la Chrysomèle : échelle Iowa de 1 à 6, échelle node – inju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11" descr="root1"/>
          <p:cNvPicPr/>
          <p:nvPr/>
        </p:nvPicPr>
        <p:blipFill>
          <a:blip r:embed="rId5"/>
          <a:stretch/>
        </p:blipFill>
        <p:spPr>
          <a:xfrm>
            <a:off x="6227640" y="4452840"/>
            <a:ext cx="2665440" cy="20005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lodging2"/>
          <p:cNvPicPr/>
          <p:nvPr/>
        </p:nvPicPr>
        <p:blipFill>
          <a:blip r:embed="rId6"/>
          <a:stretch/>
        </p:blipFill>
        <p:spPr>
          <a:xfrm>
            <a:off x="3203640" y="4437000"/>
            <a:ext cx="27684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500" spc="-1" strike="noStrike">
                <a:solidFill>
                  <a:srgbClr val="7bc623"/>
                </a:solidFill>
                <a:latin typeface="Verdana"/>
              </a:rPr>
              <a:t>Dégâts causés par la chrysomèle adulte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684360" y="1125360"/>
            <a:ext cx="845964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6000"/>
              </a:lnSpc>
              <a:buSzPct val="102909"/>
              <a:buBlip>
                <a:blip r:embed="rId1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la Chrysomèle adulte se nourrit de différentes espèces de plantes, mais aussi 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909"/>
              <a:buBlip>
                <a:blip r:embed="rId2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des pollens de différentes cultures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909"/>
              <a:buBlip>
                <a:blip r:embed="rId3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des feuilles, des soies et du pollen de maïs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909"/>
              <a:buBlip>
                <a:blip r:embed="rId4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les pertes de rendement dans les cultures de maïs sont dues à la section des so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909"/>
              <a:buBlip>
                <a:blip r:embed="rId5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les épis sont moins bien fertilisés d'où une perte de rendement (quantité et qualité des grains)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7" descr="Kép13"/>
          <p:cNvPicPr/>
          <p:nvPr/>
        </p:nvPicPr>
        <p:blipFill>
          <a:blip r:embed="rId6"/>
          <a:stretch/>
        </p:blipFill>
        <p:spPr>
          <a:xfrm>
            <a:off x="3780000" y="4292640"/>
            <a:ext cx="1717560" cy="24559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Kép8"/>
          <p:cNvPicPr/>
          <p:nvPr/>
        </p:nvPicPr>
        <p:blipFill>
          <a:blip r:embed="rId7"/>
          <a:stretch/>
        </p:blipFill>
        <p:spPr>
          <a:xfrm>
            <a:off x="468360" y="456084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Kép15"/>
          <p:cNvPicPr/>
          <p:nvPr/>
        </p:nvPicPr>
        <p:blipFill>
          <a:blip r:embed="rId8"/>
          <a:stretch/>
        </p:blipFill>
        <p:spPr>
          <a:xfrm>
            <a:off x="5867280" y="4616280"/>
            <a:ext cx="284328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500" spc="-1" strike="noStrike">
                <a:solidFill>
                  <a:srgbClr val="7bc623"/>
                </a:solidFill>
                <a:latin typeface="Verdana"/>
              </a:rPr>
              <a:t>Surveillance des populations de Chrysomèles adultes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324000" y="907920"/>
            <a:ext cx="882000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6000"/>
              </a:lnSpc>
              <a:buSzPct val="102909"/>
              <a:buBlip>
                <a:blip r:embed="rId1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if :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Évaluation des 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des taux de population de Chrysomèles adultes,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du risque de section des soies,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nticipation des risques de déprédations causées par les larves l’année suivante (s’il n’y a pas de rotation)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buSzPct val="102909"/>
              <a:buBlip>
                <a:blip r:embed="rId2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utils/méthodes 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ièges à phéromones Csalomon,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- pièges jaunes collants (ex: Pherocon AM),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Nombre d'insectes présents sur une plan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6" descr="FEROMON"/>
          <p:cNvPicPr/>
          <p:nvPr/>
        </p:nvPicPr>
        <p:blipFill>
          <a:blip r:embed="rId3"/>
          <a:stretch/>
        </p:blipFill>
        <p:spPr>
          <a:xfrm>
            <a:off x="2627280" y="5038560"/>
            <a:ext cx="2097000" cy="1819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"/>
          <p:cNvPicPr/>
          <p:nvPr/>
        </p:nvPicPr>
        <p:blipFill>
          <a:blip r:embed="rId4"/>
          <a:stretch/>
        </p:blipFill>
        <p:spPr>
          <a:xfrm>
            <a:off x="5778360" y="5084640"/>
            <a:ext cx="13305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6000"/>
              </a:lnSpc>
              <a:spcBef>
                <a:spcPts val="601"/>
              </a:spcBef>
              <a:buSzPct val="109786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0022b"/>
                </a:solidFill>
                <a:latin typeface="Verdana"/>
              </a:rPr>
              <a:t>Pratiques culturales </a:t>
            </a:r>
            <a:r>
              <a:rPr b="1" lang="fr-FR" sz="1800" spc="-1" strike="noStrike">
                <a:solidFill>
                  <a:srgbClr val="c0022b"/>
                </a:solidFill>
                <a:latin typeface="Arial"/>
              </a:rPr>
              <a:t>visant à limiter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Oviposition et insectes femelles se nourrissant des cultures de maïs, taux de population des larves l'année suivante dans les cultures de maïs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ROTATION DES CULTURES,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- Taille de la parcelle/lisière des champs/paysage environnant, 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- qualité du sol/travail du sol/adventices,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- Période de semis/sélection d’hybrides, maïs GM (dans certains pays);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- Intrants (produits fertilisants, eau, fumier vert).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EMIS TARDIF :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fin d’éviter les conditions météorologiques (température et pluviométrie) favorisant le développement des larves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EMIS PRÉCOCE :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fin de favoriser le développement précoce du tissu racinaire dans de bonnes conditions météorologiques (température et pluviométrie)</a:t>
            </a:r>
            <a:endParaRPr b="1" lang="en-US" sz="18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71280" y="44280"/>
            <a:ext cx="524520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500" spc="-1" strike="noStrike">
                <a:solidFill>
                  <a:srgbClr val="7bc623"/>
                </a:solidFill>
                <a:latin typeface="Verdana"/>
              </a:rPr>
              <a:t>Protection Intégrée contre la Chrysomèle des racines du maïs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49"/>
          <p:cNvSpPr/>
          <p:nvPr/>
        </p:nvSpPr>
        <p:spPr>
          <a:xfrm flipH="1">
            <a:off x="3347640" y="2276640"/>
            <a:ext cx="180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50" descr="Kép1"/>
          <p:cNvPicPr/>
          <p:nvPr/>
        </p:nvPicPr>
        <p:blipFill>
          <a:blip r:embed="rId2"/>
          <a:stretch/>
        </p:blipFill>
        <p:spPr>
          <a:xfrm>
            <a:off x="5580000" y="5343480"/>
            <a:ext cx="1943280" cy="151452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3"/>
          <p:cNvSpPr/>
          <p:nvPr/>
        </p:nvSpPr>
        <p:spPr>
          <a:xfrm>
            <a:off x="900000" y="5589720"/>
            <a:ext cx="341964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arcelles d’essais pour tester différentes rotations permettant de lutter contre la Chrysomèle (Projet Hongrois dans le cadre de la 5ème Directive Cadre de l'UE, 2000-2004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280" y="13608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500" spc="-1" strike="noStrike">
                <a:solidFill>
                  <a:srgbClr val="7bc623"/>
                </a:solidFill>
                <a:latin typeface="Verdana"/>
                <a:ea typeface="Arial"/>
              </a:rPr>
              <a:t>Protection Intégrée contre la Chrysomèle des racines du maïs </a:t>
            </a:r>
            <a:endParaRPr b="1" lang="en-US" sz="25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321" name="Picture 26" descr="Kép2"/>
          <p:cNvPicPr/>
          <p:nvPr/>
        </p:nvPicPr>
        <p:blipFill>
          <a:blip r:embed="rId2"/>
          <a:stretch/>
        </p:blipFill>
        <p:spPr>
          <a:xfrm>
            <a:off x="4643280" y="4941720"/>
            <a:ext cx="2482920" cy="155736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5"/>
          <p:cNvSpPr/>
          <p:nvPr/>
        </p:nvSpPr>
        <p:spPr>
          <a:xfrm>
            <a:off x="0" y="1052640"/>
            <a:ext cx="914400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buSzPct val="102884"/>
              <a:buBlip>
                <a:blip r:embed="rId3"/>
              </a:buBlip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Verdana"/>
              </a:rPr>
              <a:t>Lutte biologique 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- Il existe plusieurs ennemis naturels de la Chrysomèle : parasitoïdes (champignons entomopathogènes, Nématodes, Diptera spp.) et prédateurs (mante religieuse, coccinelle, araignées, grenouilles et certains oiseaux)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- A ce jour, il n’existe pas de chiffre précis sur la capacité de ces prédateurs à réguler les populations de Chrysomè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4" descr="Spider_web"/>
          <p:cNvPicPr/>
          <p:nvPr/>
        </p:nvPicPr>
        <p:blipFill>
          <a:blip r:embed="rId4"/>
          <a:stretch/>
        </p:blipFill>
        <p:spPr>
          <a:xfrm>
            <a:off x="1763640" y="4941720"/>
            <a:ext cx="2106720" cy="15861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5"/>
          <p:cNvSpPr/>
          <p:nvPr/>
        </p:nvSpPr>
        <p:spPr>
          <a:xfrm>
            <a:off x="2484360" y="4941720"/>
            <a:ext cx="13716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FAO/ P. HOFFMANN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47"/>
          <p:cNvSpPr/>
          <p:nvPr/>
        </p:nvSpPr>
        <p:spPr>
          <a:xfrm>
            <a:off x="5724360" y="4941720"/>
            <a:ext cx="13716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FAO/ S. TOEPFER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sa</dc:creator>
  <dc:description/>
  <dc:language>en-US</dc:language>
  <cp:lastModifiedBy>LEWER</cp:lastModifiedBy>
  <dcterms:modified xsi:type="dcterms:W3CDTF">2010-12-13T08:42:05Z</dcterms:modified>
  <cp:revision>247</cp:revision>
  <dc:subject/>
  <dc:title>Diapositive 1</dc:title>
</cp:coreProperties>
</file>