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wmf" ContentType="image/x-wmf"/>
  <Override PartName="/ppt/media/image52.png" ContentType="image/png"/>
  <Override PartName="/ppt/media/image51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67.wmf" ContentType="image/x-wmf"/>
  <Override PartName="/ppt/media/image1.png" ContentType="image/png"/>
  <Override PartName="/ppt/media/image24.png" ContentType="image/png"/>
  <Override PartName="/ppt/media/image64.wmf" ContentType="image/x-wmf"/>
  <Override PartName="/ppt/media/image33.png" ContentType="image/png"/>
  <Override PartName="/ppt/media/image15.png" ContentType="image/png"/>
  <Override PartName="/ppt/media/image3.png" ContentType="image/png"/>
  <Override PartName="/ppt/media/image14.jpeg" ContentType="image/jpeg"/>
  <Override PartName="/ppt/media/image54.png" ContentType="image/png"/>
  <Override PartName="/ppt/media/image16.jpeg" ContentType="image/jpeg"/>
  <Override PartName="/ppt/media/image17.png" ContentType="image/png"/>
  <Override PartName="/ppt/media/image66.wmf" ContentType="image/x-wmf"/>
  <Override PartName="/ppt/media/image65.png" ContentType="image/png"/>
  <Override PartName="/ppt/media/image31.png" ContentType="image/png"/>
  <Override PartName="/ppt/media/image2.jpeg" ContentType="image/jpeg"/>
  <Override PartName="/ppt/media/image57.png" ContentType="image/png"/>
  <Override PartName="/ppt/media/image20.png" ContentType="image/png"/>
  <Override PartName="/ppt/media/image62.wmf" ContentType="image/x-wmf"/>
  <Override PartName="/ppt/media/image22.png" ContentType="image/png"/>
  <Override PartName="/ppt/media/image63.png" ContentType="image/png"/>
  <Override PartName="/ppt/media/image61.jpeg" ContentType="image/jpeg"/>
  <Override PartName="/ppt/media/image40.png" ContentType="image/png"/>
  <Override PartName="/ppt/media/image25.png" ContentType="image/png"/>
  <Override PartName="/ppt/media/image58.png" ContentType="image/png"/>
  <Override PartName="/ppt/media/image21.png" ContentType="image/png"/>
  <Override PartName="/ppt/media/image59.wmf" ContentType="image/x-wmf"/>
  <Override PartName="/ppt/media/image28.jpeg" ContentType="image/jpeg"/>
  <Override PartName="/ppt/media/image23.png" ContentType="image/png"/>
  <Override PartName="/ppt/media/image13.jpeg" ContentType="image/jpeg"/>
  <Override PartName="/ppt/media/image44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50.png" ContentType="image/png"/>
  <Override PartName="/ppt/media/image8.jpeg" ContentType="image/jpeg"/>
  <Override PartName="/ppt/media/image60.wmf" ContentType="image/x-wmf"/>
  <Override PartName="/ppt/media/image38.png" ContentType="image/png"/>
  <Override PartName="/ppt/media/image10.jpeg" ContentType="image/jpe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39.png" ContentType="image/png"/>
  <Override PartName="/ppt/media/image30.jpeg" ContentType="image/jpeg"/>
  <Override PartName="/ppt/media/image32.png" ContentType="image/png"/>
  <Override PartName="/ppt/media/image35.png" ContentType="image/png"/>
  <Override PartName="/ppt/media/image41.png" ContentType="image/png"/>
  <Override PartName="/ppt/media/image4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446243371345"/>
          <c:y val="0.0198489372914105"/>
          <c:w val="0.960016894270027"/>
          <c:h val="0.959950816792552"/>
        </c:manualLayout>
      </c:layout>
      <c:barChart>
        <c:barDir val="col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IFT Herbicides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/>
                </c:pt>
                <c:pt idx="1">
                  <c:v/>
                </c:pt>
                <c:pt idx="2">
                  <c:v/>
                </c:pt>
                <c:pt idx="3">
                  <c:v/>
                </c:pt>
                <c:pt idx="4">
                  <c:v/>
                </c:pt>
                <c:pt idx="5">
                  <c:v/>
                </c:pt>
                <c:pt idx="6">
                  <c:v/>
                </c:pt>
                <c:pt idx="7">
                  <c:v/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</c:numCache>
            </c:numRef>
          </c:val>
        </c:ser>
        <c:gapWidth val="150"/>
        <c:overlap val="100"/>
        <c:axId val="30871884"/>
        <c:axId val="41504625"/>
      </c:barChart>
      <c:catAx>
        <c:axId val="3087188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808080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1504625"/>
        <c:crosses val="autoZero"/>
        <c:auto val="1"/>
        <c:lblAlgn val="ctr"/>
        <c:lblOffset val="100"/>
        <c:noMultiLvlLbl val="0"/>
      </c:catAx>
      <c:valAx>
        <c:axId val="41504625"/>
        <c:scaling>
          <c:orientation val="minMax"/>
          <c:max val="2.8"/>
          <c:min val="0"/>
        </c:scaling>
        <c:delete val="0"/>
        <c:axPos val="l"/>
        <c:majorGridlines>
          <c:spPr>
            <a:ln w="0">
              <a:solidFill>
                <a:srgbClr val="666699"/>
              </a:solidFill>
              <a:custDash>
                <a:ds d="189239" sp="189239"/>
                <a:ds d="189239" sp="189239"/>
              </a:custDash>
            </a:ln>
          </c:spPr>
        </c:majorGridlines>
        <c:numFmt formatCode="0.00" sourceLinked="0"/>
        <c:majorTickMark val="out"/>
        <c:minorTickMark val="none"/>
        <c:tickLblPos val="nextTo"/>
        <c:spPr>
          <a:ln w="0">
            <a:solidFill>
              <a:srgbClr val="808080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0871884"/>
        <c:crosses val="min"/>
        <c:crossBetween val="between"/>
        <c:majorUnit val="0.2"/>
      </c:valAx>
      <c:spPr>
        <a:solidFill>
          <a:srgbClr val="ffffff"/>
        </a:solidFill>
        <a:ln w="0">
          <a:noFill/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920" rIns="88920" tIns="44640" bIns="446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3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39D00B-F1AE-43E0-B8FB-9FA21C98C2C1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a gestion intégrée des mauvaises herbes (IWM) est un terme large qui englobe de nombreuses méthodes qui peuvent être combinées et appliquées de diverses façons à la culture pour constituer une stratégie IWM.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ette présentation montre l'exemple du réseau français Desherb'sol et les techniques dans cinq cultures: blé d'hiver, colza, tournesol, maïs et betterave à suc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dsholder til diasnummer 3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AAC28F-E3B3-4614-A41A-13DD854BA2CB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AISABILITE AGRONOMIQU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ette diapositive vous informe sur les possibilités de matériel utilisable en fonction dutype de sol, du stade des mauvaises herbes et des cultur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AISABILITE ECONOMIQU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l est très important de montrer les résultats économiques, avec des marges brutes et nettes en tenant compte des frais de mécanisation des différents systèmes dans les différentes cultures.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ûts (chambre d'agriculture de Bourgogne / 2007):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ulvérisateur 24m, 1500 litres (15.000 € HT)  600 ha / an + 10 ha / h = 6,2 € / ha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kit pulvérisateur localisée (3600 € HT) = 8,6 € / ha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2m herse contre les mauvaises herbes (7000 € HT)  140 ha / an + 9,6 ha / h = 9,8 € / ha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oue rotative 4,7 m (9700 € HT)  200 ha / an + 5 ha / h = 11,8 € / ha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ineuse; 6 rangs (7000 € HT)  60 ha / an + 1,8 ha / h = 31,1 € / 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OUVELLES SOLUTION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ous pouvez montrer de nouvelles solutions expérimentales à tester: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Semis direct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Mulch sous le paillis vivant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Mulch avec d'autres cul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ous pouvez montrer l’intégration des différents principes de lutte intégrée avec cette technique: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ins d'herbicides et moins de résistanc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tilisation de méthodes non-chimique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is aussi les points positifs et négatifs sur les aspects économiques: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investissement dans un matériel plus adapté est nécessair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disponibilité de la main d’œuv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avantages de ces techniques dans les trois piliers de l'agriculture durable: environnemental et social : contexte politique en France (Ecophyto, Grenelle) et pollution des eaux de surface avec des herb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économique, le coût d'utiliser des herbicide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is cette diapositive ouvrir introduit les avantages techniques :  la qualité du sol et la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dsholder til diasnummer 3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45393F-8A2E-44D5-8BAC-16E4F0540530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INCIPES AGRONOMIQUE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désherbage doit être raisonné dans la rot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 utilisant toutes les techniques destinées à réduire la croissance de la population de certaines espèces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our permettre le développement des cultures, sans la concurrence des mauvaises her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DE CA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 5 cas de différentes cultures: blé, colza d'hiver, maïs, tournesol et betterave à sucre.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ans chaque cas, les mauvaises herbes à problèmes sont nommées et les itinéraires de désherbage chimique et désherbage mixtes sont comparés. Les exemples sont pour deux régions françaises dans le nord-est: Bourgogne, Champagne: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ans la technique mixte, vous devez décaler la date de semis pour pouvoir effectuer le faux-se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ous pouvez montrer comment utiliser moins d’herbicides moins (nombre de traitements, doses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/ GESTION DANS LE BL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/ GESTION DANS LE COL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/ GESTION DANS LE MAÎ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4/ GESTION DANS LE TOURNES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5/ GESTION DANS LA BETTERAVE A SUC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FT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ette diapositive évalue exactement la quantité d’herbicides dans les deux modes de gestion. Vous pouvez ainsi démontrer que la réduction est de 45% à 80% selon les cul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53716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24836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74928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24836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74928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0920" y="88560"/>
            <a:ext cx="5247000" cy="35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53716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53716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4836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4928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424836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74928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0920" y="88560"/>
            <a:ext cx="5247000" cy="35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53716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53716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4836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74928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24836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74928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0920" y="88560"/>
            <a:ext cx="5247000" cy="35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53716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53716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4836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74928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24836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74928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70920" y="88560"/>
            <a:ext cx="5247000" cy="35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53716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7.png"/><Relationship Id="rId21" Type="http://schemas.openxmlformats.org/officeDocument/2006/relationships/image" Target="../media/image25.png"/><Relationship Id="rId22" Type="http://schemas.openxmlformats.org/officeDocument/2006/relationships/image" Target="../media/image26.jpeg"/><Relationship Id="rId23" Type="http://schemas.openxmlformats.org/officeDocument/2006/relationships/image" Target="../media/image27.png"/><Relationship Id="rId24" Type="http://schemas.openxmlformats.org/officeDocument/2006/relationships/image" Target="../media/image1.png"/><Relationship Id="rId25" Type="http://schemas.openxmlformats.org/officeDocument/2006/relationships/slideLayout" Target="../slideLayouts/slideLayout25.xml"/><Relationship Id="rId26" Type="http://schemas.openxmlformats.org/officeDocument/2006/relationships/slideLayout" Target="../slideLayouts/slideLayout26.xml"/><Relationship Id="rId27" Type="http://schemas.openxmlformats.org/officeDocument/2006/relationships/slideLayout" Target="../slideLayouts/slideLayout27.xml"/><Relationship Id="rId28" Type="http://schemas.openxmlformats.org/officeDocument/2006/relationships/slideLayout" Target="../slideLayouts/slideLayout28.xml"/><Relationship Id="rId29" Type="http://schemas.openxmlformats.org/officeDocument/2006/relationships/slideLayout" Target="../slideLayouts/slideLayout29.xml"/><Relationship Id="rId30" Type="http://schemas.openxmlformats.org/officeDocument/2006/relationships/slideLayout" Target="../slideLayouts/slideLayout30.xml"/><Relationship Id="rId31" Type="http://schemas.openxmlformats.org/officeDocument/2006/relationships/slideLayout" Target="../slideLayouts/slideLayout31.xml"/><Relationship Id="rId32" Type="http://schemas.openxmlformats.org/officeDocument/2006/relationships/slideLayout" Target="../slideLayouts/slideLayout32.xml"/><Relationship Id="rId33" Type="http://schemas.openxmlformats.org/officeDocument/2006/relationships/slideLayout" Target="../slideLayouts/slideLayout33.xml"/><Relationship Id="rId34" Type="http://schemas.openxmlformats.org/officeDocument/2006/relationships/slideLayout" Target="../slideLayouts/slideLayout34.xml"/><Relationship Id="rId35" Type="http://schemas.openxmlformats.org/officeDocument/2006/relationships/slideLayout" Target="../slideLayouts/slideLayout35.xml"/><Relationship Id="rId3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7.png"/><Relationship Id="rId21" Type="http://schemas.openxmlformats.org/officeDocument/2006/relationships/image" Target="../media/image25.png"/><Relationship Id="rId22" Type="http://schemas.openxmlformats.org/officeDocument/2006/relationships/image" Target="../media/image26.jpeg"/><Relationship Id="rId23" Type="http://schemas.openxmlformats.org/officeDocument/2006/relationships/image" Target="../media/image27.png"/><Relationship Id="rId24" Type="http://schemas.openxmlformats.org/officeDocument/2006/relationships/image" Target="../media/image1.png"/><Relationship Id="rId25" Type="http://schemas.openxmlformats.org/officeDocument/2006/relationships/slideLayout" Target="../slideLayouts/slideLayout37.xml"/><Relationship Id="rId26" Type="http://schemas.openxmlformats.org/officeDocument/2006/relationships/slideLayout" Target="../slideLayouts/slideLayout38.xml"/><Relationship Id="rId27" Type="http://schemas.openxmlformats.org/officeDocument/2006/relationships/slideLayout" Target="../slideLayouts/slideLayout39.xml"/><Relationship Id="rId28" Type="http://schemas.openxmlformats.org/officeDocument/2006/relationships/slideLayout" Target="../slideLayouts/slideLayout40.xml"/><Relationship Id="rId29" Type="http://schemas.openxmlformats.org/officeDocument/2006/relationships/slideLayout" Target="../slideLayouts/slideLayout41.xml"/><Relationship Id="rId30" Type="http://schemas.openxmlformats.org/officeDocument/2006/relationships/slideLayout" Target="../slideLayouts/slideLayout42.xml"/><Relationship Id="rId31" Type="http://schemas.openxmlformats.org/officeDocument/2006/relationships/slideLayout" Target="../slideLayouts/slideLayout43.xml"/><Relationship Id="rId32" Type="http://schemas.openxmlformats.org/officeDocument/2006/relationships/slideLayout" Target="../slideLayouts/slideLayout44.xml"/><Relationship Id="rId33" Type="http://schemas.openxmlformats.org/officeDocument/2006/relationships/slideLayout" Target="../slideLayouts/slideLayout45.xml"/><Relationship Id="rId34" Type="http://schemas.openxmlformats.org/officeDocument/2006/relationships/slideLayout" Target="../slideLayouts/slideLayout46.xml"/><Relationship Id="rId35" Type="http://schemas.openxmlformats.org/officeDocument/2006/relationships/slideLayout" Target="../slideLayouts/slideLayout47.xml"/><Relationship Id="rId3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pic>
        <p:nvPicPr>
          <p:cNvPr id="4" name="Picture 6" descr="BandoEndure"/>
          <p:cNvPicPr/>
          <p:nvPr/>
        </p:nvPicPr>
        <p:blipFill>
          <a:blip r:embed="rId3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6" name="Text Box 8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LogoSmall"/>
          <p:cNvPicPr/>
          <p:nvPr/>
        </p:nvPicPr>
        <p:blipFill>
          <a:blip r:embed="rId4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Picto"/>
          <p:cNvPicPr/>
          <p:nvPr/>
        </p:nvPicPr>
        <p:blipFill>
          <a:blip r:embed="rId5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9" name="Text Box 11"/>
          <p:cNvSpPr/>
          <p:nvPr/>
        </p:nvSpPr>
        <p:spPr>
          <a:xfrm>
            <a:off x="700560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13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Picture 15" descr="BandoEndure"/>
          <p:cNvPicPr/>
          <p:nvPr/>
        </p:nvPicPr>
        <p:blipFill>
          <a:blip r:embed="rId6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14" name="Text Box 16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7" descr="LogoSmall"/>
          <p:cNvPicPr/>
          <p:nvPr/>
        </p:nvPicPr>
        <p:blipFill>
          <a:blip r:embed="rId7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8" descr="Picto"/>
          <p:cNvPicPr/>
          <p:nvPr/>
        </p:nvPicPr>
        <p:blipFill>
          <a:blip r:embed="rId8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17" name="Text Box 19"/>
          <p:cNvSpPr/>
          <p:nvPr/>
        </p:nvSpPr>
        <p:spPr>
          <a:xfrm>
            <a:off x="700560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pic>
        <p:nvPicPr>
          <p:cNvPr id="58" name="Picture 6" descr="BandoEndure"/>
          <p:cNvPicPr/>
          <p:nvPr/>
        </p:nvPicPr>
        <p:blipFill>
          <a:blip r:embed="rId3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60" name="Text Box 8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LogoSmall"/>
          <p:cNvPicPr/>
          <p:nvPr/>
        </p:nvPicPr>
        <p:blipFill>
          <a:blip r:embed="rId4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Picto"/>
          <p:cNvPicPr/>
          <p:nvPr/>
        </p:nvPicPr>
        <p:blipFill>
          <a:blip r:embed="rId5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1"/>
          <p:cNvSpPr/>
          <p:nvPr/>
        </p:nvSpPr>
        <p:spPr>
          <a:xfrm>
            <a:off x="700560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5" descr="BandoEndure"/>
          <p:cNvPicPr/>
          <p:nvPr/>
        </p:nvPicPr>
        <p:blipFill>
          <a:blip r:embed="rId6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6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7" descr="LogoSmall"/>
          <p:cNvPicPr/>
          <p:nvPr/>
        </p:nvPicPr>
        <p:blipFill>
          <a:blip r:embed="rId7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Picto"/>
          <p:cNvPicPr/>
          <p:nvPr/>
        </p:nvPicPr>
        <p:blipFill>
          <a:blip r:embed="rId8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9"/>
          <p:cNvSpPr/>
          <p:nvPr/>
        </p:nvSpPr>
        <p:spPr>
          <a:xfrm>
            <a:off x="700560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LogEndure"/>
          <p:cNvPicPr/>
          <p:nvPr/>
        </p:nvPicPr>
        <p:blipFill>
          <a:blip r:embed="rId2"/>
          <a:stretch/>
        </p:blipFill>
        <p:spPr>
          <a:xfrm>
            <a:off x="5867280" y="5919840"/>
            <a:ext cx="3276720" cy="938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Drapo europeen"/>
          <p:cNvPicPr/>
          <p:nvPr/>
        </p:nvPicPr>
        <p:blipFill>
          <a:blip r:embed="rId3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logo 6FP"/>
          <p:cNvPicPr/>
          <p:nvPr/>
        </p:nvPicPr>
        <p:blipFill>
          <a:blip r:embed="rId4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Aarhus univers"/>
          <p:cNvPicPr/>
          <p:nvPr/>
        </p:nvPicPr>
        <p:blipFill>
          <a:blip r:embed="rId5"/>
          <a:stretch/>
        </p:blipFill>
        <p:spPr>
          <a:xfrm>
            <a:off x="1066680" y="5486400"/>
            <a:ext cx="449280" cy="44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Acta"/>
          <p:cNvPicPr/>
          <p:nvPr/>
        </p:nvPicPr>
        <p:blipFill>
          <a:blip r:embed="rId6"/>
          <a:stretch/>
        </p:blipFill>
        <p:spPr>
          <a:xfrm>
            <a:off x="1574640" y="5638680"/>
            <a:ext cx="863640" cy="187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bba"/>
          <p:cNvPicPr/>
          <p:nvPr/>
        </p:nvPicPr>
        <p:blipFill>
          <a:blip r:embed="rId7"/>
          <a:stretch/>
        </p:blipFill>
        <p:spPr>
          <a:xfrm>
            <a:off x="6095880" y="5334120"/>
            <a:ext cx="1087560" cy="652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CIRAD"/>
          <p:cNvPicPr/>
          <p:nvPr/>
        </p:nvPicPr>
        <p:blipFill>
          <a:blip r:embed="rId8"/>
          <a:stretch/>
        </p:blipFill>
        <p:spPr>
          <a:xfrm>
            <a:off x="7238880" y="5334120"/>
            <a:ext cx="446040" cy="539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CNR"/>
          <p:cNvPicPr/>
          <p:nvPr/>
        </p:nvPicPr>
        <p:blipFill>
          <a:blip r:embed="rId9"/>
          <a:stretch/>
        </p:blipFill>
        <p:spPr>
          <a:xfrm>
            <a:off x="4724280" y="5334120"/>
            <a:ext cx="1241640" cy="166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Ibma"/>
          <p:cNvPicPr/>
          <p:nvPr/>
        </p:nvPicPr>
        <p:blipFill>
          <a:blip r:embed="rId10"/>
          <a:stretch/>
        </p:blipFill>
        <p:spPr>
          <a:xfrm>
            <a:off x="7848720" y="5486400"/>
            <a:ext cx="888840" cy="380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ihar"/>
          <p:cNvPicPr/>
          <p:nvPr/>
        </p:nvPicPr>
        <p:blipFill>
          <a:blip r:embed="rId11"/>
          <a:stretch/>
        </p:blipFill>
        <p:spPr>
          <a:xfrm>
            <a:off x="1066680" y="6248520"/>
            <a:ext cx="403200" cy="372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9" descr="Inra"/>
          <p:cNvPicPr/>
          <p:nvPr/>
        </p:nvPicPr>
        <p:blipFill>
          <a:blip r:embed="rId12"/>
          <a:stretch/>
        </p:blipFill>
        <p:spPr>
          <a:xfrm>
            <a:off x="1600200" y="6324480"/>
            <a:ext cx="766800" cy="266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0" descr="Rothamsted"/>
          <p:cNvPicPr/>
          <p:nvPr/>
        </p:nvPicPr>
        <p:blipFill>
          <a:blip r:embed="rId13"/>
          <a:stretch/>
        </p:blipFill>
        <p:spPr>
          <a:xfrm>
            <a:off x="4724280" y="6172200"/>
            <a:ext cx="449280" cy="577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1" descr="SsSa"/>
          <p:cNvPicPr/>
          <p:nvPr/>
        </p:nvPicPr>
        <p:blipFill>
          <a:blip r:embed="rId14"/>
          <a:stretch/>
        </p:blipFill>
        <p:spPr>
          <a:xfrm>
            <a:off x="5334120" y="6248520"/>
            <a:ext cx="1150920" cy="296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2" descr="Szie"/>
          <p:cNvPicPr/>
          <p:nvPr/>
        </p:nvPicPr>
        <p:blipFill>
          <a:blip r:embed="rId15"/>
          <a:stretch/>
        </p:blipFill>
        <p:spPr>
          <a:xfrm>
            <a:off x="6629400" y="6172200"/>
            <a:ext cx="669960" cy="507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3" descr="Wur"/>
          <p:cNvPicPr/>
          <p:nvPr/>
        </p:nvPicPr>
        <p:blipFill>
          <a:blip r:embed="rId16"/>
          <a:stretch/>
        </p:blipFill>
        <p:spPr>
          <a:xfrm>
            <a:off x="7543800" y="6324480"/>
            <a:ext cx="1406520" cy="227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4" descr="agroscope"/>
          <p:cNvPicPr/>
          <p:nvPr/>
        </p:nvPicPr>
        <p:blipFill>
          <a:blip r:embed="rId17"/>
          <a:stretch/>
        </p:blipFill>
        <p:spPr>
          <a:xfrm>
            <a:off x="2492280" y="5486400"/>
            <a:ext cx="2079720" cy="439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5" descr="Daas"/>
          <p:cNvPicPr/>
          <p:nvPr/>
        </p:nvPicPr>
        <p:blipFill>
          <a:blip r:embed="rId18"/>
          <a:stretch/>
        </p:blipFill>
        <p:spPr>
          <a:xfrm>
            <a:off x="4648320" y="5715000"/>
            <a:ext cx="1439640" cy="298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6" descr="Lleida"/>
          <p:cNvPicPr/>
          <p:nvPr/>
        </p:nvPicPr>
        <p:blipFill>
          <a:blip r:embed="rId19"/>
          <a:stretch/>
        </p:blipFill>
        <p:spPr>
          <a:xfrm>
            <a:off x="3657600" y="6019920"/>
            <a:ext cx="906480" cy="685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7" descr="LogEndure"/>
          <p:cNvPicPr/>
          <p:nvPr/>
        </p:nvPicPr>
        <p:blipFill>
          <a:blip r:embed="rId20"/>
          <a:stretch/>
        </p:blipFill>
        <p:spPr>
          <a:xfrm>
            <a:off x="1066680" y="1676520"/>
            <a:ext cx="7108920" cy="2035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8" descr="InraTransfert"/>
          <p:cNvPicPr/>
          <p:nvPr/>
        </p:nvPicPr>
        <p:blipFill>
          <a:blip r:embed="rId21"/>
          <a:stretch/>
        </p:blipFill>
        <p:spPr>
          <a:xfrm>
            <a:off x="2438280" y="6324480"/>
            <a:ext cx="1298520" cy="298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Drapo europeen"/>
          <p:cNvPicPr/>
          <p:nvPr/>
        </p:nvPicPr>
        <p:blipFill>
          <a:blip r:embed="rId22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0" descr="logo 6FP"/>
          <p:cNvPicPr/>
          <p:nvPr/>
        </p:nvPicPr>
        <p:blipFill>
          <a:blip r:embed="rId23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1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5"/>
    <p:sldLayoutId id="2147483676" r:id="rId26"/>
    <p:sldLayoutId id="2147483677" r:id="rId27"/>
    <p:sldLayoutId id="2147483678" r:id="rId28"/>
    <p:sldLayoutId id="2147483679" r:id="rId29"/>
    <p:sldLayoutId id="2147483680" r:id="rId30"/>
    <p:sldLayoutId id="2147483681" r:id="rId31"/>
    <p:sldLayoutId id="2147483682" r:id="rId32"/>
    <p:sldLayoutId id="2147483683" r:id="rId33"/>
    <p:sldLayoutId id="2147483684" r:id="rId34"/>
    <p:sldLayoutId id="2147483685" r:id="rId35"/>
    <p:sldLayoutId id="2147483686" r:id="rId3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LogEndure"/>
          <p:cNvPicPr/>
          <p:nvPr/>
        </p:nvPicPr>
        <p:blipFill>
          <a:blip r:embed="rId2"/>
          <a:stretch/>
        </p:blipFill>
        <p:spPr>
          <a:xfrm>
            <a:off x="5867280" y="5919840"/>
            <a:ext cx="3276720" cy="938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Drapo europeen"/>
          <p:cNvPicPr/>
          <p:nvPr/>
        </p:nvPicPr>
        <p:blipFill>
          <a:blip r:embed="rId3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logo 6FP"/>
          <p:cNvPicPr/>
          <p:nvPr/>
        </p:nvPicPr>
        <p:blipFill>
          <a:blip r:embed="rId4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8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2" descr="Aarhus univers"/>
          <p:cNvPicPr/>
          <p:nvPr/>
        </p:nvPicPr>
        <p:blipFill>
          <a:blip r:embed="rId5"/>
          <a:stretch/>
        </p:blipFill>
        <p:spPr>
          <a:xfrm>
            <a:off x="1066680" y="5486400"/>
            <a:ext cx="449280" cy="449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Acta"/>
          <p:cNvPicPr/>
          <p:nvPr/>
        </p:nvPicPr>
        <p:blipFill>
          <a:blip r:embed="rId6"/>
          <a:stretch/>
        </p:blipFill>
        <p:spPr>
          <a:xfrm>
            <a:off x="1574640" y="5638680"/>
            <a:ext cx="863640" cy="187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bba"/>
          <p:cNvPicPr/>
          <p:nvPr/>
        </p:nvPicPr>
        <p:blipFill>
          <a:blip r:embed="rId7"/>
          <a:stretch/>
        </p:blipFill>
        <p:spPr>
          <a:xfrm>
            <a:off x="6095880" y="5334120"/>
            <a:ext cx="1087560" cy="652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" descr="CIRAD"/>
          <p:cNvPicPr/>
          <p:nvPr/>
        </p:nvPicPr>
        <p:blipFill>
          <a:blip r:embed="rId8"/>
          <a:stretch/>
        </p:blipFill>
        <p:spPr>
          <a:xfrm>
            <a:off x="7238880" y="5334120"/>
            <a:ext cx="446040" cy="539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6" descr="CNR"/>
          <p:cNvPicPr/>
          <p:nvPr/>
        </p:nvPicPr>
        <p:blipFill>
          <a:blip r:embed="rId9"/>
          <a:stretch/>
        </p:blipFill>
        <p:spPr>
          <a:xfrm>
            <a:off x="4724280" y="5334120"/>
            <a:ext cx="1241640" cy="166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7" descr="Ibma"/>
          <p:cNvPicPr/>
          <p:nvPr/>
        </p:nvPicPr>
        <p:blipFill>
          <a:blip r:embed="rId10"/>
          <a:stretch/>
        </p:blipFill>
        <p:spPr>
          <a:xfrm>
            <a:off x="7848720" y="5486400"/>
            <a:ext cx="88884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8" descr="ihar"/>
          <p:cNvPicPr/>
          <p:nvPr/>
        </p:nvPicPr>
        <p:blipFill>
          <a:blip r:embed="rId11"/>
          <a:stretch/>
        </p:blipFill>
        <p:spPr>
          <a:xfrm>
            <a:off x="1066680" y="6248520"/>
            <a:ext cx="403200" cy="372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9" descr="Inra"/>
          <p:cNvPicPr/>
          <p:nvPr/>
        </p:nvPicPr>
        <p:blipFill>
          <a:blip r:embed="rId12"/>
          <a:stretch/>
        </p:blipFill>
        <p:spPr>
          <a:xfrm>
            <a:off x="1600200" y="6324480"/>
            <a:ext cx="766800" cy="266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0" descr="Rothamsted"/>
          <p:cNvPicPr/>
          <p:nvPr/>
        </p:nvPicPr>
        <p:blipFill>
          <a:blip r:embed="rId13"/>
          <a:stretch/>
        </p:blipFill>
        <p:spPr>
          <a:xfrm>
            <a:off x="4724280" y="6172200"/>
            <a:ext cx="449280" cy="577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1" descr="SsSa"/>
          <p:cNvPicPr/>
          <p:nvPr/>
        </p:nvPicPr>
        <p:blipFill>
          <a:blip r:embed="rId14"/>
          <a:stretch/>
        </p:blipFill>
        <p:spPr>
          <a:xfrm>
            <a:off x="5334120" y="6248520"/>
            <a:ext cx="1150920" cy="296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2" descr="Szie"/>
          <p:cNvPicPr/>
          <p:nvPr/>
        </p:nvPicPr>
        <p:blipFill>
          <a:blip r:embed="rId15"/>
          <a:stretch/>
        </p:blipFill>
        <p:spPr>
          <a:xfrm>
            <a:off x="6629400" y="6172200"/>
            <a:ext cx="669960" cy="507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3" descr="Wur"/>
          <p:cNvPicPr/>
          <p:nvPr/>
        </p:nvPicPr>
        <p:blipFill>
          <a:blip r:embed="rId16"/>
          <a:stretch/>
        </p:blipFill>
        <p:spPr>
          <a:xfrm>
            <a:off x="7543800" y="6324480"/>
            <a:ext cx="1406520" cy="227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4" descr="agroscope"/>
          <p:cNvPicPr/>
          <p:nvPr/>
        </p:nvPicPr>
        <p:blipFill>
          <a:blip r:embed="rId17"/>
          <a:stretch/>
        </p:blipFill>
        <p:spPr>
          <a:xfrm>
            <a:off x="2492280" y="5486400"/>
            <a:ext cx="2079720" cy="439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5" descr="Daas"/>
          <p:cNvPicPr/>
          <p:nvPr/>
        </p:nvPicPr>
        <p:blipFill>
          <a:blip r:embed="rId18"/>
          <a:stretch/>
        </p:blipFill>
        <p:spPr>
          <a:xfrm>
            <a:off x="4648320" y="5715000"/>
            <a:ext cx="1439640" cy="298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6" descr="Lleida"/>
          <p:cNvPicPr/>
          <p:nvPr/>
        </p:nvPicPr>
        <p:blipFill>
          <a:blip r:embed="rId19"/>
          <a:stretch/>
        </p:blipFill>
        <p:spPr>
          <a:xfrm>
            <a:off x="3657600" y="6019920"/>
            <a:ext cx="906480" cy="68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7" descr="LogEndure"/>
          <p:cNvPicPr/>
          <p:nvPr/>
        </p:nvPicPr>
        <p:blipFill>
          <a:blip r:embed="rId20"/>
          <a:stretch/>
        </p:blipFill>
        <p:spPr>
          <a:xfrm>
            <a:off x="1066680" y="1676520"/>
            <a:ext cx="7108920" cy="2035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8" descr="InraTransfert"/>
          <p:cNvPicPr/>
          <p:nvPr/>
        </p:nvPicPr>
        <p:blipFill>
          <a:blip r:embed="rId21"/>
          <a:stretch/>
        </p:blipFill>
        <p:spPr>
          <a:xfrm>
            <a:off x="2438280" y="6324480"/>
            <a:ext cx="1298520" cy="298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9" descr="Drapo europeen"/>
          <p:cNvPicPr/>
          <p:nvPr/>
        </p:nvPicPr>
        <p:blipFill>
          <a:blip r:embed="rId22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0" descr="logo 6FP"/>
          <p:cNvPicPr/>
          <p:nvPr/>
        </p:nvPicPr>
        <p:blipFill>
          <a:blip r:embed="rId23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1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5"/>
    <p:sldLayoutId id="2147483689" r:id="rId26"/>
    <p:sldLayoutId id="2147483690" r:id="rId27"/>
    <p:sldLayoutId id="2147483691" r:id="rId28"/>
    <p:sldLayoutId id="2147483692" r:id="rId29"/>
    <p:sldLayoutId id="2147483693" r:id="rId30"/>
    <p:sldLayoutId id="2147483694" r:id="rId31"/>
    <p:sldLayoutId id="2147483695" r:id="rId32"/>
    <p:sldLayoutId id="2147483696" r:id="rId33"/>
    <p:sldLayoutId id="2147483697" r:id="rId34"/>
    <p:sldLayoutId id="2147483698" r:id="rId35"/>
    <p:sldLayoutId id="2147483699" r:id="rId3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63.png"/><Relationship Id="rId4" Type="http://schemas.openxmlformats.org/officeDocument/2006/relationships/image" Target="../media/image64.wmf"/><Relationship Id="rId5" Type="http://schemas.openxmlformats.org/officeDocument/2006/relationships/image" Target="../media/image65.png"/><Relationship Id="rId6" Type="http://schemas.openxmlformats.org/officeDocument/2006/relationships/image" Target="../media/image66.wmf"/><Relationship Id="rId7" Type="http://schemas.openxmlformats.org/officeDocument/2006/relationships/image" Target="../media/image67.wm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7.png"/><Relationship Id="rId3" Type="http://schemas.openxmlformats.org/officeDocument/2006/relationships/image" Target="../media/image43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43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Billede 3" descr="endure-logo.jpg.jpg"/>
          <p:cNvPicPr/>
          <p:nvPr/>
        </p:nvPicPr>
        <p:blipFill>
          <a:blip r:embed="rId1"/>
          <a:stretch/>
        </p:blipFill>
        <p:spPr>
          <a:xfrm>
            <a:off x="1785960" y="1214280"/>
            <a:ext cx="4840200" cy="1371600"/>
          </a:xfrm>
          <a:prstGeom prst="rect">
            <a:avLst/>
          </a:prstGeom>
          <a:ln w="0">
            <a:noFill/>
          </a:ln>
        </p:spPr>
      </p:pic>
      <p:sp>
        <p:nvSpPr>
          <p:cNvPr id="252" name="Pladsholder til indhold 2"/>
          <p:cNvSpPr/>
          <p:nvPr/>
        </p:nvSpPr>
        <p:spPr>
          <a:xfrm>
            <a:off x="1643040" y="2928960"/>
            <a:ext cx="550080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METHODES ALTERNATIVES</a:t>
            </a:r>
            <a:br>
              <a:rPr sz="2400"/>
            </a:b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DE DESHERBAGE</a:t>
            </a:r>
            <a:br>
              <a:rPr sz="2400"/>
            </a:b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EN GRANDES CUL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Fr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Image 9" descr="Desherbsol2_Logo_VF.gif"/>
          <p:cNvPicPr/>
          <p:nvPr/>
        </p:nvPicPr>
        <p:blipFill>
          <a:blip r:embed="rId2"/>
          <a:stretch/>
        </p:blipFill>
        <p:spPr>
          <a:xfrm>
            <a:off x="3059280" y="4653000"/>
            <a:ext cx="2714400" cy="50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4" name="Rectangle 5"/>
          <p:cNvSpPr/>
          <p:nvPr/>
        </p:nvSpPr>
        <p:spPr>
          <a:xfrm>
            <a:off x="3642840" y="6413400"/>
            <a:ext cx="2143800" cy="44496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ULE C1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EU logos"/>
          <p:cNvPicPr/>
          <p:nvPr/>
        </p:nvPicPr>
        <p:blipFill>
          <a:blip r:embed="rId3"/>
          <a:stretch/>
        </p:blipFill>
        <p:spPr>
          <a:xfrm>
            <a:off x="19080" y="6608880"/>
            <a:ext cx="1600200" cy="2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bc623"/>
                </a:solidFill>
                <a:latin typeface="Verdana"/>
              </a:rPr>
              <a:t>Faisabilité agronomiqu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3227400" y="1285920"/>
            <a:ext cx="915840" cy="8064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4897440" y="1285920"/>
            <a:ext cx="1746360" cy="81288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7048440" y="1285920"/>
            <a:ext cx="1524240" cy="80964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1285920" y="2428920"/>
            <a:ext cx="128592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ols limoneu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857680" y="2428920"/>
            <a:ext cx="1714320" cy="357120"/>
          </a:xfrm>
          <a:prstGeom prst="rect">
            <a:avLst/>
          </a:prstGeom>
          <a:solidFill>
            <a:srgbClr val="00ae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57840" y="2428920"/>
            <a:ext cx="171432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0" y="2428920"/>
            <a:ext cx="1714680" cy="3571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285920" y="2786040"/>
            <a:ext cx="128592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ols argileu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857680" y="2786040"/>
            <a:ext cx="1714320" cy="357120"/>
          </a:xfrm>
          <a:prstGeom prst="rect">
            <a:avLst/>
          </a:prstGeom>
          <a:solidFill>
            <a:srgbClr val="00ae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857840" y="2786040"/>
            <a:ext cx="171432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0" y="2786040"/>
            <a:ext cx="1714680" cy="3571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285920" y="3143160"/>
            <a:ext cx="128592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ols batta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857680" y="3143160"/>
            <a:ext cx="1714320" cy="357120"/>
          </a:xfrm>
          <a:prstGeom prst="rect">
            <a:avLst/>
          </a:prstGeom>
          <a:solidFill>
            <a:srgbClr val="00ae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857840" y="3143160"/>
            <a:ext cx="171432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0" y="3143160"/>
            <a:ext cx="171468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285920" y="3500280"/>
            <a:ext cx="1285920" cy="35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erres à caillou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857680" y="3500280"/>
            <a:ext cx="922320" cy="35748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857840" y="3500280"/>
            <a:ext cx="1714320" cy="35748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0" y="3500280"/>
            <a:ext cx="1714680" cy="3574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857680" y="2152800"/>
            <a:ext cx="171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ue rotati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857840" y="2143080"/>
            <a:ext cx="171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erse étril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0" y="214308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neu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4"/>
          <a:stretch/>
        </p:blipFill>
        <p:spPr>
          <a:xfrm>
            <a:off x="695160" y="2408400"/>
            <a:ext cx="609840" cy="146844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5"/>
          <a:stretch/>
        </p:blipFill>
        <p:spPr>
          <a:xfrm>
            <a:off x="695160" y="3913200"/>
            <a:ext cx="609840" cy="11034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1285920" y="3929040"/>
            <a:ext cx="128592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ta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85920" y="4286160"/>
            <a:ext cx="128592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Graminé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285920" y="4643280"/>
            <a:ext cx="1285920" cy="35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icotylédon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857680" y="3929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286080" y="3929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2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714840" y="3929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4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143240" y="3929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857680" y="4286160"/>
            <a:ext cx="428400" cy="3571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86080" y="4286160"/>
            <a:ext cx="42876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14840" y="4286160"/>
            <a:ext cx="42840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143240" y="4286160"/>
            <a:ext cx="42876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857680" y="4643280"/>
            <a:ext cx="428400" cy="35748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286080" y="4643280"/>
            <a:ext cx="428760" cy="35748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14840" y="4643280"/>
            <a:ext cx="428400" cy="3574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143240" y="4643280"/>
            <a:ext cx="428760" cy="3574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857840" y="3929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286240" y="3929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2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715000" y="3929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4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143760" y="3929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857840" y="4286160"/>
            <a:ext cx="428400" cy="3571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286240" y="4286160"/>
            <a:ext cx="42876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15000" y="4286160"/>
            <a:ext cx="42876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143760" y="4286160"/>
            <a:ext cx="42840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857840" y="4643280"/>
            <a:ext cx="428400" cy="35748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286240" y="4643280"/>
            <a:ext cx="428760" cy="35748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715000" y="4643280"/>
            <a:ext cx="428760" cy="35748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43760" y="4643280"/>
            <a:ext cx="428400" cy="3574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0" y="3929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286760" y="3929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2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715160" y="3929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4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143920" y="3929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0" y="4286160"/>
            <a:ext cx="42876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286760" y="4286160"/>
            <a:ext cx="428400" cy="3571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15160" y="4286160"/>
            <a:ext cx="428760" cy="3571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143920" y="4286160"/>
            <a:ext cx="42876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858000" y="4643280"/>
            <a:ext cx="428760" cy="3574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286760" y="4643280"/>
            <a:ext cx="428400" cy="35748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715160" y="4643280"/>
            <a:ext cx="428760" cy="35748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143920" y="4643280"/>
            <a:ext cx="428760" cy="3574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6"/>
          <a:stretch/>
        </p:blipFill>
        <p:spPr>
          <a:xfrm>
            <a:off x="695160" y="5041800"/>
            <a:ext cx="609840" cy="76212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1285920" y="5072040"/>
            <a:ext cx="128592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ta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285920" y="5429160"/>
            <a:ext cx="128592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électivité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857680" y="5072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286080" y="5072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&lt;2F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14840" y="5072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4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43240" y="5072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857680" y="5429160"/>
            <a:ext cx="428400" cy="3571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286080" y="5429160"/>
            <a:ext cx="42876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714840" y="5429160"/>
            <a:ext cx="42840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43240" y="5429160"/>
            <a:ext cx="42876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857840" y="5072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286240" y="5072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&lt;2F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715000" y="5072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4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43760" y="5072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857840" y="5429160"/>
            <a:ext cx="428400" cy="3571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286240" y="5429160"/>
            <a:ext cx="42876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15000" y="5429160"/>
            <a:ext cx="42876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143760" y="5429160"/>
            <a:ext cx="42840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858000" y="5072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286760" y="5072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&lt;2F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715160" y="5072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4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143920" y="5072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858000" y="5429160"/>
            <a:ext cx="42876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286760" y="5429160"/>
            <a:ext cx="42840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715160" y="5429160"/>
            <a:ext cx="428760" cy="3571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143920" y="5429160"/>
            <a:ext cx="428760" cy="3571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14240" y="5929200"/>
            <a:ext cx="857520" cy="28584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643120" y="5929200"/>
            <a:ext cx="857160" cy="28584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643280" y="5929200"/>
            <a:ext cx="857520" cy="2858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572160" y="5929200"/>
            <a:ext cx="857520" cy="2858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571760" y="6012000"/>
            <a:ext cx="92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Bien adapté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500280" y="6012000"/>
            <a:ext cx="9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dapté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500800" y="6012000"/>
            <a:ext cx="92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élic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29680" y="6012000"/>
            <a:ext cx="92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éconseillé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649680" y="3500280"/>
            <a:ext cx="922320" cy="3574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bc623"/>
                </a:solidFill>
                <a:latin typeface="Verdana"/>
              </a:rPr>
              <a:t>Faisabilité économiqu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611280" y="4076640"/>
          <a:ext cx="7583400" cy="2125440"/>
        </p:xfrm>
        <a:graphic>
          <a:graphicData uri="http://schemas.openxmlformats.org/drawingml/2006/table">
            <a:tbl>
              <a:tblPr/>
              <a:tblGrid>
                <a:gridCol w="2795400"/>
                <a:gridCol w="1192320"/>
                <a:gridCol w="1211040"/>
                <a:gridCol w="1224000"/>
                <a:gridCol w="116064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BLE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MAÏS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72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Chimique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Mixte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Chimique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Mixte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</a:tr>
              <a:tr h="594360"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Marge brute (€/ha)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FR" sz="12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(Produit – Charges opérationnelles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558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601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717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754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</a:tr>
              <a:tr h="594000"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Marge semi nette (€/ha)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FR" sz="12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(Marge brute – charge de méca.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428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445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564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593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</a:tr>
            </a:tbl>
          </a:graphicData>
        </a:graphic>
      </p:graphicFrame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4176720" cy="264168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4788000" y="1341360"/>
            <a:ext cx="41767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7bc623"/>
                </a:solidFill>
                <a:latin typeface="Verdana"/>
              </a:rPr>
              <a:t>Les autres techniques innovantes en expérimentation</a:t>
            </a:r>
            <a:endParaRPr b="1" lang="en-US" sz="2200" spc="-1" strike="noStrike">
              <a:solidFill>
                <a:srgbClr val="7bc623"/>
              </a:solidFill>
              <a:latin typeface="Verdana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5651640" y="1484280"/>
            <a:ext cx="3203280" cy="240336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5724360" y="112392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e46c0a"/>
                </a:solidFill>
                <a:latin typeface="Arial"/>
              </a:rPr>
              <a:t>Semis Dir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5867280" y="3716280"/>
            <a:ext cx="2776680" cy="199872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179280" y="1125360"/>
            <a:ext cx="1944720" cy="139572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4"/>
          <a:stretch/>
        </p:blipFill>
        <p:spPr>
          <a:xfrm>
            <a:off x="4427640" y="1773360"/>
            <a:ext cx="1803240" cy="106668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5"/>
          <a:stretch/>
        </p:blipFill>
        <p:spPr>
          <a:xfrm>
            <a:off x="324000" y="2492280"/>
            <a:ext cx="2193840" cy="182268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197080" y="19162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3300"/>
                </a:solidFill>
                <a:latin typeface="Arial"/>
              </a:rPr>
              <a:t>Mulch viv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6"/>
          <a:stretch/>
        </p:blipFill>
        <p:spPr>
          <a:xfrm>
            <a:off x="1908000" y="2565360"/>
            <a:ext cx="2373480" cy="176688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3708360" y="4941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3300"/>
                </a:solidFill>
                <a:latin typeface="Arial"/>
              </a:rPr>
              <a:t>Cultures </a:t>
            </a:r>
            <a:br>
              <a:rPr sz="1800"/>
            </a:br>
            <a:r>
              <a:rPr b="1" lang="fr-FR" sz="1800" spc="-1" strike="noStrike">
                <a:solidFill>
                  <a:srgbClr val="cc3300"/>
                </a:solidFill>
                <a:latin typeface="Arial"/>
              </a:rPr>
              <a:t>associé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7"/>
          <a:stretch/>
        </p:blipFill>
        <p:spPr>
          <a:xfrm>
            <a:off x="395280" y="4653000"/>
            <a:ext cx="331308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0920" y="-27360"/>
            <a:ext cx="5247000" cy="9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7bc623"/>
                </a:solidFill>
                <a:latin typeface="Verdana"/>
              </a:rPr>
              <a:t>Conclusion : réponse aux principes généraux de la lutte intégrée</a:t>
            </a: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73962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22b"/>
                </a:solidFill>
                <a:latin typeface="Arial"/>
              </a:rPr>
              <a:t>Environnement :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minution des quantités d’herbicides (volet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22b"/>
                </a:solidFill>
                <a:latin typeface="Arial"/>
              </a:rPr>
              <a:t>Agronomie: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stion des résistances (volet 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tilisation des méthodes alternatives (volet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binaison avec méthodes préventives (volet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dition de réussite: technic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22b"/>
                </a:solidFill>
                <a:latin typeface="Arial"/>
              </a:rPr>
              <a:t>Économie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ges comparables au tout chi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plus si investissement matériel (largeur, gps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disponibilité en main d’œuvre quelquefois supérie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Image 9" descr="Desherbsol2_Logo_VF.gif"/>
          <p:cNvPicPr/>
          <p:nvPr/>
        </p:nvPicPr>
        <p:blipFill>
          <a:blip r:embed="rId4"/>
          <a:stretch/>
        </p:blipFill>
        <p:spPr>
          <a:xfrm>
            <a:off x="57240" y="6308640"/>
            <a:ext cx="2714400" cy="5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Objectifs du désherbage </a:t>
            </a:r>
            <a:br>
              <a:rPr sz="3000"/>
            </a:b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mécanique et mixt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1500120"/>
            <a:ext cx="814356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exte de réduction des produits phytosanitaires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Grenelle de l'environ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Bassin d'alimentation de cap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duction du coût du poste herbicide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15 à 25 % des charges opérationnelles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estion durable des herbicides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« plus » techniques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ffet sur le réchauffement du so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érêt dans le positionnement des engrais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tivation de la minéralisation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pic>
        <p:nvPicPr>
          <p:cNvPr id="258" name="Image 9" descr="Desherbsol2_Logo_VF.gif"/>
          <p:cNvPicPr/>
          <p:nvPr/>
        </p:nvPicPr>
        <p:blipFill>
          <a:blip r:embed="rId5"/>
          <a:stretch/>
        </p:blipFill>
        <p:spPr>
          <a:xfrm>
            <a:off x="57240" y="6308640"/>
            <a:ext cx="2714400" cy="5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508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6c0a"/>
                </a:solidFill>
                <a:latin typeface="Verdana"/>
              </a:rPr>
              <a:t>Gérer les adventices </a:t>
            </a:r>
            <a:br>
              <a:rPr sz="3000"/>
            </a:br>
            <a:r>
              <a:rPr b="0" lang="fr-FR" sz="3000" spc="-1" strike="noStrike">
                <a:solidFill>
                  <a:srgbClr val="e46c0a"/>
                </a:solidFill>
                <a:latin typeface="Verdana"/>
              </a:rPr>
              <a:t>dans la rotation: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82036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c0022b"/>
                </a:solidFill>
                <a:uFillTx/>
                <a:latin typeface="Arial"/>
              </a:rPr>
              <a:t>Principes agronomiques</a:t>
            </a:r>
            <a:endParaRPr b="1" lang="en-US" sz="32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22b"/>
                </a:solidFill>
                <a:latin typeface="Arial"/>
              </a:rPr>
              <a:t>Diversifier les cultures</a:t>
            </a:r>
            <a:endParaRPr b="1" lang="en-US" sz="28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22b"/>
                </a:solidFill>
                <a:latin typeface="Arial"/>
              </a:rPr>
              <a:t>Profiter de l’interculture pour réduire le stock semencier</a:t>
            </a:r>
            <a:endParaRPr b="1" lang="en-US" sz="28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22b"/>
                </a:solidFill>
                <a:latin typeface="Arial"/>
              </a:rPr>
              <a:t>Utiliser le labour à bon escient</a:t>
            </a:r>
            <a:endParaRPr b="1" lang="en-US" sz="28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22b"/>
                </a:solidFill>
                <a:latin typeface="Arial"/>
              </a:rPr>
              <a:t>Décaler les dates de semis</a:t>
            </a:r>
            <a:endParaRPr b="1" lang="en-US" sz="28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22b"/>
                </a:solidFill>
                <a:latin typeface="Arial"/>
              </a:rPr>
              <a:t>Utiliser le facteur concurrence des cultures</a:t>
            </a:r>
            <a:endParaRPr b="1" lang="en-US" sz="28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61" name="Espace réservé du contenu 2"/>
          <p:cNvSpPr/>
          <p:nvPr/>
        </p:nvSpPr>
        <p:spPr>
          <a:xfrm>
            <a:off x="250920" y="4724280"/>
            <a:ext cx="8305560" cy="1524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n combinant au maximum ces principes la maîtrise des mauvaises herbes sera facilitée, le recours aux herbicides optimisé et les risques d’apparition de résistances  limi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Image 9" descr="Desherbsol2_Logo_VF.gif"/>
          <p:cNvPicPr/>
          <p:nvPr/>
        </p:nvPicPr>
        <p:blipFill>
          <a:blip r:embed="rId6"/>
          <a:stretch/>
        </p:blipFill>
        <p:spPr>
          <a:xfrm>
            <a:off x="57240" y="6308640"/>
            <a:ext cx="2714400" cy="5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Exemples d’itinéraire techniqu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250920" y="1268280"/>
            <a:ext cx="85723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e46c0a"/>
              </a:buClr>
              <a:buFont typeface="Wingdings 3" charset="2"/>
              <a:buChar char=""/>
              <a:tabLst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ion Bourgogne (Franc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670880" y="1927080"/>
            <a:ext cx="823680" cy="10796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91960" y="1817640"/>
            <a:ext cx="2160720" cy="365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lé tend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51240" y="1890720"/>
            <a:ext cx="6119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Problématique : Vulpin, brome, véronique, pensée, gaill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631960" y="4770360"/>
            <a:ext cx="1800" cy="1619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76680" y="3259080"/>
            <a:ext cx="1440" cy="313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6680" y="3259080"/>
            <a:ext cx="1800" cy="313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692680" y="3259080"/>
            <a:ext cx="1800" cy="313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43600" y="3259080"/>
            <a:ext cx="1800" cy="313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67600" y="3259080"/>
            <a:ext cx="1800" cy="313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3405240" y="2465280"/>
            <a:ext cx="523800" cy="5223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108320" y="2449440"/>
            <a:ext cx="900360" cy="5288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5216400" y="2322360"/>
            <a:ext cx="919440" cy="720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"/>
          <a:stretch/>
        </p:blipFill>
        <p:spPr>
          <a:xfrm>
            <a:off x="6440400" y="2232000"/>
            <a:ext cx="908280" cy="7732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424320" y="2970360"/>
            <a:ext cx="503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3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79960" y="2970360"/>
            <a:ext cx="828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allag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19960" y="2970360"/>
            <a:ext cx="7556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pi 1c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043600" y="2970360"/>
            <a:ext cx="1260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dress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01040" y="2970360"/>
            <a:ext cx="828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 Noeu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6"/>
          <a:stretch/>
        </p:blipFill>
        <p:spPr>
          <a:xfrm>
            <a:off x="1047600" y="2568600"/>
            <a:ext cx="720720" cy="3650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939960" y="2970360"/>
            <a:ext cx="934920" cy="215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4c1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96840" y="4805280"/>
            <a:ext cx="87804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66880" y="4843440"/>
            <a:ext cx="1224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2 à 3 faux semi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95640" y="5229360"/>
            <a:ext cx="900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Décalage de la date de semis à partir du </a:t>
            </a: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0/1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77040" y="4805280"/>
            <a:ext cx="161892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477040" y="4986360"/>
            <a:ext cx="16189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2 passag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349960" y="5346720"/>
            <a:ext cx="699480" cy="198360"/>
            <a:chOff x="5349960" y="5346720"/>
            <a:chExt cx="699480" cy="198360"/>
          </a:xfrm>
        </p:grpSpPr>
        <p:sp>
          <p:nvSpPr>
            <p:cNvPr id="291" name=""/>
            <p:cNvSpPr/>
            <p:nvPr/>
          </p:nvSpPr>
          <p:spPr>
            <a:xfrm>
              <a:off x="5449320" y="5346720"/>
              <a:ext cx="600120" cy="1080"/>
            </a:xfrm>
            <a:prstGeom prst="line">
              <a:avLst/>
            </a:prstGeom>
            <a:ln w="3600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629320" y="5346720"/>
              <a:ext cx="340920" cy="9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49840" y="5446080"/>
              <a:ext cx="108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5488920" y="5346720"/>
              <a:ext cx="341280" cy="9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09440" y="5446080"/>
              <a:ext cx="108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49960" y="5346720"/>
              <a:ext cx="341280" cy="9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70120" y="5446080"/>
              <a:ext cx="144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249960" y="5346720"/>
            <a:ext cx="699840" cy="198360"/>
            <a:chOff x="6249960" y="5346720"/>
            <a:chExt cx="699840" cy="198360"/>
          </a:xfrm>
        </p:grpSpPr>
        <p:sp>
          <p:nvSpPr>
            <p:cNvPr id="299" name=""/>
            <p:cNvSpPr/>
            <p:nvPr/>
          </p:nvSpPr>
          <p:spPr>
            <a:xfrm>
              <a:off x="6349320" y="5346720"/>
              <a:ext cx="600480" cy="1080"/>
            </a:xfrm>
            <a:prstGeom prst="line">
              <a:avLst/>
            </a:prstGeom>
            <a:ln w="3600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6529320" y="5346720"/>
              <a:ext cx="340920" cy="9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50200" y="5446080"/>
              <a:ext cx="144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388920" y="5346720"/>
              <a:ext cx="341280" cy="9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409440" y="5446080"/>
              <a:ext cx="108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6249960" y="5346720"/>
              <a:ext cx="341280" cy="9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68680" y="5446080"/>
              <a:ext cx="144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7059600" y="5310360"/>
            <a:ext cx="1295280" cy="622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poxycarbazon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+ florasulam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132680" y="4805280"/>
            <a:ext cx="161928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059280" y="4797360"/>
            <a:ext cx="2339640" cy="792360"/>
          </a:xfrm>
          <a:prstGeom prst="rect">
            <a:avLst/>
          </a:prstGeom>
          <a:noFill/>
          <a:ln w="93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47ff"/>
                </a:solidFill>
                <a:latin typeface="Arial"/>
              </a:rPr>
              <a:t>Conditions hivernales défavorables aux interventions mécaniq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79640" y="4869000"/>
            <a:ext cx="1224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Densité +10%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055960" y="2970360"/>
            <a:ext cx="71892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28680" y="2708280"/>
            <a:ext cx="720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m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7"/>
          <a:stretch/>
        </p:blipFill>
        <p:spPr>
          <a:xfrm>
            <a:off x="2289240" y="3006720"/>
            <a:ext cx="225360" cy="2030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 rot="16200000">
            <a:off x="-351360" y="5428440"/>
            <a:ext cx="1619280" cy="30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IX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-118080" y="3863160"/>
            <a:ext cx="1152720" cy="30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HIMIQ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00320" y="3259080"/>
            <a:ext cx="1440" cy="14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68320" y="3798720"/>
            <a:ext cx="900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À partir du 01</a:t>
            </a: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/1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24320" y="3556080"/>
            <a:ext cx="1619280" cy="93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soproturon +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ff + ioxynil + bromoxyni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43600" y="3411360"/>
            <a:ext cx="133200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sosulfur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odosulfuron 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poxycarbazon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+ florasulam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Image 9" descr="Desherbsol2_Logo_VF.gif"/>
          <p:cNvPicPr/>
          <p:nvPr/>
        </p:nvPicPr>
        <p:blipFill>
          <a:blip r:embed="rId8"/>
          <a:stretch/>
        </p:blipFill>
        <p:spPr>
          <a:xfrm>
            <a:off x="57240" y="6308640"/>
            <a:ext cx="2714400" cy="5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Exemples d’itinéraire techniqu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2952720" y="4545000"/>
            <a:ext cx="1440" cy="1619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08360" y="3033720"/>
            <a:ext cx="180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08720" y="3033720"/>
            <a:ext cx="144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480000" y="3033720"/>
            <a:ext cx="180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956720" y="3033720"/>
            <a:ext cx="144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1042920"/>
            <a:ext cx="85723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e46c0a"/>
              </a:buClr>
              <a:buFont typeface="Wingdings 3" charset="2"/>
              <a:buChar char=""/>
              <a:tabLst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ion Bourgogne (Franc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632720" y="2744640"/>
            <a:ext cx="7556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oset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368360" y="2343240"/>
            <a:ext cx="720720" cy="3650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260360" y="2744640"/>
            <a:ext cx="935280" cy="216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4c1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317600" y="4812840"/>
            <a:ext cx="1444680" cy="3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03280" y="4797360"/>
            <a:ext cx="1224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1 faux semi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160720" y="5121360"/>
            <a:ext cx="1260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À partir de début septembr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41440" y="2744640"/>
            <a:ext cx="8496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49440" y="2482920"/>
            <a:ext cx="720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m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2610000" y="2781360"/>
            <a:ext cx="225360" cy="2030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 rot="16200000">
            <a:off x="-30600" y="5239440"/>
            <a:ext cx="1619280" cy="303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IX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202320" y="3637800"/>
            <a:ext cx="1152720" cy="303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HIMIQ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21080" y="3033720"/>
            <a:ext cx="1440" cy="14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089080" y="3573360"/>
            <a:ext cx="900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À partir de mi août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52720" y="3392640"/>
            <a:ext cx="1258920" cy="12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apropami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lomazo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métachlo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+ quinméra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étazachlo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2720" y="1592280"/>
            <a:ext cx="2160720" cy="36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lz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771640" y="1665360"/>
            <a:ext cx="6120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Problématique : Vulpin, brome, matricaire, stellaire, gaillet, (géranium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4491000" y="2440080"/>
            <a:ext cx="246240" cy="4856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5386320" y="2347920"/>
            <a:ext cx="284400" cy="5619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5"/>
          <a:stretch/>
        </p:blipFill>
        <p:spPr>
          <a:xfrm>
            <a:off x="6192720" y="2246400"/>
            <a:ext cx="500040" cy="7142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6"/>
          <a:stretch/>
        </p:blipFill>
        <p:spPr>
          <a:xfrm>
            <a:off x="7404120" y="2220840"/>
            <a:ext cx="1143000" cy="6368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4103640" y="2773440"/>
            <a:ext cx="100800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tyléd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11640" y="2744640"/>
            <a:ext cx="82872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830920" y="2744640"/>
            <a:ext cx="126036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7"/>
          <a:stretch/>
        </p:blipFill>
        <p:spPr>
          <a:xfrm>
            <a:off x="6315120" y="5133960"/>
            <a:ext cx="309600" cy="6001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5940360" y="5732640"/>
            <a:ext cx="1260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ina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272360" y="5157720"/>
            <a:ext cx="1260360" cy="53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pyzamo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348000" y="5049720"/>
            <a:ext cx="1224000" cy="1231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apropami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lomazo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métachlo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r 1/3 de la surfa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43640" y="3402000"/>
            <a:ext cx="1260720" cy="53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pyzamo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Image 9" descr="Desherbsol2_Logo_VF.gif"/>
          <p:cNvPicPr/>
          <p:nvPr/>
        </p:nvPicPr>
        <p:blipFill>
          <a:blip r:embed="rId8"/>
          <a:stretch/>
        </p:blipFill>
        <p:spPr>
          <a:xfrm>
            <a:off x="57240" y="6308640"/>
            <a:ext cx="2714400" cy="5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Exemples d’itinéraire techniqu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325600" y="2851200"/>
            <a:ext cx="417600" cy="3412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4398840" y="3176640"/>
            <a:ext cx="180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4000" y="1185840"/>
            <a:ext cx="85723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e46c0a"/>
              </a:buClr>
              <a:buFont typeface="Wingdings 3" charset="2"/>
              <a:buChar char=""/>
              <a:tabLst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ion Bourgogne (Franc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1158840" y="2486160"/>
            <a:ext cx="720720" cy="3650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050840" y="2887560"/>
            <a:ext cx="935280" cy="216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4c1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31920" y="2887560"/>
            <a:ext cx="84924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239920" y="2625840"/>
            <a:ext cx="720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m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-240120" y="5274360"/>
            <a:ext cx="1619280" cy="303120"/>
          </a:xfrm>
          <a:prstGeom prst="rect">
            <a:avLst/>
          </a:prstGeom>
          <a:solidFill>
            <a:srgbClr val="6ae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IX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6200000">
            <a:off x="-6840" y="3780720"/>
            <a:ext cx="1152720" cy="303120"/>
          </a:xfrm>
          <a:prstGeom prst="rect">
            <a:avLst/>
          </a:prstGeom>
          <a:solidFill>
            <a:srgbClr val="6ae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HIMIQ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03200" y="1735200"/>
            <a:ext cx="2160720" cy="365040"/>
          </a:xfrm>
          <a:prstGeom prst="rect">
            <a:avLst/>
          </a:prstGeom>
          <a:solidFill>
            <a:srgbClr val="6ae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ï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62120" y="1808280"/>
            <a:ext cx="6120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Problématique : Graminées estivales, chénopode, amarante, morelle noir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110120" y="2916360"/>
            <a:ext cx="5763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 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6105600" y="5132520"/>
            <a:ext cx="309600" cy="6001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5730840" y="5732640"/>
            <a:ext cx="1260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ina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7740720" y="1879560"/>
            <a:ext cx="1047600" cy="10447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3359160" y="2355840"/>
            <a:ext cx="360360" cy="6066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6"/>
          <a:stretch/>
        </p:blipFill>
        <p:spPr>
          <a:xfrm>
            <a:off x="6270480" y="2060640"/>
            <a:ext cx="1105200" cy="8524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7"/>
          <a:stretch/>
        </p:blipFill>
        <p:spPr>
          <a:xfrm>
            <a:off x="4110120" y="2200320"/>
            <a:ext cx="560160" cy="72216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8"/>
          <a:stretch/>
        </p:blipFill>
        <p:spPr>
          <a:xfrm>
            <a:off x="5191200" y="2038320"/>
            <a:ext cx="720720" cy="8859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173400" y="2916360"/>
            <a:ext cx="72072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vé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261040" y="2916360"/>
            <a:ext cx="5763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 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665760" y="2916360"/>
            <a:ext cx="5763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5-6 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961400" y="2916360"/>
            <a:ext cx="57600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8 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535200" y="3176640"/>
            <a:ext cx="180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63920" y="3176640"/>
            <a:ext cx="144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551560" y="3176640"/>
            <a:ext cx="144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54840" y="3176640"/>
            <a:ext cx="144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251920" y="3176640"/>
            <a:ext cx="144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70120" y="3355920"/>
            <a:ext cx="1439640" cy="287964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2879640"/>
              <a:gd name="textAreaBottom" fmla="*/ 2879280 h 2879640"/>
            </a:gdLst>
            <a:ahLst/>
            <a:rect l="textAreaLeft" t="textAreaTop" r="textAreaRight" b="textAreaBottom"/>
            <a:pathLst>
              <a:path w="21600" h="43200">
                <a:moveTo>
                  <a:pt x="23" y="0"/>
                </a:moveTo>
                <a:arcTo wR="23" hR="23" stAng="16200000" swAng="-5400000"/>
                <a:lnTo>
                  <a:pt x="0" y="43177"/>
                </a:lnTo>
                <a:arcTo wR="23" hR="23" stAng="10800000" swAng="-5400000"/>
                <a:lnTo>
                  <a:pt x="21577" y="4320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uvert e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ravail du so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90840" y="3618000"/>
            <a:ext cx="1116000" cy="718920"/>
          </a:xfrm>
          <a:prstGeom prst="rect">
            <a:avLst/>
          </a:prstGeom>
          <a:solidFill>
            <a:srgbClr val="6ae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cétochlor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+ dichlormi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70120" y="5200560"/>
            <a:ext cx="1512720" cy="1008000"/>
          </a:xfrm>
          <a:prstGeom prst="rect">
            <a:avLst/>
          </a:prstGeom>
          <a:solidFill>
            <a:srgbClr val="6ae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ésotrion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+ s-métolachlo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r la ligne de sem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Image 9" descr="Desherbsol2_Logo_VF.gif"/>
          <p:cNvPicPr/>
          <p:nvPr/>
        </p:nvPicPr>
        <p:blipFill>
          <a:blip r:embed="rId9"/>
          <a:stretch/>
        </p:blipFill>
        <p:spPr>
          <a:xfrm>
            <a:off x="57240" y="6308640"/>
            <a:ext cx="2714400" cy="5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Exemples d’itinéraire techniqu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90" name=""/>
          <p:cNvSpPr/>
          <p:nvPr/>
        </p:nvSpPr>
        <p:spPr>
          <a:xfrm>
            <a:off x="533520" y="1069920"/>
            <a:ext cx="85723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e46c0a"/>
              </a:buClr>
              <a:buFont typeface="Wingdings 3" charset="2"/>
              <a:buChar char=""/>
              <a:tabLst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ion Bourgogne (Franc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368360" y="2370240"/>
            <a:ext cx="720720" cy="3650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1260360" y="2771640"/>
            <a:ext cx="935280" cy="216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4c1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889440" y="2509920"/>
            <a:ext cx="720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m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6200000">
            <a:off x="-30600" y="5158080"/>
            <a:ext cx="1618920" cy="303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IX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6200000">
            <a:off x="202320" y="3664800"/>
            <a:ext cx="1152720" cy="303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HIMIQ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2720" y="1619280"/>
            <a:ext cx="2160720" cy="365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ournes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71640" y="1692360"/>
            <a:ext cx="6120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Problématique : Graminées estivales, chénopode, amarante, morelle noir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199280" y="5616720"/>
            <a:ext cx="1260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ina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796000" y="3060720"/>
            <a:ext cx="144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13080" y="3060720"/>
            <a:ext cx="180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079640" y="3240000"/>
            <a:ext cx="1439640" cy="287964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2879640"/>
              <a:gd name="textAreaBottom" fmla="*/ 2879280 h 2879640"/>
            </a:gdLst>
            <a:ahLst/>
            <a:rect l="textAreaLeft" t="textAreaTop" r="textAreaRight" b="textAreaBottom"/>
            <a:pathLst>
              <a:path w="21600" h="43200">
                <a:moveTo>
                  <a:pt x="23" y="0"/>
                </a:moveTo>
                <a:arcTo wR="23" hR="23" stAng="16200000" swAng="-5400000"/>
                <a:lnTo>
                  <a:pt x="0" y="43177"/>
                </a:lnTo>
                <a:arcTo wR="23" hR="23" stAng="10800000" swAng="-5400000"/>
                <a:lnTo>
                  <a:pt x="21577" y="4320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uvert e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ravail du so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00360" y="3573360"/>
            <a:ext cx="1224000" cy="576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-métolachl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84720" y="5003640"/>
            <a:ext cx="1368360" cy="75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rochloridone sur la ligne de sem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5543640" y="2448000"/>
            <a:ext cx="544320" cy="5396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7488360" y="2160720"/>
            <a:ext cx="600120" cy="7491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5435640" y="2800440"/>
            <a:ext cx="72072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vé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451640" y="2800440"/>
            <a:ext cx="72072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 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812000" y="3060720"/>
            <a:ext cx="180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3914640" y="2770200"/>
            <a:ext cx="584280" cy="289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781440" y="2771640"/>
            <a:ext cx="84924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356000" y="3500280"/>
            <a:ext cx="1295640" cy="621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rochloridon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5"/>
          <a:stretch/>
        </p:blipFill>
        <p:spPr>
          <a:xfrm>
            <a:off x="7647120" y="5016600"/>
            <a:ext cx="309600" cy="600120"/>
          </a:xfrm>
          <a:prstGeom prst="rect">
            <a:avLst/>
          </a:prstGeom>
          <a:ln w="0">
            <a:noFill/>
          </a:ln>
        </p:spPr>
      </p:pic>
      <p:pic>
        <p:nvPicPr>
          <p:cNvPr id="413" name="Image 9" descr="Desherbsol2_Logo_VF.gif"/>
          <p:cNvPicPr/>
          <p:nvPr/>
        </p:nvPicPr>
        <p:blipFill>
          <a:blip r:embed="rId6"/>
          <a:stretch/>
        </p:blipFill>
        <p:spPr>
          <a:xfrm>
            <a:off x="57240" y="6308640"/>
            <a:ext cx="2714400" cy="5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Exemples d’itinéraire techniqu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15" name=""/>
          <p:cNvSpPr/>
          <p:nvPr/>
        </p:nvSpPr>
        <p:spPr>
          <a:xfrm>
            <a:off x="3706920" y="3068640"/>
            <a:ext cx="144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364000" y="3141720"/>
            <a:ext cx="39960" cy="302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165800" y="3060720"/>
            <a:ext cx="180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33520" y="1069920"/>
            <a:ext cx="85723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e46c0a"/>
              </a:buClr>
              <a:buFont typeface="Wingdings 3" charset="2"/>
              <a:buChar char=""/>
              <a:tabLst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ion Bourgogne (Franc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477800" y="2771640"/>
            <a:ext cx="8496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585800" y="2509920"/>
            <a:ext cx="720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m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16200000">
            <a:off x="-30600" y="5266440"/>
            <a:ext cx="1619280" cy="3031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IX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6200000">
            <a:off x="202320" y="3664800"/>
            <a:ext cx="1152720" cy="3031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HIMIQ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835280" y="3060720"/>
            <a:ext cx="0" cy="317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276720" y="3141720"/>
            <a:ext cx="1512720" cy="123336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T1 + T2 + T3 + T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henmédiphame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desmédipham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Éthofumésa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étamitro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Lénacil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12720" y="1619280"/>
            <a:ext cx="2160720" cy="3650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Betterav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771640" y="1692360"/>
            <a:ext cx="6120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Problématique : Chénopodes, Ombellifères, Laiterons, Chardons, Mercuriales, Colza, Matricaires, Amarantes 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205080" y="2800440"/>
            <a:ext cx="100800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tyléd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005440" y="2771640"/>
            <a:ext cx="82872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516720" y="2771640"/>
            <a:ext cx="126036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5991120" y="5160960"/>
            <a:ext cx="309600" cy="94608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5616720" y="5759280"/>
            <a:ext cx="126036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ina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 pass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877080" y="3357720"/>
            <a:ext cx="1224000" cy="6476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T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AGS (éventuel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À 40%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9"/>
          <p:cNvGrpSpPr/>
          <p:nvPr/>
        </p:nvGrpSpPr>
        <p:grpSpPr>
          <a:xfrm>
            <a:off x="3457440" y="2421000"/>
            <a:ext cx="487440" cy="320760"/>
            <a:chOff x="3457440" y="2421000"/>
            <a:chExt cx="487440" cy="320760"/>
          </a:xfrm>
        </p:grpSpPr>
        <p:sp>
          <p:nvSpPr>
            <p:cNvPr id="434" name="Freeform 10"/>
            <p:cNvSpPr/>
            <p:nvPr/>
          </p:nvSpPr>
          <p:spPr>
            <a:xfrm>
              <a:off x="3687480" y="2463840"/>
              <a:ext cx="14400" cy="277920"/>
            </a:xfrm>
            <a:prstGeom prst="pie">
              <a:avLst/>
            </a:prstGeom>
            <a:noFill/>
            <a:ln w="4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1"/>
            <p:cNvSpPr/>
            <p:nvPr/>
          </p:nvSpPr>
          <p:spPr>
            <a:xfrm>
              <a:off x="3706560" y="2467080"/>
              <a:ext cx="11160" cy="274680"/>
            </a:xfrm>
            <a:prstGeom prst="pie">
              <a:avLst/>
            </a:prstGeom>
            <a:noFill/>
            <a:ln w="4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2"/>
            <p:cNvSpPr/>
            <p:nvPr/>
          </p:nvSpPr>
          <p:spPr>
            <a:xfrm>
              <a:off x="3701880" y="2421000"/>
              <a:ext cx="243000" cy="7452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3"/>
            <p:cNvSpPr/>
            <p:nvPr/>
          </p:nvSpPr>
          <p:spPr>
            <a:xfrm>
              <a:off x="3457440" y="2421000"/>
              <a:ext cx="241200" cy="7452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14"/>
          <p:cNvGrpSpPr/>
          <p:nvPr/>
        </p:nvGrpSpPr>
        <p:grpSpPr>
          <a:xfrm>
            <a:off x="5041800" y="2349360"/>
            <a:ext cx="693720" cy="727920"/>
            <a:chOff x="5041800" y="2349360"/>
            <a:chExt cx="693720" cy="727920"/>
          </a:xfrm>
        </p:grpSpPr>
        <p:sp>
          <p:nvSpPr>
            <p:cNvPr id="439" name="Freeform 15"/>
            <p:cNvSpPr/>
            <p:nvPr/>
          </p:nvSpPr>
          <p:spPr>
            <a:xfrm>
              <a:off x="5356080" y="2457000"/>
              <a:ext cx="36720" cy="613080"/>
            </a:xfrm>
            <a:prstGeom prst="pie">
              <a:avLst/>
            </a:prstGeom>
            <a:noFill/>
            <a:ln w="4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6"/>
            <p:cNvSpPr/>
            <p:nvPr/>
          </p:nvSpPr>
          <p:spPr>
            <a:xfrm>
              <a:off x="5356080" y="2439360"/>
              <a:ext cx="55800" cy="637920"/>
            </a:xfrm>
            <a:prstGeom prst="pie">
              <a:avLst/>
            </a:prstGeom>
            <a:noFill/>
            <a:ln w="4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7"/>
            <p:cNvSpPr/>
            <p:nvPr/>
          </p:nvSpPr>
          <p:spPr>
            <a:xfrm>
              <a:off x="5389560" y="2379240"/>
              <a:ext cx="345960" cy="9000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8"/>
            <p:cNvSpPr/>
            <p:nvPr/>
          </p:nvSpPr>
          <p:spPr>
            <a:xfrm>
              <a:off x="5041800" y="2379240"/>
              <a:ext cx="347760" cy="9000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9"/>
            <p:cNvSpPr/>
            <p:nvPr/>
          </p:nvSpPr>
          <p:spPr>
            <a:xfrm>
              <a:off x="5344920" y="2349360"/>
              <a:ext cx="39960" cy="84960"/>
            </a:xfrm>
            <a:prstGeom prst="pie">
              <a:avLst/>
            </a:prstGeom>
            <a:noFill/>
            <a:ln w="11160">
              <a:solidFill>
                <a:srgbClr val="0082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0"/>
            <p:cNvSpPr/>
            <p:nvPr/>
          </p:nvSpPr>
          <p:spPr>
            <a:xfrm>
              <a:off x="5381640" y="2349360"/>
              <a:ext cx="42840" cy="84960"/>
            </a:xfrm>
            <a:prstGeom prst="pie">
              <a:avLst/>
            </a:prstGeom>
            <a:noFill/>
            <a:ln w="11160">
              <a:solidFill>
                <a:srgbClr val="0082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21"/>
          <p:cNvGrpSpPr/>
          <p:nvPr/>
        </p:nvGrpSpPr>
        <p:grpSpPr>
          <a:xfrm>
            <a:off x="6842160" y="2205000"/>
            <a:ext cx="612720" cy="619200"/>
            <a:chOff x="6842160" y="2205000"/>
            <a:chExt cx="612720" cy="619200"/>
          </a:xfrm>
        </p:grpSpPr>
        <p:sp>
          <p:nvSpPr>
            <p:cNvPr id="446" name="Freeform 22"/>
            <p:cNvSpPr/>
            <p:nvPr/>
          </p:nvSpPr>
          <p:spPr>
            <a:xfrm>
              <a:off x="7140600" y="2317680"/>
              <a:ext cx="22320" cy="276480"/>
            </a:xfrm>
            <a:prstGeom prst="pie">
              <a:avLst/>
            </a:prstGeom>
            <a:noFill/>
            <a:ln w="4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3"/>
            <p:cNvSpPr/>
            <p:nvPr/>
          </p:nvSpPr>
          <p:spPr>
            <a:xfrm>
              <a:off x="7120080" y="2590920"/>
              <a:ext cx="47520" cy="233280"/>
            </a:xfrm>
            <a:prstGeom prst="pie">
              <a:avLst/>
            </a:prstGeom>
            <a:noFill/>
            <a:ln w="4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4"/>
            <p:cNvSpPr/>
            <p:nvPr/>
          </p:nvSpPr>
          <p:spPr>
            <a:xfrm>
              <a:off x="7162920" y="2313000"/>
              <a:ext cx="19080" cy="345960"/>
            </a:xfrm>
            <a:prstGeom prst="pie">
              <a:avLst/>
            </a:prstGeom>
            <a:noFill/>
            <a:ln w="4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5"/>
            <p:cNvSpPr/>
            <p:nvPr/>
          </p:nvSpPr>
          <p:spPr>
            <a:xfrm>
              <a:off x="7121520" y="2658960"/>
              <a:ext cx="60480" cy="163800"/>
            </a:xfrm>
            <a:prstGeom prst="pie">
              <a:avLst/>
            </a:prstGeom>
            <a:noFill/>
            <a:ln w="4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6"/>
            <p:cNvSpPr/>
            <p:nvPr/>
          </p:nvSpPr>
          <p:spPr>
            <a:xfrm>
              <a:off x="7147080" y="2247840"/>
              <a:ext cx="307800" cy="10476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7"/>
            <p:cNvSpPr/>
            <p:nvPr/>
          </p:nvSpPr>
          <p:spPr>
            <a:xfrm>
              <a:off x="6842160" y="2241720"/>
              <a:ext cx="308160" cy="10764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8"/>
            <p:cNvSpPr/>
            <p:nvPr/>
          </p:nvSpPr>
          <p:spPr>
            <a:xfrm>
              <a:off x="7020000" y="2303640"/>
              <a:ext cx="133200" cy="8568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9"/>
            <p:cNvSpPr/>
            <p:nvPr/>
          </p:nvSpPr>
          <p:spPr>
            <a:xfrm>
              <a:off x="7143840" y="2298600"/>
              <a:ext cx="135000" cy="8748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0"/>
            <p:cNvSpPr/>
            <p:nvPr/>
          </p:nvSpPr>
          <p:spPr>
            <a:xfrm>
              <a:off x="7153200" y="2205000"/>
              <a:ext cx="74880" cy="9072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ZoneTexte 24"/>
          <p:cNvSpPr/>
          <p:nvPr/>
        </p:nvSpPr>
        <p:spPr>
          <a:xfrm>
            <a:off x="3147840" y="4365720"/>
            <a:ext cx="20005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ôle des différentes levées d’adventic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32000" y="4941720"/>
            <a:ext cx="1440000" cy="1233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T1 + T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henmédiphame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desmédipham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Éthofumésa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étamitro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Lénacil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oneTexte 24"/>
          <p:cNvSpPr/>
          <p:nvPr/>
        </p:nvSpPr>
        <p:spPr>
          <a:xfrm>
            <a:off x="2771640" y="6165720"/>
            <a:ext cx="20005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ôle des premières levées d’adventic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93080" y="5157720"/>
            <a:ext cx="1224000" cy="6476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T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AGS (éventuel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À 40%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926800" y="6553080"/>
            <a:ext cx="172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 plein ou localisé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Image 9" descr="Desherbsol2_Logo_VF.gif"/>
          <p:cNvPicPr/>
          <p:nvPr/>
        </p:nvPicPr>
        <p:blipFill>
          <a:blip r:embed="rId2"/>
          <a:stretch/>
        </p:blipFill>
        <p:spPr>
          <a:xfrm>
            <a:off x="57240" y="6308640"/>
            <a:ext cx="2714400" cy="5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e46c0a"/>
                </a:solidFill>
                <a:latin typeface="Verdana"/>
              </a:rPr>
              <a:t>Réduction de l’utilisation des pesticides</a:t>
            </a: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250920" y="6002280"/>
            <a:ext cx="84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IFT = Indice de Fréquence de Traitement = nombre de doses homologuées appliquées sur la parcel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719280" y="1660680"/>
          <a:ext cx="7670520" cy="4098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64" name=""/>
          <p:cNvSpPr/>
          <p:nvPr/>
        </p:nvSpPr>
        <p:spPr>
          <a:xfrm>
            <a:off x="1298520" y="5580000"/>
            <a:ext cx="9000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Chimiqu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162160" y="5580000"/>
            <a:ext cx="9000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Mixt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730520" y="5796000"/>
            <a:ext cx="900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lé tendr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550880" y="1979640"/>
            <a:ext cx="360360" cy="3564000"/>
          </a:xfrm>
          <a:custGeom>
            <a:avLst/>
            <a:gdLst>
              <a:gd name="textAreaLeft" fmla="*/ 360 w 360360"/>
              <a:gd name="textAreaRight" fmla="*/ 360000 w 360360"/>
              <a:gd name="textAreaTop" fmla="*/ 360 h 3564000"/>
              <a:gd name="textAreaBottom" fmla="*/ 3563640 h 3564000"/>
            </a:gdLst>
            <a:ahLst/>
            <a:rect l="textAreaLeft" t="textAreaTop" r="textAreaRight" b="textAreaBottom"/>
            <a:pathLst>
              <a:path w="21600" h="213435">
                <a:moveTo>
                  <a:pt x="95" y="0"/>
                </a:moveTo>
                <a:arcTo wR="95" hR="95" stAng="16200000" swAng="-5400000"/>
                <a:lnTo>
                  <a:pt x="0" y="213340"/>
                </a:lnTo>
                <a:arcTo wR="95" hR="95" stAng="10800000" swAng="-5400000"/>
                <a:lnTo>
                  <a:pt x="21505" y="213435"/>
                </a:lnTo>
                <a:arcTo wR="95" hR="95" stAng="5400000" swAng="-5400000"/>
                <a:lnTo>
                  <a:pt x="21600" y="95"/>
                </a:lnTo>
                <a:arcTo wR="95" hR="95" stAng="0" swAng="-5400000"/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486160" y="3795840"/>
            <a:ext cx="360360" cy="1747800"/>
          </a:xfrm>
          <a:custGeom>
            <a:avLst/>
            <a:gdLst>
              <a:gd name="textAreaLeft" fmla="*/ 360 w 360360"/>
              <a:gd name="textAreaRight" fmla="*/ 360000 w 360360"/>
              <a:gd name="textAreaTop" fmla="*/ 360 h 1747800"/>
              <a:gd name="textAreaBottom" fmla="*/ 1747440 h 1747800"/>
            </a:gdLst>
            <a:ahLst/>
            <a:rect l="textAreaLeft" t="textAreaTop" r="textAreaRight" b="textAreaBottom"/>
            <a:pathLst>
              <a:path w="21600" h="104680">
                <a:moveTo>
                  <a:pt x="95" y="0"/>
                </a:moveTo>
                <a:arcTo wR="95" hR="95" stAng="16200000" swAng="-5400000"/>
                <a:lnTo>
                  <a:pt x="0" y="104585"/>
                </a:lnTo>
                <a:arcTo wR="95" hR="95" stAng="10800000" swAng="-5400000"/>
                <a:lnTo>
                  <a:pt x="21505" y="104680"/>
                </a:lnTo>
                <a:arcTo wR="95" hR="95" stAng="5400000" swAng="-5400000"/>
                <a:lnTo>
                  <a:pt x="21600" y="95"/>
                </a:lnTo>
                <a:arcTo wR="95" hR="95" stAng="0" swAng="-5400000"/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911240" y="1979640"/>
            <a:ext cx="7207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16200000">
            <a:off x="-231480" y="345240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T Herbic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394000" y="282420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erbic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51%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494160" y="5796000"/>
            <a:ext cx="900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olza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135240" y="5580000"/>
            <a:ext cx="9003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Chimiqu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98880" y="5580000"/>
            <a:ext cx="9000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Mixt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351240" y="3240000"/>
            <a:ext cx="347760" cy="2303640"/>
          </a:xfrm>
          <a:custGeom>
            <a:avLst/>
            <a:gdLst>
              <a:gd name="textAreaLeft" fmla="*/ 360 w 347760"/>
              <a:gd name="textAreaRight" fmla="*/ 347400 w 347760"/>
              <a:gd name="textAreaTop" fmla="*/ 360 h 2303640"/>
              <a:gd name="textAreaBottom" fmla="*/ 2303280 h 2303640"/>
            </a:gdLst>
            <a:ahLst/>
            <a:rect l="textAreaLeft" t="textAreaTop" r="textAreaRight" b="textAreaBottom"/>
            <a:pathLst>
              <a:path w="21600" h="142958">
                <a:moveTo>
                  <a:pt x="99" y="0"/>
                </a:moveTo>
                <a:arcTo wR="99" hR="99" stAng="16200000" swAng="-5400000"/>
                <a:lnTo>
                  <a:pt x="0" y="142859"/>
                </a:lnTo>
                <a:arcTo wR="99" hR="99" stAng="10800000" swAng="-5400000"/>
                <a:lnTo>
                  <a:pt x="21501" y="142958"/>
                </a:lnTo>
                <a:arcTo wR="99" hR="99" stAng="5400000" swAng="-5400000"/>
                <a:lnTo>
                  <a:pt x="21600" y="99"/>
                </a:lnTo>
                <a:arcTo wR="99" hR="99" stAng="0" swAng="-5400000"/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214880" y="4319640"/>
            <a:ext cx="347760" cy="1225440"/>
          </a:xfrm>
          <a:custGeom>
            <a:avLst/>
            <a:gdLst>
              <a:gd name="textAreaLeft" fmla="*/ 360 w 347760"/>
              <a:gd name="textAreaRight" fmla="*/ 347400 w 347760"/>
              <a:gd name="textAreaTop" fmla="*/ 360 h 1225440"/>
              <a:gd name="textAreaBottom" fmla="*/ 1225080 h 1225440"/>
            </a:gdLst>
            <a:ahLst/>
            <a:rect l="textAreaLeft" t="textAreaTop" r="textAreaRight" b="textAreaBottom"/>
            <a:pathLst>
              <a:path w="21600" h="76058">
                <a:moveTo>
                  <a:pt x="99" y="0"/>
                </a:moveTo>
                <a:arcTo wR="99" hR="99" stAng="16200000" swAng="-5400000"/>
                <a:lnTo>
                  <a:pt x="0" y="75959"/>
                </a:lnTo>
                <a:arcTo wR="99" hR="99" stAng="10800000" swAng="-5400000"/>
                <a:lnTo>
                  <a:pt x="21501" y="76058"/>
                </a:lnTo>
                <a:arcTo wR="99" hR="99" stAng="5400000" swAng="-5400000"/>
                <a:lnTo>
                  <a:pt x="21600" y="99"/>
                </a:lnTo>
                <a:arcTo wR="99" hR="99" stAng="0" swAng="-5400000"/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710160" y="3240000"/>
            <a:ext cx="66672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086360" y="332892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erbic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45%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84040" y="1033560"/>
            <a:ext cx="857268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e46c0a"/>
              </a:buClr>
              <a:buFont typeface="Wingdings 3" charset="2"/>
              <a:buChar char=""/>
              <a:tabLst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ndice de Fréquence de Trai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479600" y="1944720"/>
            <a:ext cx="53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,1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414520" y="3745080"/>
            <a:ext cx="53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,3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278160" y="3203640"/>
            <a:ext cx="53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,7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479600" y="1944720"/>
            <a:ext cx="53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,7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143240" y="4284720"/>
            <a:ext cx="540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0,9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583240" y="5580000"/>
            <a:ext cx="9000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Mixt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756320" y="5580000"/>
            <a:ext cx="9000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Chimiqu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186520" y="5796000"/>
            <a:ext cx="900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Maï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043600" y="3889440"/>
            <a:ext cx="347400" cy="1655640"/>
          </a:xfrm>
          <a:custGeom>
            <a:avLst/>
            <a:gdLst>
              <a:gd name="textAreaLeft" fmla="*/ 360 w 347400"/>
              <a:gd name="textAreaRight" fmla="*/ 347040 w 347400"/>
              <a:gd name="textAreaTop" fmla="*/ 360 h 1655640"/>
              <a:gd name="textAreaBottom" fmla="*/ 1655280 h 1655640"/>
            </a:gdLst>
            <a:ahLst/>
            <a:rect l="textAreaLeft" t="textAreaTop" r="textAreaRight" b="textAreaBottom"/>
            <a:pathLst>
              <a:path w="21600" h="102857">
                <a:moveTo>
                  <a:pt x="99" y="0"/>
                </a:moveTo>
                <a:arcTo wR="99" hR="99" stAng="16200000" swAng="-5400000"/>
                <a:lnTo>
                  <a:pt x="0" y="102758"/>
                </a:lnTo>
                <a:arcTo wR="99" hR="99" stAng="10800000" swAng="-5400000"/>
                <a:lnTo>
                  <a:pt x="21501" y="102857"/>
                </a:lnTo>
                <a:arcTo wR="99" hR="99" stAng="5400000" swAng="-5400000"/>
                <a:lnTo>
                  <a:pt x="21600" y="99"/>
                </a:lnTo>
                <a:arcTo wR="99" hR="99" stAng="0" swAng="-5400000"/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971960" y="3887640"/>
            <a:ext cx="540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,2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883120" y="5111640"/>
            <a:ext cx="347760" cy="433440"/>
          </a:xfrm>
          <a:custGeom>
            <a:avLst/>
            <a:gdLst>
              <a:gd name="textAreaLeft" fmla="*/ 360 w 347760"/>
              <a:gd name="textAreaRight" fmla="*/ 347400 w 347760"/>
              <a:gd name="textAreaTop" fmla="*/ 360 h 433440"/>
              <a:gd name="textAreaBottom" fmla="*/ 433080 h 433440"/>
            </a:gdLst>
            <a:ahLst/>
            <a:rect l="textAreaLeft" t="textAreaTop" r="textAreaRight" b="textAreaBottom"/>
            <a:pathLst>
              <a:path w="21600" h="26916">
                <a:moveTo>
                  <a:pt x="99" y="0"/>
                </a:moveTo>
                <a:arcTo wR="99" hR="99" stAng="16200000" swAng="-5400000"/>
                <a:lnTo>
                  <a:pt x="0" y="26817"/>
                </a:lnTo>
                <a:arcTo wR="99" hR="99" stAng="10800000" swAng="-5400000"/>
                <a:lnTo>
                  <a:pt x="21501" y="26916"/>
                </a:lnTo>
                <a:arcTo wR="99" hR="99" stAng="5400000" swAng="-5400000"/>
                <a:lnTo>
                  <a:pt x="21600" y="99"/>
                </a:lnTo>
                <a:arcTo wR="99" hR="99" stAng="0" swAng="-5400000"/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800680" y="5075280"/>
            <a:ext cx="53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0,3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510160" y="3887640"/>
            <a:ext cx="539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778360" y="4121280"/>
            <a:ext cx="100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erbic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73%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770520" y="3365640"/>
            <a:ext cx="347760" cy="2179440"/>
          </a:xfrm>
          <a:custGeom>
            <a:avLst/>
            <a:gdLst>
              <a:gd name="textAreaLeft" fmla="*/ 360 w 347760"/>
              <a:gd name="textAreaRight" fmla="*/ 347400 w 347760"/>
              <a:gd name="textAreaTop" fmla="*/ 360 h 2179440"/>
              <a:gd name="textAreaBottom" fmla="*/ 2179080 h 2179440"/>
            </a:gdLst>
            <a:ahLst/>
            <a:rect l="textAreaLeft" t="textAreaTop" r="textAreaRight" b="textAreaBottom"/>
            <a:pathLst>
              <a:path w="21600" h="135251">
                <a:moveTo>
                  <a:pt x="99" y="0"/>
                </a:moveTo>
                <a:arcTo wR="99" hR="99" stAng="16200000" swAng="-5400000"/>
                <a:lnTo>
                  <a:pt x="0" y="135152"/>
                </a:lnTo>
                <a:arcTo wR="99" hR="99" stAng="10800000" swAng="-5400000"/>
                <a:lnTo>
                  <a:pt x="21501" y="135251"/>
                </a:lnTo>
                <a:arcTo wR="99" hR="99" stAng="5400000" swAng="-5400000"/>
                <a:lnTo>
                  <a:pt x="21600" y="99"/>
                </a:lnTo>
                <a:arcTo wR="99" hR="99" stAng="0" swAng="-5400000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610400" y="5111640"/>
            <a:ext cx="347760" cy="433440"/>
          </a:xfrm>
          <a:custGeom>
            <a:avLst/>
            <a:gdLst>
              <a:gd name="textAreaLeft" fmla="*/ 360 w 347760"/>
              <a:gd name="textAreaRight" fmla="*/ 347400 w 347760"/>
              <a:gd name="textAreaTop" fmla="*/ 360 h 433440"/>
              <a:gd name="textAreaBottom" fmla="*/ 433080 h 433440"/>
            </a:gdLst>
            <a:ahLst/>
            <a:rect l="textAreaLeft" t="textAreaTop" r="textAreaRight" b="textAreaBottom"/>
            <a:pathLst>
              <a:path w="21600" h="26916">
                <a:moveTo>
                  <a:pt x="99" y="0"/>
                </a:moveTo>
                <a:arcTo wR="99" hR="99" stAng="16200000" swAng="-5400000"/>
                <a:lnTo>
                  <a:pt x="0" y="26817"/>
                </a:lnTo>
                <a:arcTo wR="99" hR="99" stAng="10800000" swAng="-5400000"/>
                <a:lnTo>
                  <a:pt x="21501" y="26916"/>
                </a:lnTo>
                <a:arcTo wR="99" hR="99" stAng="5400000" swAng="-5400000"/>
                <a:lnTo>
                  <a:pt x="21600" y="99"/>
                </a:lnTo>
                <a:arcTo wR="99" hR="99" stAng="0" swAng="-5400000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383600" y="5580000"/>
            <a:ext cx="9000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Mixt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446880" y="5580000"/>
            <a:ext cx="9000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Chimiqu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913440" y="5796000"/>
            <a:ext cx="9003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Tourneso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700680" y="3348000"/>
            <a:ext cx="540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,6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27960" y="5075280"/>
            <a:ext cx="53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0,3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130880" y="3276720"/>
            <a:ext cx="64476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434360" y="361800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erbic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80%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Image 9" descr="Desherbsol2_Logo_VF.gif"/>
          <p:cNvPicPr/>
          <p:nvPr/>
        </p:nvPicPr>
        <p:blipFill>
          <a:blip r:embed="rId2"/>
          <a:stretch/>
        </p:blipFill>
        <p:spPr>
          <a:xfrm>
            <a:off x="57240" y="6308640"/>
            <a:ext cx="2714400" cy="5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1:20:23Z</dcterms:created>
  <dc:creator>rtp</dc:creator>
  <dc:description/>
  <dc:language>en-US</dc:language>
  <cp:lastModifiedBy>Philippe Delval</cp:lastModifiedBy>
  <dcterms:modified xsi:type="dcterms:W3CDTF">2010-11-19T07:07:28Z</dcterms:modified>
  <cp:revision>194</cp:revision>
  <dc:subject/>
  <dc:title>Endure Information Centre</dc:title>
</cp:coreProperties>
</file>