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wmf" ContentType="image/x-wmf"/>
  <Override PartName="/ppt/media/image52.png" ContentType="image/png"/>
  <Override PartName="/ppt/media/image51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67.wmf" ContentType="image/x-wmf"/>
  <Override PartName="/ppt/media/image1.png" ContentType="image/png"/>
  <Override PartName="/ppt/media/image24.png" ContentType="image/png"/>
  <Override PartName="/ppt/media/image64.wmf" ContentType="image/x-wmf"/>
  <Override PartName="/ppt/media/image33.png" ContentType="image/png"/>
  <Override PartName="/ppt/media/image15.png" ContentType="image/png"/>
  <Override PartName="/ppt/media/image3.png" ContentType="image/png"/>
  <Override PartName="/ppt/media/image14.jpeg" ContentType="image/jpeg"/>
  <Override PartName="/ppt/media/image54.png" ContentType="image/png"/>
  <Override PartName="/ppt/media/image16.jpeg" ContentType="image/jpeg"/>
  <Override PartName="/ppt/media/image17.png" ContentType="image/png"/>
  <Override PartName="/ppt/media/image66.wmf" ContentType="image/x-wmf"/>
  <Override PartName="/ppt/media/image65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62.wmf" ContentType="image/x-wmf"/>
  <Override PartName="/ppt/media/image22.png" ContentType="image/png"/>
  <Override PartName="/ppt/media/image63.png" ContentType="image/png"/>
  <Override PartName="/ppt/media/image61.jpeg" ContentType="image/jpeg"/>
  <Override PartName="/ppt/media/image40.png" ContentType="image/png"/>
  <Override PartName="/ppt/media/image25.png" ContentType="image/png"/>
  <Override PartName="/ppt/media/image58.png" ContentType="image/png"/>
  <Override PartName="/ppt/media/image21.png" ContentType="image/png"/>
  <Override PartName="/ppt/media/image59.wmf" ContentType="image/x-wmf"/>
  <Override PartName="/ppt/media/image28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8.jpeg" ContentType="image/jpeg"/>
  <Override PartName="/ppt/media/image60.wmf" ContentType="image/x-wmf"/>
  <Override PartName="/ppt/media/image38.png" ContentType="image/png"/>
  <Override PartName="/ppt/media/image10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32.png" ContentType="image/png"/>
  <Override PartName="/ppt/media/image35.png" ContentType="image/png"/>
  <Override PartName="/ppt/media/image41.png" ContentType="image/png"/>
  <Override PartName="/ppt/media/image4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46243371345"/>
          <c:y val="0.0198489372914105"/>
          <c:w val="0.960016894270027"/>
          <c:h val="0.959950816792552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IFT Herbicides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/>
                </c:pt>
                <c:pt idx="1">
                  <c:v/>
                </c:pt>
                <c:pt idx="2">
                  <c:v/>
                </c:pt>
                <c:pt idx="3">
                  <c:v/>
                </c:pt>
                <c:pt idx="4">
                  <c:v/>
                </c:pt>
                <c:pt idx="5">
                  <c:v/>
                </c:pt>
                <c:pt idx="6">
                  <c:v/>
                </c:pt>
                <c:pt idx="7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</c:numCache>
            </c:numRef>
          </c:val>
        </c:ser>
        <c:gapWidth val="150"/>
        <c:overlap val="100"/>
        <c:axId val="90783918"/>
        <c:axId val="56891599"/>
      </c:barChart>
      <c:catAx>
        <c:axId val="907839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891599"/>
        <c:crosses val="autoZero"/>
        <c:auto val="1"/>
        <c:lblAlgn val="ctr"/>
        <c:lblOffset val="100"/>
        <c:noMultiLvlLbl val="0"/>
      </c:catAx>
      <c:valAx>
        <c:axId val="56891599"/>
        <c:scaling>
          <c:orientation val="minMax"/>
          <c:max val="2.8"/>
          <c:min val="0"/>
        </c:scaling>
        <c:delete val="0"/>
        <c:axPos val="l"/>
        <c:majorGridlines>
          <c:spPr>
            <a:ln w="0">
              <a:solidFill>
                <a:srgbClr val="666699"/>
              </a:solidFill>
              <a:custDash>
                <a:ds d="189239" sp="189239"/>
                <a:ds d="189239" sp="189239"/>
              </a:custDash>
            </a:ln>
          </c:spPr>
        </c:majorGridlines>
        <c:numFmt formatCode="0.00" sourceLinked="0"/>
        <c:majorTickMark val="out"/>
        <c:minorTickMark val="none"/>
        <c:tickLblPos val="nextTo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783918"/>
        <c:crosses val="min"/>
        <c:crossBetween val="between"/>
        <c:majorUnit val="0.2"/>
      </c:valAx>
      <c:spPr>
        <a:solidFill>
          <a:srgbClr val="ffffff"/>
        </a:solidFill>
        <a:ln w="0">
          <a:noFill/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7C5853-8B22-415F-B04B-81E08F1525B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gestion intégrée des mauvaises herbes (IWM) est un terme large qui englobe de nombreuses méthodes qui peuvent être combinées et appliquées de diverses façons à la culture pour constituer une stratégie IWM.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présentation montre l'exemple du réseau français Desherb'sol et les techniques dans cinq cultures: blé d'hiver, colza, tournesol, maïs et betterave à suc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dsholder til diasnummer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ECC8D-924E-431A-B42A-00D3F7661EF0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SABILITE AGRONOM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diapositive vous informe sur les possibilités de matériel utilisable en fonction dutype de sol, du stade des mauvaises herbes et des cultur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SABILITE ECONOM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est très important de montrer les résultats économiques, avec des marges brutes et nettes en tenant compte des frais de mécanisation des différents systèmes dans les différentes cultures.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ûts (chambre d'agriculture de Bourgogne / 2007)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ulvérisateur 24m, 1500 litres (15.000 € HT)  600 ha / an + 10 ha / h = 6,2 € / ha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kit pulvérisateur localisée (3600 € HT) = 8,6 € / ha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2m herse contre les mauvaises herbes (7000 € HT)  140 ha / an + 9,6 ha / h = 9,8 € / ha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oue rotative 4,7 m (9700 € HT)  200 ha / an + 5 ha / h = 11,8 € / ha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ineuse; 6 rangs (7000 € HT)  60 ha / an + 1,8 ha / h = 31,1 € /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UVELLES SOLUTION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ous pouvez montrer de nouvelles solutions expérimentales à tester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Semis direc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Mulch sous le paillis vivant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Mulch avec d'autres cul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ous pouvez montrer l’intégration des différents principes de lutte intégrée avec cette technique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ins d'herbicides et moins de résistanc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tilisation de méthodes non-chimiqu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is aussi les points positifs et négatifs sur les aspects économiques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investissement dans un matériel plus adapté est nécessai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disponibilité de la main d’œuv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avantages de ces techniques dans les trois piliers de l'agriculture durable: environnemental et social : contexte politique en France (Ecophyto, Grenelle) et pollution des eaux de surface avec des 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économique, le coût d'utiliser des herbicid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is cette diapositive ouvrir introduit les avantages techniques :  la qualité du sol et la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dsholder til diasnummer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4FCDF3-2BFB-4F9B-8141-917FA21E1CBE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INCIPES AGRONOMIQU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désherbage doit être raisonné dans la rot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 utilisant toutes les techniques destinées à réduire la croissance de la population de certaines espèces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permettre le développement des cultures, sans la concurrence des mauvaises her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DE CA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 5 cas de différentes cultures: blé, colza d'hiver, maïs, tournesol et betterave à sucre.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chaque cas, les mauvaises herbes à problèmes sont nommées et les itinéraires de désherbage chimique et désherbage mixtes sont comparés. Les exemples sont pour deux régions françaises dans le nord-est: Bourgogne, Champagne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la technique mixte, vous devez décaler la date de semis pour pouvoir effectuer le faux-se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ous pouvez montrer comment utiliser moins d’herbicides moins (nombre de traitements, doses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/ GESTION DANS LE BL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/ GESTION DANS LE COL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/ GESTION DANS LE MAÎ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/ GESTION DANS LE TOURNES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5/ GESTION DANS LA BETTERAVE A SUC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F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diapositive évalue exactement la quantité d’herbicides dans les deux modes de gestion. Vous pouvez ainsi démontrer que la réduction est de 45% à 80% selon les cul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Picture 6" descr="BandoEndure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Text Box 8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LogoSmall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Picto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15" descr="BandoEndure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Text Box 16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" descr="LogoSmall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8" descr="Picto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Text Box 19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Picture 6" descr="BandoEndure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Text Box 8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LogoSmall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icto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BandoEndure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LogoSmall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icto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9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ogEndure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rapo europeen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 6FP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Aarhus univers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cta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bba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IRAD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CNR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Ibma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ihar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Inra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Rothamsted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SsSa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Szie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Wur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agroscope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Daas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Lleida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LogEndure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InraTransfert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Drapo europeen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logo 6FP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1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gEndure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Drapo europeen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logo 6FP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Aarhus univers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Acta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bba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CIRAD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CNR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Ibma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ihar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Inra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Rothamsted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SsSa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2" descr="Szie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Wur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agroscope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Daas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Lleida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7" descr="LogEndure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8" descr="InraTransfert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9" descr="Drapo europeen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0" descr="logo 6FP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1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64.wmf"/><Relationship Id="rId5" Type="http://schemas.openxmlformats.org/officeDocument/2006/relationships/image" Target="../media/image65.png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7.png"/><Relationship Id="rId3" Type="http://schemas.openxmlformats.org/officeDocument/2006/relationships/image" Target="../media/image43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43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Billede 3" descr="endure-logo.jpg.jpg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2" name="Pladsholder til indhold 2"/>
          <p:cNvSpPr/>
          <p:nvPr/>
        </p:nvSpPr>
        <p:spPr>
          <a:xfrm>
            <a:off x="1643040" y="2928960"/>
            <a:ext cx="55008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METHODES ALTERNATIVES</a:t>
            </a:r>
            <a:br>
              <a:rPr sz="2400"/>
            </a:b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DE DESHERBAGE</a:t>
            </a:r>
            <a:br>
              <a:rPr sz="2400"/>
            </a:b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EN GRANDES CUL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F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Image 9" descr="Desherbsol2_Logo_VF.gif"/>
          <p:cNvPicPr/>
          <p:nvPr/>
        </p:nvPicPr>
        <p:blipFill>
          <a:blip r:embed="rId2"/>
          <a:stretch/>
        </p:blipFill>
        <p:spPr>
          <a:xfrm>
            <a:off x="3059280" y="4653000"/>
            <a:ext cx="271440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Rectangle 5"/>
          <p:cNvSpPr/>
          <p:nvPr/>
        </p:nvSpPr>
        <p:spPr>
          <a:xfrm>
            <a:off x="3642840" y="64134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EU logos"/>
          <p:cNvPicPr/>
          <p:nvPr/>
        </p:nvPicPr>
        <p:blipFill>
          <a:blip r:embed="rId3"/>
          <a:stretch/>
        </p:blipFill>
        <p:spPr>
          <a:xfrm>
            <a:off x="19080" y="660888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Faisabilité agronom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227400" y="1285920"/>
            <a:ext cx="915840" cy="8064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4897440" y="1285920"/>
            <a:ext cx="1746360" cy="8128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7048440" y="1285920"/>
            <a:ext cx="1524240" cy="8096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285920" y="242892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ls limoneu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57680" y="242892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7840" y="2428920"/>
            <a:ext cx="17143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0" y="2428920"/>
            <a:ext cx="171468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85920" y="2786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ls argileu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57680" y="278604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57840" y="2786040"/>
            <a:ext cx="171432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0" y="2786040"/>
            <a:ext cx="171468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85920" y="3143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ls batta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57680" y="314316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57840" y="3143160"/>
            <a:ext cx="171432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0" y="3143160"/>
            <a:ext cx="171468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85920" y="3500280"/>
            <a:ext cx="1285920" cy="35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rres à caillou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857680" y="3500280"/>
            <a:ext cx="92232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57840" y="3500280"/>
            <a:ext cx="171432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3500280"/>
            <a:ext cx="171468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57680" y="215280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ue rot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57840" y="214308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se étril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0" y="21430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neu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695160" y="2408400"/>
            <a:ext cx="609840" cy="14684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695160" y="3913200"/>
            <a:ext cx="609840" cy="11034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285920" y="3929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a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85920" y="4286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aminé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285920" y="4643280"/>
            <a:ext cx="1285920" cy="35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cotylédo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5768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8608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1484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14324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857680" y="4286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86080" y="4286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4840" y="4286160"/>
            <a:ext cx="42840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4324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57680" y="4643280"/>
            <a:ext cx="42840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8608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14840" y="4643280"/>
            <a:ext cx="42840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43240" y="4643280"/>
            <a:ext cx="42876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5784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28624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1500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4376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57840" y="4286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86240" y="4286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43760" y="4286160"/>
            <a:ext cx="42840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857840" y="4643280"/>
            <a:ext cx="42840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8624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1500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43760" y="4643280"/>
            <a:ext cx="42840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8676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71516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14392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286760" y="4286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15160" y="4286160"/>
            <a:ext cx="42876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14392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0" y="4643280"/>
            <a:ext cx="42876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286760" y="4643280"/>
            <a:ext cx="42840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715160" y="4643280"/>
            <a:ext cx="42876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43920" y="4643280"/>
            <a:ext cx="42876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695160" y="5041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285920" y="5072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a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85920" y="5429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électivité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5768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8608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1484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4324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57680" y="5429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86080" y="5429160"/>
            <a:ext cx="42876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714840" y="5429160"/>
            <a:ext cx="42840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43240" y="5429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85784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8624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1500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4376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5429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86240" y="5429160"/>
            <a:ext cx="42876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15000" y="5429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143760" y="5429160"/>
            <a:ext cx="42840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8676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1516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14392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0" y="5429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86760" y="5429160"/>
            <a:ext cx="42840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15160" y="5429160"/>
            <a:ext cx="42876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143920" y="5429160"/>
            <a:ext cx="42876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14240" y="5929200"/>
            <a:ext cx="85752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43120" y="5929200"/>
            <a:ext cx="857160" cy="28584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43280" y="5929200"/>
            <a:ext cx="85752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72160" y="5929200"/>
            <a:ext cx="85752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7176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ien adapté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500280" y="6012000"/>
            <a:ext cx="9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apté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0080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lic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2968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conseillé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649680" y="3500280"/>
            <a:ext cx="92232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Faisabilité économ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611280" y="4076640"/>
          <a:ext cx="7583400" cy="2125440"/>
        </p:xfrm>
        <a:graphic>
          <a:graphicData uri="http://schemas.openxmlformats.org/drawingml/2006/table">
            <a:tbl>
              <a:tblPr/>
              <a:tblGrid>
                <a:gridCol w="2795400"/>
                <a:gridCol w="1192320"/>
                <a:gridCol w="1211040"/>
                <a:gridCol w="1224000"/>
                <a:gridCol w="116064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BL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AÏ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Chimiqu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ixt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Chimiqu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ixt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  <a:tr h="594360"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arge brute (€/ha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(Produit – Charges opérationnelle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5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60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71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75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  <a:tr h="594000"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arge semi nette (€/ha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(Marge brute – charge de méca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42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44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6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9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</a:tbl>
          </a:graphicData>
        </a:graphic>
      </p:graphicFrame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26416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4176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bc623"/>
                </a:solidFill>
                <a:latin typeface="Verdana"/>
              </a:rPr>
              <a:t>Les autres techniques innovantes en expérimentation</a:t>
            </a:r>
            <a:endParaRPr b="1" lang="en-US" sz="22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203280" cy="240336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5724360" y="11239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e46c0a"/>
                </a:solidFill>
                <a:latin typeface="Arial"/>
              </a:rPr>
              <a:t>Semis Dir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5867280" y="3716280"/>
            <a:ext cx="2776680" cy="19987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1944720" cy="13957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4427640" y="1773360"/>
            <a:ext cx="1803240" cy="1066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5"/>
          <a:stretch/>
        </p:blipFill>
        <p:spPr>
          <a:xfrm>
            <a:off x="324000" y="2492280"/>
            <a:ext cx="2193840" cy="182268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197080" y="1916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Mulch viv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1908000" y="2565360"/>
            <a:ext cx="2373480" cy="17668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708360" y="49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Cultures </a:t>
            </a:r>
            <a:br>
              <a:rPr sz="1800"/>
            </a:b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associé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7"/>
          <a:stretch/>
        </p:blipFill>
        <p:spPr>
          <a:xfrm>
            <a:off x="395280" y="4653000"/>
            <a:ext cx="33130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0920" y="-27360"/>
            <a:ext cx="524700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bc623"/>
                </a:solidFill>
                <a:latin typeface="Verdana"/>
              </a:rPr>
              <a:t>Conclusion : réponse aux principes généraux de la lutte intégrée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3962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Environnement :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inution des quantités d’herbicides (volet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Agronomie: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des résistances (volet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ation des méthodes alternatives (volet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binaison avec méthodes préventives (volet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 de réussite: techni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Économie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ges comparables au tout chi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lus si investissement matériel (largeur, gps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disponibilité en main d’œuvre quelquefois supérie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Image 9" descr="Desherbsol2_Logo_VF.gif"/>
          <p:cNvPicPr/>
          <p:nvPr/>
        </p:nvPicPr>
        <p:blipFill>
          <a:blip r:embed="rId4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Objectifs du désherbage 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mécanique et mixt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500120"/>
            <a:ext cx="814356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de réduction des produits phytosanitair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Grenelle de l'envir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Bassin d'alimentation de cap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duction du coût du poste herbicide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15 à 25 % des charges opérationnell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stion durable des herbicid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« plus » techniqu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et sur le réchauffement du so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érêt dans le positionnement des engrai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tivation de la minéralisation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258" name="Image 9" descr="Desherbsol2_Logo_VF.gif"/>
          <p:cNvPicPr/>
          <p:nvPr/>
        </p:nvPicPr>
        <p:blipFill>
          <a:blip r:embed="rId5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508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Verdana"/>
              </a:rPr>
              <a:t>Gérer les adventices </a:t>
            </a:r>
            <a:br>
              <a:rPr sz="3000"/>
            </a:br>
            <a:r>
              <a:rPr b="0" lang="fr-FR" sz="3000" spc="-1" strike="noStrike">
                <a:solidFill>
                  <a:srgbClr val="e46c0a"/>
                </a:solidFill>
                <a:latin typeface="Verdana"/>
              </a:rPr>
              <a:t>dans la rotation: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2036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0022b"/>
                </a:solidFill>
                <a:uFillTx/>
                <a:latin typeface="Arial"/>
              </a:rPr>
              <a:t>Principes agronomiques</a:t>
            </a:r>
            <a:endParaRPr b="1" lang="en-US" sz="32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Diversifier les cultures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Profiter de l’interculture pour réduire le stock semencier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Utiliser le labour à bon escient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Décaler les dates de semis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Utiliser le facteur concurrence des cultures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61" name="Espace réservé du contenu 2"/>
          <p:cNvSpPr/>
          <p:nvPr/>
        </p:nvSpPr>
        <p:spPr>
          <a:xfrm>
            <a:off x="250920" y="4724280"/>
            <a:ext cx="8305560" cy="1524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combinant au maximum ces principes la maîtrise des mauvaises herbes sera facilitée, le recours aux herbicides optimisé et les risques d’apparition de résistances  limi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Image 9" descr="Desherbsol2_Logo_VF.gif"/>
          <p:cNvPicPr/>
          <p:nvPr/>
        </p:nvPicPr>
        <p:blipFill>
          <a:blip r:embed="rId6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126828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670880" y="1927080"/>
            <a:ext cx="823680" cy="1079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91960" y="1817640"/>
            <a:ext cx="216072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lé tend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51240" y="1890720"/>
            <a:ext cx="6119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Vulpin, brome, véronique, pensée, gai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31960" y="4770360"/>
            <a:ext cx="1800" cy="16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76680" y="3259080"/>
            <a:ext cx="144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668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9268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6760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405240" y="2465280"/>
            <a:ext cx="523800" cy="522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108320" y="2449440"/>
            <a:ext cx="900360" cy="52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216400" y="2322360"/>
            <a:ext cx="919440" cy="720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6440400" y="2232000"/>
            <a:ext cx="908280" cy="773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424320" y="2970360"/>
            <a:ext cx="503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79960" y="2970360"/>
            <a:ext cx="828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alla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9960" y="297036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pi 1c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43600" y="2970360"/>
            <a:ext cx="126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ress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01040" y="2970360"/>
            <a:ext cx="828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Noeu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1047600" y="256860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39960" y="2970360"/>
            <a:ext cx="934920" cy="215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6840" y="4805280"/>
            <a:ext cx="8780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66880" y="484344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 à 3 faux semi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95640" y="5229360"/>
            <a:ext cx="900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écalage de la date de semis à partir du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0/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77040" y="4805280"/>
            <a:ext cx="161892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77040" y="4986360"/>
            <a:ext cx="1618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 passag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349960" y="5346720"/>
            <a:ext cx="699480" cy="198360"/>
            <a:chOff x="5349960" y="5346720"/>
            <a:chExt cx="699480" cy="198360"/>
          </a:xfrm>
        </p:grpSpPr>
        <p:sp>
          <p:nvSpPr>
            <p:cNvPr id="291" name=""/>
            <p:cNvSpPr/>
            <p:nvPr/>
          </p:nvSpPr>
          <p:spPr>
            <a:xfrm>
              <a:off x="5449320" y="5346720"/>
              <a:ext cx="600120" cy="1080"/>
            </a:xfrm>
            <a:prstGeom prst="line">
              <a:avLst/>
            </a:prstGeom>
            <a:ln w="360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629320" y="5346720"/>
              <a:ext cx="34092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498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48892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94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4996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7012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249960" y="5346720"/>
            <a:ext cx="699840" cy="198360"/>
            <a:chOff x="6249960" y="5346720"/>
            <a:chExt cx="699840" cy="198360"/>
          </a:xfrm>
        </p:grpSpPr>
        <p:sp>
          <p:nvSpPr>
            <p:cNvPr id="299" name=""/>
            <p:cNvSpPr/>
            <p:nvPr/>
          </p:nvSpPr>
          <p:spPr>
            <a:xfrm>
              <a:off x="6349320" y="5346720"/>
              <a:ext cx="600480" cy="1080"/>
            </a:xfrm>
            <a:prstGeom prst="line">
              <a:avLst/>
            </a:prstGeom>
            <a:ln w="360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529320" y="5346720"/>
              <a:ext cx="34092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5020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38892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094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24996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6868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059600" y="5310360"/>
            <a:ext cx="1295280" cy="622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xycarbazo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florasul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32680" y="4805280"/>
            <a:ext cx="16192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59280" y="4797360"/>
            <a:ext cx="2339640" cy="792360"/>
          </a:xfrm>
          <a:prstGeom prst="rect">
            <a:avLst/>
          </a:prstGeom>
          <a:noFill/>
          <a:ln w="93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47ff"/>
                </a:solidFill>
                <a:latin typeface="Arial"/>
              </a:rPr>
              <a:t>Conditions hivernales défavorables aux interventions mécaniq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486900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nsité +10%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55960" y="2970360"/>
            <a:ext cx="7189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28680" y="270828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>
            <a:off x="2289240" y="3006720"/>
            <a:ext cx="225360" cy="203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rot="16200000">
            <a:off x="-351360" y="5428440"/>
            <a:ext cx="1619280" cy="30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-118080" y="3863160"/>
            <a:ext cx="1152720" cy="30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0320" y="3259080"/>
            <a:ext cx="1440" cy="14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68320" y="3798720"/>
            <a:ext cx="900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À partir du 01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4320" y="3556080"/>
            <a:ext cx="16192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oproturon +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ff + ioxynil + bromoxyn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43600" y="3411360"/>
            <a:ext cx="1332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osulfur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odosulfuron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xycarbazo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florasul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Image 9" descr="Desherbsol2_Logo_VF.gif"/>
          <p:cNvPicPr/>
          <p:nvPr/>
        </p:nvPicPr>
        <p:blipFill>
          <a:blip r:embed="rId8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2952720" y="4545000"/>
            <a:ext cx="1440" cy="16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08360" y="3033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8720" y="3033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80000" y="3033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56720" y="3033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1042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32720" y="2744640"/>
            <a:ext cx="7556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set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368360" y="234324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260360" y="274464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317600" y="4812840"/>
            <a:ext cx="1444680" cy="3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479736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 faux semi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60720" y="5121360"/>
            <a:ext cx="12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À partir de début septemb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1440" y="2744640"/>
            <a:ext cx="8496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49440" y="2482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610000" y="2781360"/>
            <a:ext cx="225360" cy="203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rot="16200000">
            <a:off x="-30600" y="5239440"/>
            <a:ext cx="161928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202320" y="3637800"/>
            <a:ext cx="115272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21080" y="3033720"/>
            <a:ext cx="1440" cy="14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89080" y="3573360"/>
            <a:ext cx="900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À partir de mi août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52720" y="3392640"/>
            <a:ext cx="1258920" cy="12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apropami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omaz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métachlo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quinmér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étazachlo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2720" y="1592280"/>
            <a:ext cx="21607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l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71640" y="1665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Vulpin, brome, matricaire, stellaire, gaillet, (géranium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4491000" y="2440080"/>
            <a:ext cx="246240" cy="485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5386320" y="2347920"/>
            <a:ext cx="284400" cy="5619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6192720" y="2246400"/>
            <a:ext cx="500040" cy="714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7404120" y="2220840"/>
            <a:ext cx="1143000" cy="636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103640" y="2773440"/>
            <a:ext cx="1008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tyléd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11640" y="2744640"/>
            <a:ext cx="82872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30920" y="2744640"/>
            <a:ext cx="12603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6315120" y="5133960"/>
            <a:ext cx="309600" cy="600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940360" y="5732640"/>
            <a:ext cx="12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n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72360" y="5157720"/>
            <a:ext cx="126036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pyzamo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5049720"/>
            <a:ext cx="1224000" cy="1231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apropami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omaz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métachlo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1/3 de la surfa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43640" y="3402000"/>
            <a:ext cx="126072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pyzamo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mage 9" descr="Desherbsol2_Logo_VF.gif"/>
          <p:cNvPicPr/>
          <p:nvPr/>
        </p:nvPicPr>
        <p:blipFill>
          <a:blip r:embed="rId8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325600" y="2851200"/>
            <a:ext cx="417600" cy="341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398840" y="317664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118584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158840" y="248616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050840" y="288756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31920" y="2887560"/>
            <a:ext cx="8492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39920" y="262584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-240120" y="5274360"/>
            <a:ext cx="1619280" cy="3031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-6840" y="3780720"/>
            <a:ext cx="1152720" cy="3031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3200" y="1735200"/>
            <a:ext cx="2160720" cy="36504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ï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62120" y="180828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Graminées estivales, chénopode, amarante, morelle noir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1012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6105600" y="5132520"/>
            <a:ext cx="30960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730840" y="5732640"/>
            <a:ext cx="12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n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7740720" y="1879560"/>
            <a:ext cx="1047600" cy="1044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359160" y="2355840"/>
            <a:ext cx="360360" cy="6066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270480" y="2060640"/>
            <a:ext cx="1105200" cy="852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4110120" y="2200320"/>
            <a:ext cx="560160" cy="7221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8"/>
          <a:stretch/>
        </p:blipFill>
        <p:spPr>
          <a:xfrm>
            <a:off x="5191200" y="2038320"/>
            <a:ext cx="720720" cy="8859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173400" y="2916360"/>
            <a:ext cx="720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vé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6104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6576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5-6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61400" y="2916360"/>
            <a:ext cx="576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8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35200" y="317664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6392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5156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5484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5192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70120" y="3355920"/>
            <a:ext cx="1439640" cy="28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2879640"/>
              <a:gd name="textAreaBottom" fmla="*/ 2879280 h 2879640"/>
            </a:gdLst>
            <a:ahLst/>
            <a:rect l="textAreaLeft" t="textAreaTop" r="textAreaRight" b="textAreaBottom"/>
            <a:pathLst>
              <a:path w="21600" h="43200">
                <a:moveTo>
                  <a:pt x="23" y="0"/>
                </a:moveTo>
                <a:arcTo wR="23" hR="23" stAng="16200000" swAng="-5400000"/>
                <a:lnTo>
                  <a:pt x="0" y="43177"/>
                </a:lnTo>
                <a:arcTo wR="23" hR="23" stAng="10800000" swAng="-5400000"/>
                <a:lnTo>
                  <a:pt x="21577" y="432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uvert e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avail du s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90840" y="3618000"/>
            <a:ext cx="1116000" cy="7189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étochlo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dichlormi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70120" y="5200560"/>
            <a:ext cx="1512720" cy="100800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ésotrion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s-métolachlo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a ligne de 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Image 9" descr="Desherbsol2_Logo_VF.gif"/>
          <p:cNvPicPr/>
          <p:nvPr/>
        </p:nvPicPr>
        <p:blipFill>
          <a:blip r:embed="rId9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1069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368360" y="237024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260360" y="277164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9440" y="2509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-30600" y="5158080"/>
            <a:ext cx="1618920" cy="303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202320" y="3664800"/>
            <a:ext cx="1152720" cy="303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2720" y="1619280"/>
            <a:ext cx="2160720" cy="365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rnes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71640" y="1692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Graminées estivales, chénopode, amarante, morelle noir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99280" y="5616720"/>
            <a:ext cx="12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n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96000" y="3060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308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79640" y="3240000"/>
            <a:ext cx="1439640" cy="28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2879640"/>
              <a:gd name="textAreaBottom" fmla="*/ 2879280 h 2879640"/>
            </a:gdLst>
            <a:ahLst/>
            <a:rect l="textAreaLeft" t="textAreaTop" r="textAreaRight" b="textAreaBottom"/>
            <a:pathLst>
              <a:path w="21600" h="43200">
                <a:moveTo>
                  <a:pt x="23" y="0"/>
                </a:moveTo>
                <a:arcTo wR="23" hR="23" stAng="16200000" swAng="-5400000"/>
                <a:lnTo>
                  <a:pt x="0" y="43177"/>
                </a:lnTo>
                <a:arcTo wR="23" hR="23" stAng="10800000" swAng="-5400000"/>
                <a:lnTo>
                  <a:pt x="21577" y="432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uvert e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avail du s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00360" y="3573360"/>
            <a:ext cx="122400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-métol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5003640"/>
            <a:ext cx="1368360" cy="75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rochloridone sur la ligne de 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543640" y="2448000"/>
            <a:ext cx="544320" cy="5396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7488360" y="2160720"/>
            <a:ext cx="600120" cy="7491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435640" y="2800440"/>
            <a:ext cx="720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vé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51640" y="2800440"/>
            <a:ext cx="720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81200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3914640" y="2770200"/>
            <a:ext cx="584280" cy="289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781440" y="2771640"/>
            <a:ext cx="8492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56000" y="3500280"/>
            <a:ext cx="1295640" cy="62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rochlorido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7647120" y="5016600"/>
            <a:ext cx="309600" cy="600120"/>
          </a:xfrm>
          <a:prstGeom prst="rect">
            <a:avLst/>
          </a:prstGeom>
          <a:ln w="0">
            <a:noFill/>
          </a:ln>
        </p:spPr>
      </p:pic>
      <p:pic>
        <p:nvPicPr>
          <p:cNvPr id="413" name="Image 9" descr="Desherbsol2_Logo_VF.gif"/>
          <p:cNvPicPr/>
          <p:nvPr/>
        </p:nvPicPr>
        <p:blipFill>
          <a:blip r:embed="rId6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3706920" y="3068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64000" y="3141720"/>
            <a:ext cx="39960" cy="30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16580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069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77800" y="2771640"/>
            <a:ext cx="8496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85800" y="2509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-30600" y="5266440"/>
            <a:ext cx="1619280" cy="303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202320" y="3664800"/>
            <a:ext cx="1152720" cy="303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35280" y="3060720"/>
            <a:ext cx="0" cy="317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3141720"/>
            <a:ext cx="1512720" cy="12333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1 + T2 + T3 + T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enmédipham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esmédiph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Éthofumés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étamitr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énacil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2720" y="1619280"/>
            <a:ext cx="2160720" cy="365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Betterav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1640" y="1692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Chénopodes, Ombellifères, Laiterons, Chardons, Mercuriales, Colza, Matricaires, Amarantes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5080" y="2800440"/>
            <a:ext cx="1008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tyléd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05440" y="2771640"/>
            <a:ext cx="8287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516720" y="2771640"/>
            <a:ext cx="12603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5991120" y="5160960"/>
            <a:ext cx="309600" cy="946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616720" y="5759280"/>
            <a:ext cx="12603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n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 pass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7080" y="3357720"/>
            <a:ext cx="1224000" cy="647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GS (éventue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À 4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9"/>
          <p:cNvGrpSpPr/>
          <p:nvPr/>
        </p:nvGrpSpPr>
        <p:grpSpPr>
          <a:xfrm>
            <a:off x="3457440" y="2421000"/>
            <a:ext cx="487440" cy="320760"/>
            <a:chOff x="3457440" y="2421000"/>
            <a:chExt cx="487440" cy="320760"/>
          </a:xfrm>
        </p:grpSpPr>
        <p:sp>
          <p:nvSpPr>
            <p:cNvPr id="434" name="Freeform 10"/>
            <p:cNvSpPr/>
            <p:nvPr/>
          </p:nvSpPr>
          <p:spPr>
            <a:xfrm>
              <a:off x="3687480" y="2463840"/>
              <a:ext cx="14400" cy="27792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3706560" y="2467080"/>
              <a:ext cx="11160" cy="2746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3701880" y="2421000"/>
              <a:ext cx="243000" cy="745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3457440" y="2421000"/>
              <a:ext cx="241200" cy="745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4"/>
          <p:cNvGrpSpPr/>
          <p:nvPr/>
        </p:nvGrpSpPr>
        <p:grpSpPr>
          <a:xfrm>
            <a:off x="5041800" y="2349360"/>
            <a:ext cx="693720" cy="727920"/>
            <a:chOff x="5041800" y="2349360"/>
            <a:chExt cx="693720" cy="727920"/>
          </a:xfrm>
        </p:grpSpPr>
        <p:sp>
          <p:nvSpPr>
            <p:cNvPr id="439" name="Freeform 15"/>
            <p:cNvSpPr/>
            <p:nvPr/>
          </p:nvSpPr>
          <p:spPr>
            <a:xfrm>
              <a:off x="5356080" y="2457000"/>
              <a:ext cx="36720" cy="6130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5356080" y="2439360"/>
              <a:ext cx="55800" cy="63792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7"/>
            <p:cNvSpPr/>
            <p:nvPr/>
          </p:nvSpPr>
          <p:spPr>
            <a:xfrm>
              <a:off x="5389560" y="2379240"/>
              <a:ext cx="345960" cy="9000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5041800" y="2379240"/>
              <a:ext cx="347760" cy="9000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5344920" y="2349360"/>
              <a:ext cx="39960" cy="84960"/>
            </a:xfrm>
            <a:prstGeom prst="pie">
              <a:avLst/>
            </a:prstGeom>
            <a:noFill/>
            <a:ln w="11160">
              <a:solidFill>
                <a:srgbClr val="0082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5381640" y="2349360"/>
              <a:ext cx="42840" cy="84960"/>
            </a:xfrm>
            <a:prstGeom prst="pie">
              <a:avLst/>
            </a:prstGeom>
            <a:noFill/>
            <a:ln w="11160">
              <a:solidFill>
                <a:srgbClr val="0082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1"/>
          <p:cNvGrpSpPr/>
          <p:nvPr/>
        </p:nvGrpSpPr>
        <p:grpSpPr>
          <a:xfrm>
            <a:off x="6842160" y="2205000"/>
            <a:ext cx="612720" cy="619200"/>
            <a:chOff x="6842160" y="2205000"/>
            <a:chExt cx="612720" cy="619200"/>
          </a:xfrm>
        </p:grpSpPr>
        <p:sp>
          <p:nvSpPr>
            <p:cNvPr id="446" name="Freeform 22"/>
            <p:cNvSpPr/>
            <p:nvPr/>
          </p:nvSpPr>
          <p:spPr>
            <a:xfrm>
              <a:off x="7140600" y="2317680"/>
              <a:ext cx="22320" cy="2764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3"/>
            <p:cNvSpPr/>
            <p:nvPr/>
          </p:nvSpPr>
          <p:spPr>
            <a:xfrm>
              <a:off x="7120080" y="2590920"/>
              <a:ext cx="47520" cy="2332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4"/>
            <p:cNvSpPr/>
            <p:nvPr/>
          </p:nvSpPr>
          <p:spPr>
            <a:xfrm>
              <a:off x="7162920" y="2313000"/>
              <a:ext cx="19080" cy="34596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5"/>
            <p:cNvSpPr/>
            <p:nvPr/>
          </p:nvSpPr>
          <p:spPr>
            <a:xfrm>
              <a:off x="7121520" y="2658960"/>
              <a:ext cx="60480" cy="16380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7147080" y="2247840"/>
              <a:ext cx="307800" cy="10476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6842160" y="2241720"/>
              <a:ext cx="308160" cy="10764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7020000" y="2303640"/>
              <a:ext cx="133200" cy="8568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7143840" y="2298600"/>
              <a:ext cx="135000" cy="8748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0"/>
            <p:cNvSpPr/>
            <p:nvPr/>
          </p:nvSpPr>
          <p:spPr>
            <a:xfrm>
              <a:off x="7153200" y="2205000"/>
              <a:ext cx="74880" cy="907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ZoneTexte 24"/>
          <p:cNvSpPr/>
          <p:nvPr/>
        </p:nvSpPr>
        <p:spPr>
          <a:xfrm>
            <a:off x="3147840" y="4365720"/>
            <a:ext cx="2000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ôle des différentes levées d’advent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4941720"/>
            <a:ext cx="1440000" cy="1233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1 + 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enmédipham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esmédiph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Éthofumés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étamitr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énacil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24"/>
          <p:cNvSpPr/>
          <p:nvPr/>
        </p:nvSpPr>
        <p:spPr>
          <a:xfrm>
            <a:off x="2771640" y="6165720"/>
            <a:ext cx="2000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ôle des premières levées d’advent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3080" y="5157720"/>
            <a:ext cx="1224000" cy="647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GS (éventue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À 4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26800" y="655308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plein ou localisé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Image 9" descr="Desherbsol2_Logo_VF.gif"/>
          <p:cNvPicPr/>
          <p:nvPr/>
        </p:nvPicPr>
        <p:blipFill>
          <a:blip r:embed="rId2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e46c0a"/>
                </a:solidFill>
                <a:latin typeface="Verdana"/>
              </a:rPr>
              <a:t>Réduction de l’utilisation des pesticides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250920" y="6002280"/>
            <a:ext cx="84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IFT = Indice de Fréquence de Traitement = nombre de doses homologuées appliquées sur la parce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719280" y="1660680"/>
          <a:ext cx="7670520" cy="4098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64" name=""/>
          <p:cNvSpPr/>
          <p:nvPr/>
        </p:nvSpPr>
        <p:spPr>
          <a:xfrm>
            <a:off x="129852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6216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3052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lé tend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50880" y="1979640"/>
            <a:ext cx="360360" cy="356400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3564000"/>
              <a:gd name="textAreaBottom" fmla="*/ 3563640 h 3564000"/>
            </a:gdLst>
            <a:ahLst/>
            <a:rect l="textAreaLeft" t="textAreaTop" r="textAreaRight" b="textAreaBottom"/>
            <a:pathLst>
              <a:path w="21600" h="213435">
                <a:moveTo>
                  <a:pt x="95" y="0"/>
                </a:moveTo>
                <a:arcTo wR="95" hR="95" stAng="16200000" swAng="-5400000"/>
                <a:lnTo>
                  <a:pt x="0" y="213340"/>
                </a:lnTo>
                <a:arcTo wR="95" hR="95" stAng="10800000" swAng="-5400000"/>
                <a:lnTo>
                  <a:pt x="21505" y="213435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86160" y="3795840"/>
            <a:ext cx="360360" cy="174780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1747800"/>
              <a:gd name="textAreaBottom" fmla="*/ 1747440 h 1747800"/>
            </a:gdLst>
            <a:ahLst/>
            <a:rect l="textAreaLeft" t="textAreaTop" r="textAreaRight" b="textAreaBottom"/>
            <a:pathLst>
              <a:path w="21600" h="104680">
                <a:moveTo>
                  <a:pt x="95" y="0"/>
                </a:moveTo>
                <a:arcTo wR="95" hR="95" stAng="16200000" swAng="-5400000"/>
                <a:lnTo>
                  <a:pt x="0" y="104585"/>
                </a:lnTo>
                <a:arcTo wR="95" hR="95" stAng="10800000" swAng="-5400000"/>
                <a:lnTo>
                  <a:pt x="21505" y="104680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911240" y="1979640"/>
            <a:ext cx="720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-231480" y="34524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T Herbic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94000" y="28242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51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9416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olz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5240" y="5580000"/>
            <a:ext cx="900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9888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51240" y="3240000"/>
            <a:ext cx="347760" cy="23036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2303640"/>
              <a:gd name="textAreaBottom" fmla="*/ 2303280 h 2303640"/>
            </a:gdLst>
            <a:ahLst/>
            <a:rect l="textAreaLeft" t="textAreaTop" r="textAreaRight" b="textAreaBottom"/>
            <a:pathLst>
              <a:path w="21600" h="142958">
                <a:moveTo>
                  <a:pt x="99" y="0"/>
                </a:moveTo>
                <a:arcTo wR="99" hR="99" stAng="16200000" swAng="-5400000"/>
                <a:lnTo>
                  <a:pt x="0" y="142859"/>
                </a:lnTo>
                <a:arcTo wR="99" hR="99" stAng="10800000" swAng="-5400000"/>
                <a:lnTo>
                  <a:pt x="21501" y="142958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214880" y="4319640"/>
            <a:ext cx="347760" cy="1225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1225440"/>
              <a:gd name="textAreaBottom" fmla="*/ 1225080 h 1225440"/>
            </a:gdLst>
            <a:ahLst/>
            <a:rect l="textAreaLeft" t="textAreaTop" r="textAreaRight" b="textAreaBottom"/>
            <a:pathLst>
              <a:path w="21600" h="76058">
                <a:moveTo>
                  <a:pt x="99" y="0"/>
                </a:moveTo>
                <a:arcTo wR="99" hR="99" stAng="16200000" swAng="-5400000"/>
                <a:lnTo>
                  <a:pt x="0" y="75959"/>
                </a:lnTo>
                <a:arcTo wR="99" hR="99" stAng="10800000" swAng="-5400000"/>
                <a:lnTo>
                  <a:pt x="21501" y="76058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10160" y="3240000"/>
            <a:ext cx="66672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086360" y="332892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45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4040" y="1033560"/>
            <a:ext cx="85726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dice de Fréquence de Trai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79600" y="194472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,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14520" y="37450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8160" y="320364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7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79600" y="194472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,7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43240" y="4284720"/>
            <a:ext cx="5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9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8324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5632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8652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ï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043600" y="3889440"/>
            <a:ext cx="347400" cy="1655640"/>
          </a:xfrm>
          <a:custGeom>
            <a:avLst/>
            <a:gdLst>
              <a:gd name="textAreaLeft" fmla="*/ 360 w 347400"/>
              <a:gd name="textAreaRight" fmla="*/ 347040 w 347400"/>
              <a:gd name="textAreaTop" fmla="*/ 360 h 1655640"/>
              <a:gd name="textAreaBottom" fmla="*/ 1655280 h 1655640"/>
            </a:gdLst>
            <a:ahLst/>
            <a:rect l="textAreaLeft" t="textAreaTop" r="textAreaRight" b="textAreaBottom"/>
            <a:pathLst>
              <a:path w="21600" h="102857">
                <a:moveTo>
                  <a:pt x="99" y="0"/>
                </a:moveTo>
                <a:arcTo wR="99" hR="99" stAng="16200000" swAng="-5400000"/>
                <a:lnTo>
                  <a:pt x="0" y="102758"/>
                </a:lnTo>
                <a:arcTo wR="99" hR="99" stAng="10800000" swAng="-5400000"/>
                <a:lnTo>
                  <a:pt x="21501" y="102857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71960" y="3887640"/>
            <a:ext cx="540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2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83120" y="5111640"/>
            <a:ext cx="347760" cy="433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433440"/>
              <a:gd name="textAreaBottom" fmla="*/ 433080 h 433440"/>
            </a:gdLst>
            <a:ahLst/>
            <a:rect l="textAreaLeft" t="textAreaTop" r="textAreaRight" b="textAreaBottom"/>
            <a:pathLst>
              <a:path w="21600" h="26916">
                <a:moveTo>
                  <a:pt x="99" y="0"/>
                </a:moveTo>
                <a:arcTo wR="99" hR="99" stAng="16200000" swAng="-5400000"/>
                <a:lnTo>
                  <a:pt x="0" y="26817"/>
                </a:lnTo>
                <a:arcTo wR="99" hR="99" stAng="10800000" swAng="-5400000"/>
                <a:lnTo>
                  <a:pt x="21501" y="26916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800680" y="50752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10160" y="3887640"/>
            <a:ext cx="53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78360" y="4121280"/>
            <a:ext cx="10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73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770520" y="3365640"/>
            <a:ext cx="347760" cy="2179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2179440"/>
              <a:gd name="textAreaBottom" fmla="*/ 2179080 h 2179440"/>
            </a:gdLst>
            <a:ahLst/>
            <a:rect l="textAreaLeft" t="textAreaTop" r="textAreaRight" b="textAreaBottom"/>
            <a:pathLst>
              <a:path w="21600" h="135251">
                <a:moveTo>
                  <a:pt x="99" y="0"/>
                </a:moveTo>
                <a:arcTo wR="99" hR="99" stAng="16200000" swAng="-5400000"/>
                <a:lnTo>
                  <a:pt x="0" y="135152"/>
                </a:lnTo>
                <a:arcTo wR="99" hR="99" stAng="10800000" swAng="-5400000"/>
                <a:lnTo>
                  <a:pt x="21501" y="135251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10400" y="5111640"/>
            <a:ext cx="347760" cy="433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433440"/>
              <a:gd name="textAreaBottom" fmla="*/ 433080 h 433440"/>
            </a:gdLst>
            <a:ahLst/>
            <a:rect l="textAreaLeft" t="textAreaTop" r="textAreaRight" b="textAreaBottom"/>
            <a:pathLst>
              <a:path w="21600" h="26916">
                <a:moveTo>
                  <a:pt x="99" y="0"/>
                </a:moveTo>
                <a:arcTo wR="99" hR="99" stAng="16200000" swAng="-5400000"/>
                <a:lnTo>
                  <a:pt x="0" y="26817"/>
                </a:lnTo>
                <a:arcTo wR="99" hR="99" stAng="10800000" swAng="-5400000"/>
                <a:lnTo>
                  <a:pt x="21501" y="26916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8360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4688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913440" y="5796000"/>
            <a:ext cx="900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Tourneso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00680" y="3348000"/>
            <a:ext cx="5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6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27960" y="50752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130880" y="3276720"/>
            <a:ext cx="6447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434360" y="36180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80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Image 9" descr="Desherbsol2_Logo_VF.gif"/>
          <p:cNvPicPr/>
          <p:nvPr/>
        </p:nvPicPr>
        <p:blipFill>
          <a:blip r:embed="rId2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20:23Z</dcterms:created>
  <dc:creator>rtp</dc:creator>
  <dc:description/>
  <dc:language>en-US</dc:language>
  <cp:lastModifiedBy>Philippe Delval</cp:lastModifiedBy>
  <dcterms:modified xsi:type="dcterms:W3CDTF">2010-11-19T07:07:28Z</dcterms:modified>
  <cp:revision>194</cp:revision>
  <dc:subject/>
  <dc:title>Endure Information Centre</dc:title>
</cp:coreProperties>
</file>