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23.png" ContentType="image/png"/>
  <Override PartName="/ppt/media/image55.jpeg" ContentType="image/jpeg"/>
  <Override PartName="/ppt/media/image35.jpeg" ContentType="image/jpeg"/>
  <Override PartName="/ppt/media/image10.jpeg" ContentType="image/jpeg"/>
  <Override PartName="/ppt/media/image40.png" ContentType="image/png"/>
  <Override PartName="/ppt/media/image43.jpeg" ContentType="image/jpeg"/>
  <Override PartName="/ppt/media/image44.jpeg" ContentType="image/jpeg"/>
  <Override PartName="/ppt/media/image38.jpeg" ContentType="image/jpeg"/>
  <Override PartName="/ppt/media/image9.png" ContentType="image/png"/>
  <Override PartName="/ppt/media/image46.jpeg" ContentType="image/jpeg"/>
  <Override PartName="/ppt/media/image47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50.jpeg" ContentType="image/jpeg"/>
  <Override PartName="/ppt/media/image30.png" ContentType="image/png"/>
  <Override PartName="/ppt/media/image3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12.png" ContentType="image/png"/>
  <Override PartName="/ppt/media/image54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jpeg" ContentType="image/jpeg"/>
  <Override PartName="/ppt/media/image5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0000" y="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920" rIns="88920" tIns="44640" bIns="4464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"/>
          </p:nvPr>
        </p:nvSpPr>
        <p:spPr>
          <a:xfrm>
            <a:off x="37796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9B027B-825B-4788-931F-3B37EF649D0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endure-network.eu/about_endure/all_the_news/guide_to_tackling_wcr_now_available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853920" y="74448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For detailed information s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ENDURE NETWORK - Guide to tackling WCR now available / All the news / About EN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URE NETWORK - Learning IPM lessons from WCR in Hungary / All the news / About EN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URE NETWORK - New training leaflet: the participatory approach / All the news / About EN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717518-3710-4D42-8CAD-CB4EC10EDF2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7796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C3956E-98E8-4884-9F8C-FC02CBAB848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778200" y="942660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2074-3EF5-428D-99D8-81A81B1C679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378144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78144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9428040"/>
            <a:ext cx="2870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870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27080" y="87300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73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25.xml"/><Relationship Id="rId26" Type="http://schemas.openxmlformats.org/officeDocument/2006/relationships/slideLayout" Target="../slideLayouts/slideLayout26.xml"/><Relationship Id="rId27" Type="http://schemas.openxmlformats.org/officeDocument/2006/relationships/slideLayout" Target="../slideLayouts/slideLayout27.xml"/><Relationship Id="rId28" Type="http://schemas.openxmlformats.org/officeDocument/2006/relationships/slideLayout" Target="../slideLayouts/slideLayout28.xml"/><Relationship Id="rId29" Type="http://schemas.openxmlformats.org/officeDocument/2006/relationships/slideLayout" Target="../slideLayouts/slideLayout29.xml"/><Relationship Id="rId30" Type="http://schemas.openxmlformats.org/officeDocument/2006/relationships/slideLayout" Target="../slideLayouts/slideLayout30.xml"/><Relationship Id="rId31" Type="http://schemas.openxmlformats.org/officeDocument/2006/relationships/slideLayout" Target="../slideLayouts/slideLayout31.xml"/><Relationship Id="rId32" Type="http://schemas.openxmlformats.org/officeDocument/2006/relationships/slideLayout" Target="../slideLayouts/slideLayout32.xml"/><Relationship Id="rId33" Type="http://schemas.openxmlformats.org/officeDocument/2006/relationships/slideLayout" Target="../slideLayouts/slideLayout33.xml"/><Relationship Id="rId34" Type="http://schemas.openxmlformats.org/officeDocument/2006/relationships/slideLayout" Target="../slideLayouts/slideLayout34.xml"/><Relationship Id="rId35" Type="http://schemas.openxmlformats.org/officeDocument/2006/relationships/slideLayout" Target="../slideLayouts/slideLayout35.xml"/><Relationship Id="rId3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37.xml"/><Relationship Id="rId26" Type="http://schemas.openxmlformats.org/officeDocument/2006/relationships/slideLayout" Target="../slideLayouts/slideLayout38.xml"/><Relationship Id="rId27" Type="http://schemas.openxmlformats.org/officeDocument/2006/relationships/slideLayout" Target="../slideLayouts/slideLayout39.xml"/><Relationship Id="rId28" Type="http://schemas.openxmlformats.org/officeDocument/2006/relationships/slideLayout" Target="../slideLayouts/slideLayout40.xml"/><Relationship Id="rId29" Type="http://schemas.openxmlformats.org/officeDocument/2006/relationships/slideLayout" Target="../slideLayouts/slideLayout41.xml"/><Relationship Id="rId30" Type="http://schemas.openxmlformats.org/officeDocument/2006/relationships/slideLayout" Target="../slideLayouts/slideLayout42.xml"/><Relationship Id="rId31" Type="http://schemas.openxmlformats.org/officeDocument/2006/relationships/slideLayout" Target="../slideLayouts/slideLayout43.xml"/><Relationship Id="rId32" Type="http://schemas.openxmlformats.org/officeDocument/2006/relationships/slideLayout" Target="../slideLayouts/slideLayout44.xml"/><Relationship Id="rId33" Type="http://schemas.openxmlformats.org/officeDocument/2006/relationships/slideLayout" Target="../slideLayouts/slideLayout45.xml"/><Relationship Id="rId34" Type="http://schemas.openxmlformats.org/officeDocument/2006/relationships/slideLayout" Target="../slideLayouts/slideLayout46.xml"/><Relationship Id="rId35" Type="http://schemas.openxmlformats.org/officeDocument/2006/relationships/slideLayout" Target="../slideLayouts/slideLayout47.xml"/><Relationship Id="rId3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17" name="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5"/>
    <p:sldLayoutId id="2147483676" r:id="rId26"/>
    <p:sldLayoutId id="2147483677" r:id="rId27"/>
    <p:sldLayoutId id="2147483678" r:id="rId28"/>
    <p:sldLayoutId id="2147483679" r:id="rId29"/>
    <p:sldLayoutId id="2147483680" r:id="rId30"/>
    <p:sldLayoutId id="2147483681" r:id="rId31"/>
    <p:sldLayoutId id="2147483682" r:id="rId32"/>
    <p:sldLayoutId id="2147483683" r:id="rId33"/>
    <p:sldLayoutId id="2147483684" r:id="rId34"/>
    <p:sldLayoutId id="2147483685" r:id="rId35"/>
    <p:sldLayoutId id="2147483686" r:id="rId3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5"/>
    <p:sldLayoutId id="2147483689" r:id="rId26"/>
    <p:sldLayoutId id="2147483690" r:id="rId27"/>
    <p:sldLayoutId id="2147483691" r:id="rId28"/>
    <p:sldLayoutId id="2147483692" r:id="rId29"/>
    <p:sldLayoutId id="2147483693" r:id="rId30"/>
    <p:sldLayoutId id="2147483694" r:id="rId31"/>
    <p:sldLayoutId id="2147483695" r:id="rId32"/>
    <p:sldLayoutId id="2147483696" r:id="rId33"/>
    <p:sldLayoutId id="2147483697" r:id="rId34"/>
    <p:sldLayoutId id="2147483698" r:id="rId35"/>
    <p:sldLayoutId id="2147483699" r:id="rId3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image" Target="../media/image1.pn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48402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39640" y="2924280"/>
            <a:ext cx="806472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Integrated Pest Management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WESTERN CORN ROOTWORM -WC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hu-HU" sz="2800" spc="-1" strike="noStrike">
                <a:solidFill>
                  <a:srgbClr val="000000"/>
                </a:solidFill>
                <a:latin typeface="Verdana"/>
              </a:rPr>
              <a:t>Diabrotica virgifera virgifera LeConte</a:t>
            </a: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in Central and Eastern Europ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42840" y="6415200"/>
            <a:ext cx="2143800" cy="4449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 C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9080" y="6610320"/>
            <a:ext cx="160020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IPM for WCR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000" spc="-1" strike="noStrike">
                <a:solidFill>
                  <a:srgbClr val="c0022b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22b"/>
                </a:solidFill>
                <a:latin typeface="Verdana"/>
              </a:rPr>
              <a:t>Chemical control: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rvae: to prevent/decrease larval damage in given year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c0022b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seed treatment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soil insecticide application at planting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ults: to prevent damage by silk clipping or to reduce egg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ying and next year larval damage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foliar insecticide application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high clearence ground sprayer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aircraft/helicopter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attract and kill (reduced insecticide rate+feeding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rrestant)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>
              <a:lnSpc>
                <a:spcPct val="7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c0022b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22b"/>
                </a:solidFill>
                <a:latin typeface="Verdana"/>
              </a:rPr>
              <a:t>Innovative control option: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t (rootworm resistant) maize hybrids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0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widespread in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6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under approval in Europe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5560" y="4437000"/>
            <a:ext cx="3024000" cy="22669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6012000" y="4437000"/>
            <a:ext cx="3036600" cy="22669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0" y="1052640"/>
            <a:ext cx="9144000" cy="29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ARMERS AI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s to be able to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MANA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st on their field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nagement of the WCR on one field is not effective enoug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OMMUNITY ACTIO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s needed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sed on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OMMON UNDERSTAN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3048120" y="4438800"/>
            <a:ext cx="3008160" cy="22651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Farmers perspective?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Background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4000" y="1585800"/>
            <a:ext cx="845964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detection of WCR 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(damage by larvae)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urope in 1992;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id spread of the pest 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urope;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mping-spread movement beyond the   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tual spread line;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ltiple transatlantic introductions of WCR.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5435640" y="4581360"/>
            <a:ext cx="3456000" cy="1814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2916360" y="4581360"/>
            <a:ext cx="2334960" cy="1835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324000" y="4581360"/>
            <a:ext cx="23428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Morphology of WCR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56000" y="5013360"/>
            <a:ext cx="2160360" cy="1420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35000" y="5013360"/>
            <a:ext cx="2205000" cy="1447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68360" y="1197000"/>
            <a:ext cx="845964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ggs: 0,5 mm; whitish-yellow; 15-20cm in the soi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rvae: 3 larval stages;  1,2 mm (L1)- 1,5 cm (L3);   whitish-yellow, black head capsule; soil, maize root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pae (pupa libera) 7,5 mm; whitish-yellow; non moving stage in the soil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ults: 7,5 mm; yellow, with three black strips; difference between males and females; active on pla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4932360" y="3860640"/>
            <a:ext cx="172728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4859280" y="5300640"/>
            <a:ext cx="1800360" cy="1349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6732720" y="4437000"/>
            <a:ext cx="21970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503280" y="1066680"/>
            <a:ext cx="8640720" cy="579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PUPA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796000" y="5097600"/>
            <a:ext cx="2111400" cy="1452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larva72"/>
          <p:cNvPicPr/>
          <p:nvPr/>
        </p:nvPicPr>
        <p:blipFill>
          <a:blip r:embed="rId2"/>
          <a:stretch/>
        </p:blipFill>
        <p:spPr>
          <a:xfrm>
            <a:off x="6227640" y="2865600"/>
            <a:ext cx="1960560" cy="2185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200308cr_eggs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987640" y="1569960"/>
            <a:ext cx="3641760" cy="10494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6"/>
          <p:cNvSpPr/>
          <p:nvPr/>
        </p:nvSpPr>
        <p:spPr>
          <a:xfrm>
            <a:off x="685800" y="6743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481560" y="6743880"/>
            <a:ext cx="289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DVVAST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1619280" y="5457960"/>
            <a:ext cx="1995480" cy="860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1"/>
          <p:cNvSpPr/>
          <p:nvPr/>
        </p:nvSpPr>
        <p:spPr>
          <a:xfrm>
            <a:off x="250920" y="2192400"/>
            <a:ext cx="7273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2"/>
          <p:cNvSpPr/>
          <p:nvPr/>
        </p:nvSpPr>
        <p:spPr>
          <a:xfrm>
            <a:off x="3160800" y="2452680"/>
            <a:ext cx="3265560" cy="3352680"/>
          </a:xfrm>
          <a:prstGeom prst="ellipse">
            <a:avLst/>
          </a:prstGeom>
          <a:solidFill>
            <a:srgbClr val="dddddd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601920" y="1557360"/>
            <a:ext cx="224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Eggs overw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in the so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6518520" y="27939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6698160" y="3586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6661440" y="43527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6809760" y="52419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pa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1042920" y="2889360"/>
            <a:ext cx="25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Adults d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1718640" y="459432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Ovi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2430360" y="5392800"/>
            <a:ext cx="1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4015080" y="5780160"/>
            <a:ext cx="160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Emerg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of</a:t>
            </a:r>
            <a:r>
              <a:rPr b="1" lang="hu-H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ad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2"/>
          <p:cNvSpPr/>
          <p:nvPr/>
        </p:nvSpPr>
        <p:spPr>
          <a:xfrm rot="1660200">
            <a:off x="5227200" y="2665440"/>
            <a:ext cx="1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3"/>
          <p:cNvSpPr/>
          <p:nvPr/>
        </p:nvSpPr>
        <p:spPr>
          <a:xfrm rot="657000">
            <a:off x="4071960" y="512244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I-VII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 rot="16105200">
            <a:off x="5866200" y="41436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 rot="3043800">
            <a:off x="5628240" y="315324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 rot="18457800">
            <a:off x="3176640" y="315756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II - 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7"/>
          <p:cNvSpPr/>
          <p:nvPr/>
        </p:nvSpPr>
        <p:spPr>
          <a:xfrm rot="3994200">
            <a:off x="3229200" y="445644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I-VII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8"/>
          <p:cNvSpPr/>
          <p:nvPr/>
        </p:nvSpPr>
        <p:spPr>
          <a:xfrm rot="18887400">
            <a:off x="5100840" y="50803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-VI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9"/>
          <p:cNvSpPr/>
          <p:nvPr/>
        </p:nvSpPr>
        <p:spPr>
          <a:xfrm>
            <a:off x="3754440" y="2986200"/>
            <a:ext cx="2152800" cy="2133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0"/>
          <p:cNvSpPr/>
          <p:nvPr/>
        </p:nvSpPr>
        <p:spPr>
          <a:xfrm rot="10357200">
            <a:off x="3785760" y="3030120"/>
            <a:ext cx="2046240" cy="2102040"/>
          </a:xfrm>
          <a:custGeom>
            <a:avLst/>
            <a:gdLst>
              <a:gd name="textAreaLeft" fmla="*/ 0 w 2046240"/>
              <a:gd name="textAreaRight" fmla="*/ 2046600 w 2046240"/>
              <a:gd name="textAreaTop" fmla="*/ 0 h 2102040"/>
              <a:gd name="textAreaBottom" fmla="*/ 1620000 h 2102040"/>
            </a:gdLst>
            <a:ahLst/>
            <a:rect l="textAreaLeft" t="textAreaTop" r="textAreaRight" b="textAreaBottom"/>
            <a:pathLst>
              <a:path w="21600" h="21600">
                <a:moveTo>
                  <a:pt x="3915" y="17733"/>
                </a:moveTo>
                <a:cubicBezTo>
                  <a:pt x="2067" y="15899"/>
                  <a:pt x="1029" y="13403"/>
                  <a:pt x="1029" y="10800"/>
                </a:cubicBezTo>
                <a:cubicBezTo>
                  <a:pt x="1029" y="5403"/>
                  <a:pt x="5403" y="1029"/>
                  <a:pt x="10800" y="1029"/>
                </a:cubicBezTo>
                <a:cubicBezTo>
                  <a:pt x="16196" y="1029"/>
                  <a:pt x="20571" y="5403"/>
                  <a:pt x="20571" y="10800"/>
                </a:cubicBezTo>
                <a:cubicBezTo>
                  <a:pt x="20571" y="13403"/>
                  <a:pt x="19532" y="15899"/>
                  <a:pt x="17684" y="17733"/>
                </a:cubicBezTo>
                <a:lnTo>
                  <a:pt x="18409" y="18463"/>
                </a:lnTo>
                <a:cubicBezTo>
                  <a:pt x="20451" y="16436"/>
                  <a:pt x="21600" y="13677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3677"/>
                  <a:pt x="1148" y="16436"/>
                  <a:pt x="3190" y="18463"/>
                </a:cubicBezTo>
                <a:close/>
              </a:path>
            </a:pathLst>
          </a:custGeom>
          <a:solidFill>
            <a:srgbClr val="66ff33"/>
          </a:solidFill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1"/>
          <p:cNvSpPr/>
          <p:nvPr/>
        </p:nvSpPr>
        <p:spPr>
          <a:xfrm rot="2531400">
            <a:off x="5678640" y="2757240"/>
            <a:ext cx="444240" cy="304560"/>
          </a:xfrm>
          <a:prstGeom prst="rightArrow">
            <a:avLst>
              <a:gd name="adj1" fmla="val 70000"/>
              <a:gd name="adj2" fmla="val 14181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2"/>
          <p:cNvSpPr/>
          <p:nvPr/>
        </p:nvSpPr>
        <p:spPr>
          <a:xfrm rot="9394800">
            <a:off x="5231880" y="5500800"/>
            <a:ext cx="446400" cy="304560"/>
          </a:xfrm>
          <a:prstGeom prst="rightArrow">
            <a:avLst>
              <a:gd name="adj1" fmla="val 70000"/>
              <a:gd name="adj2" fmla="val 142501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3"/>
          <p:cNvSpPr/>
          <p:nvPr/>
        </p:nvSpPr>
        <p:spPr>
          <a:xfrm rot="15843600">
            <a:off x="2926440" y="4056480"/>
            <a:ext cx="457200" cy="297000"/>
          </a:xfrm>
          <a:prstGeom prst="rightArrow">
            <a:avLst>
              <a:gd name="adj1" fmla="val 70000"/>
              <a:gd name="adj2" fmla="val 14966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280" y="88920"/>
            <a:ext cx="5245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Life cycle</a:t>
            </a: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 of WC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6591240"/>
            <a:ext cx="2592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ource: S. Toepf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Damage by WCR larva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4419720"/>
            <a:ext cx="2843280" cy="2131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84360" y="1197000"/>
            <a:ext cx="845964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ccessful development of larvae (almost)  only on maize roots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ze root system damaged, plants will lodge (goose-neck symptom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CR larval damage evaluation: Iowa 1-6 scale, node – injury sc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6227640" y="4452840"/>
            <a:ext cx="2665440" cy="2000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3203640" y="4437000"/>
            <a:ext cx="27684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Damage by WCR adul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4360" y="1125360"/>
            <a:ext cx="845964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CR adults are feeding on several plant species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eed on pollen of different crop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eed on maize leaves, silks and pollen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conomic damage on maize plants due to silk clipping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ss fertilized ears and yield loss (quantity and quality of kernels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3780000" y="4292640"/>
            <a:ext cx="1717560" cy="2455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468360" y="456084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5867280" y="4616280"/>
            <a:ext cx="284328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Monitoring of WCR adul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4000" y="907920"/>
            <a:ext cx="882000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Purpos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Evaluation of t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- presence of WCR adult population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- potential for silk clipping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- risk for next year larval damage (if not rotated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Tools/method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- Csalomon pheromone traps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- yellow sticky traps (e.g. Pherocon AM)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u-HU" sz="2200" spc="-1" strike="noStrike">
                <a:solidFill>
                  <a:srgbClr val="000000"/>
                </a:solidFill>
                <a:latin typeface="Verdana"/>
              </a:rPr>
              <a:t>- whole plant coun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2627280" y="5038560"/>
            <a:ext cx="2097000" cy="18194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600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Verdana"/>
              </a:rPr>
              <a:t>Cultural practic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Feeding and oviposition of females in maize,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ccessful  larval development in subsequent year maize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OP ROTATION;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Field size/margins/surrounding of the field; 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Soil type, tillage system/weeds;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Planting time/hybrid selection; BT maize (?);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 Production inputs (fertilizer, water, green manure).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ATE PLANTING: escape from taching period of the larvae where temperature and rainfall allow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RLY PLANTING: to allow root system development as soon as possible where temperature and rainfall allow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IPM for WC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347640" y="2276640"/>
            <a:ext cx="180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2700360" y="5343480"/>
            <a:ext cx="1942920" cy="15145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292720" y="5950080"/>
            <a:ext cx="34196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p rotation </a:t>
            </a:r>
            <a:r>
              <a:rPr b="1" lang="hu-HU" sz="1200" spc="-1" strike="noStrike">
                <a:solidFill>
                  <a:srgbClr val="000000"/>
                </a:solidFill>
                <a:latin typeface="Verdana"/>
              </a:rPr>
              <a:t>field test plots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WCR management (</a:t>
            </a:r>
            <a:r>
              <a:rPr b="1" lang="hu-HU" sz="1200" spc="-1" strike="noStrike">
                <a:solidFill>
                  <a:srgbClr val="000000"/>
                </a:solidFill>
                <a:latin typeface="Verdana"/>
              </a:rPr>
              <a:t>EU 5th Framework project Hungary,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0-200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IPM for WCR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643280" y="4941720"/>
            <a:ext cx="2482920" cy="1557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0" y="1052640"/>
            <a:ext cx="914400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Verdana"/>
              </a:rPr>
              <a:t>Biological m</a:t>
            </a:r>
            <a:r>
              <a:rPr b="1" lang="hu-HU" sz="2400" spc="-1" strike="noStrike">
                <a:solidFill>
                  <a:srgbClr val="c0022b"/>
                </a:solidFill>
                <a:latin typeface="Verdana"/>
              </a:rPr>
              <a:t>ethods</a:t>
            </a:r>
            <a:r>
              <a:rPr b="1" lang="en-US" sz="2400" spc="-1" strike="noStrike">
                <a:solidFill>
                  <a:srgbClr val="c0022b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There are several 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antagonists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asitoids (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entomopathogenic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gi,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matodes,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ptera spp.) and predators (pr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ing mantis, ground beetles, spiders, frogs and some birds) that parasite or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 on WCR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- I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 is 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still not defined to what exten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these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edators 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are able to regulat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CR popula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1763640" y="4941720"/>
            <a:ext cx="2106720" cy="1586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484360" y="4941720"/>
            <a:ext cx="13716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FAO/ P. HOFFMANN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24360" y="4941720"/>
            <a:ext cx="13716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FAO/ S. TOEPFER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 Delval</cp:lastModifiedBy>
  <dcterms:modified xsi:type="dcterms:W3CDTF">2010-11-10T14:50:12Z</dcterms:modified>
  <cp:revision>237</cp:revision>
  <dc:subject/>
  <dc:title>Diapositive 1</dc:title>
</cp:coreProperties>
</file>