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8.jpeg" ContentType="image/jpeg"/>
  <Override PartName="/ppt/media/image53.png" ContentType="image/png"/>
  <Override PartName="/ppt/media/image26.jpeg" ContentType="image/jpeg"/>
  <Override PartName="/ppt/media/image42.png" ContentType="image/png"/>
  <Override PartName="/ppt/media/image44.png" ContentType="image/png"/>
  <Override PartName="/ppt/media/image13.jpeg" ContentType="image/jpeg"/>
  <Override PartName="/ppt/media/image23.png" ContentType="image/png"/>
  <Override PartName="/ppt/media/image63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1.png" ContentType="image/png"/>
  <Override PartName="/ppt/media/image31.png" ContentType="image/png"/>
  <Override PartName="/ppt/media/image2.jpeg" ContentType="image/jpeg"/>
  <Override PartName="/ppt/media/image57.png" ContentType="image/png"/>
  <Override PartName="/ppt/media/image20.png" ContentType="image/png"/>
  <Override PartName="/ppt/media/image62.wmf" ContentType="image/x-wmf"/>
  <Override PartName="/ppt/media/image59.png" ContentType="image/png"/>
  <Override PartName="/ppt/media/image22.png" ContentType="image/png"/>
  <Override PartName="/ppt/media/image16.jpeg" ContentType="image/jpeg"/>
  <Override PartName="/ppt/media/image25.png" ContentType="image/png"/>
  <Override PartName="/ppt/media/image24.png" ContentType="image/png"/>
  <Override PartName="/ppt/media/image21.png" ContentType="image/png"/>
  <Override PartName="/ppt/media/image28.jpeg" ContentType="image/jpeg"/>
  <Override PartName="/ppt/media/image14.jpeg" ContentType="image/jpeg"/>
  <Override PartName="/ppt/media/image54.png" ContentType="image/png"/>
  <Override PartName="/ppt/media/image17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29.jpeg" ContentType="image/jpeg"/>
  <Override PartName="/ppt/media/image8.jpeg" ContentType="image/jpeg"/>
  <Override PartName="/ppt/media/image60.wmf" ContentType="image/x-wmf"/>
  <Override PartName="/ppt/media/image38.png" ContentType="image/png"/>
  <Override PartName="/ppt/media/image10.jpeg" ContentType="image/jpe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52.wmf" ContentType="image/x-wmf"/>
  <Override PartName="/ppt/media/image9.png" ContentType="image/png"/>
  <Override PartName="/ppt/media/image39.png" ContentType="image/png"/>
  <Override PartName="/ppt/media/image30.png" ContentType="image/png"/>
  <Override PartName="/ppt/media/image32.png" ContentType="image/png"/>
  <Override PartName="/ppt/media/image35.png" ContentType="image/png"/>
  <Override PartName="/ppt/media/image40.png" ContentType="image/png"/>
  <Override PartName="/ppt/media/image41.png" ContentType="image/png"/>
  <Override PartName="/ppt/media/image43.png" ContentType="image/png"/>
  <Override PartName="/ppt/media/image45.png" ContentType="image/png"/>
  <Override PartName="/ppt/media/image46.png" ContentType="image/png"/>
  <Override PartName="/ppt/media/image47.png" ContentType="image/png"/>
  <Override PartName="/ppt/media/image5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xMode val="edge"/>
          <c:yMode val="edge"/>
          <c:x val="0.0199446243371345"/>
          <c:y val="0.0198489372914105"/>
          <c:w val="0.960016894270027"/>
          <c:h val="0.959950816792552"/>
        </c:manualLayout>
      </c:layout>
      <c:barChart>
        <c:barDir val="col"/>
        <c:grouping val="stack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IFT Herbicides</c:v>
                </c:pt>
              </c:strCache>
            </c:strRef>
          </c:tx>
          <c:spPr>
            <a:solidFill>
              <a:srgbClr val="c0504d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8"/>
                <c:pt idx="0">
                  <c:v/>
                </c:pt>
                <c:pt idx="1">
                  <c:v/>
                </c:pt>
                <c:pt idx="2">
                  <c:v/>
                </c:pt>
                <c:pt idx="3">
                  <c:v/>
                </c:pt>
                <c:pt idx="4">
                  <c:v/>
                </c:pt>
                <c:pt idx="5">
                  <c:v/>
                </c:pt>
                <c:pt idx="6">
                  <c:v/>
                </c:pt>
                <c:pt idx="7">
                  <c:v/>
                </c:pt>
              </c:strCache>
            </c:strRef>
          </c:cat>
          <c:val>
            <c:numRef>
              <c:f>0</c:f>
              <c:numCache>
                <c:formatCode>General</c:formatCode>
                <c:ptCount val="8"/>
                <c:pt idx="0">
                  <c:v>0</c:v>
                </c:pt>
                <c:pt idx="1">
                  <c:v>0</c:v>
                </c:pt>
                <c:pt idx="2">
                  <c:v>0</c:v>
                </c:pt>
                <c:pt idx="3">
                  <c:v>0</c:v>
                </c:pt>
                <c:pt idx="4">
                  <c:v>0</c:v>
                </c:pt>
                <c:pt idx="5">
                  <c:v>0</c:v>
                </c:pt>
                <c:pt idx="6">
                  <c:v>0</c:v>
                </c:pt>
                <c:pt idx="7">
                  <c:v>0</c:v>
                </c:pt>
              </c:numCache>
            </c:numRef>
          </c:val>
        </c:ser>
        <c:gapWidth val="150"/>
        <c:overlap val="100"/>
        <c:axId val="26280280"/>
        <c:axId val="60958061"/>
      </c:barChart>
      <c:catAx>
        <c:axId val="26280280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808080"/>
            </a:solidFill>
          </a:ln>
        </c:spPr>
        <c:txPr>
          <a:bodyPr/>
          <a:lstStyle/>
          <a:p>
            <a:pPr>
              <a:defRPr b="0" sz="2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0958061"/>
        <c:crosses val="autoZero"/>
        <c:auto val="1"/>
        <c:lblAlgn val="ctr"/>
        <c:lblOffset val="100"/>
        <c:noMultiLvlLbl val="0"/>
      </c:catAx>
      <c:valAx>
        <c:axId val="60958061"/>
        <c:scaling>
          <c:orientation val="minMax"/>
          <c:max val="2.8"/>
          <c:min val="0"/>
        </c:scaling>
        <c:delete val="0"/>
        <c:axPos val="l"/>
        <c:majorGridlines>
          <c:spPr>
            <a:ln w="0">
              <a:solidFill>
                <a:srgbClr val="666699"/>
              </a:solidFill>
              <a:custDash>
                <a:ds d="189239" sp="189239"/>
                <a:ds d="189239" sp="189239"/>
              </a:custDash>
            </a:ln>
          </c:spPr>
        </c:majorGridlines>
        <c:numFmt formatCode="0.00" sourceLinked="0"/>
        <c:majorTickMark val="out"/>
        <c:minorTickMark val="none"/>
        <c:tickLblPos val="nextTo"/>
        <c:spPr>
          <a:ln w="0">
            <a:solidFill>
              <a:srgbClr val="808080"/>
            </a:solidFill>
          </a:ln>
        </c:spPr>
        <c:txPr>
          <a:bodyPr/>
          <a:lstStyle/>
          <a:p>
            <a:pPr>
              <a:defRPr b="0" sz="2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6280280"/>
        <c:crosses val="min"/>
        <c:crossBetween val="between"/>
        <c:majorUnit val="0.2"/>
      </c:valAx>
      <c:spPr>
        <a:solidFill>
          <a:srgbClr val="ffffff"/>
        </a:solidFill>
        <a:ln w="0">
          <a:noFill/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2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"/>
          </p:nvPr>
        </p:nvSpPr>
        <p:spPr>
          <a:xfrm>
            <a:off x="4024080" y="0"/>
            <a:ext cx="3074760" cy="512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8920" rIns="88920" tIns="44640" bIns="4464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bc623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ftr" idx="2"/>
          </p:nvPr>
        </p:nvSpPr>
        <p:spPr>
          <a:xfrm>
            <a:off x="0" y="9721800"/>
            <a:ext cx="3075120" cy="512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 type="sldNum" idx="3"/>
          </p:nvPr>
        </p:nvSpPr>
        <p:spPr>
          <a:xfrm>
            <a:off x="4024080" y="9721800"/>
            <a:ext cx="3074760" cy="512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da-DK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440B4EA-03CC-43A7-A0F2-43F468A660FA}" type="slidenum">
              <a:rPr b="0" lang="da-DK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Integrated weed management (IWM) is a broad term covering many methods that can be combined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pplied in various ways to the crop to constitute an IWM strate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his persentation shows the example of the french network Desherb’sol and the techniques in five crops: winter wheat, winter oil-seed rape, sunflower, maize and sugar-be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dsholder til diasnummer 3"/>
          <p:cNvSpPr/>
          <p:nvPr/>
        </p:nvSpPr>
        <p:spPr>
          <a:xfrm>
            <a:off x="4024440" y="9721800"/>
            <a:ext cx="30747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CA1E0B1-E6C0-4E47-BF32-47FA8B2FC98B}" type="slidenum">
              <a:rPr b="0" lang="da-DK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GRICULTURAL FEAS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slide gives information when you can use mechanical equipment with the type of soil, the stages of weeds and crops.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M = emerg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 = 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CONOMIC FEAS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 is very important to show the economical results with gross and net margins taking into account the mechanization expenses of the different systems in the different crops.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sts (Burgundy chamber of agriculture / 2007)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prayer 24m, 1500 liters (15.000€ Taxes non included) </a:t>
            </a: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600 ha/year + 10 ha/h = 6,2 € /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ocalised sprayer kit (3600 € TNI) = 8,6 € / 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Weed harrow 12m (7000 € TNI) </a:t>
            </a: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140 ha/year + 9,6 ha/h = 9,8 € / 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otative hoe 4,7m (9700 € TNI) </a:t>
            </a: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200 ha/year + 5 ha/h = 11,8 € / 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Hoeing machine; 6 rows (7000 € TNI) </a:t>
            </a: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60 ha/year + 1,8 ha/h = 31,1 €/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NEW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ou can show new experimental solutions to be tested 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 direct dri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 drilling under live mul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 drilling with other crop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ou have to show the different IPM principles this technique follow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ss herbicides and less res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se of non-chemical meth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ut also the odds and sods about economical aspec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chanization investment i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metimes manpower as well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advantages of these techniques are into the 3 pillar of sustainable agricult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vironmental and social: political background in France (Ecophyto, Grenelle) and surface water pollution with herbic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conomic: cost of herbicides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ut this slide open the door on the technical advantages as well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lity of soil and fertilization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dsholder til diasnummer 3"/>
          <p:cNvSpPr/>
          <p:nvPr/>
        </p:nvSpPr>
        <p:spPr>
          <a:xfrm>
            <a:off x="4024440" y="9721800"/>
            <a:ext cx="30747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633804B-BFF7-4315-A314-A196A07D8F55}" type="slidenum">
              <a:rPr b="0" lang="da-DK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GRONOMIC PRINCI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eed control must be reasoned into the rotation 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o use all the techniques to minimize the growth of population of some specie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o allow the development of the crops without the influence of weeds.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dsholder til diasnummer 3"/>
          <p:cNvSpPr/>
          <p:nvPr/>
        </p:nvSpPr>
        <p:spPr>
          <a:xfrm>
            <a:off x="4024440" y="9721800"/>
            <a:ext cx="30747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BFC44D5-422E-4AF6-9285-F1480F53EF24}" type="slidenum">
              <a:rPr b="0" lang="da-DK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SE STU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esentation of 5 cases of different crops: wheat, winter rape, maize, sunflower and sugar be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each case, the problem weeds in the region are named and routes of conventional chemical weeding and mixed weeding are compared.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examples are for two French regions in the north-east: Burgundy, Champagn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ith the mixt weed control, you must to shift the sowing date because you use the stale seed bed techn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ou can show how less use herbicides (number of treatments, rates,…)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WEED MANAGEMENT IN W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WEED MANAGEMENT IN OIL-SEED R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WEED MANAGEMENT IN MA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WEED MANAGEMENT IN SUNFL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WEED MANAGEMENT IN SUGAR-BE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F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slide show the exactly amount of herbicides in the two compared manag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ou can demonstrate that the reduction is from 45% to 80% by crop.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73962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747440" y="4115160"/>
            <a:ext cx="73962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537160" y="158580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537160" y="411516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23814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248360" y="1585800"/>
            <a:ext cx="23814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749280" y="1585800"/>
            <a:ext cx="23814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747440" y="4115160"/>
            <a:ext cx="23814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4248360" y="4115160"/>
            <a:ext cx="23814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749280" y="4115160"/>
            <a:ext cx="23814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747440" y="1585800"/>
            <a:ext cx="739620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73962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90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537160" y="1585800"/>
            <a:ext cx="36090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70920" y="88560"/>
            <a:ext cx="5247000" cy="358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537160" y="1585800"/>
            <a:ext cx="36090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747440" y="1585800"/>
            <a:ext cx="739620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90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537160" y="158580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537160" y="411516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537160" y="158580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73962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73962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747440" y="4115160"/>
            <a:ext cx="73962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537160" y="158580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537160" y="411516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23814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248360" y="1585800"/>
            <a:ext cx="23814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749280" y="1585800"/>
            <a:ext cx="23814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747440" y="4115160"/>
            <a:ext cx="23814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4248360" y="4115160"/>
            <a:ext cx="23814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749280" y="4115160"/>
            <a:ext cx="23814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747440" y="1585800"/>
            <a:ext cx="739620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73962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90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537160" y="1585800"/>
            <a:ext cx="36090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73962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70920" y="88560"/>
            <a:ext cx="5247000" cy="358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537160" y="1585800"/>
            <a:ext cx="36090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90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537160" y="158580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537160" y="411516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537160" y="158580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73962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73962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1747440" y="4115160"/>
            <a:ext cx="73962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537160" y="158580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537160" y="411516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23814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248360" y="1585800"/>
            <a:ext cx="23814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749280" y="1585800"/>
            <a:ext cx="23814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1747440" y="4115160"/>
            <a:ext cx="23814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4248360" y="4115160"/>
            <a:ext cx="23814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749280" y="4115160"/>
            <a:ext cx="23814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747440" y="1585800"/>
            <a:ext cx="739620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73962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90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37160" y="1585800"/>
            <a:ext cx="36090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90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537160" y="1585800"/>
            <a:ext cx="36090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70920" y="88560"/>
            <a:ext cx="5247000" cy="358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537160" y="1585800"/>
            <a:ext cx="36090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90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537160" y="158580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537160" y="411516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537160" y="158580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73962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73962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1747440" y="4115160"/>
            <a:ext cx="73962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537160" y="158580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5537160" y="411516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23814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248360" y="1585800"/>
            <a:ext cx="23814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749280" y="1585800"/>
            <a:ext cx="23814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1747440" y="4115160"/>
            <a:ext cx="23814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4248360" y="4115160"/>
            <a:ext cx="23814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749280" y="4115160"/>
            <a:ext cx="23814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70920" y="88560"/>
            <a:ext cx="5247000" cy="358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537160" y="1585800"/>
            <a:ext cx="36090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90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37160" y="158580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537160" y="411516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37160" y="158580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73962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png"/><Relationship Id="rId11" Type="http://schemas.openxmlformats.org/officeDocument/2006/relationships/image" Target="../media/image16.jpe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image" Target="../media/image22.png"/><Relationship Id="rId18" Type="http://schemas.openxmlformats.org/officeDocument/2006/relationships/image" Target="../media/image23.png"/><Relationship Id="rId19" Type="http://schemas.openxmlformats.org/officeDocument/2006/relationships/image" Target="../media/image24.png"/><Relationship Id="rId20" Type="http://schemas.openxmlformats.org/officeDocument/2006/relationships/image" Target="../media/image7.png"/><Relationship Id="rId21" Type="http://schemas.openxmlformats.org/officeDocument/2006/relationships/image" Target="../media/image25.png"/><Relationship Id="rId22" Type="http://schemas.openxmlformats.org/officeDocument/2006/relationships/image" Target="../media/image26.jpeg"/><Relationship Id="rId23" Type="http://schemas.openxmlformats.org/officeDocument/2006/relationships/image" Target="../media/image27.png"/><Relationship Id="rId24" Type="http://schemas.openxmlformats.org/officeDocument/2006/relationships/image" Target="../media/image1.png"/><Relationship Id="rId25" Type="http://schemas.openxmlformats.org/officeDocument/2006/relationships/slideLayout" Target="../slideLayouts/slideLayout25.xml"/><Relationship Id="rId26" Type="http://schemas.openxmlformats.org/officeDocument/2006/relationships/slideLayout" Target="../slideLayouts/slideLayout26.xml"/><Relationship Id="rId27" Type="http://schemas.openxmlformats.org/officeDocument/2006/relationships/slideLayout" Target="../slideLayouts/slideLayout27.xml"/><Relationship Id="rId28" Type="http://schemas.openxmlformats.org/officeDocument/2006/relationships/slideLayout" Target="../slideLayouts/slideLayout28.xml"/><Relationship Id="rId29" Type="http://schemas.openxmlformats.org/officeDocument/2006/relationships/slideLayout" Target="../slideLayouts/slideLayout29.xml"/><Relationship Id="rId30" Type="http://schemas.openxmlformats.org/officeDocument/2006/relationships/slideLayout" Target="../slideLayouts/slideLayout30.xml"/><Relationship Id="rId31" Type="http://schemas.openxmlformats.org/officeDocument/2006/relationships/slideLayout" Target="../slideLayouts/slideLayout31.xml"/><Relationship Id="rId32" Type="http://schemas.openxmlformats.org/officeDocument/2006/relationships/slideLayout" Target="../slideLayouts/slideLayout32.xml"/><Relationship Id="rId33" Type="http://schemas.openxmlformats.org/officeDocument/2006/relationships/slideLayout" Target="../slideLayouts/slideLayout33.xml"/><Relationship Id="rId34" Type="http://schemas.openxmlformats.org/officeDocument/2006/relationships/slideLayout" Target="../slideLayouts/slideLayout34.xml"/><Relationship Id="rId35" Type="http://schemas.openxmlformats.org/officeDocument/2006/relationships/slideLayout" Target="../slideLayouts/slideLayout35.xml"/><Relationship Id="rId3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png"/><Relationship Id="rId11" Type="http://schemas.openxmlformats.org/officeDocument/2006/relationships/image" Target="../media/image16.jpe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image" Target="../media/image22.png"/><Relationship Id="rId18" Type="http://schemas.openxmlformats.org/officeDocument/2006/relationships/image" Target="../media/image23.png"/><Relationship Id="rId19" Type="http://schemas.openxmlformats.org/officeDocument/2006/relationships/image" Target="../media/image24.png"/><Relationship Id="rId20" Type="http://schemas.openxmlformats.org/officeDocument/2006/relationships/image" Target="../media/image7.png"/><Relationship Id="rId21" Type="http://schemas.openxmlformats.org/officeDocument/2006/relationships/image" Target="../media/image25.png"/><Relationship Id="rId22" Type="http://schemas.openxmlformats.org/officeDocument/2006/relationships/image" Target="../media/image26.jpeg"/><Relationship Id="rId23" Type="http://schemas.openxmlformats.org/officeDocument/2006/relationships/image" Target="../media/image27.png"/><Relationship Id="rId24" Type="http://schemas.openxmlformats.org/officeDocument/2006/relationships/image" Target="../media/image1.png"/><Relationship Id="rId25" Type="http://schemas.openxmlformats.org/officeDocument/2006/relationships/slideLayout" Target="../slideLayouts/slideLayout37.xml"/><Relationship Id="rId26" Type="http://schemas.openxmlformats.org/officeDocument/2006/relationships/slideLayout" Target="../slideLayouts/slideLayout38.xml"/><Relationship Id="rId27" Type="http://schemas.openxmlformats.org/officeDocument/2006/relationships/slideLayout" Target="../slideLayouts/slideLayout39.xml"/><Relationship Id="rId28" Type="http://schemas.openxmlformats.org/officeDocument/2006/relationships/slideLayout" Target="../slideLayouts/slideLayout40.xml"/><Relationship Id="rId29" Type="http://schemas.openxmlformats.org/officeDocument/2006/relationships/slideLayout" Target="../slideLayouts/slideLayout41.xml"/><Relationship Id="rId30" Type="http://schemas.openxmlformats.org/officeDocument/2006/relationships/slideLayout" Target="../slideLayouts/slideLayout42.xml"/><Relationship Id="rId31" Type="http://schemas.openxmlformats.org/officeDocument/2006/relationships/slideLayout" Target="../slideLayouts/slideLayout43.xml"/><Relationship Id="rId32" Type="http://schemas.openxmlformats.org/officeDocument/2006/relationships/slideLayout" Target="../slideLayouts/slideLayout44.xml"/><Relationship Id="rId33" Type="http://schemas.openxmlformats.org/officeDocument/2006/relationships/slideLayout" Target="../slideLayouts/slideLayout45.xml"/><Relationship Id="rId34" Type="http://schemas.openxmlformats.org/officeDocument/2006/relationships/slideLayout" Target="../slideLayouts/slideLayout46.xml"/><Relationship Id="rId35" Type="http://schemas.openxmlformats.org/officeDocument/2006/relationships/slideLayout" Target="../slideLayouts/slideLayout47.xml"/><Relationship Id="rId3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958240" y="179280"/>
            <a:ext cx="184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3"/>
          <p:cNvSpPr/>
          <p:nvPr/>
        </p:nvSpPr>
        <p:spPr>
          <a:xfrm>
            <a:off x="7315200" y="593640"/>
            <a:ext cx="16765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903240"/>
            <a:ext cx="9177480" cy="36720"/>
          </a:xfrm>
          <a:prstGeom prst="rect">
            <a:avLst/>
          </a:prstGeom>
          <a:solidFill>
            <a:srgbClr val="7bc6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1747440" y="1585800"/>
            <a:ext cx="73962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e82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pic>
        <p:nvPicPr>
          <p:cNvPr id="4" name="Picture 6" descr="BandoEndure"/>
          <p:cNvPicPr/>
          <p:nvPr/>
        </p:nvPicPr>
        <p:blipFill>
          <a:blip r:embed="rId3"/>
          <a:stretch/>
        </p:blipFill>
        <p:spPr>
          <a:xfrm>
            <a:off x="5354640" y="0"/>
            <a:ext cx="3789360" cy="9032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bc623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6" name="Text Box 8"/>
          <p:cNvSpPr/>
          <p:nvPr/>
        </p:nvSpPr>
        <p:spPr>
          <a:xfrm rot="16200000">
            <a:off x="8252640" y="6009480"/>
            <a:ext cx="15242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00" spc="-1" strike="noStrike">
                <a:solidFill>
                  <a:srgbClr val="000000"/>
                </a:solidFill>
                <a:latin typeface="Arial"/>
              </a:rPr>
              <a:t>© ENDURE, February 2007</a:t>
            </a:r>
            <a:endParaRPr b="1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LogoSmall"/>
          <p:cNvPicPr/>
          <p:nvPr/>
        </p:nvPicPr>
        <p:blipFill>
          <a:blip r:embed="rId4"/>
          <a:stretch/>
        </p:blipFill>
        <p:spPr>
          <a:xfrm>
            <a:off x="8001000" y="6553080"/>
            <a:ext cx="826920" cy="2383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0" descr="Picto"/>
          <p:cNvPicPr/>
          <p:nvPr/>
        </p:nvPicPr>
        <p:blipFill>
          <a:blip r:embed="rId5"/>
          <a:stretch/>
        </p:blipFill>
        <p:spPr>
          <a:xfrm>
            <a:off x="-1828800" y="2438280"/>
            <a:ext cx="7267680" cy="6145200"/>
          </a:xfrm>
          <a:prstGeom prst="rect">
            <a:avLst/>
          </a:prstGeom>
          <a:ln w="0">
            <a:noFill/>
          </a:ln>
        </p:spPr>
      </p:pic>
      <p:sp>
        <p:nvSpPr>
          <p:cNvPr id="9" name="Text Box 11"/>
          <p:cNvSpPr/>
          <p:nvPr/>
        </p:nvSpPr>
        <p:spPr>
          <a:xfrm>
            <a:off x="7005600" y="733320"/>
            <a:ext cx="193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FOOD QUALITY AND SAFETY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8958240" y="179280"/>
            <a:ext cx="184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 Box 13"/>
          <p:cNvSpPr/>
          <p:nvPr/>
        </p:nvSpPr>
        <p:spPr>
          <a:xfrm>
            <a:off x="7315200" y="593640"/>
            <a:ext cx="16765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14"/>
          <p:cNvSpPr/>
          <p:nvPr/>
        </p:nvSpPr>
        <p:spPr>
          <a:xfrm>
            <a:off x="0" y="903240"/>
            <a:ext cx="9177480" cy="36720"/>
          </a:xfrm>
          <a:prstGeom prst="rect">
            <a:avLst/>
          </a:prstGeom>
          <a:solidFill>
            <a:srgbClr val="7bc6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" name="Picture 15" descr="BandoEndure"/>
          <p:cNvPicPr/>
          <p:nvPr/>
        </p:nvPicPr>
        <p:blipFill>
          <a:blip r:embed="rId6"/>
          <a:stretch/>
        </p:blipFill>
        <p:spPr>
          <a:xfrm>
            <a:off x="5354640" y="0"/>
            <a:ext cx="3789360" cy="903240"/>
          </a:xfrm>
          <a:prstGeom prst="rect">
            <a:avLst/>
          </a:prstGeom>
          <a:ln w="0">
            <a:noFill/>
          </a:ln>
        </p:spPr>
      </p:pic>
      <p:sp>
        <p:nvSpPr>
          <p:cNvPr id="14" name="Text Box 16"/>
          <p:cNvSpPr/>
          <p:nvPr/>
        </p:nvSpPr>
        <p:spPr>
          <a:xfrm rot="16200000">
            <a:off x="8252640" y="6009480"/>
            <a:ext cx="15242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00" spc="-1" strike="noStrike">
                <a:solidFill>
                  <a:srgbClr val="000000"/>
                </a:solidFill>
                <a:latin typeface="Arial"/>
              </a:rPr>
              <a:t>© ENDURE, February 2007</a:t>
            </a:r>
            <a:endParaRPr b="1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17" descr="LogoSmall"/>
          <p:cNvPicPr/>
          <p:nvPr/>
        </p:nvPicPr>
        <p:blipFill>
          <a:blip r:embed="rId7"/>
          <a:stretch/>
        </p:blipFill>
        <p:spPr>
          <a:xfrm>
            <a:off x="8001000" y="6553080"/>
            <a:ext cx="826920" cy="238320"/>
          </a:xfrm>
          <a:prstGeom prst="rect">
            <a:avLst/>
          </a:prstGeom>
          <a:ln w="0">
            <a:noFill/>
          </a:ln>
        </p:spPr>
      </p:pic>
      <p:pic>
        <p:nvPicPr>
          <p:cNvPr id="16" name="Picture 18" descr="Picto"/>
          <p:cNvPicPr/>
          <p:nvPr/>
        </p:nvPicPr>
        <p:blipFill>
          <a:blip r:embed="rId8"/>
          <a:stretch/>
        </p:blipFill>
        <p:spPr>
          <a:xfrm>
            <a:off x="-1828800" y="2438280"/>
            <a:ext cx="7267680" cy="6145200"/>
          </a:xfrm>
          <a:prstGeom prst="rect">
            <a:avLst/>
          </a:prstGeom>
          <a:ln w="0">
            <a:noFill/>
          </a:ln>
        </p:spPr>
      </p:pic>
      <p:sp>
        <p:nvSpPr>
          <p:cNvPr id="17" name="Text Box 19"/>
          <p:cNvSpPr/>
          <p:nvPr/>
        </p:nvSpPr>
        <p:spPr>
          <a:xfrm>
            <a:off x="7005600" y="733320"/>
            <a:ext cx="193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FOOD QUALITY AND SAFETY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8958240" y="179280"/>
            <a:ext cx="184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7315200" y="593640"/>
            <a:ext cx="16765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0" y="903240"/>
            <a:ext cx="9177480" cy="36720"/>
          </a:xfrm>
          <a:prstGeom prst="rect">
            <a:avLst/>
          </a:prstGeom>
          <a:solidFill>
            <a:srgbClr val="7bc6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1747440" y="1585800"/>
            <a:ext cx="73962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e82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pic>
        <p:nvPicPr>
          <p:cNvPr id="58" name="Picture 6" descr="BandoEndure"/>
          <p:cNvPicPr/>
          <p:nvPr/>
        </p:nvPicPr>
        <p:blipFill>
          <a:blip r:embed="rId3"/>
          <a:stretch/>
        </p:blipFill>
        <p:spPr>
          <a:xfrm>
            <a:off x="5354640" y="0"/>
            <a:ext cx="3789360" cy="9032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bc623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60" name="Text Box 8"/>
          <p:cNvSpPr/>
          <p:nvPr/>
        </p:nvSpPr>
        <p:spPr>
          <a:xfrm rot="16200000">
            <a:off x="8252640" y="6009480"/>
            <a:ext cx="15242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00" spc="-1" strike="noStrike">
                <a:solidFill>
                  <a:srgbClr val="000000"/>
                </a:solidFill>
                <a:latin typeface="Arial"/>
              </a:rPr>
              <a:t>© ENDURE, February 2007</a:t>
            </a:r>
            <a:endParaRPr b="1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9" descr="LogoSmall"/>
          <p:cNvPicPr/>
          <p:nvPr/>
        </p:nvPicPr>
        <p:blipFill>
          <a:blip r:embed="rId4"/>
          <a:stretch/>
        </p:blipFill>
        <p:spPr>
          <a:xfrm>
            <a:off x="8001000" y="6553080"/>
            <a:ext cx="826920" cy="238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Picto"/>
          <p:cNvPicPr/>
          <p:nvPr/>
        </p:nvPicPr>
        <p:blipFill>
          <a:blip r:embed="rId5"/>
          <a:stretch/>
        </p:blipFill>
        <p:spPr>
          <a:xfrm>
            <a:off x="-1828800" y="2438280"/>
            <a:ext cx="7267680" cy="61452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1"/>
          <p:cNvSpPr/>
          <p:nvPr/>
        </p:nvSpPr>
        <p:spPr>
          <a:xfrm>
            <a:off x="7005600" y="733320"/>
            <a:ext cx="193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FOOD QUALITY AND SAFETY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2"/>
          <p:cNvSpPr/>
          <p:nvPr/>
        </p:nvSpPr>
        <p:spPr>
          <a:xfrm>
            <a:off x="8958240" y="179280"/>
            <a:ext cx="184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7315200" y="593640"/>
            <a:ext cx="16765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4"/>
          <p:cNvSpPr/>
          <p:nvPr/>
        </p:nvSpPr>
        <p:spPr>
          <a:xfrm>
            <a:off x="0" y="903240"/>
            <a:ext cx="9177480" cy="36720"/>
          </a:xfrm>
          <a:prstGeom prst="rect">
            <a:avLst/>
          </a:prstGeom>
          <a:solidFill>
            <a:srgbClr val="7bc6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5" descr="BandoEndure"/>
          <p:cNvPicPr/>
          <p:nvPr/>
        </p:nvPicPr>
        <p:blipFill>
          <a:blip r:embed="rId6"/>
          <a:stretch/>
        </p:blipFill>
        <p:spPr>
          <a:xfrm>
            <a:off x="5354640" y="0"/>
            <a:ext cx="3789360" cy="9032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6"/>
          <p:cNvSpPr/>
          <p:nvPr/>
        </p:nvSpPr>
        <p:spPr>
          <a:xfrm rot="16200000">
            <a:off x="8252640" y="6009480"/>
            <a:ext cx="15242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00" spc="-1" strike="noStrike">
                <a:solidFill>
                  <a:srgbClr val="000000"/>
                </a:solidFill>
                <a:latin typeface="Arial"/>
              </a:rPr>
              <a:t>© ENDURE, February 2007</a:t>
            </a:r>
            <a:endParaRPr b="1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7" descr="LogoSmall"/>
          <p:cNvPicPr/>
          <p:nvPr/>
        </p:nvPicPr>
        <p:blipFill>
          <a:blip r:embed="rId7"/>
          <a:stretch/>
        </p:blipFill>
        <p:spPr>
          <a:xfrm>
            <a:off x="8001000" y="6553080"/>
            <a:ext cx="826920" cy="238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8" descr="Picto"/>
          <p:cNvPicPr/>
          <p:nvPr/>
        </p:nvPicPr>
        <p:blipFill>
          <a:blip r:embed="rId8"/>
          <a:stretch/>
        </p:blipFill>
        <p:spPr>
          <a:xfrm>
            <a:off x="-1828800" y="2438280"/>
            <a:ext cx="7267680" cy="61452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9"/>
          <p:cNvSpPr/>
          <p:nvPr/>
        </p:nvSpPr>
        <p:spPr>
          <a:xfrm>
            <a:off x="7005600" y="733320"/>
            <a:ext cx="193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FOOD QUALITY AND SAFETY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0" y="0"/>
            <a:ext cx="360360" cy="6858000"/>
          </a:xfrm>
          <a:prstGeom prst="rect">
            <a:avLst/>
          </a:prstGeom>
          <a:solidFill>
            <a:srgbClr val="c002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04920" y="0"/>
            <a:ext cx="360360" cy="6858000"/>
          </a:xfrm>
          <a:prstGeom prst="rect">
            <a:avLst/>
          </a:prstGeom>
          <a:solidFill>
            <a:srgbClr val="ee82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609480" y="0"/>
            <a:ext cx="360360" cy="6858000"/>
          </a:xfrm>
          <a:prstGeom prst="rect">
            <a:avLst/>
          </a:prstGeom>
          <a:solidFill>
            <a:srgbClr val="83b8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LogEndure"/>
          <p:cNvPicPr/>
          <p:nvPr/>
        </p:nvPicPr>
        <p:blipFill>
          <a:blip r:embed="rId2"/>
          <a:stretch/>
        </p:blipFill>
        <p:spPr>
          <a:xfrm>
            <a:off x="5867280" y="5919840"/>
            <a:ext cx="3276720" cy="938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Drapo europeen"/>
          <p:cNvPicPr/>
          <p:nvPr/>
        </p:nvPicPr>
        <p:blipFill>
          <a:blip r:embed="rId3"/>
          <a:stretch/>
        </p:blipFill>
        <p:spPr>
          <a:xfrm>
            <a:off x="152280" y="5486400"/>
            <a:ext cx="665280" cy="4478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logo 6FP"/>
          <p:cNvPicPr/>
          <p:nvPr/>
        </p:nvPicPr>
        <p:blipFill>
          <a:blip r:embed="rId4"/>
          <a:stretch/>
        </p:blipFill>
        <p:spPr>
          <a:xfrm>
            <a:off x="152280" y="6116760"/>
            <a:ext cx="716040" cy="5810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8"/>
          <p:cNvSpPr/>
          <p:nvPr/>
        </p:nvSpPr>
        <p:spPr>
          <a:xfrm>
            <a:off x="0" y="4437000"/>
            <a:ext cx="91440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OD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UALITY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FET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0" y="0"/>
            <a:ext cx="360360" cy="6858000"/>
          </a:xfrm>
          <a:prstGeom prst="rect">
            <a:avLst/>
          </a:prstGeom>
          <a:solidFill>
            <a:srgbClr val="c002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0"/>
          <p:cNvSpPr/>
          <p:nvPr/>
        </p:nvSpPr>
        <p:spPr>
          <a:xfrm>
            <a:off x="304920" y="0"/>
            <a:ext cx="360360" cy="6858000"/>
          </a:xfrm>
          <a:prstGeom prst="rect">
            <a:avLst/>
          </a:prstGeom>
          <a:solidFill>
            <a:srgbClr val="ee82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609480" y="0"/>
            <a:ext cx="360360" cy="6858000"/>
          </a:xfrm>
          <a:prstGeom prst="rect">
            <a:avLst/>
          </a:prstGeom>
          <a:solidFill>
            <a:srgbClr val="83b8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2" descr="Aarhus univers"/>
          <p:cNvPicPr/>
          <p:nvPr/>
        </p:nvPicPr>
        <p:blipFill>
          <a:blip r:embed="rId5"/>
          <a:stretch/>
        </p:blipFill>
        <p:spPr>
          <a:xfrm>
            <a:off x="1066680" y="5486400"/>
            <a:ext cx="449280" cy="449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3" descr="Acta"/>
          <p:cNvPicPr/>
          <p:nvPr/>
        </p:nvPicPr>
        <p:blipFill>
          <a:blip r:embed="rId6"/>
          <a:stretch/>
        </p:blipFill>
        <p:spPr>
          <a:xfrm>
            <a:off x="1574640" y="5638680"/>
            <a:ext cx="863640" cy="1875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4" descr="bba"/>
          <p:cNvPicPr/>
          <p:nvPr/>
        </p:nvPicPr>
        <p:blipFill>
          <a:blip r:embed="rId7"/>
          <a:stretch/>
        </p:blipFill>
        <p:spPr>
          <a:xfrm>
            <a:off x="6095880" y="5334120"/>
            <a:ext cx="1087560" cy="652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5" descr="CIRAD"/>
          <p:cNvPicPr/>
          <p:nvPr/>
        </p:nvPicPr>
        <p:blipFill>
          <a:blip r:embed="rId8"/>
          <a:stretch/>
        </p:blipFill>
        <p:spPr>
          <a:xfrm>
            <a:off x="7238880" y="5334120"/>
            <a:ext cx="446040" cy="539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6" descr="CNR"/>
          <p:cNvPicPr/>
          <p:nvPr/>
        </p:nvPicPr>
        <p:blipFill>
          <a:blip r:embed="rId9"/>
          <a:stretch/>
        </p:blipFill>
        <p:spPr>
          <a:xfrm>
            <a:off x="4724280" y="5334120"/>
            <a:ext cx="1241640" cy="166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7" descr="Ibma"/>
          <p:cNvPicPr/>
          <p:nvPr/>
        </p:nvPicPr>
        <p:blipFill>
          <a:blip r:embed="rId10"/>
          <a:stretch/>
        </p:blipFill>
        <p:spPr>
          <a:xfrm>
            <a:off x="7848720" y="5486400"/>
            <a:ext cx="888840" cy="380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8" descr="ihar"/>
          <p:cNvPicPr/>
          <p:nvPr/>
        </p:nvPicPr>
        <p:blipFill>
          <a:blip r:embed="rId11"/>
          <a:stretch/>
        </p:blipFill>
        <p:spPr>
          <a:xfrm>
            <a:off x="1066680" y="6248520"/>
            <a:ext cx="403200" cy="3729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9" descr="Inra"/>
          <p:cNvPicPr/>
          <p:nvPr/>
        </p:nvPicPr>
        <p:blipFill>
          <a:blip r:embed="rId12"/>
          <a:stretch/>
        </p:blipFill>
        <p:spPr>
          <a:xfrm>
            <a:off x="1600200" y="6324480"/>
            <a:ext cx="766800" cy="266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0" descr="Rothamsted"/>
          <p:cNvPicPr/>
          <p:nvPr/>
        </p:nvPicPr>
        <p:blipFill>
          <a:blip r:embed="rId13"/>
          <a:stretch/>
        </p:blipFill>
        <p:spPr>
          <a:xfrm>
            <a:off x="4724280" y="6172200"/>
            <a:ext cx="449280" cy="577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1" descr="SsSa"/>
          <p:cNvPicPr/>
          <p:nvPr/>
        </p:nvPicPr>
        <p:blipFill>
          <a:blip r:embed="rId14"/>
          <a:stretch/>
        </p:blipFill>
        <p:spPr>
          <a:xfrm>
            <a:off x="5334120" y="6248520"/>
            <a:ext cx="1150920" cy="296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2" descr="Szie"/>
          <p:cNvPicPr/>
          <p:nvPr/>
        </p:nvPicPr>
        <p:blipFill>
          <a:blip r:embed="rId15"/>
          <a:stretch/>
        </p:blipFill>
        <p:spPr>
          <a:xfrm>
            <a:off x="6629400" y="6172200"/>
            <a:ext cx="669960" cy="507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3" descr="Wur"/>
          <p:cNvPicPr/>
          <p:nvPr/>
        </p:nvPicPr>
        <p:blipFill>
          <a:blip r:embed="rId16"/>
          <a:stretch/>
        </p:blipFill>
        <p:spPr>
          <a:xfrm>
            <a:off x="7543800" y="6324480"/>
            <a:ext cx="1406520" cy="227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4" descr="agroscope"/>
          <p:cNvPicPr/>
          <p:nvPr/>
        </p:nvPicPr>
        <p:blipFill>
          <a:blip r:embed="rId17"/>
          <a:stretch/>
        </p:blipFill>
        <p:spPr>
          <a:xfrm>
            <a:off x="2492280" y="5486400"/>
            <a:ext cx="2079720" cy="439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5" descr="Daas"/>
          <p:cNvPicPr/>
          <p:nvPr/>
        </p:nvPicPr>
        <p:blipFill>
          <a:blip r:embed="rId18"/>
          <a:stretch/>
        </p:blipFill>
        <p:spPr>
          <a:xfrm>
            <a:off x="4648320" y="5715000"/>
            <a:ext cx="1439640" cy="298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6" descr="Lleida"/>
          <p:cNvPicPr/>
          <p:nvPr/>
        </p:nvPicPr>
        <p:blipFill>
          <a:blip r:embed="rId19"/>
          <a:stretch/>
        </p:blipFill>
        <p:spPr>
          <a:xfrm>
            <a:off x="3657600" y="6019920"/>
            <a:ext cx="906480" cy="6858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7" descr="LogEndure"/>
          <p:cNvPicPr/>
          <p:nvPr/>
        </p:nvPicPr>
        <p:blipFill>
          <a:blip r:embed="rId20"/>
          <a:stretch/>
        </p:blipFill>
        <p:spPr>
          <a:xfrm>
            <a:off x="1066680" y="1676520"/>
            <a:ext cx="7108920" cy="2035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8" descr="InraTransfert"/>
          <p:cNvPicPr/>
          <p:nvPr/>
        </p:nvPicPr>
        <p:blipFill>
          <a:blip r:embed="rId21"/>
          <a:stretch/>
        </p:blipFill>
        <p:spPr>
          <a:xfrm>
            <a:off x="2438280" y="6324480"/>
            <a:ext cx="1298520" cy="298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9" descr="Drapo europeen"/>
          <p:cNvPicPr/>
          <p:nvPr/>
        </p:nvPicPr>
        <p:blipFill>
          <a:blip r:embed="rId22"/>
          <a:stretch/>
        </p:blipFill>
        <p:spPr>
          <a:xfrm>
            <a:off x="152280" y="5486400"/>
            <a:ext cx="665280" cy="447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0" descr="logo 6FP"/>
          <p:cNvPicPr/>
          <p:nvPr/>
        </p:nvPicPr>
        <p:blipFill>
          <a:blip r:embed="rId23"/>
          <a:stretch/>
        </p:blipFill>
        <p:spPr>
          <a:xfrm>
            <a:off x="152280" y="6116760"/>
            <a:ext cx="716040" cy="5810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1"/>
          <p:cNvSpPr/>
          <p:nvPr/>
        </p:nvSpPr>
        <p:spPr>
          <a:xfrm>
            <a:off x="0" y="4437000"/>
            <a:ext cx="91440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OD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UALITY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FET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1747440" y="1585800"/>
            <a:ext cx="73962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e82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bc623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5"/>
    <p:sldLayoutId id="2147483676" r:id="rId26"/>
    <p:sldLayoutId id="2147483677" r:id="rId27"/>
    <p:sldLayoutId id="2147483678" r:id="rId28"/>
    <p:sldLayoutId id="2147483679" r:id="rId29"/>
    <p:sldLayoutId id="2147483680" r:id="rId30"/>
    <p:sldLayoutId id="2147483681" r:id="rId31"/>
    <p:sldLayoutId id="2147483682" r:id="rId32"/>
    <p:sldLayoutId id="2147483683" r:id="rId33"/>
    <p:sldLayoutId id="2147483684" r:id="rId34"/>
    <p:sldLayoutId id="2147483685" r:id="rId35"/>
    <p:sldLayoutId id="2147483686" r:id="rId3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0" y="0"/>
            <a:ext cx="360360" cy="6858000"/>
          </a:xfrm>
          <a:prstGeom prst="rect">
            <a:avLst/>
          </a:prstGeom>
          <a:solidFill>
            <a:srgbClr val="c002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304920" y="0"/>
            <a:ext cx="360360" cy="6858000"/>
          </a:xfrm>
          <a:prstGeom prst="rect">
            <a:avLst/>
          </a:prstGeom>
          <a:solidFill>
            <a:srgbClr val="ee82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609480" y="0"/>
            <a:ext cx="360360" cy="6858000"/>
          </a:xfrm>
          <a:prstGeom prst="rect">
            <a:avLst/>
          </a:prstGeom>
          <a:solidFill>
            <a:srgbClr val="83b8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LogEndure"/>
          <p:cNvPicPr/>
          <p:nvPr/>
        </p:nvPicPr>
        <p:blipFill>
          <a:blip r:embed="rId2"/>
          <a:stretch/>
        </p:blipFill>
        <p:spPr>
          <a:xfrm>
            <a:off x="5867280" y="5919840"/>
            <a:ext cx="3276720" cy="9381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Drapo europeen"/>
          <p:cNvPicPr/>
          <p:nvPr/>
        </p:nvPicPr>
        <p:blipFill>
          <a:blip r:embed="rId3"/>
          <a:stretch/>
        </p:blipFill>
        <p:spPr>
          <a:xfrm>
            <a:off x="152280" y="5486400"/>
            <a:ext cx="665280" cy="4478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logo 6FP"/>
          <p:cNvPicPr/>
          <p:nvPr/>
        </p:nvPicPr>
        <p:blipFill>
          <a:blip r:embed="rId4"/>
          <a:stretch/>
        </p:blipFill>
        <p:spPr>
          <a:xfrm>
            <a:off x="152280" y="6116760"/>
            <a:ext cx="716040" cy="58104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8"/>
          <p:cNvSpPr/>
          <p:nvPr/>
        </p:nvSpPr>
        <p:spPr>
          <a:xfrm>
            <a:off x="0" y="4437000"/>
            <a:ext cx="91440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OD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UALITY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FET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0" y="0"/>
            <a:ext cx="360360" cy="6858000"/>
          </a:xfrm>
          <a:prstGeom prst="rect">
            <a:avLst/>
          </a:prstGeom>
          <a:solidFill>
            <a:srgbClr val="c002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304920" y="0"/>
            <a:ext cx="360360" cy="6858000"/>
          </a:xfrm>
          <a:prstGeom prst="rect">
            <a:avLst/>
          </a:prstGeom>
          <a:solidFill>
            <a:srgbClr val="ee82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609480" y="0"/>
            <a:ext cx="360360" cy="6858000"/>
          </a:xfrm>
          <a:prstGeom prst="rect">
            <a:avLst/>
          </a:prstGeom>
          <a:solidFill>
            <a:srgbClr val="83b8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2" descr="Aarhus univers"/>
          <p:cNvPicPr/>
          <p:nvPr/>
        </p:nvPicPr>
        <p:blipFill>
          <a:blip r:embed="rId5"/>
          <a:stretch/>
        </p:blipFill>
        <p:spPr>
          <a:xfrm>
            <a:off x="1066680" y="5486400"/>
            <a:ext cx="449280" cy="449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3" descr="Acta"/>
          <p:cNvPicPr/>
          <p:nvPr/>
        </p:nvPicPr>
        <p:blipFill>
          <a:blip r:embed="rId6"/>
          <a:stretch/>
        </p:blipFill>
        <p:spPr>
          <a:xfrm>
            <a:off x="1574640" y="5638680"/>
            <a:ext cx="863640" cy="1875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4" descr="bba"/>
          <p:cNvPicPr/>
          <p:nvPr/>
        </p:nvPicPr>
        <p:blipFill>
          <a:blip r:embed="rId7"/>
          <a:stretch/>
        </p:blipFill>
        <p:spPr>
          <a:xfrm>
            <a:off x="6095880" y="5334120"/>
            <a:ext cx="1087560" cy="6523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5" descr="CIRAD"/>
          <p:cNvPicPr/>
          <p:nvPr/>
        </p:nvPicPr>
        <p:blipFill>
          <a:blip r:embed="rId8"/>
          <a:stretch/>
        </p:blipFill>
        <p:spPr>
          <a:xfrm>
            <a:off x="7238880" y="5334120"/>
            <a:ext cx="446040" cy="5396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6" descr="CNR"/>
          <p:cNvPicPr/>
          <p:nvPr/>
        </p:nvPicPr>
        <p:blipFill>
          <a:blip r:embed="rId9"/>
          <a:stretch/>
        </p:blipFill>
        <p:spPr>
          <a:xfrm>
            <a:off x="4724280" y="5334120"/>
            <a:ext cx="1241640" cy="1666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7" descr="Ibma"/>
          <p:cNvPicPr/>
          <p:nvPr/>
        </p:nvPicPr>
        <p:blipFill>
          <a:blip r:embed="rId10"/>
          <a:stretch/>
        </p:blipFill>
        <p:spPr>
          <a:xfrm>
            <a:off x="7848720" y="5486400"/>
            <a:ext cx="888840" cy="3808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8" descr="ihar"/>
          <p:cNvPicPr/>
          <p:nvPr/>
        </p:nvPicPr>
        <p:blipFill>
          <a:blip r:embed="rId11"/>
          <a:stretch/>
        </p:blipFill>
        <p:spPr>
          <a:xfrm>
            <a:off x="1066680" y="6248520"/>
            <a:ext cx="403200" cy="3729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9" descr="Inra"/>
          <p:cNvPicPr/>
          <p:nvPr/>
        </p:nvPicPr>
        <p:blipFill>
          <a:blip r:embed="rId12"/>
          <a:stretch/>
        </p:blipFill>
        <p:spPr>
          <a:xfrm>
            <a:off x="1600200" y="6324480"/>
            <a:ext cx="766800" cy="2667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0" descr="Rothamsted"/>
          <p:cNvPicPr/>
          <p:nvPr/>
        </p:nvPicPr>
        <p:blipFill>
          <a:blip r:embed="rId13"/>
          <a:stretch/>
        </p:blipFill>
        <p:spPr>
          <a:xfrm>
            <a:off x="4724280" y="6172200"/>
            <a:ext cx="449280" cy="5778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1" descr="SsSa"/>
          <p:cNvPicPr/>
          <p:nvPr/>
        </p:nvPicPr>
        <p:blipFill>
          <a:blip r:embed="rId14"/>
          <a:stretch/>
        </p:blipFill>
        <p:spPr>
          <a:xfrm>
            <a:off x="5334120" y="6248520"/>
            <a:ext cx="1150920" cy="2966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2" descr="Szie"/>
          <p:cNvPicPr/>
          <p:nvPr/>
        </p:nvPicPr>
        <p:blipFill>
          <a:blip r:embed="rId15"/>
          <a:stretch/>
        </p:blipFill>
        <p:spPr>
          <a:xfrm>
            <a:off x="6629400" y="6172200"/>
            <a:ext cx="669960" cy="5079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3" descr="Wur"/>
          <p:cNvPicPr/>
          <p:nvPr/>
        </p:nvPicPr>
        <p:blipFill>
          <a:blip r:embed="rId16"/>
          <a:stretch/>
        </p:blipFill>
        <p:spPr>
          <a:xfrm>
            <a:off x="7543800" y="6324480"/>
            <a:ext cx="1406520" cy="2271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4" descr="agroscope"/>
          <p:cNvPicPr/>
          <p:nvPr/>
        </p:nvPicPr>
        <p:blipFill>
          <a:blip r:embed="rId17"/>
          <a:stretch/>
        </p:blipFill>
        <p:spPr>
          <a:xfrm>
            <a:off x="2492280" y="5486400"/>
            <a:ext cx="2079720" cy="4395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5" descr="Daas"/>
          <p:cNvPicPr/>
          <p:nvPr/>
        </p:nvPicPr>
        <p:blipFill>
          <a:blip r:embed="rId18"/>
          <a:stretch/>
        </p:blipFill>
        <p:spPr>
          <a:xfrm>
            <a:off x="4648320" y="5715000"/>
            <a:ext cx="1439640" cy="298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6" descr="Lleida"/>
          <p:cNvPicPr/>
          <p:nvPr/>
        </p:nvPicPr>
        <p:blipFill>
          <a:blip r:embed="rId19"/>
          <a:stretch/>
        </p:blipFill>
        <p:spPr>
          <a:xfrm>
            <a:off x="3657600" y="6019920"/>
            <a:ext cx="906480" cy="6858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7" descr="LogEndure"/>
          <p:cNvPicPr/>
          <p:nvPr/>
        </p:nvPicPr>
        <p:blipFill>
          <a:blip r:embed="rId20"/>
          <a:stretch/>
        </p:blipFill>
        <p:spPr>
          <a:xfrm>
            <a:off x="1066680" y="1676520"/>
            <a:ext cx="7108920" cy="20350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8" descr="InraTransfert"/>
          <p:cNvPicPr/>
          <p:nvPr/>
        </p:nvPicPr>
        <p:blipFill>
          <a:blip r:embed="rId21"/>
          <a:stretch/>
        </p:blipFill>
        <p:spPr>
          <a:xfrm>
            <a:off x="2438280" y="6324480"/>
            <a:ext cx="1298520" cy="2984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9" descr="Drapo europeen"/>
          <p:cNvPicPr/>
          <p:nvPr/>
        </p:nvPicPr>
        <p:blipFill>
          <a:blip r:embed="rId22"/>
          <a:stretch/>
        </p:blipFill>
        <p:spPr>
          <a:xfrm>
            <a:off x="152280" y="5486400"/>
            <a:ext cx="665280" cy="4478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0" descr="logo 6FP"/>
          <p:cNvPicPr/>
          <p:nvPr/>
        </p:nvPicPr>
        <p:blipFill>
          <a:blip r:embed="rId23"/>
          <a:stretch/>
        </p:blipFill>
        <p:spPr>
          <a:xfrm>
            <a:off x="152280" y="6116760"/>
            <a:ext cx="716040" cy="58104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31"/>
          <p:cNvSpPr/>
          <p:nvPr/>
        </p:nvSpPr>
        <p:spPr>
          <a:xfrm>
            <a:off x="0" y="4437000"/>
            <a:ext cx="91440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OD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UALITY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FET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1747440" y="1585800"/>
            <a:ext cx="73962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e82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bc623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5"/>
    <p:sldLayoutId id="2147483689" r:id="rId26"/>
    <p:sldLayoutId id="2147483690" r:id="rId27"/>
    <p:sldLayoutId id="2147483691" r:id="rId28"/>
    <p:sldLayoutId id="2147483692" r:id="rId29"/>
    <p:sldLayoutId id="2147483693" r:id="rId30"/>
    <p:sldLayoutId id="2147483694" r:id="rId31"/>
    <p:sldLayoutId id="2147483695" r:id="rId32"/>
    <p:sldLayoutId id="2147483696" r:id="rId33"/>
    <p:sldLayoutId id="2147483697" r:id="rId34"/>
    <p:sldLayoutId id="2147483698" r:id="rId35"/>
    <p:sldLayoutId id="2147483699" r:id="rId3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image" Target="../media/image5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png"/><Relationship Id="rId3" Type="http://schemas.openxmlformats.org/officeDocument/2006/relationships/image" Target="../media/image60.wmf"/><Relationship Id="rId4" Type="http://schemas.openxmlformats.org/officeDocument/2006/relationships/image" Target="../media/image61.png"/><Relationship Id="rId5" Type="http://schemas.openxmlformats.org/officeDocument/2006/relationships/image" Target="../media/image62.wmf"/><Relationship Id="rId6" Type="http://schemas.openxmlformats.org/officeDocument/2006/relationships/image" Target="../media/image63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36.png"/><Relationship Id="rId3" Type="http://schemas.openxmlformats.org/officeDocument/2006/relationships/image" Target="../media/image42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image" Target="../media/image48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Billede 3" descr="endure-logo.jpg.jpg"/>
          <p:cNvPicPr/>
          <p:nvPr/>
        </p:nvPicPr>
        <p:blipFill>
          <a:blip r:embed="rId1"/>
          <a:stretch/>
        </p:blipFill>
        <p:spPr>
          <a:xfrm>
            <a:off x="1785960" y="1214280"/>
            <a:ext cx="4840200" cy="1371600"/>
          </a:xfrm>
          <a:prstGeom prst="rect">
            <a:avLst/>
          </a:prstGeom>
          <a:ln w="0">
            <a:noFill/>
          </a:ln>
        </p:spPr>
      </p:pic>
      <p:sp>
        <p:nvSpPr>
          <p:cNvPr id="252" name="Pladsholder til indhold 2"/>
          <p:cNvSpPr/>
          <p:nvPr/>
        </p:nvSpPr>
        <p:spPr>
          <a:xfrm>
            <a:off x="1643040" y="2928960"/>
            <a:ext cx="550080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0022b"/>
                </a:solidFill>
                <a:latin typeface="Arial"/>
              </a:rPr>
              <a:t>ALTERNAT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0022b"/>
                </a:solidFill>
                <a:latin typeface="Arial"/>
              </a:rPr>
              <a:t>WEED CONTR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0022b"/>
                </a:solidFill>
                <a:latin typeface="Arial"/>
              </a:rPr>
              <a:t>IN ARABLE CRO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0022b"/>
                </a:solidFill>
                <a:latin typeface="Arial"/>
              </a:rPr>
              <a:t>Fr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642840" y="6415200"/>
            <a:ext cx="2143800" cy="444960"/>
          </a:xfrm>
          <a:prstGeom prst="rect">
            <a:avLst/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ODULE C1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19080" y="6610320"/>
            <a:ext cx="1600200" cy="24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e46c0a"/>
                </a:solidFill>
                <a:latin typeface="Verdana"/>
              </a:rPr>
              <a:t>Agricultural feasibility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3227400" y="1285920"/>
            <a:ext cx="915840" cy="80640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2"/>
          <a:stretch/>
        </p:blipFill>
        <p:spPr>
          <a:xfrm>
            <a:off x="4897440" y="1285920"/>
            <a:ext cx="1746360" cy="81288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3"/>
          <a:stretch/>
        </p:blipFill>
        <p:spPr>
          <a:xfrm>
            <a:off x="7048440" y="1285920"/>
            <a:ext cx="1524240" cy="80964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1285920" y="2428920"/>
            <a:ext cx="1285920" cy="357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oamy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857680" y="2428920"/>
            <a:ext cx="1714320" cy="357120"/>
          </a:xfrm>
          <a:prstGeom prst="rect">
            <a:avLst/>
          </a:prstGeom>
          <a:solidFill>
            <a:srgbClr val="00ae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857840" y="2428920"/>
            <a:ext cx="1714320" cy="3571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858000" y="2421000"/>
            <a:ext cx="1714680" cy="357120"/>
          </a:xfrm>
          <a:prstGeom prst="rect">
            <a:avLst/>
          </a:prstGeom>
          <a:solidFill>
            <a:srgbClr val="00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285920" y="2786040"/>
            <a:ext cx="1285920" cy="357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laye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857680" y="2786040"/>
            <a:ext cx="1714320" cy="357120"/>
          </a:xfrm>
          <a:prstGeom prst="rect">
            <a:avLst/>
          </a:prstGeom>
          <a:solidFill>
            <a:srgbClr val="00ae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857840" y="2786040"/>
            <a:ext cx="1714320" cy="35712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858000" y="2786040"/>
            <a:ext cx="1714680" cy="357120"/>
          </a:xfrm>
          <a:prstGeom prst="rect">
            <a:avLst/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285920" y="3143160"/>
            <a:ext cx="1285920" cy="357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appe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857680" y="3143160"/>
            <a:ext cx="1714320" cy="357120"/>
          </a:xfrm>
          <a:prstGeom prst="rect">
            <a:avLst/>
          </a:prstGeom>
          <a:solidFill>
            <a:srgbClr val="00ae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857840" y="3143160"/>
            <a:ext cx="1714320" cy="35712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858000" y="3143160"/>
            <a:ext cx="1714680" cy="35712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285920" y="3500280"/>
            <a:ext cx="1285920" cy="35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ton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857680" y="3500280"/>
            <a:ext cx="922320" cy="35748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857840" y="3500280"/>
            <a:ext cx="1714320" cy="357480"/>
          </a:xfrm>
          <a:prstGeom prst="rect">
            <a:avLst/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858000" y="3500280"/>
            <a:ext cx="1714680" cy="35748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857680" y="2152800"/>
            <a:ext cx="171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otative ho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857840" y="2143080"/>
            <a:ext cx="171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Weed harro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858000" y="2143080"/>
            <a:ext cx="17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eing machin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4"/>
          <a:stretch/>
        </p:blipFill>
        <p:spPr>
          <a:xfrm>
            <a:off x="695160" y="2408400"/>
            <a:ext cx="609840" cy="146844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5"/>
          <a:stretch/>
        </p:blipFill>
        <p:spPr>
          <a:xfrm>
            <a:off x="695160" y="3913200"/>
            <a:ext cx="609840" cy="110340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1285920" y="3929040"/>
            <a:ext cx="1285920" cy="357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tag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285920" y="4286160"/>
            <a:ext cx="1285920" cy="357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Grass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285920" y="4643280"/>
            <a:ext cx="1285920" cy="35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Broadleav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857680" y="3929040"/>
            <a:ext cx="42840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286080" y="3929040"/>
            <a:ext cx="42876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2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714840" y="3929040"/>
            <a:ext cx="42840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4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143240" y="3929040"/>
            <a:ext cx="42876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6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857680" y="4286160"/>
            <a:ext cx="428400" cy="357120"/>
          </a:xfrm>
          <a:prstGeom prst="rect">
            <a:avLst/>
          </a:prstGeom>
          <a:solidFill>
            <a:srgbClr val="00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286080" y="4286160"/>
            <a:ext cx="428760" cy="35712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714840" y="4286160"/>
            <a:ext cx="428400" cy="35712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143240" y="4286160"/>
            <a:ext cx="428760" cy="35712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857680" y="4643280"/>
            <a:ext cx="428400" cy="357480"/>
          </a:xfrm>
          <a:prstGeom prst="rect">
            <a:avLst/>
          </a:prstGeom>
          <a:solidFill>
            <a:srgbClr val="00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286080" y="4643280"/>
            <a:ext cx="428760" cy="35748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714840" y="4643280"/>
            <a:ext cx="428400" cy="35748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143240" y="4643280"/>
            <a:ext cx="428760" cy="35748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857840" y="3929040"/>
            <a:ext cx="42840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286240" y="3929040"/>
            <a:ext cx="42876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2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715000" y="3929040"/>
            <a:ext cx="42876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4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143760" y="3929040"/>
            <a:ext cx="42840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6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857840" y="4286160"/>
            <a:ext cx="428400" cy="357120"/>
          </a:xfrm>
          <a:prstGeom prst="rect">
            <a:avLst/>
          </a:prstGeom>
          <a:solidFill>
            <a:srgbClr val="00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286240" y="4286160"/>
            <a:ext cx="428760" cy="35712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715000" y="4286160"/>
            <a:ext cx="428760" cy="35712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143760" y="4286160"/>
            <a:ext cx="428400" cy="35712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857840" y="4643280"/>
            <a:ext cx="428400" cy="357480"/>
          </a:xfrm>
          <a:prstGeom prst="rect">
            <a:avLst/>
          </a:prstGeom>
          <a:solidFill>
            <a:srgbClr val="00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286240" y="4643280"/>
            <a:ext cx="428760" cy="35748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715000" y="4643280"/>
            <a:ext cx="428760" cy="35748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143760" y="4643280"/>
            <a:ext cx="428400" cy="35748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858000" y="3929040"/>
            <a:ext cx="42876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286760" y="3929040"/>
            <a:ext cx="42840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2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715160" y="3929040"/>
            <a:ext cx="42876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4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8143920" y="3929040"/>
            <a:ext cx="42876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6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858000" y="4286160"/>
            <a:ext cx="428760" cy="35712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286760" y="4286160"/>
            <a:ext cx="428400" cy="357120"/>
          </a:xfrm>
          <a:prstGeom prst="rect">
            <a:avLst/>
          </a:prstGeom>
          <a:solidFill>
            <a:srgbClr val="00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7715160" y="4286160"/>
            <a:ext cx="428760" cy="357120"/>
          </a:xfrm>
          <a:prstGeom prst="rect">
            <a:avLst/>
          </a:prstGeom>
          <a:solidFill>
            <a:srgbClr val="00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8143920" y="4286160"/>
            <a:ext cx="428760" cy="35712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858000" y="4643280"/>
            <a:ext cx="428760" cy="35748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7286760" y="4643280"/>
            <a:ext cx="428400" cy="357480"/>
          </a:xfrm>
          <a:prstGeom prst="rect">
            <a:avLst/>
          </a:prstGeom>
          <a:solidFill>
            <a:srgbClr val="00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715160" y="4643280"/>
            <a:ext cx="428760" cy="357480"/>
          </a:xfrm>
          <a:prstGeom prst="rect">
            <a:avLst/>
          </a:prstGeom>
          <a:solidFill>
            <a:srgbClr val="00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8143920" y="4643280"/>
            <a:ext cx="428760" cy="35748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6"/>
          <a:stretch/>
        </p:blipFill>
        <p:spPr>
          <a:xfrm>
            <a:off x="695160" y="5041800"/>
            <a:ext cx="609840" cy="76212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1285920" y="5072040"/>
            <a:ext cx="1285920" cy="357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tag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285920" y="5429160"/>
            <a:ext cx="1285920" cy="357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electivi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857680" y="5072040"/>
            <a:ext cx="42840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286080" y="5072040"/>
            <a:ext cx="42876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</a:rPr>
              <a:t>&lt;2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714840" y="5072040"/>
            <a:ext cx="42840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4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143240" y="5072040"/>
            <a:ext cx="42876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6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857680" y="5429160"/>
            <a:ext cx="428400" cy="357120"/>
          </a:xfrm>
          <a:prstGeom prst="rect">
            <a:avLst/>
          </a:prstGeom>
          <a:solidFill>
            <a:srgbClr val="00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286080" y="5429160"/>
            <a:ext cx="428760" cy="3571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714840" y="5429160"/>
            <a:ext cx="428400" cy="35712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143240" y="5429160"/>
            <a:ext cx="428760" cy="35712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857840" y="5072040"/>
            <a:ext cx="42840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286240" y="5072040"/>
            <a:ext cx="42876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</a:rPr>
              <a:t>&lt;2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715000" y="5072040"/>
            <a:ext cx="42876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4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6143760" y="5072040"/>
            <a:ext cx="42840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6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857840" y="5429160"/>
            <a:ext cx="428400" cy="357120"/>
          </a:xfrm>
          <a:prstGeom prst="rect">
            <a:avLst/>
          </a:prstGeom>
          <a:solidFill>
            <a:srgbClr val="00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286240" y="5429160"/>
            <a:ext cx="428760" cy="3571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15000" y="5429160"/>
            <a:ext cx="428760" cy="35712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143760" y="5429160"/>
            <a:ext cx="428400" cy="35712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858000" y="5072040"/>
            <a:ext cx="42876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7286760" y="5072040"/>
            <a:ext cx="42840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</a:rPr>
              <a:t>&lt;2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7715160" y="5072040"/>
            <a:ext cx="42876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4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8143920" y="5072040"/>
            <a:ext cx="42876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6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858000" y="5429160"/>
            <a:ext cx="428760" cy="35712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7286760" y="5429160"/>
            <a:ext cx="428400" cy="3571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7715160" y="5429160"/>
            <a:ext cx="428760" cy="357120"/>
          </a:xfrm>
          <a:prstGeom prst="rect">
            <a:avLst/>
          </a:prstGeom>
          <a:solidFill>
            <a:srgbClr val="00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8143920" y="5429160"/>
            <a:ext cx="428760" cy="357120"/>
          </a:xfrm>
          <a:prstGeom prst="rect">
            <a:avLst/>
          </a:prstGeom>
          <a:solidFill>
            <a:srgbClr val="00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714240" y="5929200"/>
            <a:ext cx="857520" cy="285840"/>
          </a:xfrm>
          <a:prstGeom prst="rect">
            <a:avLst/>
          </a:prstGeom>
          <a:solidFill>
            <a:srgbClr val="00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643120" y="5929200"/>
            <a:ext cx="857160" cy="28584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643280" y="5929200"/>
            <a:ext cx="857520" cy="28584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572160" y="5929200"/>
            <a:ext cx="857520" cy="2858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571760" y="6012000"/>
            <a:ext cx="92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Well adapted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500280" y="6012000"/>
            <a:ext cx="9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dapted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500800" y="6012000"/>
            <a:ext cx="92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angerou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429680" y="6012000"/>
            <a:ext cx="92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649680" y="3500280"/>
            <a:ext cx="922320" cy="35748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rot="16200000">
            <a:off x="654840" y="3030120"/>
            <a:ext cx="715680" cy="36828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OI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rot="16200000">
            <a:off x="501480" y="4246200"/>
            <a:ext cx="1018800" cy="36828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WEE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rot="16200000">
            <a:off x="590400" y="5248080"/>
            <a:ext cx="792000" cy="322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CROP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bc623"/>
                </a:solidFill>
                <a:latin typeface="Verdana"/>
              </a:rPr>
              <a:t>Economical viability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graphicFrame>
        <p:nvGraphicFramePr>
          <p:cNvPr id="599" name=""/>
          <p:cNvGraphicFramePr/>
          <p:nvPr/>
        </p:nvGraphicFramePr>
        <p:xfrm>
          <a:off x="611280" y="4076640"/>
          <a:ext cx="7583400" cy="2125440"/>
        </p:xfrm>
        <a:graphic>
          <a:graphicData uri="http://schemas.openxmlformats.org/drawingml/2006/table">
            <a:tbl>
              <a:tblPr/>
              <a:tblGrid>
                <a:gridCol w="2795400"/>
                <a:gridCol w="1192320"/>
                <a:gridCol w="1211040"/>
                <a:gridCol w="1224000"/>
                <a:gridCol w="116064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37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700" spc="-1" strike="noStrike">
                          <a:solidFill>
                            <a:srgbClr val="c0022b"/>
                          </a:solidFill>
                          <a:latin typeface="Arial"/>
                        </a:rPr>
                        <a:t>WHEAT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37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700" spc="-1" strike="noStrike">
                          <a:solidFill>
                            <a:srgbClr val="c0022b"/>
                          </a:solidFill>
                          <a:latin typeface="Arial"/>
                        </a:rPr>
                        <a:t>MAIZE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7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700" spc="-1" strike="noStrike">
                          <a:solidFill>
                            <a:srgbClr val="c0022b"/>
                          </a:solidFill>
                          <a:latin typeface="Arial"/>
                        </a:rPr>
                        <a:t>Chemical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495"/>
                    </a:solidFill>
                  </a:tcPr>
                </a:tc>
                <a:tc>
                  <a:txBody>
                    <a:bodyPr lIns="90000" rIns="90000" tIns="37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700" spc="-1" strike="noStrike">
                          <a:solidFill>
                            <a:srgbClr val="c0022b"/>
                          </a:solidFill>
                          <a:latin typeface="Arial"/>
                        </a:rPr>
                        <a:t>Mixt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495"/>
                    </a:solidFill>
                  </a:tcPr>
                </a:tc>
                <a:tc>
                  <a:txBody>
                    <a:bodyPr lIns="90000" rIns="90000" tIns="37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700" spc="-1" strike="noStrike">
                          <a:solidFill>
                            <a:srgbClr val="c0022b"/>
                          </a:solidFill>
                          <a:latin typeface="Arial"/>
                        </a:rPr>
                        <a:t>Chemical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495"/>
                    </a:solidFill>
                  </a:tcPr>
                </a:tc>
                <a:tc>
                  <a:txBody>
                    <a:bodyPr lIns="90000" rIns="90000" tIns="37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700" spc="-1" strike="noStrike">
                          <a:solidFill>
                            <a:srgbClr val="c0022b"/>
                          </a:solidFill>
                          <a:latin typeface="Arial"/>
                        </a:rPr>
                        <a:t>Mixt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495"/>
                    </a:solidFill>
                  </a:tcPr>
                </a:tc>
              </a:tr>
              <a:tr h="500760">
                <a:tc>
                  <a:txBody>
                    <a:bodyPr lIns="90000" rIns="90000" tIns="37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700" spc="-1" strike="noStrike">
                          <a:solidFill>
                            <a:srgbClr val="c0022b"/>
                          </a:solidFill>
                          <a:latin typeface="Arial"/>
                        </a:rPr>
                        <a:t>Gross margin (€/ha)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fr-FR" sz="1200" spc="-1" strike="noStrike">
                          <a:solidFill>
                            <a:srgbClr val="c0022b"/>
                          </a:solidFill>
                          <a:latin typeface="Arial"/>
                        </a:rPr>
                        <a:t>(Total – Operating expenses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495"/>
                    </a:solidFill>
                  </a:tcPr>
                </a:tc>
                <a:tc>
                  <a:txBody>
                    <a:bodyPr lIns="90000" rIns="90000" tIns="37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700" spc="-1" strike="noStrike">
                          <a:solidFill>
                            <a:srgbClr val="c0022b"/>
                          </a:solidFill>
                          <a:latin typeface="Arial"/>
                        </a:rPr>
                        <a:t>558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495"/>
                    </a:solidFill>
                  </a:tcPr>
                </a:tc>
                <a:tc>
                  <a:txBody>
                    <a:bodyPr lIns="90000" rIns="90000" tIns="37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700" spc="-1" strike="noStrike">
                          <a:solidFill>
                            <a:srgbClr val="c0022b"/>
                          </a:solidFill>
                          <a:latin typeface="Arial"/>
                        </a:rPr>
                        <a:t>601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495"/>
                    </a:solidFill>
                  </a:tcPr>
                </a:tc>
                <a:tc>
                  <a:txBody>
                    <a:bodyPr lIns="90000" rIns="90000" tIns="37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700" spc="-1" strike="noStrike">
                          <a:solidFill>
                            <a:srgbClr val="c0022b"/>
                          </a:solidFill>
                          <a:latin typeface="Arial"/>
                        </a:rPr>
                        <a:t>717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495"/>
                    </a:solidFill>
                  </a:tcPr>
                </a:tc>
                <a:tc>
                  <a:txBody>
                    <a:bodyPr lIns="90000" rIns="90000" tIns="37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700" spc="-1" strike="noStrike">
                          <a:solidFill>
                            <a:srgbClr val="c0022b"/>
                          </a:solidFill>
                          <a:latin typeface="Arial"/>
                        </a:rPr>
                        <a:t>754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495"/>
                    </a:solidFill>
                  </a:tcPr>
                </a:tc>
              </a:tr>
              <a:tr h="659520">
                <a:tc>
                  <a:txBody>
                    <a:bodyPr lIns="90000" rIns="90000" tIns="37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700" spc="-1" strike="noStrike">
                          <a:solidFill>
                            <a:srgbClr val="c0022b"/>
                          </a:solidFill>
                          <a:latin typeface="Arial"/>
                        </a:rPr>
                        <a:t>Net margin (€/ha)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fr-FR" sz="1200" spc="-1" strike="noStrike">
                          <a:solidFill>
                            <a:srgbClr val="c0022b"/>
                          </a:solidFill>
                          <a:latin typeface="Arial"/>
                        </a:rPr>
                        <a:t>(Gross margin – Mechanization</a:t>
                      </a:r>
                      <a:br>
                        <a:rPr sz="1200"/>
                      </a:br>
                      <a:r>
                        <a:rPr b="1" i="1" lang="fr-FR" sz="1200" spc="-1" strike="noStrike">
                          <a:solidFill>
                            <a:srgbClr val="c0022b"/>
                          </a:solidFill>
                          <a:latin typeface="Arial"/>
                        </a:rPr>
                        <a:t>expenses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495"/>
                    </a:solidFill>
                  </a:tcPr>
                </a:tc>
                <a:tc>
                  <a:txBody>
                    <a:bodyPr lIns="90000" rIns="90000" tIns="37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700" spc="-1" strike="noStrike">
                          <a:solidFill>
                            <a:srgbClr val="c0022b"/>
                          </a:solidFill>
                          <a:latin typeface="Arial"/>
                        </a:rPr>
                        <a:t>428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495"/>
                    </a:solidFill>
                  </a:tcPr>
                </a:tc>
                <a:tc>
                  <a:txBody>
                    <a:bodyPr lIns="90000" rIns="90000" tIns="37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700" spc="-1" strike="noStrike">
                          <a:solidFill>
                            <a:srgbClr val="c0022b"/>
                          </a:solidFill>
                          <a:latin typeface="Arial"/>
                        </a:rPr>
                        <a:t>445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495"/>
                    </a:solidFill>
                  </a:tcPr>
                </a:tc>
                <a:tc>
                  <a:txBody>
                    <a:bodyPr lIns="90000" rIns="90000" tIns="37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700" spc="-1" strike="noStrike">
                          <a:solidFill>
                            <a:srgbClr val="c0022b"/>
                          </a:solidFill>
                          <a:latin typeface="Arial"/>
                        </a:rPr>
                        <a:t>564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495"/>
                    </a:solidFill>
                  </a:tcPr>
                </a:tc>
                <a:tc>
                  <a:txBody>
                    <a:bodyPr lIns="90000" rIns="90000" tIns="37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700" spc="-1" strike="noStrike">
                          <a:solidFill>
                            <a:srgbClr val="c0022b"/>
                          </a:solidFill>
                          <a:latin typeface="Arial"/>
                        </a:rPr>
                        <a:t>593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495"/>
                    </a:solidFill>
                  </a:tcPr>
                </a:tc>
              </a:tr>
            </a:tbl>
          </a:graphicData>
        </a:graphic>
      </p:graphicFrame>
      <p:grpSp>
        <p:nvGrpSpPr>
          <p:cNvPr id="600" name=""/>
          <p:cNvGrpSpPr/>
          <p:nvPr/>
        </p:nvGrpSpPr>
        <p:grpSpPr>
          <a:xfrm>
            <a:off x="208080" y="1154160"/>
            <a:ext cx="4479840" cy="2817720"/>
            <a:chOff x="208080" y="1154160"/>
            <a:chExt cx="4479840" cy="2817720"/>
          </a:xfrm>
        </p:grpSpPr>
        <p:sp>
          <p:nvSpPr>
            <p:cNvPr id="601" name=""/>
            <p:cNvSpPr/>
            <p:nvPr/>
          </p:nvSpPr>
          <p:spPr>
            <a:xfrm>
              <a:off x="208080" y="1154160"/>
              <a:ext cx="4479840" cy="281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65280" y="1581120"/>
              <a:ext cx="3297240" cy="190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65280" y="3270240"/>
              <a:ext cx="3297240" cy="1440"/>
            </a:xfrm>
            <a:prstGeom prst="line">
              <a:avLst/>
            </a:prstGeom>
            <a:ln w="0">
              <a:solidFill>
                <a:srgbClr val="969696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5280" y="3060720"/>
              <a:ext cx="3297240" cy="1440"/>
            </a:xfrm>
            <a:prstGeom prst="line">
              <a:avLst/>
            </a:prstGeom>
            <a:ln w="0">
              <a:solidFill>
                <a:srgbClr val="969696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65280" y="2849400"/>
              <a:ext cx="3297240" cy="1800"/>
            </a:xfrm>
            <a:prstGeom prst="line">
              <a:avLst/>
            </a:prstGeom>
            <a:ln w="0">
              <a:solidFill>
                <a:srgbClr val="969696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65280" y="2639880"/>
              <a:ext cx="3297240" cy="1800"/>
            </a:xfrm>
            <a:prstGeom prst="line">
              <a:avLst/>
            </a:prstGeom>
            <a:ln w="0">
              <a:solidFill>
                <a:srgbClr val="969696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65280" y="2422440"/>
              <a:ext cx="3297240" cy="1800"/>
            </a:xfrm>
            <a:prstGeom prst="line">
              <a:avLst/>
            </a:prstGeom>
            <a:ln w="0">
              <a:solidFill>
                <a:srgbClr val="969696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65280" y="2212920"/>
              <a:ext cx="3297240" cy="1800"/>
            </a:xfrm>
            <a:prstGeom prst="line">
              <a:avLst/>
            </a:prstGeom>
            <a:ln w="0">
              <a:solidFill>
                <a:srgbClr val="969696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65280" y="2001960"/>
              <a:ext cx="3297240" cy="1440"/>
            </a:xfrm>
            <a:prstGeom prst="line">
              <a:avLst/>
            </a:prstGeom>
            <a:ln w="0">
              <a:solidFill>
                <a:srgbClr val="969696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65280" y="1792440"/>
              <a:ext cx="3297240" cy="1440"/>
            </a:xfrm>
            <a:prstGeom prst="line">
              <a:avLst/>
            </a:prstGeom>
            <a:ln w="0">
              <a:solidFill>
                <a:srgbClr val="969696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65280" y="1581120"/>
              <a:ext cx="3297240" cy="1440"/>
            </a:xfrm>
            <a:prstGeom prst="line">
              <a:avLst/>
            </a:prstGeom>
            <a:ln w="0">
              <a:solidFill>
                <a:srgbClr val="969696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65280" y="1581120"/>
              <a:ext cx="3297240" cy="1900440"/>
            </a:xfrm>
            <a:prstGeom prst="rect">
              <a:avLst/>
            </a:prstGeom>
            <a:noFill/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558880" y="3324240"/>
              <a:ext cx="327240" cy="157320"/>
            </a:xfrm>
            <a:prstGeom prst="rect">
              <a:avLst/>
            </a:prstGeom>
            <a:solidFill>
              <a:srgbClr val="ff66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382920" y="3352680"/>
              <a:ext cx="328680" cy="128880"/>
            </a:xfrm>
            <a:prstGeom prst="rect">
              <a:avLst/>
            </a:prstGeom>
            <a:solidFill>
              <a:srgbClr val="ff66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909720" y="3294000"/>
              <a:ext cx="328680" cy="187560"/>
            </a:xfrm>
            <a:prstGeom prst="rect">
              <a:avLst/>
            </a:prstGeom>
            <a:solidFill>
              <a:srgbClr val="ff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735200" y="3270240"/>
              <a:ext cx="326880" cy="211320"/>
            </a:xfrm>
            <a:prstGeom prst="rect">
              <a:avLst/>
            </a:prstGeom>
            <a:solidFill>
              <a:srgbClr val="ff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558880" y="2703600"/>
              <a:ext cx="327240" cy="620640"/>
            </a:xfrm>
            <a:prstGeom prst="rect">
              <a:avLst/>
            </a:prstGeom>
            <a:solidFill>
              <a:srgbClr val="ff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382920" y="2738520"/>
              <a:ext cx="328680" cy="614160"/>
            </a:xfrm>
            <a:prstGeom prst="rect">
              <a:avLst/>
            </a:prstGeom>
            <a:solidFill>
              <a:srgbClr val="ff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909720" y="2751120"/>
              <a:ext cx="328680" cy="542880"/>
            </a:xfrm>
            <a:prstGeom prst="rect">
              <a:avLst/>
            </a:prstGeom>
            <a:solidFill>
              <a:srgbClr val="3399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735200" y="2727360"/>
              <a:ext cx="326880" cy="542880"/>
            </a:xfrm>
            <a:prstGeom prst="rect">
              <a:avLst/>
            </a:prstGeom>
            <a:solidFill>
              <a:srgbClr val="3399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558880" y="2066760"/>
              <a:ext cx="327240" cy="636840"/>
            </a:xfrm>
            <a:prstGeom prst="rect">
              <a:avLst/>
            </a:prstGeom>
            <a:solidFill>
              <a:srgbClr val="3399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382920" y="2095560"/>
              <a:ext cx="328680" cy="642960"/>
            </a:xfrm>
            <a:prstGeom prst="rect">
              <a:avLst/>
            </a:prstGeom>
            <a:solidFill>
              <a:srgbClr val="3399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909720" y="2498760"/>
              <a:ext cx="328680" cy="252360"/>
            </a:xfrm>
            <a:prstGeom prst="rect">
              <a:avLst/>
            </a:prstGeom>
            <a:solidFill>
              <a:srgbClr val="9933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735200" y="2481120"/>
              <a:ext cx="326880" cy="246240"/>
            </a:xfrm>
            <a:prstGeom prst="rect">
              <a:avLst/>
            </a:prstGeom>
            <a:solidFill>
              <a:srgbClr val="9933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909720" y="2143080"/>
              <a:ext cx="328680" cy="355680"/>
            </a:xfrm>
            <a:prstGeom prst="rect">
              <a:avLst/>
            </a:prstGeom>
            <a:solidFill>
              <a:srgbClr val="6600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735200" y="2324160"/>
              <a:ext cx="326880" cy="156960"/>
            </a:xfrm>
            <a:prstGeom prst="rect">
              <a:avLst/>
            </a:prstGeom>
            <a:solidFill>
              <a:srgbClr val="6600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558880" y="1868400"/>
              <a:ext cx="327240" cy="198360"/>
            </a:xfrm>
            <a:prstGeom prst="rect">
              <a:avLst/>
            </a:prstGeom>
            <a:solidFill>
              <a:srgbClr val="6600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382920" y="2025720"/>
              <a:ext cx="328680" cy="69840"/>
            </a:xfrm>
            <a:prstGeom prst="rect">
              <a:avLst/>
            </a:prstGeom>
            <a:solidFill>
              <a:srgbClr val="6600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558880" y="1862280"/>
              <a:ext cx="327240" cy="6120"/>
            </a:xfrm>
            <a:prstGeom prst="rect">
              <a:avLst/>
            </a:prstGeom>
            <a:solidFill>
              <a:srgbClr val="3333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382920" y="2019240"/>
              <a:ext cx="328680" cy="6480"/>
            </a:xfrm>
            <a:prstGeom prst="rect">
              <a:avLst/>
            </a:prstGeom>
            <a:solidFill>
              <a:srgbClr val="3333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909720" y="2125800"/>
              <a:ext cx="328680" cy="172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735200" y="2306520"/>
              <a:ext cx="326880" cy="176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65280" y="1581120"/>
              <a:ext cx="1440" cy="190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35040" y="348156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35040" y="327024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35040" y="306072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35040" y="2849400"/>
              <a:ext cx="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35040" y="2639880"/>
              <a:ext cx="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35040" y="2422440"/>
              <a:ext cx="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35040" y="2212920"/>
              <a:ext cx="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35040" y="200196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35040" y="179244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35040" y="158112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65280" y="3481560"/>
              <a:ext cx="3297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665280" y="34812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1488960" y="348120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V="1">
              <a:off x="2313000" y="34812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3138480" y="34812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3962520" y="34812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542960" y="1212840"/>
              <a:ext cx="195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ff9900"/>
                  </a:solidFill>
                  <a:latin typeface="Arial"/>
                </a:rPr>
                <a:t>Comparison of operating expenses 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664640" y="1353960"/>
              <a:ext cx="1814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ff9900"/>
                  </a:solidFill>
                  <a:latin typeface="Arial"/>
                </a:rPr>
                <a:t>In  chemical or mixt management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47560" y="34354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01480" y="322416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54320" y="301320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54320" y="280368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54320" y="259236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54320" y="237636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54320" y="216540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54320" y="195588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350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54320" y="174456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4320" y="153504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450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98560" y="3564000"/>
              <a:ext cx="367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Chemical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811880" y="3564000"/>
              <a:ext cx="16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Mixt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548440" y="3564000"/>
              <a:ext cx="392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Chemical 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459600" y="3564000"/>
              <a:ext cx="16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Mixt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 rot="16200000">
              <a:off x="-192960" y="2555280"/>
              <a:ext cx="1096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Arial"/>
                </a:rPr>
                <a:t>Operating expenses (€/ha)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025880" y="2147760"/>
              <a:ext cx="631800" cy="982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062240" y="2201760"/>
              <a:ext cx="52560" cy="525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144680" y="2171880"/>
              <a:ext cx="425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Regulators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062240" y="2341440"/>
              <a:ext cx="52560" cy="52560"/>
            </a:xfrm>
            <a:prstGeom prst="rect">
              <a:avLst/>
            </a:prstGeom>
            <a:solidFill>
              <a:srgbClr val="3333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144680" y="2313000"/>
              <a:ext cx="460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Insecticides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062240" y="2481120"/>
              <a:ext cx="52560" cy="52560"/>
            </a:xfrm>
            <a:prstGeom prst="rect">
              <a:avLst/>
            </a:prstGeom>
            <a:solidFill>
              <a:srgbClr val="6600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143600" y="2452680"/>
              <a:ext cx="41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Herbicides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062240" y="2622600"/>
              <a:ext cx="52560" cy="52200"/>
            </a:xfrm>
            <a:prstGeom prst="rect">
              <a:avLst/>
            </a:prstGeom>
            <a:solidFill>
              <a:srgbClr val="9933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143960" y="2592360"/>
              <a:ext cx="425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Fongicides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062240" y="2762280"/>
              <a:ext cx="52560" cy="52200"/>
            </a:xfrm>
            <a:prstGeom prst="rect">
              <a:avLst/>
            </a:prstGeom>
            <a:solidFill>
              <a:srgbClr val="3399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144320" y="2733840"/>
              <a:ext cx="450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Fertilization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062240" y="2901960"/>
              <a:ext cx="52560" cy="54000"/>
            </a:xfrm>
            <a:prstGeom prst="rect">
              <a:avLst/>
            </a:prstGeom>
            <a:solidFill>
              <a:srgbClr val="ff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143240" y="2873520"/>
              <a:ext cx="250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Seeds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062240" y="3043080"/>
              <a:ext cx="52560" cy="52560"/>
            </a:xfrm>
            <a:prstGeom prst="rect">
              <a:avLst/>
            </a:prstGeom>
            <a:solidFill>
              <a:srgbClr val="ff66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146480" y="3013200"/>
              <a:ext cx="512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Intercropping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197000" y="2043000"/>
              <a:ext cx="657360" cy="214560"/>
            </a:xfrm>
            <a:custGeom>
              <a:avLst/>
              <a:gdLst/>
              <a:ahLst/>
              <a:rect l="l" t="t" r="r" b="b"/>
              <a:pathLst>
                <a:path w="414" h="135">
                  <a:moveTo>
                    <a:pt x="4" y="0"/>
                  </a:moveTo>
                  <a:lnTo>
                    <a:pt x="387" y="113"/>
                  </a:lnTo>
                  <a:lnTo>
                    <a:pt x="383" y="124"/>
                  </a:lnTo>
                  <a:lnTo>
                    <a:pt x="0" y="12"/>
                  </a:lnTo>
                  <a:lnTo>
                    <a:pt x="4" y="0"/>
                  </a:lnTo>
                  <a:close/>
                  <a:moveTo>
                    <a:pt x="384" y="99"/>
                  </a:moveTo>
                  <a:lnTo>
                    <a:pt x="414" y="127"/>
                  </a:lnTo>
                  <a:lnTo>
                    <a:pt x="374" y="135"/>
                  </a:lnTo>
                  <a:lnTo>
                    <a:pt x="384" y="99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464480" y="1979640"/>
              <a:ext cx="323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- 43 €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137760" y="1704960"/>
              <a:ext cx="323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- 37 €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846520" y="1751040"/>
              <a:ext cx="657000" cy="212760"/>
            </a:xfrm>
            <a:custGeom>
              <a:avLst/>
              <a:gdLst/>
              <a:ahLst/>
              <a:rect l="l" t="t" r="r" b="b"/>
              <a:pathLst>
                <a:path w="414" h="134">
                  <a:moveTo>
                    <a:pt x="3" y="0"/>
                  </a:moveTo>
                  <a:lnTo>
                    <a:pt x="386" y="113"/>
                  </a:lnTo>
                  <a:lnTo>
                    <a:pt x="383" y="124"/>
                  </a:lnTo>
                  <a:lnTo>
                    <a:pt x="0" y="12"/>
                  </a:lnTo>
                  <a:lnTo>
                    <a:pt x="3" y="0"/>
                  </a:lnTo>
                  <a:close/>
                  <a:moveTo>
                    <a:pt x="384" y="99"/>
                  </a:moveTo>
                  <a:lnTo>
                    <a:pt x="414" y="127"/>
                  </a:lnTo>
                  <a:lnTo>
                    <a:pt x="373" y="134"/>
                  </a:lnTo>
                  <a:lnTo>
                    <a:pt x="384" y="99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360080" y="3745080"/>
              <a:ext cx="419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000000"/>
                  </a:solidFill>
                  <a:latin typeface="Arial"/>
                </a:rPr>
                <a:t>WHEAT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992320" y="3745080"/>
              <a:ext cx="355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000000"/>
                  </a:solidFill>
                  <a:latin typeface="Arial"/>
                </a:rPr>
                <a:t>MAIZE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8" name=""/>
          <p:cNvSpPr/>
          <p:nvPr/>
        </p:nvSpPr>
        <p:spPr>
          <a:xfrm>
            <a:off x="4838760" y="1366920"/>
            <a:ext cx="4125960" cy="258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235480" y="1749600"/>
            <a:ext cx="2619360" cy="181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235480" y="3359160"/>
            <a:ext cx="2619360" cy="144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5235480" y="3160800"/>
            <a:ext cx="2619360" cy="144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235480" y="2955960"/>
            <a:ext cx="2619360" cy="144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5235480" y="2757600"/>
            <a:ext cx="2619360" cy="144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5235480" y="2554200"/>
            <a:ext cx="2619360" cy="180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5235480" y="2355840"/>
            <a:ext cx="2619360" cy="144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5235480" y="2151000"/>
            <a:ext cx="2619360" cy="180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5235480" y="1952640"/>
            <a:ext cx="2619360" cy="144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235480" y="1749600"/>
            <a:ext cx="2619360" cy="144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5235480" y="1749600"/>
            <a:ext cx="2619360" cy="181260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429160" y="3232080"/>
            <a:ext cx="265320" cy="330120"/>
          </a:xfrm>
          <a:prstGeom prst="rect">
            <a:avLst/>
          </a:prstGeom>
          <a:solidFill>
            <a:srgbClr val="993300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086520" y="3063960"/>
            <a:ext cx="260280" cy="498240"/>
          </a:xfrm>
          <a:prstGeom prst="rect">
            <a:avLst/>
          </a:prstGeom>
          <a:solidFill>
            <a:srgbClr val="993300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6738840" y="2697120"/>
            <a:ext cx="265320" cy="865080"/>
          </a:xfrm>
          <a:prstGeom prst="rect">
            <a:avLst/>
          </a:prstGeom>
          <a:solidFill>
            <a:srgbClr val="993300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7396200" y="2697120"/>
            <a:ext cx="258840" cy="865080"/>
          </a:xfrm>
          <a:prstGeom prst="rect">
            <a:avLst/>
          </a:prstGeom>
          <a:solidFill>
            <a:srgbClr val="993300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429160" y="2895480"/>
            <a:ext cx="265320" cy="336600"/>
          </a:xfrm>
          <a:prstGeom prst="rect">
            <a:avLst/>
          </a:prstGeom>
          <a:solidFill>
            <a:srgbClr val="339966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6086520" y="2732040"/>
            <a:ext cx="260280" cy="331920"/>
          </a:xfrm>
          <a:prstGeom prst="rect">
            <a:avLst/>
          </a:prstGeom>
          <a:solidFill>
            <a:srgbClr val="339966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6738840" y="2370240"/>
            <a:ext cx="265320" cy="326880"/>
          </a:xfrm>
          <a:prstGeom prst="rect">
            <a:avLst/>
          </a:prstGeom>
          <a:solidFill>
            <a:srgbClr val="339966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7396200" y="2370240"/>
            <a:ext cx="258840" cy="326880"/>
          </a:xfrm>
          <a:prstGeom prst="rect">
            <a:avLst/>
          </a:prstGeom>
          <a:solidFill>
            <a:srgbClr val="339966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6086520" y="2517840"/>
            <a:ext cx="260280" cy="214200"/>
          </a:xfrm>
          <a:prstGeom prst="rect">
            <a:avLst/>
          </a:prstGeom>
          <a:solidFill>
            <a:srgbClr val="ff6600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396200" y="2111400"/>
            <a:ext cx="258840" cy="258840"/>
          </a:xfrm>
          <a:prstGeom prst="rect">
            <a:avLst/>
          </a:prstGeom>
          <a:solidFill>
            <a:srgbClr val="ff6600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429160" y="2722680"/>
            <a:ext cx="265320" cy="172800"/>
          </a:xfrm>
          <a:prstGeom prst="rect">
            <a:avLst/>
          </a:prstGeom>
          <a:solidFill>
            <a:srgbClr val="ffcc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086520" y="2432160"/>
            <a:ext cx="260280" cy="85680"/>
          </a:xfrm>
          <a:prstGeom prst="rect">
            <a:avLst/>
          </a:prstGeom>
          <a:solidFill>
            <a:srgbClr val="ffcc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738840" y="2187720"/>
            <a:ext cx="265320" cy="182520"/>
          </a:xfrm>
          <a:prstGeom prst="rect">
            <a:avLst/>
          </a:prstGeom>
          <a:solidFill>
            <a:srgbClr val="ffcc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429160" y="2259000"/>
            <a:ext cx="265320" cy="463680"/>
          </a:xfrm>
          <a:prstGeom prst="rect">
            <a:avLst/>
          </a:prstGeom>
          <a:solidFill>
            <a:srgbClr val="660066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6086520" y="1994040"/>
            <a:ext cx="260280" cy="438120"/>
          </a:xfrm>
          <a:prstGeom prst="rect">
            <a:avLst/>
          </a:prstGeom>
          <a:solidFill>
            <a:srgbClr val="660066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6738840" y="2023920"/>
            <a:ext cx="265320" cy="163800"/>
          </a:xfrm>
          <a:prstGeom prst="rect">
            <a:avLst/>
          </a:prstGeom>
          <a:solidFill>
            <a:srgbClr val="660066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7396200" y="1947960"/>
            <a:ext cx="258840" cy="163440"/>
          </a:xfrm>
          <a:prstGeom prst="rect">
            <a:avLst/>
          </a:prstGeom>
          <a:solidFill>
            <a:srgbClr val="660066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235480" y="1749600"/>
            <a:ext cx="1800" cy="1812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5210280" y="3562200"/>
            <a:ext cx="25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5210280" y="3359160"/>
            <a:ext cx="25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210280" y="3160800"/>
            <a:ext cx="25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5210280" y="2955960"/>
            <a:ext cx="25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210280" y="2757600"/>
            <a:ext cx="25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210280" y="2554200"/>
            <a:ext cx="25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210280" y="2355840"/>
            <a:ext cx="25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210280" y="2151000"/>
            <a:ext cx="25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210280" y="1952640"/>
            <a:ext cx="25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210280" y="1749600"/>
            <a:ext cx="25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5235480" y="3562200"/>
            <a:ext cx="2619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5235480" y="356184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5892840" y="356184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 flipV="1">
            <a:off x="6545160" y="356184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7202520" y="356184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7854840" y="356184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254640" y="1438200"/>
            <a:ext cx="1226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9900"/>
                </a:solidFill>
                <a:latin typeface="Arial"/>
              </a:rPr>
              <a:t>Mechanization expenses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6008040" y="1560600"/>
            <a:ext cx="158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9900"/>
                </a:solidFill>
                <a:latin typeface="Arial"/>
              </a:rPr>
              <a:t>In chemical or mixt management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124240" y="351648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078520" y="3313080"/>
            <a:ext cx="86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5078520" y="3114720"/>
            <a:ext cx="86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078520" y="2909880"/>
            <a:ext cx="86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078520" y="2711520"/>
            <a:ext cx="86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5032440" y="2508120"/>
            <a:ext cx="1288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032440" y="2309760"/>
            <a:ext cx="1288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032440" y="2104920"/>
            <a:ext cx="1288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032440" y="1906560"/>
            <a:ext cx="1288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160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5032440" y="1703520"/>
            <a:ext cx="1288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180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5394960" y="363384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Chemical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127560" y="3633840"/>
            <a:ext cx="1407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Mixt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6703200" y="363384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Chemical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7435440" y="3633840"/>
            <a:ext cx="1407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Mixt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 rot="16200000">
            <a:off x="4371840" y="2657520"/>
            <a:ext cx="1130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000000"/>
                </a:solidFill>
                <a:latin typeface="Arial"/>
              </a:rPr>
              <a:t>Mechanization expenses (€/ha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910640" y="2452680"/>
            <a:ext cx="1003320" cy="5605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7935840" y="2492280"/>
            <a:ext cx="41400" cy="41400"/>
          </a:xfrm>
          <a:prstGeom prst="rect">
            <a:avLst/>
          </a:prstGeom>
          <a:solidFill>
            <a:srgbClr val="660066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8002800" y="2471760"/>
            <a:ext cx="838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Spraying and fertilization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935840" y="2604960"/>
            <a:ext cx="41400" cy="39960"/>
          </a:xfrm>
          <a:prstGeom prst="rect">
            <a:avLst/>
          </a:prstGeom>
          <a:solidFill>
            <a:srgbClr val="ffcc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8003160" y="2584440"/>
            <a:ext cx="7750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Chemical weed control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935840" y="2716200"/>
            <a:ext cx="41400" cy="41400"/>
          </a:xfrm>
          <a:prstGeom prst="rect">
            <a:avLst/>
          </a:prstGeom>
          <a:solidFill>
            <a:srgbClr val="ff6600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8002800" y="269712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Mechanical weed control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7935840" y="2828880"/>
            <a:ext cx="41400" cy="41400"/>
          </a:xfrm>
          <a:prstGeom prst="rect">
            <a:avLst/>
          </a:prstGeom>
          <a:solidFill>
            <a:srgbClr val="339966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8003520" y="2808360"/>
            <a:ext cx="250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Sowing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7935840" y="2941560"/>
            <a:ext cx="41400" cy="39600"/>
          </a:xfrm>
          <a:prstGeom prst="rect">
            <a:avLst/>
          </a:prstGeom>
          <a:solidFill>
            <a:srgbClr val="993300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8002080" y="2921040"/>
            <a:ext cx="448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Intercropping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5621400" y="1949400"/>
            <a:ext cx="447480" cy="238320"/>
          </a:xfrm>
          <a:custGeom>
            <a:avLst/>
            <a:gdLst/>
            <a:ahLst/>
            <a:rect l="l" t="t" r="r" b="b"/>
            <a:pathLst>
              <a:path w="282" h="150">
                <a:moveTo>
                  <a:pt x="0" y="140"/>
                </a:moveTo>
                <a:lnTo>
                  <a:pt x="256" y="8"/>
                </a:lnTo>
                <a:lnTo>
                  <a:pt x="261" y="18"/>
                </a:lnTo>
                <a:lnTo>
                  <a:pt x="5" y="150"/>
                </a:lnTo>
                <a:lnTo>
                  <a:pt x="0" y="140"/>
                </a:lnTo>
                <a:close/>
                <a:moveTo>
                  <a:pt x="246" y="1"/>
                </a:moveTo>
                <a:lnTo>
                  <a:pt x="282" y="0"/>
                </a:lnTo>
                <a:lnTo>
                  <a:pt x="261" y="30"/>
                </a:lnTo>
                <a:lnTo>
                  <a:pt x="246" y="1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576760" y="1906560"/>
            <a:ext cx="287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+ 26 €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7018200" y="1805040"/>
            <a:ext cx="230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+ 8 €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6953400" y="1882800"/>
            <a:ext cx="450720" cy="131760"/>
          </a:xfrm>
          <a:custGeom>
            <a:avLst/>
            <a:gdLst/>
            <a:ahLst/>
            <a:rect l="l" t="t" r="r" b="b"/>
            <a:pathLst>
              <a:path w="284" h="83">
                <a:moveTo>
                  <a:pt x="0" y="73"/>
                </a:moveTo>
                <a:lnTo>
                  <a:pt x="257" y="9"/>
                </a:lnTo>
                <a:lnTo>
                  <a:pt x="259" y="19"/>
                </a:lnTo>
                <a:lnTo>
                  <a:pt x="3" y="83"/>
                </a:lnTo>
                <a:lnTo>
                  <a:pt x="0" y="73"/>
                </a:lnTo>
                <a:close/>
                <a:moveTo>
                  <a:pt x="249" y="0"/>
                </a:moveTo>
                <a:lnTo>
                  <a:pt x="284" y="7"/>
                </a:lnTo>
                <a:lnTo>
                  <a:pt x="257" y="31"/>
                </a:lnTo>
                <a:lnTo>
                  <a:pt x="249" y="0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5764680" y="3781440"/>
            <a:ext cx="374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WHEAT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7099200" y="3781440"/>
            <a:ext cx="319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7bc623"/>
                </a:solidFill>
                <a:latin typeface="Verdana"/>
              </a:rPr>
              <a:t>Other inovative techniques</a:t>
            </a:r>
            <a:br>
              <a:rPr sz="2600"/>
            </a:br>
            <a:r>
              <a:rPr b="1" lang="fr-FR" sz="2600" spc="-1" strike="noStrike">
                <a:solidFill>
                  <a:srgbClr val="7bc623"/>
                </a:solidFill>
                <a:latin typeface="Verdana"/>
              </a:rPr>
              <a:t>Experimental</a:t>
            </a:r>
            <a:endParaRPr b="1" lang="en-US" sz="2600" spc="-1" strike="noStrike">
              <a:solidFill>
                <a:srgbClr val="7bc623"/>
              </a:solidFill>
              <a:latin typeface="Verdana"/>
            </a:endParaRPr>
          </a:p>
        </p:txBody>
      </p:sp>
      <p:pic>
        <p:nvPicPr>
          <p:cNvPr id="769" name="" descr=""/>
          <p:cNvPicPr/>
          <p:nvPr/>
        </p:nvPicPr>
        <p:blipFill>
          <a:blip r:embed="rId1"/>
          <a:stretch/>
        </p:blipFill>
        <p:spPr>
          <a:xfrm>
            <a:off x="5651640" y="1484280"/>
            <a:ext cx="3203280" cy="2403360"/>
          </a:xfrm>
          <a:prstGeom prst="rect">
            <a:avLst/>
          </a:prstGeom>
          <a:ln w="0">
            <a:noFill/>
          </a:ln>
        </p:spPr>
      </p:pic>
      <p:sp>
        <p:nvSpPr>
          <p:cNvPr id="770" name=""/>
          <p:cNvSpPr/>
          <p:nvPr/>
        </p:nvSpPr>
        <p:spPr>
          <a:xfrm>
            <a:off x="5724360" y="1123920"/>
            <a:ext cx="22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e46c0a"/>
                </a:solidFill>
                <a:latin typeface="Arial"/>
              </a:rPr>
              <a:t>Direct Drill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" descr=""/>
          <p:cNvPicPr/>
          <p:nvPr/>
        </p:nvPicPr>
        <p:blipFill>
          <a:blip r:embed="rId2"/>
          <a:stretch/>
        </p:blipFill>
        <p:spPr>
          <a:xfrm>
            <a:off x="179280" y="1125360"/>
            <a:ext cx="1944720" cy="1395720"/>
          </a:xfrm>
          <a:prstGeom prst="rect">
            <a:avLst/>
          </a:prstGeom>
          <a:ln w="0">
            <a:noFill/>
          </a:ln>
        </p:spPr>
      </p:pic>
      <p:pic>
        <p:nvPicPr>
          <p:cNvPr id="772" name="" descr=""/>
          <p:cNvPicPr/>
          <p:nvPr/>
        </p:nvPicPr>
        <p:blipFill>
          <a:blip r:embed="rId3"/>
          <a:stretch/>
        </p:blipFill>
        <p:spPr>
          <a:xfrm>
            <a:off x="4427640" y="1773360"/>
            <a:ext cx="1803240" cy="1066680"/>
          </a:xfrm>
          <a:prstGeom prst="rect">
            <a:avLst/>
          </a:prstGeom>
          <a:ln w="0">
            <a:noFill/>
          </a:ln>
        </p:spPr>
      </p:pic>
      <p:pic>
        <p:nvPicPr>
          <p:cNvPr id="773" name="" descr=""/>
          <p:cNvPicPr/>
          <p:nvPr/>
        </p:nvPicPr>
        <p:blipFill>
          <a:blip r:embed="rId4"/>
          <a:stretch/>
        </p:blipFill>
        <p:spPr>
          <a:xfrm>
            <a:off x="324000" y="2492280"/>
            <a:ext cx="2193840" cy="1822680"/>
          </a:xfrm>
          <a:prstGeom prst="rect">
            <a:avLst/>
          </a:prstGeom>
          <a:ln w="0">
            <a:noFill/>
          </a:ln>
        </p:spPr>
      </p:pic>
      <p:sp>
        <p:nvSpPr>
          <p:cNvPr id="774" name=""/>
          <p:cNvSpPr/>
          <p:nvPr/>
        </p:nvSpPr>
        <p:spPr>
          <a:xfrm>
            <a:off x="2197080" y="191628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c3300"/>
                </a:solidFill>
                <a:latin typeface="Arial"/>
              </a:rPr>
              <a:t>Live Mul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" descr=""/>
          <p:cNvPicPr/>
          <p:nvPr/>
        </p:nvPicPr>
        <p:blipFill>
          <a:blip r:embed="rId5"/>
          <a:stretch/>
        </p:blipFill>
        <p:spPr>
          <a:xfrm>
            <a:off x="1908000" y="2565360"/>
            <a:ext cx="2373480" cy="1766880"/>
          </a:xfrm>
          <a:prstGeom prst="rect">
            <a:avLst/>
          </a:prstGeom>
          <a:ln w="0">
            <a:noFill/>
          </a:ln>
        </p:spPr>
      </p:pic>
      <p:sp>
        <p:nvSpPr>
          <p:cNvPr id="776" name=""/>
          <p:cNvSpPr/>
          <p:nvPr/>
        </p:nvSpPr>
        <p:spPr>
          <a:xfrm>
            <a:off x="3708360" y="494172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c3300"/>
                </a:solidFill>
                <a:latin typeface="Arial"/>
              </a:rPr>
              <a:t>Mixt cro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" descr=""/>
          <p:cNvPicPr/>
          <p:nvPr/>
        </p:nvPicPr>
        <p:blipFill>
          <a:blip r:embed="rId6"/>
          <a:stretch/>
        </p:blipFill>
        <p:spPr>
          <a:xfrm>
            <a:off x="395280" y="4653000"/>
            <a:ext cx="3313080" cy="1731960"/>
          </a:xfrm>
          <a:prstGeom prst="rect">
            <a:avLst/>
          </a:prstGeom>
          <a:ln w="0">
            <a:noFill/>
          </a:ln>
        </p:spPr>
      </p:pic>
      <p:grpSp>
        <p:nvGrpSpPr>
          <p:cNvPr id="778" name=""/>
          <p:cNvGrpSpPr/>
          <p:nvPr/>
        </p:nvGrpSpPr>
        <p:grpSpPr>
          <a:xfrm>
            <a:off x="5905440" y="3754440"/>
            <a:ext cx="2700360" cy="1928880"/>
            <a:chOff x="5905440" y="3754440"/>
            <a:chExt cx="2700360" cy="1928880"/>
          </a:xfrm>
        </p:grpSpPr>
        <p:sp>
          <p:nvSpPr>
            <p:cNvPr id="779" name=""/>
            <p:cNvSpPr/>
            <p:nvPr/>
          </p:nvSpPr>
          <p:spPr>
            <a:xfrm>
              <a:off x="5905440" y="3754440"/>
              <a:ext cx="2700360" cy="192888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143760" y="3824280"/>
              <a:ext cx="2403360" cy="14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143760" y="3824280"/>
              <a:ext cx="2403360" cy="1496880"/>
            </a:xfrm>
            <a:prstGeom prst="rect">
              <a:avLst/>
            </a:prstGeom>
            <a:noFill/>
            <a:ln w="4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321600" y="3986280"/>
              <a:ext cx="237960" cy="1334880"/>
            </a:xfrm>
            <a:prstGeom prst="rect">
              <a:avLst/>
            </a:prstGeom>
            <a:solidFill>
              <a:srgbClr val="9999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921360" y="4197240"/>
              <a:ext cx="243000" cy="1123920"/>
            </a:xfrm>
            <a:prstGeom prst="rect">
              <a:avLst/>
            </a:prstGeom>
            <a:solidFill>
              <a:srgbClr val="9999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526160" y="5234040"/>
              <a:ext cx="236880" cy="87120"/>
            </a:xfrm>
            <a:prstGeom prst="rect">
              <a:avLst/>
            </a:prstGeom>
            <a:solidFill>
              <a:srgbClr val="ff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8124840" y="5267160"/>
              <a:ext cx="237960" cy="54000"/>
            </a:xfrm>
            <a:prstGeom prst="rect">
              <a:avLst/>
            </a:prstGeom>
            <a:solidFill>
              <a:srgbClr val="ff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143760" y="3824280"/>
              <a:ext cx="1440" cy="149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121440" y="5321160"/>
              <a:ext cx="22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121440" y="5103720"/>
              <a:ext cx="22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121440" y="4894200"/>
              <a:ext cx="22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121440" y="4678200"/>
              <a:ext cx="22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121440" y="4467240"/>
              <a:ext cx="22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121440" y="4251240"/>
              <a:ext cx="22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121440" y="4040280"/>
              <a:ext cx="22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121440" y="3824280"/>
              <a:ext cx="22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143760" y="5321160"/>
              <a:ext cx="2403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6143760" y="532080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 flipV="1">
              <a:off x="6742080" y="53208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>
              <a:off x="7346880" y="53208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 flipV="1">
              <a:off x="7947000" y="532080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>
              <a:off x="8547120" y="532080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654600" y="3851280"/>
              <a:ext cx="194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Geraniums in early winter (weeds/m²) 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051240" y="52768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013440" y="5060880"/>
              <a:ext cx="86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013440" y="4851360"/>
              <a:ext cx="86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013440" y="4633920"/>
              <a:ext cx="86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013440" y="4424400"/>
              <a:ext cx="86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975280" y="4208400"/>
              <a:ext cx="12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975280" y="3997440"/>
              <a:ext cx="12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975280" y="3781440"/>
              <a:ext cx="12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000000"/>
                  </a:solidFill>
                  <a:latin typeface="Arial"/>
                </a:rPr>
                <a:t>140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242040" y="540216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Arial Narrow"/>
                </a:rPr>
                <a:t>Deep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224400" y="5526000"/>
              <a:ext cx="360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Arial Narrow"/>
                </a:rPr>
                <a:t>cultivating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810840" y="5402160"/>
              <a:ext cx="38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Arial Narrow"/>
                </a:rPr>
                <a:t>Deep + sup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821280" y="5526000"/>
              <a:ext cx="360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Arial Narrow"/>
                </a:rPr>
                <a:t>cultivating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423560" y="5402160"/>
              <a:ext cx="462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Arial Narrow"/>
                </a:rPr>
                <a:t>Direct drilling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8021880" y="5402160"/>
              <a:ext cx="462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Arial Narrow"/>
                </a:rPr>
                <a:t>Direct drilling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05440" y="3754440"/>
              <a:ext cx="2700360" cy="19288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70920" y="-27360"/>
            <a:ext cx="5247000" cy="9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7bc623"/>
                </a:solidFill>
                <a:latin typeface="Verdana"/>
              </a:rPr>
              <a:t>Conclusion: Response to general principles of IPM </a:t>
            </a:r>
            <a:endParaRPr b="1" lang="en-US" sz="26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73962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Arial"/>
              </a:rPr>
              <a:t>Environment:</a:t>
            </a:r>
            <a:br>
              <a:rPr sz="2400"/>
            </a:br>
            <a:r>
              <a:rPr b="1" lang="fr-FR" sz="2000" spc="-1" strike="noStrike">
                <a:solidFill>
                  <a:srgbClr val="006600"/>
                </a:solidFill>
                <a:latin typeface="Arial"/>
              </a:rPr>
              <a:t>Reduced quantities of herbicides (Part 5)</a:t>
            </a:r>
            <a:br>
              <a:rPr sz="2000"/>
            </a:br>
            <a:br>
              <a:rPr sz="2000"/>
            </a:br>
            <a:r>
              <a:rPr b="1" lang="fr-FR" sz="2000" spc="-1" strike="noStrike">
                <a:solidFill>
                  <a:srgbClr val="0066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6600"/>
                </a:solidFill>
                <a:latin typeface="Arial"/>
              </a:rPr>
              <a:t>Agronomy</a:t>
            </a:r>
            <a:br>
              <a:rPr sz="2400"/>
            </a:br>
            <a:r>
              <a:rPr b="1" lang="fr-FR" sz="2000" spc="-1" strike="noStrike">
                <a:solidFill>
                  <a:srgbClr val="993300"/>
                </a:solidFill>
                <a:latin typeface="Arial"/>
              </a:rPr>
              <a:t>Resistance management (part 7)</a:t>
            </a:r>
            <a:br>
              <a:rPr sz="2000"/>
            </a:br>
            <a:r>
              <a:rPr b="1" lang="fr-FR" sz="2000" spc="-1" strike="noStrike">
                <a:solidFill>
                  <a:srgbClr val="993300"/>
                </a:solidFill>
                <a:latin typeface="Arial"/>
              </a:rPr>
              <a:t>Use of alternative methods (part 4)</a:t>
            </a:r>
            <a:br>
              <a:rPr sz="2000"/>
            </a:br>
            <a:r>
              <a:rPr b="1" lang="fr-FR" sz="2000" spc="-1" strike="noStrike">
                <a:solidFill>
                  <a:srgbClr val="993300"/>
                </a:solidFill>
                <a:latin typeface="Arial"/>
              </a:rPr>
              <a:t>Combination with preventive methods (part 1)</a:t>
            </a:r>
            <a:br>
              <a:rPr sz="2000"/>
            </a:br>
            <a:r>
              <a:rPr b="1" lang="fr-FR" sz="2000" spc="-1" strike="noStrike">
                <a:solidFill>
                  <a:srgbClr val="9933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3300"/>
                </a:solidFill>
                <a:latin typeface="Arial"/>
              </a:rPr>
              <a:t>Terms of Success: technical knowledge</a:t>
            </a:r>
            <a:br>
              <a:rPr sz="2000"/>
            </a:b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95ba6"/>
                </a:solidFill>
                <a:latin typeface="Arial"/>
              </a:rPr>
              <a:t>Economy</a:t>
            </a:r>
            <a:br>
              <a:rPr sz="2000"/>
            </a:b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Margins comparable between chemical and mixt management</a:t>
            </a:r>
            <a:br>
              <a:rPr sz="2000"/>
            </a:b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More advantages if mechanization investment (equipement with large width, gps, ...)</a:t>
            </a:r>
            <a:br>
              <a:rPr sz="2000"/>
            </a:b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More manpower is sometimes needed</a:t>
            </a:r>
            <a:r>
              <a:rPr b="1" lang="fr-FR" sz="2000" spc="-1" strike="noStrike">
                <a:solidFill>
                  <a:srgbClr val="c0022b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0920" y="-360"/>
            <a:ext cx="586908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e46c0a"/>
                </a:solidFill>
                <a:latin typeface="Verdana"/>
              </a:rPr>
              <a:t>Aims of weed mechanical or mixt control :</a:t>
            </a:r>
            <a:br>
              <a:rPr sz="2600"/>
            </a:br>
            <a:br>
              <a:rPr sz="2600"/>
            </a:br>
            <a:r>
              <a:rPr b="1" lang="fr-FR" sz="2600" spc="-1" strike="noStrike">
                <a:solidFill>
                  <a:srgbClr val="e46c0a"/>
                </a:solidFill>
                <a:latin typeface="Verdana"/>
              </a:rPr>
              <a:t>Sustainable use of herbicides</a:t>
            </a:r>
            <a:endParaRPr b="1" lang="en-US" sz="26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23640" y="1500120"/>
            <a:ext cx="814356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022b"/>
                </a:solidFill>
                <a:latin typeface="Arial"/>
              </a:rPr>
              <a:t>Background:  reduction of pesticides in France</a:t>
            </a:r>
            <a:br>
              <a:rPr sz="2400"/>
            </a:br>
            <a:r>
              <a:rPr b="0" lang="fr-FR" sz="2400" spc="-1" strike="noStrike">
                <a:solidFill>
                  <a:srgbClr val="c0022b"/>
                </a:solidFill>
                <a:latin typeface="Arial"/>
              </a:rPr>
              <a:t>→ Grenelle Environment</a:t>
            </a:r>
            <a:br>
              <a:rPr sz="2400"/>
            </a:br>
            <a:r>
              <a:rPr b="0" lang="fr-FR" sz="2400" spc="-1" strike="noStrike">
                <a:solidFill>
                  <a:srgbClr val="c0022b"/>
                </a:solidFill>
                <a:latin typeface="Arial"/>
              </a:rPr>
              <a:t>→ Basin supply catchment</a:t>
            </a:r>
            <a:br>
              <a:rPr sz="2400"/>
            </a:br>
            <a:r>
              <a:rPr b="0" lang="fr-FR" sz="2400" spc="-1" strike="noStrike">
                <a:solidFill>
                  <a:srgbClr val="c0022b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022b"/>
                </a:solidFill>
                <a:latin typeface="Arial"/>
              </a:rPr>
              <a:t>Reducing the cost of herbicides use</a:t>
            </a:r>
            <a:br>
              <a:rPr sz="2400"/>
            </a:br>
            <a:r>
              <a:rPr b="0" lang="fr-FR" sz="2400" spc="-1" strike="noStrike">
                <a:solidFill>
                  <a:srgbClr val="c0022b"/>
                </a:solidFill>
                <a:latin typeface="Arial"/>
              </a:rPr>
              <a:t>→ 15-25% of operating expenses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022b"/>
                </a:solidFill>
                <a:latin typeface="Arial"/>
              </a:rPr>
              <a:t>Sustainable herbicide</a:t>
            </a:r>
            <a:br>
              <a:rPr sz="2400"/>
            </a:br>
            <a:r>
              <a:rPr b="0" lang="fr-FR" sz="2400" spc="-1" strike="noStrike">
                <a:solidFill>
                  <a:srgbClr val="c0022b"/>
                </a:solidFill>
                <a:latin typeface="Arial"/>
              </a:rPr>
              <a:t>The technical "plus" 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ffect on soil warming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nterest in the positioning of fertiliz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nable mineralization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e46c0a"/>
                </a:solidFill>
                <a:latin typeface="Verdana"/>
              </a:rPr>
              <a:t>Weed control into the</a:t>
            </a:r>
            <a:br>
              <a:rPr sz="3000"/>
            </a:br>
            <a:r>
              <a:rPr b="0" lang="fr-FR" sz="3000" spc="-1" strike="noStrike">
                <a:solidFill>
                  <a:srgbClr val="e46c0a"/>
                </a:solidFill>
                <a:latin typeface="Verdana"/>
              </a:rPr>
              <a:t>rotation: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23640" y="1052280"/>
            <a:ext cx="814356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22b"/>
                </a:solidFill>
                <a:latin typeface="Arial"/>
              </a:rPr>
              <a:t>Agronomic Principles</a:t>
            </a:r>
            <a:endParaRPr b="1" lang="en-US" sz="2800" spc="-1" strike="noStrike">
              <a:solidFill>
                <a:srgbClr val="c0022b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Arial"/>
              </a:rPr>
              <a:t>Diversifying cr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Arial"/>
              </a:rPr>
              <a:t>Take advantage of intercropping to reduce the seed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Arial"/>
              </a:rPr>
              <a:t>Use tillage wis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Arial"/>
              </a:rPr>
              <a:t>Stagger planting 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Arial"/>
              </a:rPr>
              <a:t>Using the factor </a:t>
            </a:r>
            <a:r>
              <a:rPr b="1" lang="fr-FR" sz="2400" spc="-1" strike="noStrike">
                <a:solidFill>
                  <a:srgbClr val="009900"/>
                </a:solidFill>
                <a:latin typeface="Verdana"/>
              </a:rPr>
              <a:t>“</a:t>
            </a:r>
            <a:r>
              <a:rPr b="1" lang="fr-FR" sz="2400" spc="-1" strike="noStrike">
                <a:solidFill>
                  <a:srgbClr val="009900"/>
                </a:solidFill>
                <a:latin typeface="Arial"/>
              </a:rPr>
              <a:t>crop competition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Espace réservé du contenu 2"/>
          <p:cNvSpPr/>
          <p:nvPr/>
        </p:nvSpPr>
        <p:spPr>
          <a:xfrm>
            <a:off x="250920" y="4365720"/>
            <a:ext cx="8305560" cy="11509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6000"/>
          </a:bodyPr>
          <a:p>
            <a:pPr marL="329040" indent="-329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y combining these principles the maximum weed control will be facilitated, optimized the use of herbicides and the risk of emergence of resistance limited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e46c0a"/>
                </a:solidFill>
                <a:latin typeface="Verdana"/>
              </a:rPr>
              <a:t>Comparison of two</a:t>
            </a:r>
            <a:br>
              <a:rPr sz="3000"/>
            </a:br>
            <a:r>
              <a:rPr b="1" lang="fr-FR" sz="3000" spc="-1" strike="noStrike">
                <a:solidFill>
                  <a:srgbClr val="e46c0a"/>
                </a:solidFill>
                <a:latin typeface="Verdana"/>
              </a:rPr>
              <a:t>weed management 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250920" y="1268280"/>
            <a:ext cx="857232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spcBef>
                <a:spcPts val="700"/>
              </a:spcBef>
              <a:buClr>
                <a:srgbClr val="e46c0a"/>
              </a:buClr>
              <a:buFont typeface="Wingdings 3" charset="2"/>
              <a:buChar char=""/>
              <a:tabLst>
                <a:tab algn="l" pos="326880"/>
                <a:tab algn="l" pos="774720"/>
                <a:tab algn="l" pos="1224000"/>
                <a:tab algn="l" pos="1673280"/>
                <a:tab algn="l" pos="2122560"/>
                <a:tab algn="l" pos="2571840"/>
                <a:tab algn="l" pos="3021120"/>
                <a:tab algn="l" pos="3470400"/>
                <a:tab algn="l" pos="3919680"/>
                <a:tab algn="l" pos="4368960"/>
                <a:tab algn="l" pos="4818240"/>
                <a:tab algn="l" pos="5267160"/>
                <a:tab algn="l" pos="5716440"/>
                <a:tab algn="l" pos="6165720"/>
                <a:tab algn="l" pos="6615000"/>
                <a:tab algn="l" pos="7064280"/>
                <a:tab algn="l" pos="7513560"/>
                <a:tab algn="l" pos="7962840"/>
                <a:tab algn="l" pos="8412120"/>
                <a:tab algn="l" pos="8861400"/>
                <a:tab algn="l" pos="9310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Region Burgundy (Franc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7670880" y="1927080"/>
            <a:ext cx="823680" cy="10796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291960" y="1817640"/>
            <a:ext cx="2160720" cy="365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Whe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51240" y="1890720"/>
            <a:ext cx="61196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Weeds: Alopecurus, Bromus, Veronica, Viola, Galiu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31960" y="4770360"/>
            <a:ext cx="1800" cy="1619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676680" y="3259080"/>
            <a:ext cx="1440" cy="313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576680" y="3259080"/>
            <a:ext cx="1800" cy="313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692680" y="3259080"/>
            <a:ext cx="1800" cy="313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843600" y="3259080"/>
            <a:ext cx="1800" cy="313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067600" y="3259080"/>
            <a:ext cx="1800" cy="313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3405240" y="2465280"/>
            <a:ext cx="523800" cy="5223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4108320" y="2449440"/>
            <a:ext cx="900360" cy="52884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5216400" y="2322360"/>
            <a:ext cx="91944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5"/>
          <a:stretch/>
        </p:blipFill>
        <p:spPr>
          <a:xfrm>
            <a:off x="6440400" y="2232000"/>
            <a:ext cx="908280" cy="77328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3424320" y="2970360"/>
            <a:ext cx="5032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3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179960" y="2970360"/>
            <a:ext cx="828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iller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519960" y="2970360"/>
            <a:ext cx="75564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ar at 1c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043600" y="2970360"/>
            <a:ext cx="1400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eginning o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tem elong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601040" y="2970360"/>
            <a:ext cx="828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1 Nod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6"/>
          <a:stretch/>
        </p:blipFill>
        <p:spPr>
          <a:xfrm>
            <a:off x="1047600" y="2568600"/>
            <a:ext cx="720720" cy="3650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939960" y="2970360"/>
            <a:ext cx="934920" cy="215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04c1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996840" y="4805280"/>
            <a:ext cx="87804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66880" y="4843440"/>
            <a:ext cx="12240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3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2 to 3 stale</a:t>
            </a:r>
            <a:br>
              <a:rPr sz="1100"/>
            </a:b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seedbed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195640" y="5229360"/>
            <a:ext cx="8636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3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Shifting</a:t>
            </a:r>
            <a:br>
              <a:rPr sz="1100"/>
            </a:b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the sowing date from the 20th of october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477040" y="4805280"/>
            <a:ext cx="161892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477040" y="4986360"/>
            <a:ext cx="16189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3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2 tillage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5349960" y="5346720"/>
            <a:ext cx="699480" cy="198360"/>
            <a:chOff x="5349960" y="5346720"/>
            <a:chExt cx="699480" cy="198360"/>
          </a:xfrm>
        </p:grpSpPr>
        <p:sp>
          <p:nvSpPr>
            <p:cNvPr id="288" name=""/>
            <p:cNvSpPr/>
            <p:nvPr/>
          </p:nvSpPr>
          <p:spPr>
            <a:xfrm>
              <a:off x="5449320" y="5346720"/>
              <a:ext cx="600120" cy="1080"/>
            </a:xfrm>
            <a:prstGeom prst="line">
              <a:avLst/>
            </a:prstGeom>
            <a:ln w="3600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5629320" y="5346720"/>
              <a:ext cx="340920" cy="9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649840" y="5446080"/>
              <a:ext cx="1080" cy="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5488920" y="5346720"/>
              <a:ext cx="341280" cy="9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509440" y="5446080"/>
              <a:ext cx="1080" cy="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5349960" y="5346720"/>
              <a:ext cx="341280" cy="9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370120" y="5446080"/>
              <a:ext cx="1440" cy="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6249960" y="5346720"/>
            <a:ext cx="699840" cy="198360"/>
            <a:chOff x="6249960" y="5346720"/>
            <a:chExt cx="699840" cy="198360"/>
          </a:xfrm>
        </p:grpSpPr>
        <p:sp>
          <p:nvSpPr>
            <p:cNvPr id="296" name=""/>
            <p:cNvSpPr/>
            <p:nvPr/>
          </p:nvSpPr>
          <p:spPr>
            <a:xfrm>
              <a:off x="6349320" y="5346720"/>
              <a:ext cx="600480" cy="1080"/>
            </a:xfrm>
            <a:prstGeom prst="line">
              <a:avLst/>
            </a:prstGeom>
            <a:ln w="3600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6529320" y="5346720"/>
              <a:ext cx="340920" cy="9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550200" y="5446080"/>
              <a:ext cx="1440" cy="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6388920" y="5346720"/>
              <a:ext cx="341280" cy="9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409440" y="5446080"/>
              <a:ext cx="1080" cy="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6249960" y="5346720"/>
              <a:ext cx="341280" cy="9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268680" y="5446080"/>
              <a:ext cx="1440" cy="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7059600" y="5310360"/>
            <a:ext cx="1295280" cy="622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ropoxycarbazon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+ florasul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132680" y="4805280"/>
            <a:ext cx="161928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059280" y="4797360"/>
            <a:ext cx="2232000" cy="1008000"/>
          </a:xfrm>
          <a:prstGeom prst="rect">
            <a:avLst/>
          </a:prstGeom>
          <a:noFill/>
          <a:ln w="936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47ff"/>
                </a:solidFill>
                <a:latin typeface="Arial"/>
              </a:rPr>
              <a:t>No possibility of mechanical control</a:t>
            </a:r>
            <a:br>
              <a:rPr sz="1400"/>
            </a:br>
            <a:r>
              <a:rPr b="0" lang="fr-FR" sz="1400" spc="-1" strike="noStrike">
                <a:solidFill>
                  <a:srgbClr val="0047ff"/>
                </a:solidFill>
                <a:latin typeface="Arial"/>
              </a:rPr>
              <a:t>with winter weather condition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979640" y="4869000"/>
            <a:ext cx="12240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3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Density +10%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055960" y="2970360"/>
            <a:ext cx="718920" cy="1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128680" y="2708280"/>
            <a:ext cx="720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ow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7"/>
          <a:stretch/>
        </p:blipFill>
        <p:spPr>
          <a:xfrm>
            <a:off x="2289240" y="3006720"/>
            <a:ext cx="225360" cy="20304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 rot="16200000">
            <a:off x="-351360" y="5428440"/>
            <a:ext cx="1619280" cy="303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MIX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rot="16200000">
            <a:off x="-118080" y="3863160"/>
            <a:ext cx="1152720" cy="303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HEMIC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200320" y="3259080"/>
            <a:ext cx="1440" cy="14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768320" y="3798720"/>
            <a:ext cx="9003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3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rom 1st </a:t>
            </a: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of october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424320" y="3556080"/>
            <a:ext cx="1619280" cy="934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soproturon + 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ff + ioxynil + bromoxyni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843600" y="3411360"/>
            <a:ext cx="133200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esosulfur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odosulfuron  +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ropoxycarbazon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+ florasulam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e46c0a"/>
                </a:solidFill>
                <a:latin typeface="Verdana"/>
              </a:rPr>
              <a:t>Comparison of two</a:t>
            </a:r>
            <a:br>
              <a:rPr sz="3000"/>
            </a:br>
            <a:r>
              <a:rPr b="1" lang="fr-FR" sz="3000" spc="-1" strike="noStrike">
                <a:solidFill>
                  <a:srgbClr val="e46c0a"/>
                </a:solidFill>
                <a:latin typeface="Verdana"/>
              </a:rPr>
              <a:t>weed management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>
            <a:off x="2952720" y="4545000"/>
            <a:ext cx="1440" cy="1619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08360" y="3033720"/>
            <a:ext cx="1800" cy="3132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508720" y="3033720"/>
            <a:ext cx="1440" cy="3132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480000" y="3033720"/>
            <a:ext cx="1800" cy="3132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956720" y="3033720"/>
            <a:ext cx="1440" cy="3132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33520" y="1042920"/>
            <a:ext cx="857232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spcBef>
                <a:spcPts val="700"/>
              </a:spcBef>
              <a:buClr>
                <a:srgbClr val="e46c0a"/>
              </a:buClr>
              <a:buFont typeface="Wingdings 3" charset="2"/>
              <a:buChar char=""/>
              <a:tabLst>
                <a:tab algn="l" pos="326880"/>
                <a:tab algn="l" pos="774720"/>
                <a:tab algn="l" pos="1224000"/>
                <a:tab algn="l" pos="1673280"/>
                <a:tab algn="l" pos="2122560"/>
                <a:tab algn="l" pos="2571840"/>
                <a:tab algn="l" pos="3021120"/>
                <a:tab algn="l" pos="3470400"/>
                <a:tab algn="l" pos="3919680"/>
                <a:tab algn="l" pos="4368960"/>
                <a:tab algn="l" pos="4818240"/>
                <a:tab algn="l" pos="5267160"/>
                <a:tab algn="l" pos="5716440"/>
                <a:tab algn="l" pos="6165720"/>
                <a:tab algn="l" pos="6615000"/>
                <a:tab algn="l" pos="7064280"/>
                <a:tab algn="l" pos="7513560"/>
                <a:tab algn="l" pos="7962840"/>
                <a:tab algn="l" pos="8412120"/>
                <a:tab algn="l" pos="8861400"/>
                <a:tab algn="l" pos="9310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Region Burgundy (Franc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632720" y="2744640"/>
            <a:ext cx="7556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osett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1368360" y="2343240"/>
            <a:ext cx="720720" cy="36504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1260360" y="2744640"/>
            <a:ext cx="935280" cy="216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04c1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1317600" y="4812840"/>
            <a:ext cx="1444680" cy="34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403280" y="4797360"/>
            <a:ext cx="12240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3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1 stale seed-bed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160720" y="5121360"/>
            <a:ext cx="12603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3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rom early</a:t>
            </a:r>
            <a:br>
              <a:rPr sz="1100"/>
            </a:b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september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341440" y="2744640"/>
            <a:ext cx="84960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449440" y="2482920"/>
            <a:ext cx="720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ow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2610000" y="2781360"/>
            <a:ext cx="225360" cy="20304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 rot="16200000">
            <a:off x="-30600" y="5239440"/>
            <a:ext cx="1619280" cy="303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MIX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rot="16200000">
            <a:off x="186480" y="3637800"/>
            <a:ext cx="1152720" cy="303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HEMIC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521080" y="3033720"/>
            <a:ext cx="1440" cy="14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089080" y="3573360"/>
            <a:ext cx="9003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3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rom</a:t>
            </a:r>
            <a:br>
              <a:rPr sz="1100"/>
            </a:b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mid-august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952720" y="3392640"/>
            <a:ext cx="1258920" cy="1233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apropami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lomazon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imetachlo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+ quinmera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étazachlo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12720" y="1592280"/>
            <a:ext cx="2160720" cy="365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il-seed rap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771640" y="1665360"/>
            <a:ext cx="61200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Weeds :Alopecurus, Bromus, Matricaria, Stellaria,Galium, (Geranium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4491000" y="2440080"/>
            <a:ext cx="246240" cy="48564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5386320" y="2347920"/>
            <a:ext cx="284400" cy="56196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5"/>
          <a:stretch/>
        </p:blipFill>
        <p:spPr>
          <a:xfrm>
            <a:off x="6192720" y="2246400"/>
            <a:ext cx="500040" cy="71424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6"/>
          <a:stretch/>
        </p:blipFill>
        <p:spPr>
          <a:xfrm>
            <a:off x="7404120" y="2220840"/>
            <a:ext cx="1143000" cy="6368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4103640" y="2773440"/>
            <a:ext cx="1008000" cy="26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tyled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111640" y="2744640"/>
            <a:ext cx="828720" cy="26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1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830920" y="2744640"/>
            <a:ext cx="1260360" cy="26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4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7"/>
          <a:stretch/>
        </p:blipFill>
        <p:spPr>
          <a:xfrm>
            <a:off x="6315120" y="5133960"/>
            <a:ext cx="309600" cy="60012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5940360" y="5732640"/>
            <a:ext cx="12607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oe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272360" y="5157720"/>
            <a:ext cx="1260360" cy="539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pyzami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348000" y="5049720"/>
            <a:ext cx="1224000" cy="1231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apropami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lomazon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imetachlo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n 1/3 of the soi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343640" y="3402000"/>
            <a:ext cx="1260720" cy="539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pyzami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e46c0a"/>
                </a:solidFill>
                <a:latin typeface="Verdana"/>
              </a:rPr>
              <a:t>Comparison of two</a:t>
            </a:r>
            <a:br>
              <a:rPr sz="3000"/>
            </a:br>
            <a:r>
              <a:rPr b="1" lang="fr-FR" sz="3000" spc="-1" strike="noStrike">
                <a:solidFill>
                  <a:srgbClr val="e46c0a"/>
                </a:solidFill>
                <a:latin typeface="Verdana"/>
              </a:rPr>
              <a:t>weed management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2325600" y="2851200"/>
            <a:ext cx="417600" cy="34128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4398840" y="3176640"/>
            <a:ext cx="1800" cy="3132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24000" y="1185840"/>
            <a:ext cx="857232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spcBef>
                <a:spcPts val="700"/>
              </a:spcBef>
              <a:buClr>
                <a:srgbClr val="e46c0a"/>
              </a:buClr>
              <a:buFont typeface="Wingdings 3" charset="2"/>
              <a:buChar char=""/>
              <a:tabLst>
                <a:tab algn="l" pos="326880"/>
                <a:tab algn="l" pos="774720"/>
                <a:tab algn="l" pos="1224000"/>
                <a:tab algn="l" pos="1673280"/>
                <a:tab algn="l" pos="2122560"/>
                <a:tab algn="l" pos="2571840"/>
                <a:tab algn="l" pos="3021120"/>
                <a:tab algn="l" pos="3470400"/>
                <a:tab algn="l" pos="3919680"/>
                <a:tab algn="l" pos="4368960"/>
                <a:tab algn="l" pos="4818240"/>
                <a:tab algn="l" pos="5267160"/>
                <a:tab algn="l" pos="5716440"/>
                <a:tab algn="l" pos="6165720"/>
                <a:tab algn="l" pos="6615000"/>
                <a:tab algn="l" pos="7064280"/>
                <a:tab algn="l" pos="7513560"/>
                <a:tab algn="l" pos="7962840"/>
                <a:tab algn="l" pos="8412120"/>
                <a:tab algn="l" pos="8861400"/>
                <a:tab algn="l" pos="9310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Region Burgundy (Franc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1158840" y="2486160"/>
            <a:ext cx="720720" cy="36504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1050840" y="2887560"/>
            <a:ext cx="935280" cy="216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04c1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131920" y="2887560"/>
            <a:ext cx="84924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239920" y="2625840"/>
            <a:ext cx="720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emi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rot="16200000">
            <a:off x="-240120" y="5274360"/>
            <a:ext cx="1619280" cy="303120"/>
          </a:xfrm>
          <a:prstGeom prst="rect">
            <a:avLst/>
          </a:prstGeom>
          <a:solidFill>
            <a:srgbClr val="6ae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MIX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rot="16200000">
            <a:off x="-6840" y="3780720"/>
            <a:ext cx="1152720" cy="303120"/>
          </a:xfrm>
          <a:prstGeom prst="rect">
            <a:avLst/>
          </a:prstGeom>
          <a:solidFill>
            <a:srgbClr val="6ae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HEMIC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03200" y="1735200"/>
            <a:ext cx="2160720" cy="365040"/>
          </a:xfrm>
          <a:prstGeom prst="rect">
            <a:avLst/>
          </a:prstGeom>
          <a:solidFill>
            <a:srgbClr val="6ae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562120" y="1808280"/>
            <a:ext cx="61200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Weeds : Summer grasses, Chenopodium, Amaranthus, Solanum nigru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110120" y="2916360"/>
            <a:ext cx="576360" cy="26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2 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6105600" y="5132520"/>
            <a:ext cx="309600" cy="60012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5730840" y="5732640"/>
            <a:ext cx="12603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oe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4"/>
          <a:stretch/>
        </p:blipFill>
        <p:spPr>
          <a:xfrm>
            <a:off x="7740720" y="1879560"/>
            <a:ext cx="1047600" cy="104472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5"/>
          <a:stretch/>
        </p:blipFill>
        <p:spPr>
          <a:xfrm>
            <a:off x="3359160" y="2355840"/>
            <a:ext cx="360360" cy="60660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6"/>
          <a:stretch/>
        </p:blipFill>
        <p:spPr>
          <a:xfrm>
            <a:off x="6270480" y="2060640"/>
            <a:ext cx="1105200" cy="85248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7"/>
          <a:stretch/>
        </p:blipFill>
        <p:spPr>
          <a:xfrm>
            <a:off x="4110120" y="2200320"/>
            <a:ext cx="560160" cy="72216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8"/>
          <a:stretch/>
        </p:blipFill>
        <p:spPr>
          <a:xfrm>
            <a:off x="5191200" y="2038320"/>
            <a:ext cx="720720" cy="88596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3029040" y="2916360"/>
            <a:ext cx="966600" cy="29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mergen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261040" y="2916360"/>
            <a:ext cx="576360" cy="26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4 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665760" y="2916360"/>
            <a:ext cx="576360" cy="26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5-6 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961400" y="2916360"/>
            <a:ext cx="576000" cy="26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8 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535200" y="3176640"/>
            <a:ext cx="1800" cy="3132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563920" y="3176640"/>
            <a:ext cx="1440" cy="3132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3176640"/>
            <a:ext cx="1440" cy="3132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954840" y="3176640"/>
            <a:ext cx="1440" cy="3132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8251920" y="3176640"/>
            <a:ext cx="1440" cy="3132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870120" y="3355920"/>
            <a:ext cx="1439640" cy="2879640"/>
          </a:xfrm>
          <a:custGeom>
            <a:avLst/>
            <a:gdLst>
              <a:gd name="textAreaLeft" fmla="*/ 360 w 1439640"/>
              <a:gd name="textAreaRight" fmla="*/ 1439280 w 1439640"/>
              <a:gd name="textAreaTop" fmla="*/ 360 h 2879640"/>
              <a:gd name="textAreaBottom" fmla="*/ 2879280 h 2879640"/>
            </a:gdLst>
            <a:ahLst/>
            <a:rect l="textAreaLeft" t="textAreaTop" r="textAreaRight" b="textAreaBottom"/>
            <a:pathLst>
              <a:path w="21600" h="43200">
                <a:moveTo>
                  <a:pt x="23" y="0"/>
                </a:moveTo>
                <a:arcTo wR="23" hR="23" stAng="16200000" swAng="-5400000"/>
                <a:lnTo>
                  <a:pt x="0" y="43177"/>
                </a:lnTo>
                <a:arcTo wR="23" hR="23" stAng="10800000" swAng="-5400000"/>
                <a:lnTo>
                  <a:pt x="21577" y="43200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over-cropp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Tillag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490840" y="3618000"/>
            <a:ext cx="1116000" cy="718920"/>
          </a:xfrm>
          <a:prstGeom prst="rect">
            <a:avLst/>
          </a:prstGeom>
          <a:solidFill>
            <a:srgbClr val="6ae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cetochlore + dichlormi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770120" y="5200560"/>
            <a:ext cx="1512720" cy="1008000"/>
          </a:xfrm>
          <a:prstGeom prst="rect">
            <a:avLst/>
          </a:prstGeom>
          <a:solidFill>
            <a:srgbClr val="6ae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esotrione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+ s-métolachlo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n the sowing ro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e46c0a"/>
                </a:solidFill>
                <a:latin typeface="Verdana"/>
              </a:rPr>
              <a:t>Exemples d’itinéraire technique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533520" y="1069920"/>
            <a:ext cx="857232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spcBef>
                <a:spcPts val="700"/>
              </a:spcBef>
              <a:buClr>
                <a:srgbClr val="e46c0a"/>
              </a:buClr>
              <a:buFont typeface="Wingdings 3" charset="2"/>
              <a:buChar char=""/>
              <a:tabLst>
                <a:tab algn="l" pos="326880"/>
                <a:tab algn="l" pos="774720"/>
                <a:tab algn="l" pos="1224000"/>
                <a:tab algn="l" pos="1673280"/>
                <a:tab algn="l" pos="2122560"/>
                <a:tab algn="l" pos="2571840"/>
                <a:tab algn="l" pos="3021120"/>
                <a:tab algn="l" pos="3470400"/>
                <a:tab algn="l" pos="3919680"/>
                <a:tab algn="l" pos="4368960"/>
                <a:tab algn="l" pos="4818240"/>
                <a:tab algn="l" pos="5267160"/>
                <a:tab algn="l" pos="5716440"/>
                <a:tab algn="l" pos="6165720"/>
                <a:tab algn="l" pos="6615000"/>
                <a:tab algn="l" pos="7064280"/>
                <a:tab algn="l" pos="7513560"/>
                <a:tab algn="l" pos="7962840"/>
                <a:tab algn="l" pos="8412120"/>
                <a:tab algn="l" pos="8861400"/>
                <a:tab algn="l" pos="9310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Region Burgundy (Franc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tabLst>
                <a:tab algn="l" pos="0"/>
                <a:tab algn="l" pos="326880"/>
                <a:tab algn="l" pos="774720"/>
                <a:tab algn="l" pos="1224000"/>
                <a:tab algn="l" pos="1673280"/>
                <a:tab algn="l" pos="2122560"/>
                <a:tab algn="l" pos="2571840"/>
                <a:tab algn="l" pos="3021120"/>
                <a:tab algn="l" pos="3470400"/>
                <a:tab algn="l" pos="3919680"/>
                <a:tab algn="l" pos="4368960"/>
                <a:tab algn="l" pos="4818240"/>
                <a:tab algn="l" pos="5267160"/>
                <a:tab algn="l" pos="5716440"/>
                <a:tab algn="l" pos="6165720"/>
                <a:tab algn="l" pos="6615000"/>
                <a:tab algn="l" pos="7064280"/>
                <a:tab algn="l" pos="7513560"/>
                <a:tab algn="l" pos="7962840"/>
                <a:tab algn="l" pos="8412120"/>
                <a:tab algn="l" pos="8861400"/>
                <a:tab algn="l" pos="931068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1368360" y="2370240"/>
            <a:ext cx="720720" cy="36504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1260360" y="2771640"/>
            <a:ext cx="935280" cy="216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04c1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89440" y="2509920"/>
            <a:ext cx="720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ow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rot="16200000">
            <a:off x="-30600" y="5158080"/>
            <a:ext cx="1618920" cy="303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MIX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rot="16200000">
            <a:off x="202320" y="3664800"/>
            <a:ext cx="1152720" cy="303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HEMIC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12720" y="1619280"/>
            <a:ext cx="2160720" cy="3650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unflo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771640" y="1692360"/>
            <a:ext cx="61200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Weeds : Summer grasses, Chenopodium, Amaranthus, Solanum nigrum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199280" y="5616720"/>
            <a:ext cx="12603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oeing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796000" y="3060720"/>
            <a:ext cx="1440" cy="3132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13080" y="3060720"/>
            <a:ext cx="1800" cy="3132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079640" y="3240000"/>
            <a:ext cx="1439640" cy="2879640"/>
          </a:xfrm>
          <a:custGeom>
            <a:avLst/>
            <a:gdLst>
              <a:gd name="textAreaLeft" fmla="*/ 360 w 1439640"/>
              <a:gd name="textAreaRight" fmla="*/ 1439280 w 1439640"/>
              <a:gd name="textAreaTop" fmla="*/ 360 h 2879640"/>
              <a:gd name="textAreaBottom" fmla="*/ 2879280 h 2879640"/>
            </a:gdLst>
            <a:ahLst/>
            <a:rect l="textAreaLeft" t="textAreaTop" r="textAreaRight" b="textAreaBottom"/>
            <a:pathLst>
              <a:path w="21600" h="43200">
                <a:moveTo>
                  <a:pt x="23" y="0"/>
                </a:moveTo>
                <a:arcTo wR="23" hR="23" stAng="16200000" swAng="-5400000"/>
                <a:lnTo>
                  <a:pt x="0" y="43177"/>
                </a:lnTo>
                <a:arcTo wR="23" hR="23" stAng="10800000" swAng="-5400000"/>
                <a:lnTo>
                  <a:pt x="21577" y="43200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over-cropping</a:t>
            </a:r>
            <a:br>
              <a:rPr sz="1400"/>
            </a:b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nd</a:t>
            </a:r>
            <a:br>
              <a:rPr sz="1400"/>
            </a:b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Tillag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700360" y="3573360"/>
            <a:ext cx="1224000" cy="576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-métolachlo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284720" y="5003640"/>
            <a:ext cx="1368360" cy="755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rochloridone on the sowing ro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5543640" y="2448000"/>
            <a:ext cx="544320" cy="53964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3"/>
          <a:stretch/>
        </p:blipFill>
        <p:spPr>
          <a:xfrm>
            <a:off x="7488360" y="2160720"/>
            <a:ext cx="600120" cy="74916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219640" y="2800440"/>
            <a:ext cx="1152720" cy="26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mergen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451640" y="2800440"/>
            <a:ext cx="720720" cy="26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4 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812000" y="3060720"/>
            <a:ext cx="1800" cy="3132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4"/>
          <a:stretch/>
        </p:blipFill>
        <p:spPr>
          <a:xfrm>
            <a:off x="3914640" y="2770200"/>
            <a:ext cx="584280" cy="28908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3781440" y="2771640"/>
            <a:ext cx="84924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356000" y="3500280"/>
            <a:ext cx="1295640" cy="621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rochloridon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5"/>
          <a:stretch/>
        </p:blipFill>
        <p:spPr>
          <a:xfrm>
            <a:off x="7647120" y="5016600"/>
            <a:ext cx="309600" cy="60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e46c0a"/>
                </a:solidFill>
                <a:latin typeface="Verdana"/>
              </a:rPr>
              <a:t>Comparison of two</a:t>
            </a:r>
            <a:br>
              <a:rPr sz="3000"/>
            </a:br>
            <a:r>
              <a:rPr b="1" lang="fr-FR" sz="3000" spc="-1" strike="noStrike">
                <a:solidFill>
                  <a:srgbClr val="e46c0a"/>
                </a:solidFill>
                <a:latin typeface="Verdana"/>
              </a:rPr>
              <a:t>weed management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408" name=""/>
          <p:cNvSpPr/>
          <p:nvPr/>
        </p:nvSpPr>
        <p:spPr>
          <a:xfrm>
            <a:off x="3706920" y="3068640"/>
            <a:ext cx="1440" cy="3132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364000" y="3141720"/>
            <a:ext cx="39960" cy="3024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165800" y="3060720"/>
            <a:ext cx="1800" cy="3132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33520" y="1069920"/>
            <a:ext cx="857232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spcBef>
                <a:spcPts val="700"/>
              </a:spcBef>
              <a:buClr>
                <a:srgbClr val="e46c0a"/>
              </a:buClr>
              <a:buFont typeface="Wingdings 3" charset="2"/>
              <a:buChar char=""/>
              <a:tabLst>
                <a:tab algn="l" pos="326880"/>
                <a:tab algn="l" pos="774720"/>
                <a:tab algn="l" pos="1224000"/>
                <a:tab algn="l" pos="1673280"/>
                <a:tab algn="l" pos="2122560"/>
                <a:tab algn="l" pos="2571840"/>
                <a:tab algn="l" pos="3021120"/>
                <a:tab algn="l" pos="3470400"/>
                <a:tab algn="l" pos="3919680"/>
                <a:tab algn="l" pos="4368960"/>
                <a:tab algn="l" pos="4818240"/>
                <a:tab algn="l" pos="5267160"/>
                <a:tab algn="l" pos="5716440"/>
                <a:tab algn="l" pos="6165720"/>
                <a:tab algn="l" pos="6615000"/>
                <a:tab algn="l" pos="7064280"/>
                <a:tab algn="l" pos="7513560"/>
                <a:tab algn="l" pos="7962840"/>
                <a:tab algn="l" pos="8412120"/>
                <a:tab algn="l" pos="8861400"/>
                <a:tab algn="l" pos="9310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Region Burgundy (Franc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477800" y="2771640"/>
            <a:ext cx="84960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585800" y="2509920"/>
            <a:ext cx="720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ow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16200000">
            <a:off x="-30600" y="5266440"/>
            <a:ext cx="1619280" cy="3031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MIX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16200000">
            <a:off x="202320" y="3664800"/>
            <a:ext cx="1152720" cy="3031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CHEMIC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835280" y="3060720"/>
            <a:ext cx="0" cy="317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276720" y="3141720"/>
            <a:ext cx="1512720" cy="123336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T1 + T2 + T3 + T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Phenmedipham</a:t>
            </a:r>
            <a:br>
              <a:rPr sz="1200"/>
            </a:b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desmedipham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Ethofumesa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Metamitr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Lenaci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2720" y="1619280"/>
            <a:ext cx="2160720" cy="36504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ugar-beet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771640" y="1692360"/>
            <a:ext cx="6193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Weeds : Chenopodium, Apiaceae, Sonchus, Cirsium, Mercurialis, CRape volunteers, Matricairia, Amaranthus 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205080" y="2800440"/>
            <a:ext cx="1008000" cy="26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tyled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05440" y="2771640"/>
            <a:ext cx="828720" cy="4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1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516720" y="2771640"/>
            <a:ext cx="1260360" cy="26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4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5991120" y="5160960"/>
            <a:ext cx="309600" cy="94608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5616720" y="5759280"/>
            <a:ext cx="126036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oe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2 passag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877080" y="3357720"/>
            <a:ext cx="1295280" cy="9349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T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Grass killer herbicide (if need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40% rat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6" name="Group 9"/>
          <p:cNvGrpSpPr/>
          <p:nvPr/>
        </p:nvGrpSpPr>
        <p:grpSpPr>
          <a:xfrm>
            <a:off x="3457440" y="2421000"/>
            <a:ext cx="487440" cy="320760"/>
            <a:chOff x="3457440" y="2421000"/>
            <a:chExt cx="487440" cy="320760"/>
          </a:xfrm>
        </p:grpSpPr>
        <p:sp>
          <p:nvSpPr>
            <p:cNvPr id="427" name="Freeform 10"/>
            <p:cNvSpPr/>
            <p:nvPr/>
          </p:nvSpPr>
          <p:spPr>
            <a:xfrm>
              <a:off x="3687480" y="2463840"/>
              <a:ext cx="14400" cy="277920"/>
            </a:xfrm>
            <a:prstGeom prst="pie">
              <a:avLst/>
            </a:prstGeom>
            <a:noFill/>
            <a:ln w="46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1"/>
            <p:cNvSpPr/>
            <p:nvPr/>
          </p:nvSpPr>
          <p:spPr>
            <a:xfrm>
              <a:off x="3706560" y="2467080"/>
              <a:ext cx="11160" cy="274680"/>
            </a:xfrm>
            <a:prstGeom prst="pie">
              <a:avLst/>
            </a:prstGeom>
            <a:noFill/>
            <a:ln w="46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2"/>
            <p:cNvSpPr/>
            <p:nvPr/>
          </p:nvSpPr>
          <p:spPr>
            <a:xfrm>
              <a:off x="3701880" y="2421000"/>
              <a:ext cx="243000" cy="74520"/>
            </a:xfrm>
            <a:prstGeom prst="pie">
              <a:avLst/>
            </a:prstGeom>
            <a:solidFill>
              <a:srgbClr val="008000"/>
            </a:solidFill>
            <a:ln w="11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3"/>
            <p:cNvSpPr/>
            <p:nvPr/>
          </p:nvSpPr>
          <p:spPr>
            <a:xfrm>
              <a:off x="3457440" y="2421000"/>
              <a:ext cx="241200" cy="74520"/>
            </a:xfrm>
            <a:prstGeom prst="pie">
              <a:avLst/>
            </a:prstGeom>
            <a:solidFill>
              <a:srgbClr val="008000"/>
            </a:solidFill>
            <a:ln w="11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Group 14"/>
          <p:cNvGrpSpPr/>
          <p:nvPr/>
        </p:nvGrpSpPr>
        <p:grpSpPr>
          <a:xfrm>
            <a:off x="5041800" y="2205000"/>
            <a:ext cx="693720" cy="727920"/>
            <a:chOff x="5041800" y="2205000"/>
            <a:chExt cx="693720" cy="727920"/>
          </a:xfrm>
        </p:grpSpPr>
        <p:sp>
          <p:nvSpPr>
            <p:cNvPr id="432" name="Freeform 15"/>
            <p:cNvSpPr/>
            <p:nvPr/>
          </p:nvSpPr>
          <p:spPr>
            <a:xfrm>
              <a:off x="5356080" y="2312640"/>
              <a:ext cx="36720" cy="613080"/>
            </a:xfrm>
            <a:prstGeom prst="pie">
              <a:avLst/>
            </a:prstGeom>
            <a:noFill/>
            <a:ln w="46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6"/>
            <p:cNvSpPr/>
            <p:nvPr/>
          </p:nvSpPr>
          <p:spPr>
            <a:xfrm>
              <a:off x="5356080" y="2295000"/>
              <a:ext cx="55800" cy="637920"/>
            </a:xfrm>
            <a:prstGeom prst="pie">
              <a:avLst/>
            </a:prstGeom>
            <a:noFill/>
            <a:ln w="46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7"/>
            <p:cNvSpPr/>
            <p:nvPr/>
          </p:nvSpPr>
          <p:spPr>
            <a:xfrm>
              <a:off x="5389560" y="2234880"/>
              <a:ext cx="345960" cy="90000"/>
            </a:xfrm>
            <a:prstGeom prst="pie">
              <a:avLst/>
            </a:prstGeom>
            <a:solidFill>
              <a:srgbClr val="008000"/>
            </a:solidFill>
            <a:ln w="11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8"/>
            <p:cNvSpPr/>
            <p:nvPr/>
          </p:nvSpPr>
          <p:spPr>
            <a:xfrm>
              <a:off x="5041800" y="2234880"/>
              <a:ext cx="347760" cy="90000"/>
            </a:xfrm>
            <a:prstGeom prst="pie">
              <a:avLst/>
            </a:prstGeom>
            <a:solidFill>
              <a:srgbClr val="008000"/>
            </a:solidFill>
            <a:ln w="11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9"/>
            <p:cNvSpPr/>
            <p:nvPr/>
          </p:nvSpPr>
          <p:spPr>
            <a:xfrm>
              <a:off x="5344920" y="2205000"/>
              <a:ext cx="39960" cy="84960"/>
            </a:xfrm>
            <a:prstGeom prst="pie">
              <a:avLst/>
            </a:prstGeom>
            <a:noFill/>
            <a:ln w="11160">
              <a:solidFill>
                <a:srgbClr val="0082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20"/>
            <p:cNvSpPr/>
            <p:nvPr/>
          </p:nvSpPr>
          <p:spPr>
            <a:xfrm>
              <a:off x="5381640" y="2205000"/>
              <a:ext cx="42840" cy="84960"/>
            </a:xfrm>
            <a:prstGeom prst="pie">
              <a:avLst/>
            </a:prstGeom>
            <a:noFill/>
            <a:ln w="11160">
              <a:solidFill>
                <a:srgbClr val="0082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Group 21"/>
          <p:cNvGrpSpPr/>
          <p:nvPr/>
        </p:nvGrpSpPr>
        <p:grpSpPr>
          <a:xfrm>
            <a:off x="6842160" y="2205000"/>
            <a:ext cx="612720" cy="619200"/>
            <a:chOff x="6842160" y="2205000"/>
            <a:chExt cx="612720" cy="619200"/>
          </a:xfrm>
        </p:grpSpPr>
        <p:sp>
          <p:nvSpPr>
            <p:cNvPr id="439" name="Freeform 22"/>
            <p:cNvSpPr/>
            <p:nvPr/>
          </p:nvSpPr>
          <p:spPr>
            <a:xfrm>
              <a:off x="7140600" y="2317680"/>
              <a:ext cx="22320" cy="276480"/>
            </a:xfrm>
            <a:prstGeom prst="pie">
              <a:avLst/>
            </a:prstGeom>
            <a:noFill/>
            <a:ln w="46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23"/>
            <p:cNvSpPr/>
            <p:nvPr/>
          </p:nvSpPr>
          <p:spPr>
            <a:xfrm>
              <a:off x="7120080" y="2590920"/>
              <a:ext cx="47520" cy="233280"/>
            </a:xfrm>
            <a:prstGeom prst="pie">
              <a:avLst/>
            </a:prstGeom>
            <a:noFill/>
            <a:ln w="46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24"/>
            <p:cNvSpPr/>
            <p:nvPr/>
          </p:nvSpPr>
          <p:spPr>
            <a:xfrm>
              <a:off x="7162920" y="2313000"/>
              <a:ext cx="19080" cy="345960"/>
            </a:xfrm>
            <a:prstGeom prst="pie">
              <a:avLst/>
            </a:prstGeom>
            <a:noFill/>
            <a:ln w="46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25"/>
            <p:cNvSpPr/>
            <p:nvPr/>
          </p:nvSpPr>
          <p:spPr>
            <a:xfrm>
              <a:off x="7121520" y="2658960"/>
              <a:ext cx="60480" cy="163800"/>
            </a:xfrm>
            <a:prstGeom prst="pie">
              <a:avLst/>
            </a:prstGeom>
            <a:noFill/>
            <a:ln w="46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26"/>
            <p:cNvSpPr/>
            <p:nvPr/>
          </p:nvSpPr>
          <p:spPr>
            <a:xfrm>
              <a:off x="7147080" y="2247840"/>
              <a:ext cx="307800" cy="104760"/>
            </a:xfrm>
            <a:prstGeom prst="pie">
              <a:avLst/>
            </a:prstGeom>
            <a:solidFill>
              <a:srgbClr val="008000"/>
            </a:solidFill>
            <a:ln w="11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27"/>
            <p:cNvSpPr/>
            <p:nvPr/>
          </p:nvSpPr>
          <p:spPr>
            <a:xfrm>
              <a:off x="6842160" y="2241720"/>
              <a:ext cx="308160" cy="107640"/>
            </a:xfrm>
            <a:prstGeom prst="pie">
              <a:avLst/>
            </a:prstGeom>
            <a:solidFill>
              <a:srgbClr val="008000"/>
            </a:solidFill>
            <a:ln w="11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28"/>
            <p:cNvSpPr/>
            <p:nvPr/>
          </p:nvSpPr>
          <p:spPr>
            <a:xfrm>
              <a:off x="7020000" y="2303640"/>
              <a:ext cx="133200" cy="85680"/>
            </a:xfrm>
            <a:prstGeom prst="pie">
              <a:avLst/>
            </a:prstGeom>
            <a:solidFill>
              <a:srgbClr val="008000"/>
            </a:solidFill>
            <a:ln w="11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29"/>
            <p:cNvSpPr/>
            <p:nvPr/>
          </p:nvSpPr>
          <p:spPr>
            <a:xfrm>
              <a:off x="7143840" y="2298600"/>
              <a:ext cx="135000" cy="87480"/>
            </a:xfrm>
            <a:prstGeom prst="pie">
              <a:avLst/>
            </a:prstGeom>
            <a:solidFill>
              <a:srgbClr val="008000"/>
            </a:solidFill>
            <a:ln w="11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30"/>
            <p:cNvSpPr/>
            <p:nvPr/>
          </p:nvSpPr>
          <p:spPr>
            <a:xfrm>
              <a:off x="7153200" y="2205000"/>
              <a:ext cx="74880" cy="90720"/>
            </a:xfrm>
            <a:prstGeom prst="pie">
              <a:avLst/>
            </a:prstGeom>
            <a:solidFill>
              <a:srgbClr val="008000"/>
            </a:solidFill>
            <a:ln w="11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ZoneTexte 24"/>
          <p:cNvSpPr/>
          <p:nvPr/>
        </p:nvSpPr>
        <p:spPr>
          <a:xfrm>
            <a:off x="3147840" y="4365720"/>
            <a:ext cx="200052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o control all the weeds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mergenc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132000" y="4941720"/>
            <a:ext cx="1440000" cy="12337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T1 + T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Phenmedipham</a:t>
            </a:r>
            <a:br>
              <a:rPr sz="1200"/>
            </a:b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desmedipham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Ethofumesa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Metamitr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Lenaci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ZoneTexte 24"/>
          <p:cNvSpPr/>
          <p:nvPr/>
        </p:nvSpPr>
        <p:spPr>
          <a:xfrm>
            <a:off x="2771640" y="6165720"/>
            <a:ext cx="200052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o control only the earlier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weeds emergencu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093080" y="5157720"/>
            <a:ext cx="1366560" cy="1008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T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Grass killer herbicide (if need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40% rat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765880" y="6553080"/>
            <a:ext cx="201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otal or localised spr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e46c0a"/>
                </a:solidFill>
                <a:latin typeface="Verdana"/>
              </a:rPr>
              <a:t>Pesticides use</a:t>
            </a:r>
            <a:br>
              <a:rPr sz="3000"/>
            </a:br>
            <a:r>
              <a:rPr b="1" lang="fr-FR" sz="3000" spc="-1" strike="noStrike">
                <a:solidFill>
                  <a:srgbClr val="e46c0a"/>
                </a:solidFill>
                <a:latin typeface="Verdana"/>
              </a:rPr>
              <a:t>reduction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454" name=""/>
          <p:cNvSpPr/>
          <p:nvPr/>
        </p:nvSpPr>
        <p:spPr>
          <a:xfrm>
            <a:off x="250920" y="6002280"/>
            <a:ext cx="842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TFI = Treatment  Frequency Index = number of registrared rates sprayed in a fiel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19280" y="1660680"/>
          <a:ext cx="7670520" cy="40986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456" name=""/>
          <p:cNvSpPr/>
          <p:nvPr/>
        </p:nvSpPr>
        <p:spPr>
          <a:xfrm>
            <a:off x="1298520" y="5580000"/>
            <a:ext cx="90000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Chemica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232000" y="5580000"/>
            <a:ext cx="90000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Mixt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730520" y="5796000"/>
            <a:ext cx="9000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Wheat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550880" y="1979640"/>
            <a:ext cx="360360" cy="3564000"/>
          </a:xfrm>
          <a:custGeom>
            <a:avLst/>
            <a:gdLst>
              <a:gd name="textAreaLeft" fmla="*/ 360 w 360360"/>
              <a:gd name="textAreaRight" fmla="*/ 360000 w 360360"/>
              <a:gd name="textAreaTop" fmla="*/ 360 h 3564000"/>
              <a:gd name="textAreaBottom" fmla="*/ 3563640 h 3564000"/>
            </a:gdLst>
            <a:ahLst/>
            <a:rect l="textAreaLeft" t="textAreaTop" r="textAreaRight" b="textAreaBottom"/>
            <a:pathLst>
              <a:path w="21600" h="213435">
                <a:moveTo>
                  <a:pt x="95" y="0"/>
                </a:moveTo>
                <a:arcTo wR="95" hR="95" stAng="16200000" swAng="-5400000"/>
                <a:lnTo>
                  <a:pt x="0" y="213340"/>
                </a:lnTo>
                <a:arcTo wR="95" hR="95" stAng="10800000" swAng="-5400000"/>
                <a:lnTo>
                  <a:pt x="21505" y="213435"/>
                </a:lnTo>
                <a:arcTo wR="95" hR="95" stAng="5400000" swAng="-5400000"/>
                <a:lnTo>
                  <a:pt x="21600" y="95"/>
                </a:lnTo>
                <a:arcTo wR="95" hR="95" stAng="0" swAng="-5400000"/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486160" y="3795840"/>
            <a:ext cx="360360" cy="1747800"/>
          </a:xfrm>
          <a:custGeom>
            <a:avLst/>
            <a:gdLst>
              <a:gd name="textAreaLeft" fmla="*/ 360 w 360360"/>
              <a:gd name="textAreaRight" fmla="*/ 360000 w 360360"/>
              <a:gd name="textAreaTop" fmla="*/ 360 h 1747800"/>
              <a:gd name="textAreaBottom" fmla="*/ 1747440 h 1747800"/>
            </a:gdLst>
            <a:ahLst/>
            <a:rect l="textAreaLeft" t="textAreaTop" r="textAreaRight" b="textAreaBottom"/>
            <a:pathLst>
              <a:path w="21600" h="104680">
                <a:moveTo>
                  <a:pt x="95" y="0"/>
                </a:moveTo>
                <a:arcTo wR="95" hR="95" stAng="16200000" swAng="-5400000"/>
                <a:lnTo>
                  <a:pt x="0" y="104585"/>
                </a:lnTo>
                <a:arcTo wR="95" hR="95" stAng="10800000" swAng="-5400000"/>
                <a:lnTo>
                  <a:pt x="21505" y="104680"/>
                </a:lnTo>
                <a:arcTo wR="95" hR="95" stAng="5400000" swAng="-5400000"/>
                <a:lnTo>
                  <a:pt x="21600" y="95"/>
                </a:lnTo>
                <a:arcTo wR="95" hR="95" stAng="0" swAng="-5400000"/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911240" y="1979640"/>
            <a:ext cx="72072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rot="16200000">
            <a:off x="-231480" y="3452400"/>
            <a:ext cx="17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FI Herbici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394000" y="2824200"/>
            <a:ext cx="100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erbicid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- 51%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419640" y="5796000"/>
            <a:ext cx="11491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Oil-seed rap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351240" y="3240000"/>
            <a:ext cx="347760" cy="2303640"/>
          </a:xfrm>
          <a:custGeom>
            <a:avLst/>
            <a:gdLst>
              <a:gd name="textAreaLeft" fmla="*/ 360 w 347760"/>
              <a:gd name="textAreaRight" fmla="*/ 347400 w 347760"/>
              <a:gd name="textAreaTop" fmla="*/ 360 h 2303640"/>
              <a:gd name="textAreaBottom" fmla="*/ 2303280 h 2303640"/>
            </a:gdLst>
            <a:ahLst/>
            <a:rect l="textAreaLeft" t="textAreaTop" r="textAreaRight" b="textAreaBottom"/>
            <a:pathLst>
              <a:path w="21600" h="142958">
                <a:moveTo>
                  <a:pt x="99" y="0"/>
                </a:moveTo>
                <a:arcTo wR="99" hR="99" stAng="16200000" swAng="-5400000"/>
                <a:lnTo>
                  <a:pt x="0" y="142859"/>
                </a:lnTo>
                <a:arcTo wR="99" hR="99" stAng="10800000" swAng="-5400000"/>
                <a:lnTo>
                  <a:pt x="21501" y="142958"/>
                </a:lnTo>
                <a:arcTo wR="99" hR="99" stAng="5400000" swAng="-5400000"/>
                <a:lnTo>
                  <a:pt x="21600" y="99"/>
                </a:lnTo>
                <a:arcTo wR="99" hR="99" stAng="0" swAng="-5400000"/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214880" y="4319640"/>
            <a:ext cx="347760" cy="1225440"/>
          </a:xfrm>
          <a:custGeom>
            <a:avLst/>
            <a:gdLst>
              <a:gd name="textAreaLeft" fmla="*/ 360 w 347760"/>
              <a:gd name="textAreaRight" fmla="*/ 347400 w 347760"/>
              <a:gd name="textAreaTop" fmla="*/ 360 h 1225440"/>
              <a:gd name="textAreaBottom" fmla="*/ 1225080 h 1225440"/>
            </a:gdLst>
            <a:ahLst/>
            <a:rect l="textAreaLeft" t="textAreaTop" r="textAreaRight" b="textAreaBottom"/>
            <a:pathLst>
              <a:path w="21600" h="76058">
                <a:moveTo>
                  <a:pt x="99" y="0"/>
                </a:moveTo>
                <a:arcTo wR="99" hR="99" stAng="16200000" swAng="-5400000"/>
                <a:lnTo>
                  <a:pt x="0" y="75959"/>
                </a:lnTo>
                <a:arcTo wR="99" hR="99" stAng="10800000" swAng="-5400000"/>
                <a:lnTo>
                  <a:pt x="21501" y="76058"/>
                </a:lnTo>
                <a:arcTo wR="99" hR="99" stAng="5400000" swAng="-5400000"/>
                <a:lnTo>
                  <a:pt x="21600" y="99"/>
                </a:lnTo>
                <a:arcTo wR="99" hR="99" stAng="0" swAng="-5400000"/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710160" y="3240000"/>
            <a:ext cx="666720" cy="9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086360" y="3328920"/>
            <a:ext cx="100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erbicid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- 45%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84040" y="1033560"/>
            <a:ext cx="8572680" cy="50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spcBef>
                <a:spcPts val="700"/>
              </a:spcBef>
              <a:buClr>
                <a:srgbClr val="e46c0a"/>
              </a:buClr>
              <a:buFont typeface="Wingdings 3" charset="2"/>
              <a:buChar char=""/>
              <a:tabLst>
                <a:tab algn="l" pos="326880"/>
                <a:tab algn="l" pos="774720"/>
                <a:tab algn="l" pos="1224000"/>
                <a:tab algn="l" pos="1673280"/>
                <a:tab algn="l" pos="2122560"/>
                <a:tab algn="l" pos="2571840"/>
                <a:tab algn="l" pos="3021120"/>
                <a:tab algn="l" pos="3470400"/>
                <a:tab algn="l" pos="3919680"/>
                <a:tab algn="l" pos="4368960"/>
                <a:tab algn="l" pos="4818240"/>
                <a:tab algn="l" pos="5267160"/>
                <a:tab algn="l" pos="5716440"/>
                <a:tab algn="l" pos="6165720"/>
                <a:tab algn="l" pos="6615000"/>
                <a:tab algn="l" pos="7064280"/>
                <a:tab algn="l" pos="7513560"/>
                <a:tab algn="l" pos="7962840"/>
                <a:tab algn="l" pos="8412120"/>
                <a:tab algn="l" pos="8861400"/>
                <a:tab algn="l" pos="9310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Treatment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requency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479600" y="1944720"/>
            <a:ext cx="5396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2,17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414520" y="3745080"/>
            <a:ext cx="5396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1,3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278160" y="3203640"/>
            <a:ext cx="5396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1,77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479600" y="1944720"/>
            <a:ext cx="5396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2,77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143240" y="4284720"/>
            <a:ext cx="540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0,96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186520" y="5796000"/>
            <a:ext cx="9000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043600" y="3889440"/>
            <a:ext cx="347400" cy="1655640"/>
          </a:xfrm>
          <a:custGeom>
            <a:avLst/>
            <a:gdLst>
              <a:gd name="textAreaLeft" fmla="*/ 360 w 347400"/>
              <a:gd name="textAreaRight" fmla="*/ 347040 w 347400"/>
              <a:gd name="textAreaTop" fmla="*/ 360 h 1655640"/>
              <a:gd name="textAreaBottom" fmla="*/ 1655280 h 1655640"/>
            </a:gdLst>
            <a:ahLst/>
            <a:rect l="textAreaLeft" t="textAreaTop" r="textAreaRight" b="textAreaBottom"/>
            <a:pathLst>
              <a:path w="21600" h="102857">
                <a:moveTo>
                  <a:pt x="99" y="0"/>
                </a:moveTo>
                <a:arcTo wR="99" hR="99" stAng="16200000" swAng="-5400000"/>
                <a:lnTo>
                  <a:pt x="0" y="102758"/>
                </a:lnTo>
                <a:arcTo wR="99" hR="99" stAng="10800000" swAng="-5400000"/>
                <a:lnTo>
                  <a:pt x="21501" y="102857"/>
                </a:lnTo>
                <a:arcTo wR="99" hR="99" stAng="5400000" swAng="-5400000"/>
                <a:lnTo>
                  <a:pt x="21600" y="99"/>
                </a:lnTo>
                <a:arcTo wR="99" hR="99" stAng="0" swAng="-5400000"/>
                <a:close/>
              </a:path>
            </a:pathLst>
          </a:cu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971960" y="3887640"/>
            <a:ext cx="540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1,27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883120" y="5111640"/>
            <a:ext cx="347760" cy="433440"/>
          </a:xfrm>
          <a:custGeom>
            <a:avLst/>
            <a:gdLst>
              <a:gd name="textAreaLeft" fmla="*/ 360 w 347760"/>
              <a:gd name="textAreaRight" fmla="*/ 347400 w 347760"/>
              <a:gd name="textAreaTop" fmla="*/ 360 h 433440"/>
              <a:gd name="textAreaBottom" fmla="*/ 433080 h 433440"/>
            </a:gdLst>
            <a:ahLst/>
            <a:rect l="textAreaLeft" t="textAreaTop" r="textAreaRight" b="textAreaBottom"/>
            <a:pathLst>
              <a:path w="21600" h="26916">
                <a:moveTo>
                  <a:pt x="99" y="0"/>
                </a:moveTo>
                <a:arcTo wR="99" hR="99" stAng="16200000" swAng="-5400000"/>
                <a:lnTo>
                  <a:pt x="0" y="26817"/>
                </a:lnTo>
                <a:arcTo wR="99" hR="99" stAng="10800000" swAng="-5400000"/>
                <a:lnTo>
                  <a:pt x="21501" y="26916"/>
                </a:lnTo>
                <a:arcTo wR="99" hR="99" stAng="5400000" swAng="-5400000"/>
                <a:lnTo>
                  <a:pt x="21600" y="99"/>
                </a:lnTo>
                <a:arcTo wR="99" hR="99" stAng="0" swAng="-5400000"/>
                <a:close/>
              </a:path>
            </a:pathLst>
          </a:cu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800680" y="5075280"/>
            <a:ext cx="5396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0,3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510160" y="3887640"/>
            <a:ext cx="53964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778360" y="4121280"/>
            <a:ext cx="1000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erbicid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- 73%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770520" y="3365640"/>
            <a:ext cx="347760" cy="2179440"/>
          </a:xfrm>
          <a:custGeom>
            <a:avLst/>
            <a:gdLst>
              <a:gd name="textAreaLeft" fmla="*/ 360 w 347760"/>
              <a:gd name="textAreaRight" fmla="*/ 347400 w 347760"/>
              <a:gd name="textAreaTop" fmla="*/ 360 h 2179440"/>
              <a:gd name="textAreaBottom" fmla="*/ 2179080 h 2179440"/>
            </a:gdLst>
            <a:ahLst/>
            <a:rect l="textAreaLeft" t="textAreaTop" r="textAreaRight" b="textAreaBottom"/>
            <a:pathLst>
              <a:path w="21600" h="135251">
                <a:moveTo>
                  <a:pt x="99" y="0"/>
                </a:moveTo>
                <a:arcTo wR="99" hR="99" stAng="16200000" swAng="-5400000"/>
                <a:lnTo>
                  <a:pt x="0" y="135152"/>
                </a:lnTo>
                <a:arcTo wR="99" hR="99" stAng="10800000" swAng="-5400000"/>
                <a:lnTo>
                  <a:pt x="21501" y="135251"/>
                </a:lnTo>
                <a:arcTo wR="99" hR="99" stAng="5400000" swAng="-5400000"/>
                <a:lnTo>
                  <a:pt x="21600" y="99"/>
                </a:lnTo>
                <a:arcTo wR="99" hR="99" stAng="0" swAng="-5400000"/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610400" y="5111640"/>
            <a:ext cx="347760" cy="433440"/>
          </a:xfrm>
          <a:custGeom>
            <a:avLst/>
            <a:gdLst>
              <a:gd name="textAreaLeft" fmla="*/ 360 w 347760"/>
              <a:gd name="textAreaRight" fmla="*/ 347400 w 347760"/>
              <a:gd name="textAreaTop" fmla="*/ 360 h 433440"/>
              <a:gd name="textAreaBottom" fmla="*/ 433080 h 433440"/>
            </a:gdLst>
            <a:ahLst/>
            <a:rect l="textAreaLeft" t="textAreaTop" r="textAreaRight" b="textAreaBottom"/>
            <a:pathLst>
              <a:path w="21600" h="26916">
                <a:moveTo>
                  <a:pt x="99" y="0"/>
                </a:moveTo>
                <a:arcTo wR="99" hR="99" stAng="16200000" swAng="-5400000"/>
                <a:lnTo>
                  <a:pt x="0" y="26817"/>
                </a:lnTo>
                <a:arcTo wR="99" hR="99" stAng="10800000" swAng="-5400000"/>
                <a:lnTo>
                  <a:pt x="21501" y="26916"/>
                </a:lnTo>
                <a:arcTo wR="99" hR="99" stAng="5400000" swAng="-5400000"/>
                <a:lnTo>
                  <a:pt x="21600" y="99"/>
                </a:lnTo>
                <a:arcTo wR="99" hR="99" stAng="0" swAng="-5400000"/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913440" y="5796000"/>
            <a:ext cx="9003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Sunflower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700680" y="3348000"/>
            <a:ext cx="540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1,67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527960" y="5075280"/>
            <a:ext cx="5396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0,3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130880" y="3276720"/>
            <a:ext cx="64476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434360" y="3618000"/>
            <a:ext cx="100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erbicid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- 80%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483240" y="5589720"/>
            <a:ext cx="9003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Chemica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416720" y="5589720"/>
            <a:ext cx="9003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Mixt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754520" y="5589720"/>
            <a:ext cx="9000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Chemica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688000" y="5589720"/>
            <a:ext cx="9000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Mixt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098880" y="5589720"/>
            <a:ext cx="9000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Chemica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032360" y="5589720"/>
            <a:ext cx="9000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Mixt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11:20:23Z</dcterms:created>
  <dc:creator>rtp</dc:creator>
  <dc:description/>
  <dc:language>en-US</dc:language>
  <cp:lastModifiedBy>Philippe Delval</cp:lastModifiedBy>
  <dcterms:modified xsi:type="dcterms:W3CDTF">2010-11-09T07:20:47Z</dcterms:modified>
  <cp:revision>215</cp:revision>
  <dc:subject/>
  <dc:title>Endure Information Centre</dc:title>
</cp:coreProperties>
</file>