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4.png" ContentType="image/png"/>
  <Override PartName="/ppt/media/image27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5690B3C-AAA0-4B31-BF1C-9E50279E27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88CE77C-9B35-4E9E-A49C-88371EF91D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6419A-5E7A-4017-9420-8ED9FD2910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410C75D-13A8-49B0-9AF9-6D9A434BB4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1D23-62A1-414C-A80C-CA179D3531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B8BFE56-632F-4ACC-8851-10FE0D6D9C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98200" y="4689360"/>
            <a:ext cx="49467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775F3F7-D29F-4246-BB06-9BDCE60279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8200" y="4689360"/>
            <a:ext cx="49467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58240" y="17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593640"/>
            <a:ext cx="1676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08160"/>
            <a:ext cx="9177480" cy="3636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2017800"/>
            <a:ext cx="7396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0311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1889280"/>
            <a:ext cx="7772400" cy="33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bc623"/>
                </a:solidFill>
                <a:latin typeface="Verdana"/>
              </a:rPr>
              <a:t>ENDURE Network of Excellence</a:t>
            </a:r>
            <a:br>
              <a:rPr sz="3600"/>
            </a:br>
            <a:br>
              <a:rPr sz="3600"/>
            </a:br>
            <a:r>
              <a:rPr b="1" lang="en-GB" sz="3000" spc="-1" strike="noStrike">
                <a:solidFill>
                  <a:srgbClr val="7bc623"/>
                </a:solidFill>
                <a:latin typeface="Verdana"/>
              </a:rPr>
              <a:t>Overview, results and prospects</a:t>
            </a:r>
            <a:br>
              <a:rPr sz="3000"/>
            </a:br>
            <a:br>
              <a:rPr sz="3000"/>
            </a:br>
            <a:r>
              <a:rPr b="1" lang="en-GB" sz="2600" spc="-1" strike="noStrike">
                <a:solidFill>
                  <a:srgbClr val="ec752c"/>
                </a:solidFill>
                <a:latin typeface="Verdana"/>
              </a:rPr>
              <a:t>Pierre Ricci, coordinator</a:t>
            </a:r>
            <a:br>
              <a:rPr sz="3000"/>
            </a:br>
            <a:br>
              <a:rPr sz="30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ologna, 5 novembre 2009</a:t>
            </a:r>
            <a:endParaRPr b="1" lang="en-US" sz="24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2649600" cy="760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89400" y="257040"/>
            <a:ext cx="62856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35400" y="250920"/>
            <a:ext cx="668160" cy="45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bc623"/>
                </a:solidFill>
                <a:latin typeface="Verdana"/>
              </a:rPr>
              <a:t>The EU « pesticide package»</a:t>
            </a:r>
            <a:r>
              <a:rPr b="1" lang="en-GB" sz="2200" spc="-1" strike="noStrike">
                <a:solidFill>
                  <a:srgbClr val="7bc623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7bc623"/>
                </a:solidFill>
                <a:latin typeface="Verdana"/>
              </a:rPr>
              <a:t>(adopted on 24/09/09)</a:t>
            </a:r>
            <a:br>
              <a:rPr sz="2600"/>
            </a:br>
            <a:endParaRPr b="1" lang="en-US" sz="22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2565360"/>
            <a:ext cx="2057400" cy="1981080"/>
          </a:xfrm>
          <a:prstGeom prst="rightArrow">
            <a:avLst>
              <a:gd name="adj1" fmla="val 50000"/>
              <a:gd name="adj2" fmla="val 25963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2565360"/>
            <a:ext cx="2057400" cy="1981080"/>
          </a:xfrm>
          <a:prstGeom prst="rightArrow">
            <a:avLst>
              <a:gd name="adj1" fmla="val 50000"/>
              <a:gd name="adj2" fmla="val 25963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565360"/>
            <a:ext cx="2057400" cy="1981080"/>
          </a:xfrm>
          <a:prstGeom prst="rightArrow">
            <a:avLst>
              <a:gd name="adj1" fmla="val 50000"/>
              <a:gd name="adj2" fmla="val 25963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a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2565360"/>
            <a:ext cx="2057400" cy="1981080"/>
          </a:xfrm>
          <a:prstGeom prst="rightArrow">
            <a:avLst>
              <a:gd name="adj1" fmla="val 50000"/>
              <a:gd name="adj2" fmla="val 2596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889520"/>
            <a:ext cx="53337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mework Directive on the sustainable use of pestic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ational Ac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PM principles adopted befor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4317840"/>
            <a:ext cx="304560" cy="53352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447920" y="2209680"/>
            <a:ext cx="304560" cy="533520"/>
          </a:xfrm>
          <a:prstGeom prst="triangle">
            <a:avLst>
              <a:gd name="adj" fmla="val 50000"/>
            </a:avLst>
          </a:prstGeom>
          <a:solidFill>
            <a:srgbClr val="ec75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7640" y="143496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gulation on the placing of plant protection products on the market (replaces 91/4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1281240"/>
            <a:ext cx="4739760" cy="4149720"/>
            <a:chOff x="0" y="1281240"/>
            <a:chExt cx="4739760" cy="4149720"/>
          </a:xfrm>
        </p:grpSpPr>
        <p:sp>
          <p:nvSpPr>
            <p:cNvPr id="276" name=""/>
            <p:cNvSpPr/>
            <p:nvPr/>
          </p:nvSpPr>
          <p:spPr>
            <a:xfrm>
              <a:off x="48960" y="1281240"/>
              <a:ext cx="4690800" cy="414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2723760"/>
              <a:ext cx="461844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7a0fa3"/>
                  </a:solidFill>
                  <a:latin typeface="Arial"/>
                </a:rPr>
                <a:t>European policy seminar sponsored by the French Presidency of the Council of the European Un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a0fa3"/>
                  </a:solidFill>
                  <a:latin typeface="Arial"/>
                </a:rPr>
                <a:t>SUSTAINABLE AGRICULTURE AND PESTICID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a0fa3"/>
                  </a:solidFill>
                  <a:latin typeface="Arial"/>
                </a:rPr>
                <a:t>What is at stake? What are the op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7a0fa3"/>
                  </a:solidFill>
                  <a:latin typeface="Arial"/>
                </a:rPr>
                <a:t>PA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7a0fa3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7a0fa3"/>
                  </a:solidFill>
                  <a:latin typeface="Arial"/>
                </a:rPr>
                <a:t>25 - 26 Novembre 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a0fa3"/>
                  </a:solidFill>
                  <a:latin typeface="Arial"/>
                </a:rPr>
                <a:t>with scientific support fro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a0fa3"/>
                  </a:solidFill>
                  <a:latin typeface="Arial"/>
                </a:rPr>
                <a:t>the European network of excell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826640" y="1441440"/>
              <a:ext cx="89496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3307320" y="1657080"/>
              <a:ext cx="897840" cy="7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1875600" y="5023080"/>
              <a:ext cx="889200" cy="27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 rot="5400000">
            <a:off x="-92520" y="1304640"/>
            <a:ext cx="1469880" cy="1143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7bc623"/>
                </a:solidFill>
                <a:latin typeface="Verdana"/>
              </a:rPr>
              <a:t>Conditions facilitatrices de la protection intégrée (IPM)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543480" y="4203720"/>
            <a:ext cx="5555160" cy="2179080"/>
            <a:chOff x="3543480" y="4203720"/>
            <a:chExt cx="5555160" cy="2179080"/>
          </a:xfrm>
        </p:grpSpPr>
        <p:sp>
          <p:nvSpPr>
            <p:cNvPr id="284" name=""/>
            <p:cNvSpPr/>
            <p:nvPr/>
          </p:nvSpPr>
          <p:spPr>
            <a:xfrm>
              <a:off x="3543480" y="4203720"/>
              <a:ext cx="5473080" cy="2158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733200" y="4458240"/>
              <a:ext cx="5365440" cy="1924560"/>
              <a:chOff x="3733200" y="4458240"/>
              <a:chExt cx="5365440" cy="1924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735720" y="4458240"/>
                <a:ext cx="1074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35720" y="4458240"/>
                <a:ext cx="941760" cy="58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3733200" y="5100840"/>
                <a:ext cx="536544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</a:rPr>
                  <a:t>Implementation of IPM principle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</a:rPr>
                  <a:t>Guidance to Member State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89" name=""/>
          <p:cNvGraphicFramePr/>
          <p:nvPr/>
        </p:nvGraphicFramePr>
        <p:xfrm>
          <a:off x="3749760" y="4500720"/>
          <a:ext cx="5610240" cy="785520"/>
        </p:xfrm>
        <a:graphic>
          <a:graphicData uri="http://schemas.openxmlformats.org/drawingml/2006/table">
            <a:tbl>
              <a:tblPr/>
              <a:tblGrid>
                <a:gridCol w="1074960"/>
                <a:gridCol w="45352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ATE-GENE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ate B - Protecting the Natural Enviro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.B.3 - Biotechnology, Pesticides and Heal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5346720" y="1584360"/>
            <a:ext cx="34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See 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by Marco Barz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4851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c623"/>
                </a:solidFill>
                <a:latin typeface="Arial"/>
              </a:rPr>
              <a:t>A common practical and dynamic vision of I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c623"/>
                </a:solidFill>
                <a:latin typeface="Arial"/>
              </a:rPr>
              <a:t>C. Ohmart,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3352680"/>
            <a:ext cx="5943600" cy="762120"/>
          </a:xfrm>
          <a:prstGeom prst="rightArrow">
            <a:avLst>
              <a:gd name="adj1" fmla="val 50000"/>
              <a:gd name="adj2" fmla="val 194969"/>
            </a:avLst>
          </a:prstGeom>
          <a:gradFill rotWithShape="0">
            <a:gsLst>
              <a:gs pos="0">
                <a:srgbClr val="9933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6880" y="31240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83480" y="31240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imate 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191120"/>
            <a:ext cx="748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Ultimate IPM system is one where no inputs are required because pests kept below their economic thresholds due to cultural and/or biological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960" y="520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c623"/>
                </a:solidFill>
                <a:latin typeface="Arial"/>
              </a:rPr>
              <a:t>This is unrealistic because farms are ecologically unbalanc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3840" y="132084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M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pproach to managing pests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iological, cultural and chemical tools in a way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iz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, environmental and health risk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22640" y="3098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3300"/>
                </a:solidFill>
                <a:latin typeface="Arial"/>
              </a:rPr>
              <a:t>IPM as a c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927680" y="4559400"/>
            <a:ext cx="3593880" cy="110484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How to move forward?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35120" y="2035080"/>
            <a:ext cx="21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737520" y="2324520"/>
            <a:ext cx="2372760" cy="2408040"/>
            <a:chOff x="3737520" y="2324520"/>
            <a:chExt cx="2372760" cy="2408040"/>
          </a:xfrm>
        </p:grpSpPr>
        <p:sp>
          <p:nvSpPr>
            <p:cNvPr id="308" name=""/>
            <p:cNvSpPr/>
            <p:nvPr/>
          </p:nvSpPr>
          <p:spPr>
            <a:xfrm rot="2530800">
              <a:off x="4203720" y="2556000"/>
              <a:ext cx="1440000" cy="194472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276440" y="2843280"/>
              <a:ext cx="1366920" cy="1440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6640" y="3059280"/>
              <a:ext cx="1079640" cy="1008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9902400">
              <a:off x="4927320" y="343980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513440" y="5938920"/>
            <a:ext cx="71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aking advantage of the multidisciplinary dimension of EN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1217520"/>
            <a:ext cx="6121440" cy="557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69108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760" y="1273320"/>
            <a:ext cx="6075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81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nowledge develop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08080" y="0"/>
            <a:ext cx="2857320" cy="1262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376880" y="227160"/>
            <a:ext cx="774720" cy="968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534960" y="1781280"/>
            <a:ext cx="5580000" cy="5076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363760" y="3233880"/>
            <a:ext cx="717480" cy="587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100" spc="-1" strike="noStrike">
                <a:solidFill>
                  <a:srgbClr val="ffffff"/>
                </a:solidFill>
                <a:latin typeface="Arial"/>
              </a:rPr>
              <a:t>cro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1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86120" y="5257800"/>
            <a:ext cx="9144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rejec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67120" y="5192640"/>
            <a:ext cx="981000" cy="50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to be adap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41800" y="5192640"/>
            <a:ext cx="914400" cy="50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ready to u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-1320480" y="372096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Farming with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5400" y="1700280"/>
            <a:ext cx="2724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ha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ada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and comb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existing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in the IPM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Promote a participatory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Disseminate: ENDURE Information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75240" y="572436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See 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by Silke Daachbrodt-Saayd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290240" y="1433520"/>
            <a:ext cx="7396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Progress in some innovative technologi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cision spr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st detection/identific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SS improvements (54 analyzed and compa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Strategies for durable use of resistance gen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of g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ployement of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modelling + experiment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Factors of success for the use of the beneficial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New tools for monitoring weed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of ecological and physiological trai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eneric tool for modeling weed biology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Research for improving individual IPM tools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Research for designing less vulnerable systems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067280" y="1773360"/>
            <a:ext cx="2808000" cy="4249080"/>
            <a:chOff x="4067280" y="1773360"/>
            <a:chExt cx="2808000" cy="4249080"/>
          </a:xfrm>
        </p:grpSpPr>
        <p:sp>
          <p:nvSpPr>
            <p:cNvPr id="330" name=""/>
            <p:cNvSpPr/>
            <p:nvPr/>
          </p:nvSpPr>
          <p:spPr>
            <a:xfrm>
              <a:off x="4067280" y="1773360"/>
              <a:ext cx="0" cy="35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067280" y="4077720"/>
              <a:ext cx="2808000" cy="12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67280" y="5302080"/>
              <a:ext cx="2520720" cy="72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588000" y="57340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0360" y="14842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sation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32720" y="35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64000" y="53006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r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98880" y="40384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11280" y="4508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-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386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328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ood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25560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Knowledge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84360" y="20098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43280" y="5300640"/>
            <a:ext cx="1368360" cy="719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41480" y="4394160"/>
            <a:ext cx="1257120" cy="74952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at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54960" y="5181480"/>
            <a:ext cx="1714320" cy="6606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07240" y="3975120"/>
            <a:ext cx="1854000" cy="7365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88840" y="2514600"/>
            <a:ext cx="1752840" cy="9144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is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isory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Promotion of an holistic approach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067280" y="1773360"/>
            <a:ext cx="2808000" cy="4249080"/>
            <a:chOff x="4067280" y="1773360"/>
            <a:chExt cx="2808000" cy="4249080"/>
          </a:xfrm>
        </p:grpSpPr>
        <p:sp>
          <p:nvSpPr>
            <p:cNvPr id="350" name=""/>
            <p:cNvSpPr/>
            <p:nvPr/>
          </p:nvSpPr>
          <p:spPr>
            <a:xfrm>
              <a:off x="4067280" y="1773360"/>
              <a:ext cx="0" cy="35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067280" y="4077720"/>
              <a:ext cx="2808000" cy="12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67280" y="5302080"/>
              <a:ext cx="2520720" cy="72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588000" y="57340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14842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sation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35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64000" y="53006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r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98880" y="40384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4508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-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84360" y="386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4360" y="328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ood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84360" y="270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K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84360" y="206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43280" y="5300640"/>
            <a:ext cx="1368360" cy="71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8729000">
            <a:off x="3635280" y="350028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08840" y="1803240"/>
            <a:ext cx="1955520" cy="8892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3600" y="62816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volves a large range of 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4160" y="2095560"/>
            <a:ext cx="2336760" cy="308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t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opping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arable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7bc623"/>
                </a:solidFill>
                <a:latin typeface="Verdana"/>
              </a:rPr>
              <a:t>System case studies as a converging poi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9" name="Rectangle à coins arrondis 34"/>
          <p:cNvSpPr/>
          <p:nvPr/>
        </p:nvSpPr>
        <p:spPr>
          <a:xfrm>
            <a:off x="0" y="3357720"/>
            <a:ext cx="1425600" cy="12855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Groupe 33" descr=""/>
          <p:cNvPicPr/>
          <p:nvPr/>
        </p:nvPicPr>
        <p:blipFill>
          <a:blip r:embed="rId1"/>
          <a:stretch/>
        </p:blipFill>
        <p:spPr>
          <a:xfrm>
            <a:off x="6973920" y="2330280"/>
            <a:ext cx="2347920" cy="3206880"/>
          </a:xfrm>
          <a:prstGeom prst="rect">
            <a:avLst/>
          </a:prstGeom>
          <a:ln w="0">
            <a:noFill/>
          </a:ln>
        </p:spPr>
      </p:pic>
      <p:sp>
        <p:nvSpPr>
          <p:cNvPr id="371" name="ZoneTexte 35"/>
          <p:cNvSpPr/>
          <p:nvPr/>
        </p:nvSpPr>
        <p:spPr>
          <a:xfrm>
            <a:off x="101520" y="3429000"/>
            <a:ext cx="1317600" cy="1191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p-pest specific case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oneTexte 45"/>
          <p:cNvSpPr/>
          <p:nvPr/>
        </p:nvSpPr>
        <p:spPr>
          <a:xfrm rot="5400000">
            <a:off x="6818400" y="37544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à coins arrondis 39"/>
          <p:cNvSpPr/>
          <p:nvPr/>
        </p:nvSpPr>
        <p:spPr>
          <a:xfrm>
            <a:off x="1857240" y="2527200"/>
            <a:ext cx="5072040" cy="28576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ZoneTexte 4"/>
          <p:cNvSpPr/>
          <p:nvPr/>
        </p:nvSpPr>
        <p:spPr>
          <a:xfrm>
            <a:off x="3173400" y="2884320"/>
            <a:ext cx="1041480" cy="5806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urr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oneTexte 5"/>
          <p:cNvSpPr/>
          <p:nvPr/>
        </p:nvSpPr>
        <p:spPr>
          <a:xfrm>
            <a:off x="3251160" y="4259160"/>
            <a:ext cx="1359000" cy="5806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ovative solution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7"/>
          <p:cNvSpPr/>
          <p:nvPr/>
        </p:nvSpPr>
        <p:spPr>
          <a:xfrm>
            <a:off x="5272200" y="2766960"/>
            <a:ext cx="127476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ce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oneTexte 8"/>
          <p:cNvSpPr/>
          <p:nvPr/>
        </p:nvSpPr>
        <p:spPr>
          <a:xfrm>
            <a:off x="2143080" y="3527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disciplinary System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rc 10"/>
          <p:cNvSpPr/>
          <p:nvPr/>
        </p:nvSpPr>
        <p:spPr>
          <a:xfrm rot="16200000">
            <a:off x="3736080" y="2969280"/>
            <a:ext cx="2428920" cy="18651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11"/>
          <p:cNvSpPr/>
          <p:nvPr/>
        </p:nvSpPr>
        <p:spPr>
          <a:xfrm rot="204000">
            <a:off x="2142720" y="2901960"/>
            <a:ext cx="2428920" cy="18637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12"/>
          <p:cNvSpPr/>
          <p:nvPr/>
        </p:nvSpPr>
        <p:spPr>
          <a:xfrm rot="19300800">
            <a:off x="2877840" y="3298680"/>
            <a:ext cx="2697120" cy="186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13"/>
          <p:cNvSpPr/>
          <p:nvPr/>
        </p:nvSpPr>
        <p:spPr>
          <a:xfrm rot="435000">
            <a:off x="3840120" y="2833560"/>
            <a:ext cx="2428920" cy="186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14"/>
          <p:cNvSpPr/>
          <p:nvPr/>
        </p:nvSpPr>
        <p:spPr>
          <a:xfrm rot="153000">
            <a:off x="4046400" y="2670120"/>
            <a:ext cx="2467080" cy="2430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oupe 32" descr=""/>
          <p:cNvPicPr/>
          <p:nvPr/>
        </p:nvPicPr>
        <p:blipFill>
          <a:blip r:embed="rId2"/>
          <a:stretch/>
        </p:blipFill>
        <p:spPr>
          <a:xfrm>
            <a:off x="1693800" y="5081760"/>
            <a:ext cx="2895840" cy="1463400"/>
          </a:xfrm>
          <a:prstGeom prst="rect">
            <a:avLst/>
          </a:prstGeom>
          <a:ln w="0">
            <a:noFill/>
          </a:ln>
        </p:spPr>
      </p:pic>
      <p:pic>
        <p:nvPicPr>
          <p:cNvPr id="384" name="Groupe 29" descr=""/>
          <p:cNvPicPr/>
          <p:nvPr/>
        </p:nvPicPr>
        <p:blipFill>
          <a:blip r:embed="rId3"/>
          <a:stretch/>
        </p:blipFill>
        <p:spPr>
          <a:xfrm>
            <a:off x="907920" y="1863720"/>
            <a:ext cx="2322720" cy="1255680"/>
          </a:xfrm>
          <a:prstGeom prst="rect">
            <a:avLst/>
          </a:prstGeom>
          <a:ln w="0">
            <a:noFill/>
          </a:ln>
        </p:spPr>
      </p:pic>
      <p:sp>
        <p:nvSpPr>
          <p:cNvPr id="385" name="Ellipse 30"/>
          <p:cNvSpPr/>
          <p:nvPr/>
        </p:nvSpPr>
        <p:spPr>
          <a:xfrm>
            <a:off x="4500720" y="1312920"/>
            <a:ext cx="2071440" cy="1214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t Genetic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necteur droit avec flèche 37"/>
          <p:cNvCxnSpPr/>
          <p:nvPr/>
        </p:nvCxnSpPr>
        <p:spPr>
          <a:xfrm>
            <a:off x="1500120" y="3956040"/>
            <a:ext cx="5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87" name="Groupe 31" descr=""/>
          <p:cNvPicPr/>
          <p:nvPr/>
        </p:nvPicPr>
        <p:blipFill>
          <a:blip r:embed="rId4"/>
          <a:stretch/>
        </p:blipFill>
        <p:spPr>
          <a:xfrm>
            <a:off x="2625840" y="1363680"/>
            <a:ext cx="239076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88" name="Connecteur droit avec flèche 44"/>
          <p:cNvCxnSpPr/>
          <p:nvPr/>
        </p:nvCxnSpPr>
        <p:spPr>
          <a:xfrm>
            <a:off x="6786360" y="3884760"/>
            <a:ext cx="5720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ZoneTexte 5"/>
          <p:cNvSpPr/>
          <p:nvPr/>
        </p:nvSpPr>
        <p:spPr>
          <a:xfrm>
            <a:off x="4889520" y="4259160"/>
            <a:ext cx="1359000" cy="5806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ovative solution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llipse 30"/>
          <p:cNvSpPr/>
          <p:nvPr/>
        </p:nvSpPr>
        <p:spPr>
          <a:xfrm>
            <a:off x="4716360" y="5199120"/>
            <a:ext cx="2071800" cy="1214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o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Multi-Criteria Assessment 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92" name="ZoneTexte 8"/>
          <p:cNvSpPr/>
          <p:nvPr/>
        </p:nvSpPr>
        <p:spPr>
          <a:xfrm>
            <a:off x="357120" y="5483160"/>
            <a:ext cx="342900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urrent or Advanc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Groupe 18" descr=""/>
          <p:cNvPicPr/>
          <p:nvPr/>
        </p:nvPicPr>
        <p:blipFill>
          <a:blip r:embed="rId1"/>
          <a:stretch/>
        </p:blipFill>
        <p:spPr>
          <a:xfrm>
            <a:off x="341280" y="4737240"/>
            <a:ext cx="1603440" cy="5364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20"/>
          <p:cNvSpPr/>
          <p:nvPr/>
        </p:nvSpPr>
        <p:spPr>
          <a:xfrm>
            <a:off x="2000160" y="476892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ZoneTexte 21"/>
          <p:cNvSpPr/>
          <p:nvPr/>
        </p:nvSpPr>
        <p:spPr>
          <a:xfrm>
            <a:off x="2195640" y="4768920"/>
            <a:ext cx="15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3214800" y="1197000"/>
            <a:ext cx="5376600" cy="4583160"/>
            <a:chOff x="3214800" y="1197000"/>
            <a:chExt cx="5376600" cy="4583160"/>
          </a:xfrm>
        </p:grpSpPr>
        <p:grpSp>
          <p:nvGrpSpPr>
            <p:cNvPr id="397" name="Group 37"/>
            <p:cNvGrpSpPr/>
            <p:nvPr/>
          </p:nvGrpSpPr>
          <p:grpSpPr>
            <a:xfrm>
              <a:off x="3214800" y="1197000"/>
              <a:ext cx="5376600" cy="4583160"/>
              <a:chOff x="3214800" y="1197000"/>
              <a:chExt cx="5376600" cy="4583160"/>
            </a:xfrm>
          </p:grpSpPr>
          <p:sp>
            <p:nvSpPr>
              <p:cNvPr id="398" name="Trapèze 5"/>
              <p:cNvSpPr/>
              <p:nvPr/>
            </p:nvSpPr>
            <p:spPr>
              <a:xfrm>
                <a:off x="5500800" y="3054240"/>
                <a:ext cx="2857320" cy="1500120"/>
              </a:xfrm>
              <a:prstGeom prst="pie">
                <a:avLst/>
              </a:prstGeom>
              <a:solidFill>
                <a:srgbClr val="00b0f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ZoneTexte 7"/>
              <p:cNvSpPr/>
              <p:nvPr/>
            </p:nvSpPr>
            <p:spPr>
              <a:xfrm>
                <a:off x="5857920" y="5411880"/>
                <a:ext cx="2214360" cy="36828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nnovative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0" name="Group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98960" y="4591080"/>
                <a:ext cx="16099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Rectangle à coins arrondis 25"/>
              <p:cNvSpPr/>
              <p:nvPr/>
            </p:nvSpPr>
            <p:spPr>
              <a:xfrm>
                <a:off x="6662880" y="4626000"/>
                <a:ext cx="19285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ZoneTexte 30"/>
              <p:cNvSpPr/>
              <p:nvPr/>
            </p:nvSpPr>
            <p:spPr>
              <a:xfrm>
                <a:off x="3214800" y="1197000"/>
                <a:ext cx="2500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</a:rPr>
                  <a:t>Same tre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</a:rPr>
                  <a:t>Same attribut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Group 29"/>
              <p:cNvGrpSpPr/>
              <p:nvPr/>
            </p:nvGrpSpPr>
            <p:grpSpPr>
              <a:xfrm>
                <a:off x="5940360" y="1401840"/>
                <a:ext cx="2059200" cy="1438200"/>
                <a:chOff x="5940360" y="1401840"/>
                <a:chExt cx="2059200" cy="1438200"/>
              </a:xfrm>
            </p:grpSpPr>
            <p:sp>
              <p:nvSpPr>
                <p:cNvPr id="404" name="Triangle isocèle 3"/>
                <p:cNvSpPr/>
                <p:nvPr/>
              </p:nvSpPr>
              <p:spPr>
                <a:xfrm>
                  <a:off x="5940360" y="1401840"/>
                  <a:ext cx="2059200" cy="1438200"/>
                </a:xfrm>
                <a:prstGeom prst="triangle">
                  <a:avLst>
                    <a:gd name="adj" fmla="val 50847"/>
                  </a:avLst>
                </a:prstGeom>
                <a:solidFill>
                  <a:srgbClr val="00b0f0"/>
                </a:solidFill>
                <a:ln w="255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ZoneTexte 27"/>
                <p:cNvSpPr/>
                <p:nvPr/>
              </p:nvSpPr>
              <p:spPr>
                <a:xfrm>
                  <a:off x="6440400" y="2340000"/>
                  <a:ext cx="1071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XIP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ZoneTexte 15"/>
            <p:cNvSpPr/>
            <p:nvPr/>
          </p:nvSpPr>
          <p:spPr>
            <a:xfrm>
              <a:off x="6357960" y="3625920"/>
              <a:ext cx="12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t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ZoneTexte 26"/>
            <p:cNvSpPr/>
            <p:nvPr/>
          </p:nvSpPr>
          <p:spPr>
            <a:xfrm>
              <a:off x="6858000" y="4626000"/>
              <a:ext cx="15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34"/>
          <p:cNvGrpSpPr/>
          <p:nvPr/>
        </p:nvGrpSpPr>
        <p:grpSpPr>
          <a:xfrm>
            <a:off x="642960" y="1473120"/>
            <a:ext cx="2857320" cy="3152880"/>
            <a:chOff x="642960" y="1473120"/>
            <a:chExt cx="2857320" cy="3152880"/>
          </a:xfrm>
        </p:grpSpPr>
        <p:grpSp>
          <p:nvGrpSpPr>
            <p:cNvPr id="409" name="Group 28"/>
            <p:cNvGrpSpPr/>
            <p:nvPr/>
          </p:nvGrpSpPr>
          <p:grpSpPr>
            <a:xfrm>
              <a:off x="1000080" y="1473120"/>
              <a:ext cx="2059200" cy="1438200"/>
              <a:chOff x="1000080" y="1473120"/>
              <a:chExt cx="2059200" cy="1438200"/>
            </a:xfrm>
          </p:grpSpPr>
          <p:sp>
            <p:nvSpPr>
              <p:cNvPr id="410" name="Triangle isocèle 3"/>
              <p:cNvSpPr/>
              <p:nvPr/>
            </p:nvSpPr>
            <p:spPr>
              <a:xfrm>
                <a:off x="1000080" y="1473120"/>
                <a:ext cx="2059200" cy="1438200"/>
              </a:xfrm>
              <a:prstGeom prst="triangle">
                <a:avLst>
                  <a:gd name="adj" fmla="val 50847"/>
                </a:avLst>
              </a:prstGeom>
              <a:solidFill>
                <a:srgbClr val="00b0f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ZoneTexte 27"/>
              <p:cNvSpPr/>
              <p:nvPr/>
            </p:nvSpPr>
            <p:spPr>
              <a:xfrm>
                <a:off x="1500120" y="2411280"/>
                <a:ext cx="107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XIP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3"/>
            <p:cNvGrpSpPr/>
            <p:nvPr/>
          </p:nvGrpSpPr>
          <p:grpSpPr>
            <a:xfrm>
              <a:off x="642960" y="3054240"/>
              <a:ext cx="2857320" cy="1571760"/>
              <a:chOff x="642960" y="3054240"/>
              <a:chExt cx="2857320" cy="1571760"/>
            </a:xfrm>
          </p:grpSpPr>
          <p:sp>
            <p:nvSpPr>
              <p:cNvPr id="413" name="Parallélogramme 4"/>
              <p:cNvSpPr/>
              <p:nvPr/>
            </p:nvSpPr>
            <p:spPr>
              <a:xfrm>
                <a:off x="642960" y="3054240"/>
                <a:ext cx="1143000" cy="1571760"/>
              </a:xfrm>
              <a:prstGeom prst="parallelogram">
                <a:avLst>
                  <a:gd name="adj" fmla="val 25000"/>
                </a:avLst>
              </a:prstGeom>
              <a:solidFill>
                <a:srgbClr val="ffff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rapèze 9"/>
              <p:cNvSpPr/>
              <p:nvPr/>
            </p:nvSpPr>
            <p:spPr>
              <a:xfrm>
                <a:off x="1643040" y="3054240"/>
                <a:ext cx="857160" cy="1571760"/>
              </a:xfrm>
              <a:prstGeom prst="pie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Parallélogramme 11"/>
              <p:cNvSpPr/>
              <p:nvPr/>
            </p:nvSpPr>
            <p:spPr>
              <a:xfrm flipV="1">
                <a:off x="2286000" y="3054240"/>
                <a:ext cx="1214280" cy="1571760"/>
              </a:xfrm>
              <a:prstGeom prst="parallelogram">
                <a:avLst>
                  <a:gd name="adj" fmla="val 25000"/>
                </a:avLst>
              </a:prstGeom>
              <a:solidFill>
                <a:srgbClr val="00b0f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ZoneTexte 12"/>
              <p:cNvSpPr/>
              <p:nvPr/>
            </p:nvSpPr>
            <p:spPr>
              <a:xfrm>
                <a:off x="857160" y="355428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ZoneTexte 13"/>
              <p:cNvSpPr/>
              <p:nvPr/>
            </p:nvSpPr>
            <p:spPr>
              <a:xfrm>
                <a:off x="2428920" y="3554280"/>
                <a:ext cx="85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xpe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ZoneTexte 29"/>
              <p:cNvSpPr/>
              <p:nvPr/>
            </p:nvSpPr>
            <p:spPr>
              <a:xfrm>
                <a:off x="714240" y="4197240"/>
                <a:ext cx="71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25"/>
              <p:cNvSpPr/>
              <p:nvPr/>
            </p:nvSpPr>
            <p:spPr>
              <a:xfrm>
                <a:off x="952560" y="312264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En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6"/>
              <p:cNvSpPr/>
              <p:nvPr/>
            </p:nvSpPr>
            <p:spPr>
              <a:xfrm>
                <a:off x="1738440" y="319572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27"/>
              <p:cNvSpPr/>
              <p:nvPr/>
            </p:nvSpPr>
            <p:spPr>
              <a:xfrm>
                <a:off x="2457720" y="320184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o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ZoneTexte 30"/>
          <p:cNvSpPr/>
          <p:nvPr/>
        </p:nvSpPr>
        <p:spPr>
          <a:xfrm>
            <a:off x="539640" y="5877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ystem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626080" y="6216480"/>
            <a:ext cx="22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See 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by Per Kud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28800" y="1371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ocietal expectations for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afe food and environmentall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friendly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590920"/>
            <a:ext cx="510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c0022b"/>
                </a:solidFill>
                <a:latin typeface="Arial"/>
              </a:rPr>
              <a:t>Area 5.4.6 -</a:t>
            </a:r>
            <a:r>
              <a:rPr b="0" lang="en-GB" sz="1800" spc="-1" strike="noStrike">
                <a:solidFill>
                  <a:srgbClr val="c0022b"/>
                </a:solidFill>
                <a:latin typeface="Arial"/>
              </a:rPr>
              <a:t> Safer and environmentally friendly production methods </a:t>
            </a:r>
            <a:br>
              <a:rPr sz="1800"/>
            </a:br>
            <a:r>
              <a:rPr b="0" lang="en-GB" sz="1800" spc="-1" strike="noStrike">
                <a:solidFill>
                  <a:srgbClr val="c0022b"/>
                </a:solidFill>
                <a:latin typeface="Arial"/>
              </a:rPr>
              <a:t>and technologies and healthier food stuffs.</a:t>
            </a:r>
            <a:br>
              <a:rPr sz="1800"/>
            </a:br>
            <a:r>
              <a:rPr b="1" i="1" lang="en-GB" sz="1800" spc="-1" strike="noStrike">
                <a:solidFill>
                  <a:srgbClr val="c0022b"/>
                </a:solidFill>
                <a:latin typeface="Arial"/>
              </a:rPr>
              <a:t>Topic 1 - </a:t>
            </a:r>
            <a:r>
              <a:rPr b="0" lang="en-GB" sz="1800" spc="-1" strike="noStrike">
                <a:solidFill>
                  <a:srgbClr val="c0022b"/>
                </a:solidFill>
                <a:latin typeface="Arial"/>
              </a:rPr>
              <a:t>Reducing the use of plant protection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4419720"/>
            <a:ext cx="3886200" cy="930240"/>
          </a:xfrm>
          <a:prstGeom prst="rect">
            <a:avLst/>
          </a:prstGeom>
          <a:solidFill>
            <a:srgbClr val="235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11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C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,2 M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914400" y="1828800"/>
            <a:ext cx="1447920" cy="8539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635396"/>
                <a:lnTo>
                  <a:pt x="10061" y="25"/>
                </a:lnTo>
                <a:arcTo wR="10800" hR="10800" stAng="-5635396" swAng="563539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131000" y="2657160"/>
            <a:ext cx="3125520" cy="2431080"/>
            <a:chOff x="4131000" y="2657160"/>
            <a:chExt cx="3125520" cy="2431080"/>
          </a:xfrm>
        </p:grpSpPr>
        <p:sp>
          <p:nvSpPr>
            <p:cNvPr id="107" name=""/>
            <p:cNvSpPr/>
            <p:nvPr/>
          </p:nvSpPr>
          <p:spPr>
            <a:xfrm flipH="1" rot="20613000">
              <a:off x="5717520" y="2844720"/>
              <a:ext cx="1447560" cy="85392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635396"/>
                  <a:lnTo>
                    <a:pt x="10061" y="25"/>
                  </a:lnTo>
                  <a:arcTo wR="10800" hR="10800" stAng="-5635396" swAng="563539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ee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449400">
              <a:off x="4186440" y="3826800"/>
              <a:ext cx="1447560" cy="85392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635396"/>
                  <a:lnTo>
                    <a:pt x="10061" y="25"/>
                  </a:lnTo>
                  <a:arcTo wR="10800" hR="10800" stAng="-5635396" swAng="563539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ee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9483200">
            <a:off x="4038480" y="5105160"/>
            <a:ext cx="1540080" cy="685800"/>
          </a:xfrm>
          <a:prstGeom prst="leftRightArrow">
            <a:avLst>
              <a:gd name="adj1" fmla="val 50000"/>
              <a:gd name="adj2" fmla="val 44705"/>
            </a:avLst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09840" y="590076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d-users 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rmers &amp; advisers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industry, policy-makers, society at larg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29160" y="3365640"/>
            <a:ext cx="3571920" cy="25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11280" cy="692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4556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opea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fo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l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ploitation of crop protec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76320"/>
            <a:ext cx="2649600" cy="76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289400" y="257040"/>
            <a:ext cx="628560" cy="507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335400" y="250920"/>
            <a:ext cx="668160" cy="45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008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rop protection: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ragmented scientific knowledge and R&amp;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371600" y="2006640"/>
            <a:ext cx="3594240" cy="110484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How to create and perpetuate synergies and impetus at the EU level ?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26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94000" y="2035080"/>
            <a:ext cx="322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105800" y="2476800"/>
            <a:ext cx="2372760" cy="2408040"/>
            <a:chOff x="4105800" y="2476800"/>
            <a:chExt cx="2372760" cy="2408040"/>
          </a:xfrm>
        </p:grpSpPr>
        <p:sp>
          <p:nvSpPr>
            <p:cNvPr id="433" name=""/>
            <p:cNvSpPr/>
            <p:nvPr/>
          </p:nvSpPr>
          <p:spPr>
            <a:xfrm rot="2530800">
              <a:off x="4572000" y="2708280"/>
              <a:ext cx="1440000" cy="194472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4644720" y="2995560"/>
              <a:ext cx="1366920" cy="1440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14920" y="3211560"/>
              <a:ext cx="1079280" cy="1008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8020400">
              <a:off x="4711680" y="302076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364840" y="5938920"/>
            <a:ext cx="56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volving the ENDURE partners in durabl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Tools for the research commun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09360" y="1789200"/>
            <a:ext cx="823428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Mobility scheme </a:t>
            </a:r>
            <a:r>
              <a:rPr b="1" lang="en-GB" sz="1600" spc="-1" strike="noStrike">
                <a:solidFill>
                  <a:srgbClr val="c0022b"/>
                </a:solidFill>
                <a:latin typeface="Arial"/>
              </a:rPr>
              <a:t>(</a:t>
            </a:r>
            <a:r>
              <a:rPr b="1" i="1" lang="fr-FR" sz="1600" spc="-1" strike="noStrike">
                <a:solidFill>
                  <a:srgbClr val="0033cc"/>
                </a:solidFill>
                <a:latin typeface="Arial"/>
              </a:rPr>
              <a:t>See presentation by Maurizio Sattin)</a:t>
            </a:r>
            <a:endParaRPr b="1" lang="en-US" sz="16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 scientists involved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Summer schools </a:t>
            </a:r>
            <a:r>
              <a:rPr b="1" lang="en-GB" sz="1600" spc="-1" strike="noStrike">
                <a:solidFill>
                  <a:srgbClr val="c0022b"/>
                </a:solidFill>
                <a:latin typeface="Arial"/>
              </a:rPr>
              <a:t>(</a:t>
            </a:r>
            <a:r>
              <a:rPr b="1" i="1" lang="fr-FR" sz="1600" spc="-1" strike="noStrike">
                <a:solidFill>
                  <a:srgbClr val="0033cc"/>
                </a:solidFill>
                <a:latin typeface="Arial"/>
              </a:rPr>
              <a:t>See presentation by Paolo Barberi)</a:t>
            </a:r>
            <a:endParaRPr b="1" lang="en-US" sz="16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diversity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Virtual Lab </a:t>
            </a:r>
            <a:r>
              <a:rPr b="1" lang="en-GB" sz="1600" spc="-1" strike="noStrike">
                <a:solidFill>
                  <a:srgbClr val="c0022b"/>
                </a:solidFill>
                <a:latin typeface="Arial"/>
              </a:rPr>
              <a:t>(</a:t>
            </a:r>
            <a:r>
              <a:rPr b="1" i="1" lang="fr-FR" sz="1600" spc="-1" strike="noStrike">
                <a:solidFill>
                  <a:srgbClr val="0033cc"/>
                </a:solidFill>
                <a:latin typeface="Arial"/>
              </a:rPr>
              <a:t>See presentation by Silke Daachbrodt-Saaydeh)</a:t>
            </a:r>
            <a:endParaRPr b="1" lang="en-US" sz="16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llection of free-access tools for supporting IPM-relate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collections, 32 data bases, 51 field sites for experimen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esist, Wheatpest, Quantipest, Weed Traits Database, Euro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Communication from the research commun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47440" y="1407960"/>
            <a:ext cx="739620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International Conferenc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Grande Motte (F) Octobre 2008: 280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is Decem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Web-site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www.endure-network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Research Agenda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esight study Crop Protection in Europe in 2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on paper to the EC for the FP7 further ca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IPM – IP FP7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ENDURE message to DG Research (Dec 08)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KBBE.2010.1.2-05: Integrated pest management in farming systems of major importance for Europe</a:t>
            </a: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will not be ENDURE II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could be an opportunity to further test this systems approach applied to IPM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87440" y="1341360"/>
            <a:ext cx="7651800" cy="5284800"/>
            <a:chOff x="487440" y="1341360"/>
            <a:chExt cx="7651800" cy="5284800"/>
          </a:xfrm>
        </p:grpSpPr>
        <p:sp>
          <p:nvSpPr>
            <p:cNvPr id="445" name=""/>
            <p:cNvSpPr/>
            <p:nvPr/>
          </p:nvSpPr>
          <p:spPr>
            <a:xfrm>
              <a:off x="1744560" y="3281400"/>
              <a:ext cx="1484280" cy="338040"/>
            </a:xfrm>
            <a:custGeom>
              <a:avLst/>
              <a:gdLst/>
              <a:ahLst/>
              <a:rect l="l" t="t" r="r" b="b"/>
              <a:pathLst>
                <a:path w="2880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2771" y="0"/>
                  </a:lnTo>
                  <a:lnTo>
                    <a:pt x="2771" y="0"/>
                  </a:lnTo>
                  <a:cubicBezTo>
                    <a:pt x="2832" y="0"/>
                    <a:pt x="2880" y="49"/>
                    <a:pt x="2880" y="110"/>
                  </a:cubicBezTo>
                  <a:cubicBezTo>
                    <a:pt x="2880" y="110"/>
                    <a:pt x="2880" y="110"/>
                    <a:pt x="2880" y="110"/>
                  </a:cubicBezTo>
                  <a:lnTo>
                    <a:pt x="2880" y="110"/>
                  </a:lnTo>
                  <a:lnTo>
                    <a:pt x="2880" y="547"/>
                  </a:lnTo>
                  <a:lnTo>
                    <a:pt x="2880" y="547"/>
                  </a:lnTo>
                  <a:cubicBezTo>
                    <a:pt x="2880" y="608"/>
                    <a:pt x="2832" y="656"/>
                    <a:pt x="2771" y="656"/>
                  </a:cubicBezTo>
                  <a:cubicBezTo>
                    <a:pt x="2771" y="656"/>
                    <a:pt x="2771" y="656"/>
                    <a:pt x="2771" y="656"/>
                  </a:cubicBezTo>
                  <a:lnTo>
                    <a:pt x="2771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007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39880" y="3276720"/>
              <a:ext cx="1492200" cy="345960"/>
            </a:xfrm>
            <a:custGeom>
              <a:avLst/>
              <a:gdLst/>
              <a:ahLst/>
              <a:rect l="l" t="t" r="r" b="b"/>
              <a:pathLst>
                <a:path w="2896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779" y="0"/>
                  </a:lnTo>
                  <a:cubicBezTo>
                    <a:pt x="2780" y="0"/>
                    <a:pt x="2781" y="1"/>
                    <a:pt x="2781" y="1"/>
                  </a:cubicBezTo>
                  <a:lnTo>
                    <a:pt x="2824" y="10"/>
                  </a:lnTo>
                  <a:cubicBezTo>
                    <a:pt x="2825" y="10"/>
                    <a:pt x="2826" y="10"/>
                    <a:pt x="2827" y="11"/>
                  </a:cubicBezTo>
                  <a:lnTo>
                    <a:pt x="2861" y="34"/>
                  </a:lnTo>
                  <a:cubicBezTo>
                    <a:pt x="2862" y="34"/>
                    <a:pt x="2863" y="35"/>
                    <a:pt x="2863" y="36"/>
                  </a:cubicBezTo>
                  <a:lnTo>
                    <a:pt x="2887" y="71"/>
                  </a:lnTo>
                  <a:cubicBezTo>
                    <a:pt x="2888" y="72"/>
                    <a:pt x="2888" y="73"/>
                    <a:pt x="2888" y="74"/>
                  </a:cubicBezTo>
                  <a:lnTo>
                    <a:pt x="2896" y="117"/>
                  </a:lnTo>
                  <a:cubicBezTo>
                    <a:pt x="2896" y="117"/>
                    <a:pt x="2896" y="118"/>
                    <a:pt x="2896" y="118"/>
                  </a:cubicBezTo>
                  <a:lnTo>
                    <a:pt x="2896" y="555"/>
                  </a:lnTo>
                  <a:cubicBezTo>
                    <a:pt x="2896" y="556"/>
                    <a:pt x="2896" y="556"/>
                    <a:pt x="2896" y="557"/>
                  </a:cubicBezTo>
                  <a:lnTo>
                    <a:pt x="2888" y="600"/>
                  </a:lnTo>
                  <a:cubicBezTo>
                    <a:pt x="2888" y="601"/>
                    <a:pt x="2888" y="602"/>
                    <a:pt x="2887" y="603"/>
                  </a:cubicBezTo>
                  <a:lnTo>
                    <a:pt x="2863" y="637"/>
                  </a:lnTo>
                  <a:cubicBezTo>
                    <a:pt x="2862" y="638"/>
                    <a:pt x="2862" y="638"/>
                    <a:pt x="2861" y="639"/>
                  </a:cubicBezTo>
                  <a:lnTo>
                    <a:pt x="2827" y="663"/>
                  </a:lnTo>
                  <a:cubicBezTo>
                    <a:pt x="2826" y="664"/>
                    <a:pt x="2825" y="664"/>
                    <a:pt x="2824" y="664"/>
                  </a:cubicBezTo>
                  <a:lnTo>
                    <a:pt x="2781" y="672"/>
                  </a:lnTo>
                  <a:cubicBezTo>
                    <a:pt x="2780" y="672"/>
                    <a:pt x="2780" y="672"/>
                    <a:pt x="2779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779" y="656"/>
                  </a:lnTo>
                  <a:lnTo>
                    <a:pt x="2778" y="657"/>
                  </a:lnTo>
                  <a:lnTo>
                    <a:pt x="2821" y="649"/>
                  </a:lnTo>
                  <a:lnTo>
                    <a:pt x="2818" y="650"/>
                  </a:lnTo>
                  <a:lnTo>
                    <a:pt x="2852" y="626"/>
                  </a:lnTo>
                  <a:lnTo>
                    <a:pt x="2850" y="628"/>
                  </a:lnTo>
                  <a:lnTo>
                    <a:pt x="2874" y="594"/>
                  </a:lnTo>
                  <a:lnTo>
                    <a:pt x="2873" y="597"/>
                  </a:lnTo>
                  <a:lnTo>
                    <a:pt x="2881" y="554"/>
                  </a:lnTo>
                  <a:lnTo>
                    <a:pt x="2880" y="555"/>
                  </a:lnTo>
                  <a:lnTo>
                    <a:pt x="2880" y="118"/>
                  </a:lnTo>
                  <a:lnTo>
                    <a:pt x="2881" y="120"/>
                  </a:lnTo>
                  <a:lnTo>
                    <a:pt x="2873" y="77"/>
                  </a:lnTo>
                  <a:lnTo>
                    <a:pt x="2874" y="80"/>
                  </a:lnTo>
                  <a:lnTo>
                    <a:pt x="2850" y="45"/>
                  </a:lnTo>
                  <a:lnTo>
                    <a:pt x="2852" y="47"/>
                  </a:lnTo>
                  <a:lnTo>
                    <a:pt x="2818" y="24"/>
                  </a:lnTo>
                  <a:lnTo>
                    <a:pt x="2821" y="25"/>
                  </a:lnTo>
                  <a:lnTo>
                    <a:pt x="2778" y="16"/>
                  </a:lnTo>
                  <a:lnTo>
                    <a:pt x="2779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75960" y="337032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Calibri"/>
                </a:rPr>
                <a:t>WG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29040" y="3370320"/>
              <a:ext cx="90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Calibri"/>
                </a:rPr>
                <a:t>Research Age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73200" y="3619440"/>
              <a:ext cx="260640" cy="216000"/>
            </a:xfrm>
            <a:custGeom>
              <a:avLst/>
              <a:gdLst/>
              <a:ahLst/>
              <a:rect l="l" t="t" r="r" b="b"/>
              <a:pathLst>
                <a:path w="164" h="136">
                  <a:moveTo>
                    <a:pt x="164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28"/>
                  </a:lnTo>
                  <a:lnTo>
                    <a:pt x="8" y="120"/>
                  </a:lnTo>
                  <a:lnTo>
                    <a:pt x="164" y="120"/>
                  </a:lnTo>
                  <a:lnTo>
                    <a:pt x="164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33600" y="3181320"/>
              <a:ext cx="207720" cy="27792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131" y="175"/>
                  </a:moveTo>
                  <a:lnTo>
                    <a:pt x="0" y="17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8"/>
                  </a:lnTo>
                  <a:lnTo>
                    <a:pt x="8" y="160"/>
                  </a:lnTo>
                  <a:lnTo>
                    <a:pt x="131" y="160"/>
                  </a:lnTo>
                  <a:lnTo>
                    <a:pt x="13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33840" y="3652920"/>
              <a:ext cx="1608120" cy="338040"/>
            </a:xfrm>
            <a:custGeom>
              <a:avLst/>
              <a:gdLst/>
              <a:ahLst/>
              <a:rect l="l" t="t" r="r" b="b"/>
              <a:pathLst>
                <a:path w="3120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3011" y="0"/>
                  </a:lnTo>
                  <a:lnTo>
                    <a:pt x="3011" y="0"/>
                  </a:lnTo>
                  <a:cubicBezTo>
                    <a:pt x="3072" y="0"/>
                    <a:pt x="3120" y="49"/>
                    <a:pt x="3120" y="110"/>
                  </a:cubicBezTo>
                  <a:cubicBezTo>
                    <a:pt x="3120" y="110"/>
                    <a:pt x="3120" y="110"/>
                    <a:pt x="3120" y="110"/>
                  </a:cubicBezTo>
                  <a:lnTo>
                    <a:pt x="3120" y="110"/>
                  </a:lnTo>
                  <a:lnTo>
                    <a:pt x="3120" y="547"/>
                  </a:lnTo>
                  <a:lnTo>
                    <a:pt x="3120" y="547"/>
                  </a:lnTo>
                  <a:cubicBezTo>
                    <a:pt x="3120" y="608"/>
                    <a:pt x="3072" y="656"/>
                    <a:pt x="3011" y="656"/>
                  </a:cubicBezTo>
                  <a:cubicBezTo>
                    <a:pt x="3011" y="656"/>
                    <a:pt x="3011" y="656"/>
                    <a:pt x="3011" y="656"/>
                  </a:cubicBezTo>
                  <a:lnTo>
                    <a:pt x="3011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30600" y="3648240"/>
              <a:ext cx="1616040" cy="345960"/>
            </a:xfrm>
            <a:custGeom>
              <a:avLst/>
              <a:gdLst/>
              <a:ahLst/>
              <a:rect l="l" t="t" r="r" b="b"/>
              <a:pathLst>
                <a:path w="3136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3019" y="0"/>
                  </a:lnTo>
                  <a:cubicBezTo>
                    <a:pt x="3020" y="0"/>
                    <a:pt x="3021" y="1"/>
                    <a:pt x="3021" y="1"/>
                  </a:cubicBezTo>
                  <a:lnTo>
                    <a:pt x="3064" y="10"/>
                  </a:lnTo>
                  <a:cubicBezTo>
                    <a:pt x="3065" y="10"/>
                    <a:pt x="3066" y="10"/>
                    <a:pt x="3067" y="11"/>
                  </a:cubicBezTo>
                  <a:lnTo>
                    <a:pt x="3101" y="34"/>
                  </a:lnTo>
                  <a:cubicBezTo>
                    <a:pt x="3102" y="34"/>
                    <a:pt x="3103" y="35"/>
                    <a:pt x="3103" y="36"/>
                  </a:cubicBezTo>
                  <a:lnTo>
                    <a:pt x="3127" y="71"/>
                  </a:lnTo>
                  <a:cubicBezTo>
                    <a:pt x="3128" y="72"/>
                    <a:pt x="3128" y="73"/>
                    <a:pt x="3128" y="74"/>
                  </a:cubicBezTo>
                  <a:lnTo>
                    <a:pt x="3136" y="117"/>
                  </a:lnTo>
                  <a:cubicBezTo>
                    <a:pt x="3136" y="117"/>
                    <a:pt x="3136" y="118"/>
                    <a:pt x="3136" y="118"/>
                  </a:cubicBezTo>
                  <a:lnTo>
                    <a:pt x="3136" y="555"/>
                  </a:lnTo>
                  <a:cubicBezTo>
                    <a:pt x="3136" y="556"/>
                    <a:pt x="3136" y="556"/>
                    <a:pt x="3136" y="557"/>
                  </a:cubicBezTo>
                  <a:lnTo>
                    <a:pt x="3128" y="600"/>
                  </a:lnTo>
                  <a:cubicBezTo>
                    <a:pt x="3128" y="601"/>
                    <a:pt x="3128" y="602"/>
                    <a:pt x="3127" y="603"/>
                  </a:cubicBezTo>
                  <a:lnTo>
                    <a:pt x="3103" y="637"/>
                  </a:lnTo>
                  <a:cubicBezTo>
                    <a:pt x="3102" y="638"/>
                    <a:pt x="3102" y="638"/>
                    <a:pt x="3101" y="639"/>
                  </a:cubicBezTo>
                  <a:lnTo>
                    <a:pt x="3067" y="663"/>
                  </a:lnTo>
                  <a:cubicBezTo>
                    <a:pt x="3066" y="664"/>
                    <a:pt x="3065" y="664"/>
                    <a:pt x="3064" y="664"/>
                  </a:cubicBezTo>
                  <a:lnTo>
                    <a:pt x="3021" y="672"/>
                  </a:lnTo>
                  <a:cubicBezTo>
                    <a:pt x="3020" y="672"/>
                    <a:pt x="3020" y="672"/>
                    <a:pt x="3019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3019" y="656"/>
                  </a:lnTo>
                  <a:lnTo>
                    <a:pt x="3018" y="657"/>
                  </a:lnTo>
                  <a:lnTo>
                    <a:pt x="3061" y="649"/>
                  </a:lnTo>
                  <a:lnTo>
                    <a:pt x="3058" y="650"/>
                  </a:lnTo>
                  <a:lnTo>
                    <a:pt x="3092" y="626"/>
                  </a:lnTo>
                  <a:lnTo>
                    <a:pt x="3090" y="628"/>
                  </a:lnTo>
                  <a:lnTo>
                    <a:pt x="3114" y="594"/>
                  </a:lnTo>
                  <a:lnTo>
                    <a:pt x="3113" y="597"/>
                  </a:lnTo>
                  <a:lnTo>
                    <a:pt x="3121" y="554"/>
                  </a:lnTo>
                  <a:lnTo>
                    <a:pt x="3120" y="555"/>
                  </a:lnTo>
                  <a:lnTo>
                    <a:pt x="3120" y="118"/>
                  </a:lnTo>
                  <a:lnTo>
                    <a:pt x="3121" y="120"/>
                  </a:lnTo>
                  <a:lnTo>
                    <a:pt x="3113" y="77"/>
                  </a:lnTo>
                  <a:lnTo>
                    <a:pt x="3114" y="80"/>
                  </a:lnTo>
                  <a:lnTo>
                    <a:pt x="3090" y="45"/>
                  </a:lnTo>
                  <a:lnTo>
                    <a:pt x="3092" y="47"/>
                  </a:lnTo>
                  <a:lnTo>
                    <a:pt x="3058" y="24"/>
                  </a:lnTo>
                  <a:lnTo>
                    <a:pt x="3061" y="25"/>
                  </a:lnTo>
                  <a:lnTo>
                    <a:pt x="3018" y="16"/>
                  </a:lnTo>
                  <a:lnTo>
                    <a:pt x="3019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86800" y="366084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Fores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13120" y="3817800"/>
              <a:ext cx="119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Collaboration with P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6680" y="3594240"/>
              <a:ext cx="1417680" cy="799920"/>
            </a:xfrm>
            <a:custGeom>
              <a:avLst/>
              <a:gdLst/>
              <a:ahLst/>
              <a:rect l="l" t="t" r="r" b="b"/>
              <a:pathLst>
                <a:path w="2752" h="1552">
                  <a:moveTo>
                    <a:pt x="0" y="776"/>
                  </a:moveTo>
                  <a:cubicBezTo>
                    <a:pt x="0" y="348"/>
                    <a:pt x="617" y="0"/>
                    <a:pt x="1376" y="0"/>
                  </a:cubicBezTo>
                  <a:lnTo>
                    <a:pt x="1376" y="0"/>
                  </a:lnTo>
                  <a:cubicBezTo>
                    <a:pt x="2136" y="0"/>
                    <a:pt x="2752" y="348"/>
                    <a:pt x="2752" y="776"/>
                  </a:cubicBezTo>
                  <a:cubicBezTo>
                    <a:pt x="2752" y="776"/>
                    <a:pt x="2752" y="776"/>
                    <a:pt x="2752" y="776"/>
                  </a:cubicBezTo>
                  <a:lnTo>
                    <a:pt x="2752" y="776"/>
                  </a:lnTo>
                  <a:cubicBezTo>
                    <a:pt x="2752" y="1205"/>
                    <a:pt x="2136" y="1552"/>
                    <a:pt x="1376" y="1552"/>
                  </a:cubicBezTo>
                  <a:cubicBezTo>
                    <a:pt x="1376" y="1552"/>
                    <a:pt x="1376" y="1552"/>
                    <a:pt x="1376" y="1552"/>
                  </a:cubicBezTo>
                  <a:lnTo>
                    <a:pt x="1376" y="1552"/>
                  </a:lnTo>
                  <a:cubicBezTo>
                    <a:pt x="617" y="1552"/>
                    <a:pt x="0" y="1205"/>
                    <a:pt x="0" y="776"/>
                  </a:cubicBezTo>
                  <a:cubicBezTo>
                    <a:pt x="0" y="776"/>
                    <a:pt x="0" y="776"/>
                    <a:pt x="0" y="776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2000" y="3591000"/>
              <a:ext cx="1427040" cy="807840"/>
            </a:xfrm>
            <a:custGeom>
              <a:avLst/>
              <a:gdLst/>
              <a:ahLst/>
              <a:rect l="l" t="t" r="r" b="b"/>
              <a:pathLst>
                <a:path w="2768" h="1568">
                  <a:moveTo>
                    <a:pt x="0" y="785"/>
                  </a:moveTo>
                  <a:cubicBezTo>
                    <a:pt x="0" y="785"/>
                    <a:pt x="0" y="784"/>
                    <a:pt x="0" y="784"/>
                  </a:cubicBezTo>
                  <a:lnTo>
                    <a:pt x="7" y="705"/>
                  </a:lnTo>
                  <a:cubicBezTo>
                    <a:pt x="8" y="704"/>
                    <a:pt x="8" y="704"/>
                    <a:pt x="8" y="703"/>
                  </a:cubicBezTo>
                  <a:lnTo>
                    <a:pt x="29" y="626"/>
                  </a:lnTo>
                  <a:cubicBezTo>
                    <a:pt x="29" y="626"/>
                    <a:pt x="29" y="626"/>
                    <a:pt x="29" y="625"/>
                  </a:cubicBezTo>
                  <a:lnTo>
                    <a:pt x="63" y="550"/>
                  </a:lnTo>
                  <a:cubicBezTo>
                    <a:pt x="63" y="550"/>
                    <a:pt x="64" y="549"/>
                    <a:pt x="64" y="549"/>
                  </a:cubicBezTo>
                  <a:lnTo>
                    <a:pt x="110" y="478"/>
                  </a:lnTo>
                  <a:lnTo>
                    <a:pt x="168" y="409"/>
                  </a:lnTo>
                  <a:lnTo>
                    <a:pt x="238" y="345"/>
                  </a:lnTo>
                  <a:lnTo>
                    <a:pt x="319" y="285"/>
                  </a:lnTo>
                  <a:lnTo>
                    <a:pt x="407" y="230"/>
                  </a:lnTo>
                  <a:lnTo>
                    <a:pt x="506" y="178"/>
                  </a:lnTo>
                  <a:lnTo>
                    <a:pt x="612" y="134"/>
                  </a:lnTo>
                  <a:lnTo>
                    <a:pt x="727" y="95"/>
                  </a:lnTo>
                  <a:lnTo>
                    <a:pt x="847" y="62"/>
                  </a:lnTo>
                  <a:lnTo>
                    <a:pt x="974" y="36"/>
                  </a:lnTo>
                  <a:lnTo>
                    <a:pt x="1106" y="17"/>
                  </a:lnTo>
                  <a:lnTo>
                    <a:pt x="1243" y="4"/>
                  </a:lnTo>
                  <a:lnTo>
                    <a:pt x="1384" y="0"/>
                  </a:lnTo>
                  <a:lnTo>
                    <a:pt x="1526" y="4"/>
                  </a:lnTo>
                  <a:lnTo>
                    <a:pt x="1662" y="16"/>
                  </a:lnTo>
                  <a:lnTo>
                    <a:pt x="1795" y="36"/>
                  </a:lnTo>
                  <a:lnTo>
                    <a:pt x="1922" y="62"/>
                  </a:lnTo>
                  <a:lnTo>
                    <a:pt x="2043" y="95"/>
                  </a:lnTo>
                  <a:lnTo>
                    <a:pt x="2156" y="134"/>
                  </a:lnTo>
                  <a:lnTo>
                    <a:pt x="2263" y="178"/>
                  </a:lnTo>
                  <a:lnTo>
                    <a:pt x="2361" y="229"/>
                  </a:lnTo>
                  <a:lnTo>
                    <a:pt x="2451" y="285"/>
                  </a:lnTo>
                  <a:lnTo>
                    <a:pt x="2530" y="344"/>
                  </a:lnTo>
                  <a:lnTo>
                    <a:pt x="2600" y="409"/>
                  </a:lnTo>
                  <a:lnTo>
                    <a:pt x="2659" y="477"/>
                  </a:lnTo>
                  <a:lnTo>
                    <a:pt x="2705" y="549"/>
                  </a:lnTo>
                  <a:cubicBezTo>
                    <a:pt x="2705" y="549"/>
                    <a:pt x="2706" y="550"/>
                    <a:pt x="2706" y="550"/>
                  </a:cubicBezTo>
                  <a:lnTo>
                    <a:pt x="2740" y="625"/>
                  </a:lnTo>
                  <a:cubicBezTo>
                    <a:pt x="2740" y="626"/>
                    <a:pt x="2740" y="626"/>
                    <a:pt x="2740" y="626"/>
                  </a:cubicBezTo>
                  <a:lnTo>
                    <a:pt x="2761" y="703"/>
                  </a:lnTo>
                  <a:cubicBezTo>
                    <a:pt x="2761" y="704"/>
                    <a:pt x="2761" y="704"/>
                    <a:pt x="2761" y="705"/>
                  </a:cubicBezTo>
                  <a:lnTo>
                    <a:pt x="2768" y="784"/>
                  </a:lnTo>
                  <a:cubicBezTo>
                    <a:pt x="2768" y="784"/>
                    <a:pt x="2768" y="785"/>
                    <a:pt x="2768" y="785"/>
                  </a:cubicBezTo>
                  <a:lnTo>
                    <a:pt x="2761" y="864"/>
                  </a:lnTo>
                  <a:cubicBezTo>
                    <a:pt x="2761" y="865"/>
                    <a:pt x="2761" y="865"/>
                    <a:pt x="2761" y="866"/>
                  </a:cubicBezTo>
                  <a:lnTo>
                    <a:pt x="2740" y="944"/>
                  </a:lnTo>
                  <a:cubicBezTo>
                    <a:pt x="2740" y="944"/>
                    <a:pt x="2740" y="944"/>
                    <a:pt x="2740" y="945"/>
                  </a:cubicBezTo>
                  <a:lnTo>
                    <a:pt x="2706" y="1019"/>
                  </a:lnTo>
                  <a:cubicBezTo>
                    <a:pt x="2706" y="1019"/>
                    <a:pt x="2705" y="1019"/>
                    <a:pt x="2705" y="1020"/>
                  </a:cubicBezTo>
                  <a:lnTo>
                    <a:pt x="2659" y="1091"/>
                  </a:lnTo>
                  <a:lnTo>
                    <a:pt x="2601" y="1160"/>
                  </a:lnTo>
                  <a:lnTo>
                    <a:pt x="2531" y="1224"/>
                  </a:lnTo>
                  <a:lnTo>
                    <a:pt x="2451" y="1285"/>
                  </a:lnTo>
                  <a:lnTo>
                    <a:pt x="2362" y="1340"/>
                  </a:lnTo>
                  <a:lnTo>
                    <a:pt x="2263" y="1391"/>
                  </a:lnTo>
                  <a:lnTo>
                    <a:pt x="2157" y="1436"/>
                  </a:lnTo>
                  <a:lnTo>
                    <a:pt x="2043" y="1474"/>
                  </a:lnTo>
                  <a:lnTo>
                    <a:pt x="1923" y="1507"/>
                  </a:lnTo>
                  <a:lnTo>
                    <a:pt x="1795" y="1533"/>
                  </a:lnTo>
                  <a:lnTo>
                    <a:pt x="1663" y="1552"/>
                  </a:lnTo>
                  <a:lnTo>
                    <a:pt x="1526" y="1564"/>
                  </a:lnTo>
                  <a:lnTo>
                    <a:pt x="1385" y="1568"/>
                  </a:lnTo>
                  <a:lnTo>
                    <a:pt x="1243" y="1564"/>
                  </a:lnTo>
                  <a:lnTo>
                    <a:pt x="1107" y="1552"/>
                  </a:lnTo>
                  <a:lnTo>
                    <a:pt x="974" y="1533"/>
                  </a:lnTo>
                  <a:lnTo>
                    <a:pt x="848" y="1507"/>
                  </a:lnTo>
                  <a:lnTo>
                    <a:pt x="727" y="1474"/>
                  </a:lnTo>
                  <a:lnTo>
                    <a:pt x="613" y="1436"/>
                  </a:lnTo>
                  <a:lnTo>
                    <a:pt x="506" y="1391"/>
                  </a:lnTo>
                  <a:lnTo>
                    <a:pt x="408" y="1341"/>
                  </a:lnTo>
                  <a:lnTo>
                    <a:pt x="319" y="1285"/>
                  </a:lnTo>
                  <a:lnTo>
                    <a:pt x="239" y="1225"/>
                  </a:lnTo>
                  <a:lnTo>
                    <a:pt x="169" y="1160"/>
                  </a:lnTo>
                  <a:lnTo>
                    <a:pt x="110" y="1092"/>
                  </a:lnTo>
                  <a:lnTo>
                    <a:pt x="64" y="1020"/>
                  </a:lnTo>
                  <a:cubicBezTo>
                    <a:pt x="64" y="1019"/>
                    <a:pt x="63" y="1019"/>
                    <a:pt x="63" y="1019"/>
                  </a:cubicBezTo>
                  <a:lnTo>
                    <a:pt x="29" y="945"/>
                  </a:lnTo>
                  <a:cubicBezTo>
                    <a:pt x="29" y="944"/>
                    <a:pt x="29" y="944"/>
                    <a:pt x="29" y="944"/>
                  </a:cubicBezTo>
                  <a:lnTo>
                    <a:pt x="8" y="866"/>
                  </a:lnTo>
                  <a:cubicBezTo>
                    <a:pt x="8" y="865"/>
                    <a:pt x="8" y="865"/>
                    <a:pt x="7" y="864"/>
                  </a:cubicBezTo>
                  <a:lnTo>
                    <a:pt x="0" y="785"/>
                  </a:lnTo>
                  <a:close/>
                  <a:moveTo>
                    <a:pt x="23" y="863"/>
                  </a:moveTo>
                  <a:lnTo>
                    <a:pt x="23" y="861"/>
                  </a:lnTo>
                  <a:lnTo>
                    <a:pt x="44" y="939"/>
                  </a:lnTo>
                  <a:lnTo>
                    <a:pt x="44" y="938"/>
                  </a:lnTo>
                  <a:lnTo>
                    <a:pt x="78" y="1012"/>
                  </a:lnTo>
                  <a:lnTo>
                    <a:pt x="77" y="1011"/>
                  </a:lnTo>
                  <a:lnTo>
                    <a:pt x="123" y="1081"/>
                  </a:lnTo>
                  <a:lnTo>
                    <a:pt x="180" y="1149"/>
                  </a:lnTo>
                  <a:lnTo>
                    <a:pt x="248" y="1212"/>
                  </a:lnTo>
                  <a:lnTo>
                    <a:pt x="328" y="1272"/>
                  </a:lnTo>
                  <a:lnTo>
                    <a:pt x="415" y="1326"/>
                  </a:lnTo>
                  <a:lnTo>
                    <a:pt x="513" y="1376"/>
                  </a:lnTo>
                  <a:lnTo>
                    <a:pt x="618" y="1421"/>
                  </a:lnTo>
                  <a:lnTo>
                    <a:pt x="732" y="1459"/>
                  </a:lnTo>
                  <a:lnTo>
                    <a:pt x="851" y="1492"/>
                  </a:lnTo>
                  <a:lnTo>
                    <a:pt x="977" y="1518"/>
                  </a:lnTo>
                  <a:lnTo>
                    <a:pt x="1108" y="1536"/>
                  </a:lnTo>
                  <a:lnTo>
                    <a:pt x="1244" y="1548"/>
                  </a:lnTo>
                  <a:lnTo>
                    <a:pt x="1384" y="1552"/>
                  </a:lnTo>
                  <a:lnTo>
                    <a:pt x="1525" y="1548"/>
                  </a:lnTo>
                  <a:lnTo>
                    <a:pt x="1660" y="1537"/>
                  </a:lnTo>
                  <a:lnTo>
                    <a:pt x="1792" y="1518"/>
                  </a:lnTo>
                  <a:lnTo>
                    <a:pt x="1918" y="1492"/>
                  </a:lnTo>
                  <a:lnTo>
                    <a:pt x="2038" y="1459"/>
                  </a:lnTo>
                  <a:lnTo>
                    <a:pt x="2150" y="1421"/>
                  </a:lnTo>
                  <a:lnTo>
                    <a:pt x="2256" y="1376"/>
                  </a:lnTo>
                  <a:lnTo>
                    <a:pt x="2353" y="1327"/>
                  </a:lnTo>
                  <a:lnTo>
                    <a:pt x="2442" y="1272"/>
                  </a:lnTo>
                  <a:lnTo>
                    <a:pt x="2520" y="1213"/>
                  </a:lnTo>
                  <a:lnTo>
                    <a:pt x="2588" y="1149"/>
                  </a:lnTo>
                  <a:lnTo>
                    <a:pt x="2646" y="1082"/>
                  </a:lnTo>
                  <a:lnTo>
                    <a:pt x="2692" y="1011"/>
                  </a:lnTo>
                  <a:lnTo>
                    <a:pt x="2691" y="1012"/>
                  </a:lnTo>
                  <a:lnTo>
                    <a:pt x="2725" y="938"/>
                  </a:lnTo>
                  <a:lnTo>
                    <a:pt x="2725" y="939"/>
                  </a:lnTo>
                  <a:lnTo>
                    <a:pt x="2746" y="861"/>
                  </a:lnTo>
                  <a:lnTo>
                    <a:pt x="2745" y="863"/>
                  </a:lnTo>
                  <a:lnTo>
                    <a:pt x="2752" y="784"/>
                  </a:lnTo>
                  <a:lnTo>
                    <a:pt x="2752" y="785"/>
                  </a:lnTo>
                  <a:lnTo>
                    <a:pt x="2745" y="706"/>
                  </a:lnTo>
                  <a:lnTo>
                    <a:pt x="2746" y="708"/>
                  </a:lnTo>
                  <a:lnTo>
                    <a:pt x="2725" y="631"/>
                  </a:lnTo>
                  <a:lnTo>
                    <a:pt x="2725" y="632"/>
                  </a:lnTo>
                  <a:lnTo>
                    <a:pt x="2691" y="557"/>
                  </a:lnTo>
                  <a:lnTo>
                    <a:pt x="2692" y="558"/>
                  </a:lnTo>
                  <a:lnTo>
                    <a:pt x="2646" y="488"/>
                  </a:lnTo>
                  <a:lnTo>
                    <a:pt x="2589" y="420"/>
                  </a:lnTo>
                  <a:lnTo>
                    <a:pt x="2521" y="357"/>
                  </a:lnTo>
                  <a:lnTo>
                    <a:pt x="2442" y="298"/>
                  </a:lnTo>
                  <a:lnTo>
                    <a:pt x="2354" y="244"/>
                  </a:lnTo>
                  <a:lnTo>
                    <a:pt x="2256" y="193"/>
                  </a:lnTo>
                  <a:lnTo>
                    <a:pt x="2151" y="149"/>
                  </a:lnTo>
                  <a:lnTo>
                    <a:pt x="2038" y="110"/>
                  </a:lnTo>
                  <a:lnTo>
                    <a:pt x="1919" y="77"/>
                  </a:lnTo>
                  <a:lnTo>
                    <a:pt x="1792" y="51"/>
                  </a:lnTo>
                  <a:lnTo>
                    <a:pt x="1661" y="32"/>
                  </a:lnTo>
                  <a:lnTo>
                    <a:pt x="1525" y="20"/>
                  </a:lnTo>
                  <a:lnTo>
                    <a:pt x="1385" y="16"/>
                  </a:lnTo>
                  <a:lnTo>
                    <a:pt x="1244" y="20"/>
                  </a:lnTo>
                  <a:lnTo>
                    <a:pt x="1109" y="32"/>
                  </a:lnTo>
                  <a:lnTo>
                    <a:pt x="977" y="51"/>
                  </a:lnTo>
                  <a:lnTo>
                    <a:pt x="852" y="77"/>
                  </a:lnTo>
                  <a:lnTo>
                    <a:pt x="732" y="110"/>
                  </a:lnTo>
                  <a:lnTo>
                    <a:pt x="619" y="149"/>
                  </a:lnTo>
                  <a:lnTo>
                    <a:pt x="513" y="193"/>
                  </a:lnTo>
                  <a:lnTo>
                    <a:pt x="416" y="243"/>
                  </a:lnTo>
                  <a:lnTo>
                    <a:pt x="328" y="298"/>
                  </a:lnTo>
                  <a:lnTo>
                    <a:pt x="249" y="356"/>
                  </a:lnTo>
                  <a:lnTo>
                    <a:pt x="181" y="420"/>
                  </a:lnTo>
                  <a:lnTo>
                    <a:pt x="123" y="487"/>
                  </a:lnTo>
                  <a:lnTo>
                    <a:pt x="77" y="558"/>
                  </a:lnTo>
                  <a:lnTo>
                    <a:pt x="78" y="557"/>
                  </a:lnTo>
                  <a:lnTo>
                    <a:pt x="44" y="632"/>
                  </a:lnTo>
                  <a:lnTo>
                    <a:pt x="44" y="631"/>
                  </a:lnTo>
                  <a:lnTo>
                    <a:pt x="23" y="708"/>
                  </a:lnTo>
                  <a:lnTo>
                    <a:pt x="23" y="706"/>
                  </a:lnTo>
                  <a:lnTo>
                    <a:pt x="16" y="785"/>
                  </a:lnTo>
                  <a:lnTo>
                    <a:pt x="16" y="784"/>
                  </a:lnTo>
                  <a:lnTo>
                    <a:pt x="23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65880" y="3753000"/>
              <a:ext cx="71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Collaborativ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90440" y="3909960"/>
              <a:ext cx="47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re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05920" y="4067280"/>
              <a:ext cx="4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65280" y="6094440"/>
              <a:ext cx="270000" cy="253800"/>
            </a:xfrm>
            <a:custGeom>
              <a:avLst/>
              <a:gdLst/>
              <a:ahLst/>
              <a:rect l="l" t="t" r="r" b="b"/>
              <a:pathLst>
                <a:path w="170" h="160">
                  <a:moveTo>
                    <a:pt x="170" y="160"/>
                  </a:moveTo>
                  <a:lnTo>
                    <a:pt x="0" y="16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52"/>
                  </a:lnTo>
                  <a:lnTo>
                    <a:pt x="8" y="144"/>
                  </a:lnTo>
                  <a:lnTo>
                    <a:pt x="170" y="144"/>
                  </a:lnTo>
                  <a:lnTo>
                    <a:pt x="17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65280" y="5227560"/>
              <a:ext cx="270000" cy="277920"/>
            </a:xfrm>
            <a:custGeom>
              <a:avLst/>
              <a:gdLst/>
              <a:ahLst/>
              <a:rect l="l" t="t" r="r" b="b"/>
              <a:pathLst>
                <a:path w="170" h="175">
                  <a:moveTo>
                    <a:pt x="170" y="175"/>
                  </a:moveTo>
                  <a:lnTo>
                    <a:pt x="0" y="17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7"/>
                  </a:lnTo>
                  <a:lnTo>
                    <a:pt x="8" y="160"/>
                  </a:lnTo>
                  <a:lnTo>
                    <a:pt x="170" y="160"/>
                  </a:lnTo>
                  <a:lnTo>
                    <a:pt x="17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5280" y="4362480"/>
              <a:ext cx="268560" cy="295200"/>
            </a:xfrm>
            <a:custGeom>
              <a:avLst/>
              <a:gdLst/>
              <a:ahLst/>
              <a:rect l="l" t="t" r="r" b="b"/>
              <a:pathLst>
                <a:path w="169" h="186">
                  <a:moveTo>
                    <a:pt x="169" y="186"/>
                  </a:moveTo>
                  <a:lnTo>
                    <a:pt x="0" y="18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8"/>
                  </a:lnTo>
                  <a:lnTo>
                    <a:pt x="8" y="170"/>
                  </a:lnTo>
                  <a:lnTo>
                    <a:pt x="169" y="170"/>
                  </a:lnTo>
                  <a:lnTo>
                    <a:pt x="169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3600" y="3181320"/>
              <a:ext cx="189000" cy="2752920"/>
            </a:xfrm>
            <a:custGeom>
              <a:avLst/>
              <a:gdLst/>
              <a:ahLst/>
              <a:rect l="l" t="t" r="r" b="b"/>
              <a:pathLst>
                <a:path w="119" h="1734">
                  <a:moveTo>
                    <a:pt x="119" y="1734"/>
                  </a:moveTo>
                  <a:lnTo>
                    <a:pt x="0" y="17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27"/>
                  </a:lnTo>
                  <a:lnTo>
                    <a:pt x="8" y="1719"/>
                  </a:lnTo>
                  <a:lnTo>
                    <a:pt x="119" y="1719"/>
                  </a:lnTo>
                  <a:lnTo>
                    <a:pt x="119" y="17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33600" y="3181320"/>
              <a:ext cx="189000" cy="1887480"/>
            </a:xfrm>
            <a:custGeom>
              <a:avLst/>
              <a:gdLst/>
              <a:ahLst/>
              <a:rect l="l" t="t" r="r" b="b"/>
              <a:pathLst>
                <a:path w="119" h="1189">
                  <a:moveTo>
                    <a:pt x="119" y="1189"/>
                  </a:moveTo>
                  <a:lnTo>
                    <a:pt x="0" y="118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181"/>
                  </a:lnTo>
                  <a:lnTo>
                    <a:pt x="8" y="1173"/>
                  </a:lnTo>
                  <a:lnTo>
                    <a:pt x="119" y="1173"/>
                  </a:lnTo>
                  <a:lnTo>
                    <a:pt x="119" y="1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33600" y="3181320"/>
              <a:ext cx="190440" cy="1020960"/>
            </a:xfrm>
            <a:custGeom>
              <a:avLst/>
              <a:gdLst/>
              <a:ahLst/>
              <a:rect l="l" t="t" r="r" b="b"/>
              <a:pathLst>
                <a:path w="120" h="643">
                  <a:moveTo>
                    <a:pt x="120" y="643"/>
                  </a:moveTo>
                  <a:lnTo>
                    <a:pt x="0" y="64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35"/>
                  </a:lnTo>
                  <a:lnTo>
                    <a:pt x="8" y="628"/>
                  </a:lnTo>
                  <a:lnTo>
                    <a:pt x="120" y="628"/>
                  </a:lnTo>
                  <a:lnTo>
                    <a:pt x="120" y="6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33600" y="2567160"/>
              <a:ext cx="1798560" cy="277560"/>
            </a:xfrm>
            <a:custGeom>
              <a:avLst/>
              <a:gdLst/>
              <a:ahLst/>
              <a:rect l="l" t="t" r="r" b="b"/>
              <a:pathLst>
                <a:path w="1133" h="175">
                  <a:moveTo>
                    <a:pt x="0" y="175"/>
                  </a:moveTo>
                  <a:lnTo>
                    <a:pt x="0" y="0"/>
                  </a:lnTo>
                  <a:lnTo>
                    <a:pt x="1133" y="0"/>
                  </a:lnTo>
                  <a:lnTo>
                    <a:pt x="1133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62240" y="2071800"/>
              <a:ext cx="422280" cy="27000"/>
            </a:xfrm>
            <a:custGeom>
              <a:avLst/>
              <a:gdLst/>
              <a:ahLst/>
              <a:rect l="l" t="t" r="r" b="b"/>
              <a:pathLst>
                <a:path w="266" h="17">
                  <a:moveTo>
                    <a:pt x="0" y="0"/>
                  </a:moveTo>
                  <a:lnTo>
                    <a:pt x="141" y="0"/>
                  </a:lnTo>
                  <a:lnTo>
                    <a:pt x="141" y="9"/>
                  </a:lnTo>
                  <a:lnTo>
                    <a:pt x="133" y="1"/>
                  </a:lnTo>
                  <a:lnTo>
                    <a:pt x="266" y="1"/>
                  </a:lnTo>
                  <a:lnTo>
                    <a:pt x="266" y="17"/>
                  </a:lnTo>
                  <a:lnTo>
                    <a:pt x="126" y="17"/>
                  </a:lnTo>
                  <a:lnTo>
                    <a:pt x="126" y="8"/>
                  </a:lnTo>
                  <a:lnTo>
                    <a:pt x="133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54720" y="2567160"/>
              <a:ext cx="1506600" cy="277560"/>
            </a:xfrm>
            <a:custGeom>
              <a:avLst/>
              <a:gdLst/>
              <a:ahLst/>
              <a:rect l="l" t="t" r="r" b="b"/>
              <a:pathLst>
                <a:path w="949" h="175">
                  <a:moveTo>
                    <a:pt x="934" y="175"/>
                  </a:moveTo>
                  <a:lnTo>
                    <a:pt x="934" y="8"/>
                  </a:lnTo>
                  <a:lnTo>
                    <a:pt x="94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49" y="0"/>
                  </a:lnTo>
                  <a:lnTo>
                    <a:pt x="949" y="175"/>
                  </a:lnTo>
                  <a:lnTo>
                    <a:pt x="934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78320" y="2257560"/>
              <a:ext cx="28440" cy="160200"/>
            </a:xfrm>
            <a:custGeom>
              <a:avLst/>
              <a:gdLst/>
              <a:ahLst/>
              <a:rect l="l" t="t" r="r" b="b"/>
              <a:pathLst>
                <a:path w="18" h="101">
                  <a:moveTo>
                    <a:pt x="2" y="10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8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78320" y="176220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0" y="102"/>
                  </a:moveTo>
                  <a:lnTo>
                    <a:pt x="1" y="0"/>
                  </a:lnTo>
                  <a:lnTo>
                    <a:pt x="17" y="1"/>
                  </a:lnTo>
                  <a:lnTo>
                    <a:pt x="16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3080" y="1424160"/>
              <a:ext cx="1616040" cy="338040"/>
            </a:xfrm>
            <a:custGeom>
              <a:avLst/>
              <a:gdLst/>
              <a:ahLst/>
              <a:rect l="l" t="t" r="r" b="b"/>
              <a:pathLst>
                <a:path w="3136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3027" y="0"/>
                  </a:lnTo>
                  <a:lnTo>
                    <a:pt x="3027" y="0"/>
                  </a:lnTo>
                  <a:cubicBezTo>
                    <a:pt x="3088" y="0"/>
                    <a:pt x="3136" y="49"/>
                    <a:pt x="3136" y="110"/>
                  </a:cubicBezTo>
                  <a:cubicBezTo>
                    <a:pt x="3136" y="110"/>
                    <a:pt x="3136" y="110"/>
                    <a:pt x="3136" y="110"/>
                  </a:cubicBezTo>
                  <a:lnTo>
                    <a:pt x="3136" y="110"/>
                  </a:lnTo>
                  <a:lnTo>
                    <a:pt x="3136" y="547"/>
                  </a:lnTo>
                  <a:lnTo>
                    <a:pt x="3136" y="547"/>
                  </a:lnTo>
                  <a:cubicBezTo>
                    <a:pt x="3136" y="608"/>
                    <a:pt x="3088" y="656"/>
                    <a:pt x="3027" y="656"/>
                  </a:cubicBezTo>
                  <a:cubicBezTo>
                    <a:pt x="3027" y="656"/>
                    <a:pt x="3027" y="656"/>
                    <a:pt x="3027" y="656"/>
                  </a:cubicBezTo>
                  <a:lnTo>
                    <a:pt x="3027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ec752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79840" y="1420920"/>
              <a:ext cx="1623960" cy="345960"/>
            </a:xfrm>
            <a:custGeom>
              <a:avLst/>
              <a:gdLst/>
              <a:ahLst/>
              <a:rect l="l" t="t" r="r" b="b"/>
              <a:pathLst>
                <a:path w="3152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3035" y="0"/>
                  </a:lnTo>
                  <a:cubicBezTo>
                    <a:pt x="3036" y="0"/>
                    <a:pt x="3037" y="1"/>
                    <a:pt x="3037" y="1"/>
                  </a:cubicBezTo>
                  <a:lnTo>
                    <a:pt x="3080" y="10"/>
                  </a:lnTo>
                  <a:cubicBezTo>
                    <a:pt x="3081" y="10"/>
                    <a:pt x="3082" y="10"/>
                    <a:pt x="3083" y="11"/>
                  </a:cubicBezTo>
                  <a:lnTo>
                    <a:pt x="3117" y="34"/>
                  </a:lnTo>
                  <a:cubicBezTo>
                    <a:pt x="3118" y="34"/>
                    <a:pt x="3119" y="35"/>
                    <a:pt x="3119" y="36"/>
                  </a:cubicBezTo>
                  <a:lnTo>
                    <a:pt x="3143" y="71"/>
                  </a:lnTo>
                  <a:cubicBezTo>
                    <a:pt x="3144" y="72"/>
                    <a:pt x="3144" y="73"/>
                    <a:pt x="3144" y="74"/>
                  </a:cubicBezTo>
                  <a:lnTo>
                    <a:pt x="3152" y="117"/>
                  </a:lnTo>
                  <a:cubicBezTo>
                    <a:pt x="3152" y="117"/>
                    <a:pt x="3152" y="118"/>
                    <a:pt x="3152" y="118"/>
                  </a:cubicBezTo>
                  <a:lnTo>
                    <a:pt x="3152" y="555"/>
                  </a:lnTo>
                  <a:cubicBezTo>
                    <a:pt x="3152" y="556"/>
                    <a:pt x="3152" y="556"/>
                    <a:pt x="3152" y="557"/>
                  </a:cubicBezTo>
                  <a:lnTo>
                    <a:pt x="3144" y="600"/>
                  </a:lnTo>
                  <a:cubicBezTo>
                    <a:pt x="3144" y="601"/>
                    <a:pt x="3144" y="602"/>
                    <a:pt x="3143" y="603"/>
                  </a:cubicBezTo>
                  <a:lnTo>
                    <a:pt x="3119" y="637"/>
                  </a:lnTo>
                  <a:cubicBezTo>
                    <a:pt x="3118" y="638"/>
                    <a:pt x="3118" y="638"/>
                    <a:pt x="3117" y="639"/>
                  </a:cubicBezTo>
                  <a:lnTo>
                    <a:pt x="3083" y="663"/>
                  </a:lnTo>
                  <a:cubicBezTo>
                    <a:pt x="3082" y="664"/>
                    <a:pt x="3081" y="664"/>
                    <a:pt x="3080" y="664"/>
                  </a:cubicBezTo>
                  <a:lnTo>
                    <a:pt x="3037" y="672"/>
                  </a:lnTo>
                  <a:cubicBezTo>
                    <a:pt x="3036" y="672"/>
                    <a:pt x="3036" y="672"/>
                    <a:pt x="3035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3035" y="656"/>
                  </a:lnTo>
                  <a:lnTo>
                    <a:pt x="3034" y="657"/>
                  </a:lnTo>
                  <a:lnTo>
                    <a:pt x="3077" y="649"/>
                  </a:lnTo>
                  <a:lnTo>
                    <a:pt x="3074" y="650"/>
                  </a:lnTo>
                  <a:lnTo>
                    <a:pt x="3108" y="626"/>
                  </a:lnTo>
                  <a:lnTo>
                    <a:pt x="3106" y="628"/>
                  </a:lnTo>
                  <a:lnTo>
                    <a:pt x="3130" y="594"/>
                  </a:lnTo>
                  <a:lnTo>
                    <a:pt x="3129" y="597"/>
                  </a:lnTo>
                  <a:lnTo>
                    <a:pt x="3137" y="554"/>
                  </a:lnTo>
                  <a:lnTo>
                    <a:pt x="3136" y="555"/>
                  </a:lnTo>
                  <a:lnTo>
                    <a:pt x="3136" y="118"/>
                  </a:lnTo>
                  <a:lnTo>
                    <a:pt x="3137" y="120"/>
                  </a:lnTo>
                  <a:lnTo>
                    <a:pt x="3129" y="77"/>
                  </a:lnTo>
                  <a:lnTo>
                    <a:pt x="3130" y="80"/>
                  </a:lnTo>
                  <a:lnTo>
                    <a:pt x="3106" y="45"/>
                  </a:lnTo>
                  <a:lnTo>
                    <a:pt x="3108" y="47"/>
                  </a:lnTo>
                  <a:lnTo>
                    <a:pt x="3074" y="24"/>
                  </a:lnTo>
                  <a:lnTo>
                    <a:pt x="3077" y="25"/>
                  </a:lnTo>
                  <a:lnTo>
                    <a:pt x="3034" y="16"/>
                  </a:lnTo>
                  <a:lnTo>
                    <a:pt x="3035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70360" y="151272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Governing 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83080" y="1919160"/>
              <a:ext cx="1616040" cy="338400"/>
            </a:xfrm>
            <a:custGeom>
              <a:avLst/>
              <a:gdLst/>
              <a:ahLst/>
              <a:rect l="l" t="t" r="r" b="b"/>
              <a:pathLst>
                <a:path w="3136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3027" y="0"/>
                  </a:lnTo>
                  <a:lnTo>
                    <a:pt x="3027" y="0"/>
                  </a:lnTo>
                  <a:cubicBezTo>
                    <a:pt x="3088" y="0"/>
                    <a:pt x="3136" y="49"/>
                    <a:pt x="3136" y="110"/>
                  </a:cubicBezTo>
                  <a:cubicBezTo>
                    <a:pt x="3136" y="110"/>
                    <a:pt x="3136" y="110"/>
                    <a:pt x="3136" y="110"/>
                  </a:cubicBezTo>
                  <a:lnTo>
                    <a:pt x="3136" y="110"/>
                  </a:lnTo>
                  <a:lnTo>
                    <a:pt x="3136" y="547"/>
                  </a:lnTo>
                  <a:lnTo>
                    <a:pt x="3136" y="547"/>
                  </a:lnTo>
                  <a:cubicBezTo>
                    <a:pt x="3136" y="608"/>
                    <a:pt x="3088" y="656"/>
                    <a:pt x="3027" y="656"/>
                  </a:cubicBezTo>
                  <a:cubicBezTo>
                    <a:pt x="3027" y="656"/>
                    <a:pt x="3027" y="656"/>
                    <a:pt x="3027" y="656"/>
                  </a:cubicBezTo>
                  <a:lnTo>
                    <a:pt x="3027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ff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79840" y="1914480"/>
              <a:ext cx="1623960" cy="347760"/>
            </a:xfrm>
            <a:custGeom>
              <a:avLst/>
              <a:gdLst/>
              <a:ahLst/>
              <a:rect l="l" t="t" r="r" b="b"/>
              <a:pathLst>
                <a:path w="3152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3035" y="0"/>
                  </a:lnTo>
                  <a:cubicBezTo>
                    <a:pt x="3036" y="0"/>
                    <a:pt x="3037" y="1"/>
                    <a:pt x="3037" y="1"/>
                  </a:cubicBezTo>
                  <a:lnTo>
                    <a:pt x="3080" y="10"/>
                  </a:lnTo>
                  <a:cubicBezTo>
                    <a:pt x="3081" y="10"/>
                    <a:pt x="3082" y="10"/>
                    <a:pt x="3083" y="11"/>
                  </a:cubicBezTo>
                  <a:lnTo>
                    <a:pt x="3117" y="34"/>
                  </a:lnTo>
                  <a:cubicBezTo>
                    <a:pt x="3118" y="34"/>
                    <a:pt x="3119" y="35"/>
                    <a:pt x="3119" y="36"/>
                  </a:cubicBezTo>
                  <a:lnTo>
                    <a:pt x="3143" y="71"/>
                  </a:lnTo>
                  <a:cubicBezTo>
                    <a:pt x="3144" y="72"/>
                    <a:pt x="3144" y="73"/>
                    <a:pt x="3144" y="74"/>
                  </a:cubicBezTo>
                  <a:lnTo>
                    <a:pt x="3152" y="117"/>
                  </a:lnTo>
                  <a:cubicBezTo>
                    <a:pt x="3152" y="117"/>
                    <a:pt x="3152" y="118"/>
                    <a:pt x="3152" y="118"/>
                  </a:cubicBezTo>
                  <a:lnTo>
                    <a:pt x="3152" y="555"/>
                  </a:lnTo>
                  <a:cubicBezTo>
                    <a:pt x="3152" y="556"/>
                    <a:pt x="3152" y="556"/>
                    <a:pt x="3152" y="557"/>
                  </a:cubicBezTo>
                  <a:lnTo>
                    <a:pt x="3144" y="600"/>
                  </a:lnTo>
                  <a:cubicBezTo>
                    <a:pt x="3144" y="601"/>
                    <a:pt x="3144" y="602"/>
                    <a:pt x="3143" y="603"/>
                  </a:cubicBezTo>
                  <a:lnTo>
                    <a:pt x="3119" y="637"/>
                  </a:lnTo>
                  <a:cubicBezTo>
                    <a:pt x="3118" y="638"/>
                    <a:pt x="3118" y="638"/>
                    <a:pt x="3117" y="639"/>
                  </a:cubicBezTo>
                  <a:lnTo>
                    <a:pt x="3083" y="663"/>
                  </a:lnTo>
                  <a:cubicBezTo>
                    <a:pt x="3082" y="664"/>
                    <a:pt x="3081" y="664"/>
                    <a:pt x="3080" y="664"/>
                  </a:cubicBezTo>
                  <a:lnTo>
                    <a:pt x="3037" y="672"/>
                  </a:lnTo>
                  <a:cubicBezTo>
                    <a:pt x="3036" y="672"/>
                    <a:pt x="3036" y="672"/>
                    <a:pt x="3035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3035" y="656"/>
                  </a:lnTo>
                  <a:lnTo>
                    <a:pt x="3034" y="657"/>
                  </a:lnTo>
                  <a:lnTo>
                    <a:pt x="3077" y="649"/>
                  </a:lnTo>
                  <a:lnTo>
                    <a:pt x="3074" y="650"/>
                  </a:lnTo>
                  <a:lnTo>
                    <a:pt x="3108" y="626"/>
                  </a:lnTo>
                  <a:lnTo>
                    <a:pt x="3106" y="628"/>
                  </a:lnTo>
                  <a:lnTo>
                    <a:pt x="3130" y="594"/>
                  </a:lnTo>
                  <a:lnTo>
                    <a:pt x="3129" y="597"/>
                  </a:lnTo>
                  <a:lnTo>
                    <a:pt x="3137" y="554"/>
                  </a:lnTo>
                  <a:lnTo>
                    <a:pt x="3136" y="555"/>
                  </a:lnTo>
                  <a:lnTo>
                    <a:pt x="3136" y="118"/>
                  </a:lnTo>
                  <a:lnTo>
                    <a:pt x="3137" y="120"/>
                  </a:lnTo>
                  <a:lnTo>
                    <a:pt x="3129" y="77"/>
                  </a:lnTo>
                  <a:lnTo>
                    <a:pt x="3130" y="80"/>
                  </a:lnTo>
                  <a:lnTo>
                    <a:pt x="3106" y="45"/>
                  </a:lnTo>
                  <a:lnTo>
                    <a:pt x="3108" y="47"/>
                  </a:lnTo>
                  <a:lnTo>
                    <a:pt x="3074" y="24"/>
                  </a:lnTo>
                  <a:lnTo>
                    <a:pt x="3077" y="25"/>
                  </a:lnTo>
                  <a:lnTo>
                    <a:pt x="3034" y="16"/>
                  </a:lnTo>
                  <a:lnTo>
                    <a:pt x="3035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98720" y="2008080"/>
              <a:ext cx="111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Executive Committ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35400" y="2414520"/>
              <a:ext cx="2119320" cy="338040"/>
            </a:xfrm>
            <a:custGeom>
              <a:avLst/>
              <a:gdLst/>
              <a:ahLst/>
              <a:rect l="l" t="t" r="r" b="b"/>
              <a:pathLst>
                <a:path w="4112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4003" y="0"/>
                  </a:lnTo>
                  <a:lnTo>
                    <a:pt x="4003" y="0"/>
                  </a:lnTo>
                  <a:cubicBezTo>
                    <a:pt x="4064" y="0"/>
                    <a:pt x="4112" y="49"/>
                    <a:pt x="4112" y="110"/>
                  </a:cubicBezTo>
                  <a:cubicBezTo>
                    <a:pt x="4112" y="110"/>
                    <a:pt x="4112" y="110"/>
                    <a:pt x="4112" y="110"/>
                  </a:cubicBezTo>
                  <a:lnTo>
                    <a:pt x="4112" y="110"/>
                  </a:lnTo>
                  <a:lnTo>
                    <a:pt x="4112" y="547"/>
                  </a:lnTo>
                  <a:lnTo>
                    <a:pt x="4112" y="547"/>
                  </a:lnTo>
                  <a:cubicBezTo>
                    <a:pt x="4112" y="608"/>
                    <a:pt x="4064" y="656"/>
                    <a:pt x="4003" y="656"/>
                  </a:cubicBezTo>
                  <a:cubicBezTo>
                    <a:pt x="4003" y="656"/>
                    <a:pt x="4003" y="656"/>
                    <a:pt x="4003" y="656"/>
                  </a:cubicBezTo>
                  <a:lnTo>
                    <a:pt x="4003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cc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32160" y="2409840"/>
              <a:ext cx="2127240" cy="347760"/>
            </a:xfrm>
            <a:custGeom>
              <a:avLst/>
              <a:gdLst/>
              <a:ahLst/>
              <a:rect l="l" t="t" r="r" b="b"/>
              <a:pathLst>
                <a:path w="412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4011" y="0"/>
                  </a:lnTo>
                  <a:cubicBezTo>
                    <a:pt x="4012" y="0"/>
                    <a:pt x="4013" y="1"/>
                    <a:pt x="4013" y="1"/>
                  </a:cubicBezTo>
                  <a:lnTo>
                    <a:pt x="4056" y="10"/>
                  </a:lnTo>
                  <a:cubicBezTo>
                    <a:pt x="4057" y="10"/>
                    <a:pt x="4058" y="10"/>
                    <a:pt x="4059" y="11"/>
                  </a:cubicBezTo>
                  <a:lnTo>
                    <a:pt x="4093" y="34"/>
                  </a:lnTo>
                  <a:cubicBezTo>
                    <a:pt x="4094" y="34"/>
                    <a:pt x="4095" y="35"/>
                    <a:pt x="4095" y="36"/>
                  </a:cubicBezTo>
                  <a:lnTo>
                    <a:pt x="4119" y="71"/>
                  </a:lnTo>
                  <a:cubicBezTo>
                    <a:pt x="4120" y="72"/>
                    <a:pt x="4120" y="73"/>
                    <a:pt x="4120" y="74"/>
                  </a:cubicBezTo>
                  <a:lnTo>
                    <a:pt x="4128" y="117"/>
                  </a:lnTo>
                  <a:cubicBezTo>
                    <a:pt x="4128" y="117"/>
                    <a:pt x="4128" y="118"/>
                    <a:pt x="4128" y="118"/>
                  </a:cubicBezTo>
                  <a:lnTo>
                    <a:pt x="4128" y="555"/>
                  </a:lnTo>
                  <a:cubicBezTo>
                    <a:pt x="4128" y="556"/>
                    <a:pt x="4128" y="556"/>
                    <a:pt x="4128" y="557"/>
                  </a:cubicBezTo>
                  <a:lnTo>
                    <a:pt x="4120" y="600"/>
                  </a:lnTo>
                  <a:cubicBezTo>
                    <a:pt x="4120" y="601"/>
                    <a:pt x="4120" y="602"/>
                    <a:pt x="4119" y="603"/>
                  </a:cubicBezTo>
                  <a:lnTo>
                    <a:pt x="4095" y="637"/>
                  </a:lnTo>
                  <a:cubicBezTo>
                    <a:pt x="4094" y="638"/>
                    <a:pt x="4094" y="638"/>
                    <a:pt x="4093" y="639"/>
                  </a:cubicBezTo>
                  <a:lnTo>
                    <a:pt x="4059" y="663"/>
                  </a:lnTo>
                  <a:cubicBezTo>
                    <a:pt x="4058" y="664"/>
                    <a:pt x="4057" y="664"/>
                    <a:pt x="4056" y="664"/>
                  </a:cubicBezTo>
                  <a:lnTo>
                    <a:pt x="4013" y="672"/>
                  </a:lnTo>
                  <a:cubicBezTo>
                    <a:pt x="4012" y="672"/>
                    <a:pt x="4012" y="672"/>
                    <a:pt x="401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4011" y="656"/>
                  </a:lnTo>
                  <a:lnTo>
                    <a:pt x="4010" y="657"/>
                  </a:lnTo>
                  <a:lnTo>
                    <a:pt x="4053" y="649"/>
                  </a:lnTo>
                  <a:lnTo>
                    <a:pt x="4050" y="650"/>
                  </a:lnTo>
                  <a:lnTo>
                    <a:pt x="4084" y="626"/>
                  </a:lnTo>
                  <a:lnTo>
                    <a:pt x="4082" y="628"/>
                  </a:lnTo>
                  <a:lnTo>
                    <a:pt x="4106" y="594"/>
                  </a:lnTo>
                  <a:lnTo>
                    <a:pt x="4105" y="597"/>
                  </a:lnTo>
                  <a:lnTo>
                    <a:pt x="4113" y="554"/>
                  </a:lnTo>
                  <a:lnTo>
                    <a:pt x="4112" y="555"/>
                  </a:lnTo>
                  <a:lnTo>
                    <a:pt x="4112" y="118"/>
                  </a:lnTo>
                  <a:lnTo>
                    <a:pt x="4113" y="120"/>
                  </a:lnTo>
                  <a:lnTo>
                    <a:pt x="4105" y="77"/>
                  </a:lnTo>
                  <a:lnTo>
                    <a:pt x="4106" y="80"/>
                  </a:lnTo>
                  <a:lnTo>
                    <a:pt x="4082" y="45"/>
                  </a:lnTo>
                  <a:lnTo>
                    <a:pt x="4084" y="47"/>
                  </a:lnTo>
                  <a:lnTo>
                    <a:pt x="4050" y="24"/>
                  </a:lnTo>
                  <a:lnTo>
                    <a:pt x="4053" y="25"/>
                  </a:lnTo>
                  <a:lnTo>
                    <a:pt x="4010" y="16"/>
                  </a:lnTo>
                  <a:lnTo>
                    <a:pt x="401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04320" y="2503440"/>
              <a:ext cx="148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Calibri"/>
                </a:rPr>
                <a:t>Permanent scientific burea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09800" y="1919160"/>
              <a:ext cx="23760" cy="346320"/>
            </a:xfrm>
            <a:prstGeom prst="rect">
              <a:avLst/>
            </a:prstGeom>
            <a:solidFill>
              <a:srgbClr val="fff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33560" y="1919160"/>
              <a:ext cx="33480" cy="346320"/>
            </a:xfrm>
            <a:prstGeom prst="rect">
              <a:avLst/>
            </a:prstGeom>
            <a:solidFill>
              <a:srgbClr val="fff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67040" y="1919160"/>
              <a:ext cx="25200" cy="346320"/>
            </a:xfrm>
            <a:prstGeom prst="rect">
              <a:avLst/>
            </a:prstGeom>
            <a:solidFill>
              <a:srgbClr val="ff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92240" y="1919160"/>
              <a:ext cx="31680" cy="346320"/>
            </a:xfrm>
            <a:prstGeom prst="rect">
              <a:avLst/>
            </a:prstGeom>
            <a:solidFill>
              <a:srgbClr val="ff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23920" y="1919160"/>
              <a:ext cx="33480" cy="346320"/>
            </a:xfrm>
            <a:prstGeom prst="rect">
              <a:avLst/>
            </a:prstGeom>
            <a:solidFill>
              <a:srgbClr val="fff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57400" y="1919160"/>
              <a:ext cx="33480" cy="346320"/>
            </a:xfrm>
            <a:prstGeom prst="rect">
              <a:avLst/>
            </a:prstGeom>
            <a:solidFill>
              <a:srgbClr val="ff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90880" y="1919160"/>
              <a:ext cx="33120" cy="346320"/>
            </a:xfrm>
            <a:prstGeom prst="rect">
              <a:avLst/>
            </a:prstGeom>
            <a:solidFill>
              <a:srgbClr val="fff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24000" y="1919160"/>
              <a:ext cx="33480" cy="346320"/>
            </a:xfrm>
            <a:prstGeom prst="rect">
              <a:avLst/>
            </a:prstGeom>
            <a:solidFill>
              <a:srgbClr val="ffe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57480" y="1919160"/>
              <a:ext cx="31680" cy="346320"/>
            </a:xfrm>
            <a:prstGeom prst="rect">
              <a:avLst/>
            </a:prstGeom>
            <a:solidFill>
              <a:srgbClr val="ff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89160" y="1919160"/>
              <a:ext cx="41400" cy="346320"/>
            </a:xfrm>
            <a:prstGeom prst="rect">
              <a:avLst/>
            </a:prstGeom>
            <a:solidFill>
              <a:srgbClr val="ffe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30560" y="1919160"/>
              <a:ext cx="33120" cy="346320"/>
            </a:xfrm>
            <a:prstGeom prst="rect">
              <a:avLst/>
            </a:prstGeom>
            <a:solidFill>
              <a:srgbClr val="ffe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63680" y="1919160"/>
              <a:ext cx="33480" cy="346320"/>
            </a:xfrm>
            <a:prstGeom prst="rect">
              <a:avLst/>
            </a:pr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97160" y="1919160"/>
              <a:ext cx="23760" cy="346320"/>
            </a:xfrm>
            <a:prstGeom prst="rect">
              <a:avLst/>
            </a:prstGeom>
            <a:solidFill>
              <a:srgbClr val="ffe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20920" y="1919160"/>
              <a:ext cx="33480" cy="346320"/>
            </a:xfrm>
            <a:prstGeom prst="rect">
              <a:avLst/>
            </a:prstGeom>
            <a:solidFill>
              <a:srgbClr val="ffe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54400" y="1919160"/>
              <a:ext cx="33120" cy="346320"/>
            </a:xfrm>
            <a:prstGeom prst="rect">
              <a:avLst/>
            </a:prstGeom>
            <a:solidFill>
              <a:srgbClr val="ffe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87520" y="1919160"/>
              <a:ext cx="33480" cy="346320"/>
            </a:xfrm>
            <a:prstGeom prst="rect">
              <a:avLst/>
            </a:prstGeom>
            <a:solidFill>
              <a:srgbClr val="ff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21000" y="1919160"/>
              <a:ext cx="33120" cy="346320"/>
            </a:xfrm>
            <a:prstGeom prst="rect">
              <a:avLst/>
            </a:prstGeom>
            <a:solidFill>
              <a:srgbClr val="ffe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54120" y="1919160"/>
              <a:ext cx="24120" cy="346320"/>
            </a:xfrm>
            <a:prstGeom prst="rect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78240" y="1919160"/>
              <a:ext cx="33120" cy="346320"/>
            </a:xfrm>
            <a:prstGeom prst="rect">
              <a:avLst/>
            </a:prstGeom>
            <a:solidFill>
              <a:srgbClr val="ffe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1360" y="1919160"/>
              <a:ext cx="33480" cy="346320"/>
            </a:xfrm>
            <a:prstGeom prst="rect">
              <a:avLst/>
            </a:prstGeom>
            <a:solidFill>
              <a:srgbClr val="ffe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44840" y="1919160"/>
              <a:ext cx="23760" cy="346320"/>
            </a:xfrm>
            <a:prstGeom prst="rect">
              <a:avLst/>
            </a:prstGeom>
            <a:solidFill>
              <a:srgbClr val="ffe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68600" y="1919160"/>
              <a:ext cx="25200" cy="346320"/>
            </a:xfrm>
            <a:prstGeom prst="rect">
              <a:avLst/>
            </a:prstGeom>
            <a:solidFill>
              <a:srgbClr val="ffe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93800" y="1919160"/>
              <a:ext cx="24120" cy="346320"/>
            </a:xfrm>
            <a:prstGeom prst="rect">
              <a:avLst/>
            </a:prstGeom>
            <a:solidFill>
              <a:srgbClr val="ffe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17920" y="1919160"/>
              <a:ext cx="25200" cy="346320"/>
            </a:xfrm>
            <a:prstGeom prst="rect">
              <a:avLst/>
            </a:prstGeom>
            <a:solidFill>
              <a:srgbClr val="ffe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43120" y="1919160"/>
              <a:ext cx="25560" cy="346320"/>
            </a:xfrm>
            <a:prstGeom prst="rect">
              <a:avLst/>
            </a:prstGeom>
            <a:solidFill>
              <a:srgbClr val="ffe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68680" y="1919160"/>
              <a:ext cx="15840" cy="346320"/>
            </a:xfrm>
            <a:prstGeom prst="rect">
              <a:avLst/>
            </a:prstGeom>
            <a:solidFill>
              <a:srgbClr val="ffe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84520" y="1919160"/>
              <a:ext cx="25200" cy="346320"/>
            </a:xfrm>
            <a:prstGeom prst="rect">
              <a:avLst/>
            </a:prstGeom>
            <a:solidFill>
              <a:srgbClr val="ffe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09720" y="1919160"/>
              <a:ext cx="32040" cy="346320"/>
            </a:xfrm>
            <a:prstGeom prst="rect">
              <a:avLst/>
            </a:prstGeom>
            <a:solidFill>
              <a:srgbClr val="ffe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41760" y="1919160"/>
              <a:ext cx="25200" cy="346320"/>
            </a:xfrm>
            <a:prstGeom prst="rect">
              <a:avLst/>
            </a:prstGeom>
            <a:solidFill>
              <a:srgbClr val="ffe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6960" y="1919160"/>
              <a:ext cx="23760" cy="346320"/>
            </a:xfrm>
            <a:prstGeom prst="rect">
              <a:avLst/>
            </a:prstGeom>
            <a:solidFill>
              <a:srgbClr val="ffe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90720" y="1919160"/>
              <a:ext cx="25560" cy="346320"/>
            </a:xfrm>
            <a:prstGeom prst="rect">
              <a:avLst/>
            </a:prstGeom>
            <a:solidFill>
              <a:srgbClr val="ffe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16280" y="1919160"/>
              <a:ext cx="25200" cy="346320"/>
            </a:xfrm>
            <a:prstGeom prst="rect">
              <a:avLst/>
            </a:prstGeom>
            <a:solidFill>
              <a:srgbClr val="ffe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41480" y="1919160"/>
              <a:ext cx="24120" cy="346320"/>
            </a:xfrm>
            <a:prstGeom prst="rect">
              <a:avLst/>
            </a:prstGeom>
            <a:solidFill>
              <a:srgbClr val="ffe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65600" y="1919160"/>
              <a:ext cx="25200" cy="346320"/>
            </a:xfrm>
            <a:prstGeom prst="rect">
              <a:avLst/>
            </a:prstGeom>
            <a:solidFill>
              <a:srgbClr val="ffe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90800" y="1919160"/>
              <a:ext cx="15840" cy="346320"/>
            </a:xfrm>
            <a:prstGeom prst="rect">
              <a:avLst/>
            </a:prstGeom>
            <a:solidFill>
              <a:srgbClr val="ffe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06640" y="1919160"/>
              <a:ext cx="25560" cy="346320"/>
            </a:xfrm>
            <a:prstGeom prst="rect">
              <a:avLst/>
            </a:prstGeom>
            <a:solidFill>
              <a:srgbClr val="ffe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32200" y="1919160"/>
              <a:ext cx="23760" cy="346320"/>
            </a:xfrm>
            <a:prstGeom prst="rect">
              <a:avLst/>
            </a:prstGeom>
            <a:solidFill>
              <a:srgbClr val="ffe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5960" y="1919160"/>
              <a:ext cx="33480" cy="346320"/>
            </a:xfrm>
            <a:prstGeom prst="rect">
              <a:avLst/>
            </a:prstGeom>
            <a:solidFill>
              <a:srgbClr val="ffe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89440" y="1919160"/>
              <a:ext cx="25200" cy="346320"/>
            </a:xfrm>
            <a:prstGeom prst="rect">
              <a:avLst/>
            </a:prstGeom>
            <a:solidFill>
              <a:srgbClr val="ffe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14640" y="1919160"/>
              <a:ext cx="15840" cy="346320"/>
            </a:xfrm>
            <a:prstGeom prst="rect">
              <a:avLst/>
            </a:prstGeom>
            <a:solidFill>
              <a:srgbClr val="ffe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30480" y="1919160"/>
              <a:ext cx="25560" cy="346320"/>
            </a:xfrm>
            <a:prstGeom prst="rect">
              <a:avLst/>
            </a:prstGeom>
            <a:solidFill>
              <a:srgbClr val="ffe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56040" y="1919160"/>
              <a:ext cx="23760" cy="346320"/>
            </a:xfrm>
            <a:prstGeom prst="rect">
              <a:avLst/>
            </a:prstGeom>
            <a:solidFill>
              <a:srgbClr val="ffe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79800" y="1919160"/>
              <a:ext cx="25200" cy="346320"/>
            </a:xfrm>
            <a:prstGeom prst="rect">
              <a:avLst/>
            </a:prstGeom>
            <a:solidFill>
              <a:srgbClr val="ffd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05000" y="1919160"/>
              <a:ext cx="24120" cy="346320"/>
            </a:xfrm>
            <a:prstGeom prst="rect">
              <a:avLst/>
            </a:prstGeom>
            <a:solidFill>
              <a:srgbClr val="ffd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29120" y="1919160"/>
              <a:ext cx="25200" cy="346320"/>
            </a:xfrm>
            <a:prstGeom prst="rect">
              <a:avLst/>
            </a:prstGeom>
            <a:solidFill>
              <a:srgbClr val="ffd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54320" y="1919160"/>
              <a:ext cx="15840" cy="346320"/>
            </a:xfrm>
            <a:prstGeom prst="rect">
              <a:avLst/>
            </a:prstGeom>
            <a:solidFill>
              <a:srgbClr val="ffd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05120" y="1914480"/>
              <a:ext cx="1261800" cy="347760"/>
            </a:xfrm>
            <a:custGeom>
              <a:avLst/>
              <a:gdLst/>
              <a:ahLst/>
              <a:rect l="l" t="t" r="r" b="b"/>
              <a:pathLst>
                <a:path w="244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331" y="0"/>
                  </a:lnTo>
                  <a:cubicBezTo>
                    <a:pt x="2332" y="0"/>
                    <a:pt x="2333" y="1"/>
                    <a:pt x="2333" y="1"/>
                  </a:cubicBezTo>
                  <a:lnTo>
                    <a:pt x="2376" y="10"/>
                  </a:lnTo>
                  <a:cubicBezTo>
                    <a:pt x="2377" y="10"/>
                    <a:pt x="2378" y="10"/>
                    <a:pt x="2379" y="11"/>
                  </a:cubicBezTo>
                  <a:lnTo>
                    <a:pt x="2413" y="34"/>
                  </a:lnTo>
                  <a:cubicBezTo>
                    <a:pt x="2414" y="34"/>
                    <a:pt x="2415" y="35"/>
                    <a:pt x="2415" y="36"/>
                  </a:cubicBezTo>
                  <a:lnTo>
                    <a:pt x="2439" y="71"/>
                  </a:lnTo>
                  <a:cubicBezTo>
                    <a:pt x="2440" y="72"/>
                    <a:pt x="2440" y="73"/>
                    <a:pt x="2440" y="74"/>
                  </a:cubicBezTo>
                  <a:lnTo>
                    <a:pt x="2448" y="117"/>
                  </a:lnTo>
                  <a:cubicBezTo>
                    <a:pt x="2448" y="117"/>
                    <a:pt x="2448" y="118"/>
                    <a:pt x="2448" y="118"/>
                  </a:cubicBezTo>
                  <a:lnTo>
                    <a:pt x="2448" y="555"/>
                  </a:lnTo>
                  <a:cubicBezTo>
                    <a:pt x="2448" y="556"/>
                    <a:pt x="2448" y="556"/>
                    <a:pt x="2448" y="557"/>
                  </a:cubicBezTo>
                  <a:lnTo>
                    <a:pt x="2440" y="600"/>
                  </a:lnTo>
                  <a:cubicBezTo>
                    <a:pt x="2440" y="601"/>
                    <a:pt x="2440" y="602"/>
                    <a:pt x="2439" y="603"/>
                  </a:cubicBezTo>
                  <a:lnTo>
                    <a:pt x="2415" y="637"/>
                  </a:lnTo>
                  <a:cubicBezTo>
                    <a:pt x="2414" y="638"/>
                    <a:pt x="2414" y="638"/>
                    <a:pt x="2413" y="639"/>
                  </a:cubicBezTo>
                  <a:lnTo>
                    <a:pt x="2379" y="663"/>
                  </a:lnTo>
                  <a:cubicBezTo>
                    <a:pt x="2378" y="664"/>
                    <a:pt x="2377" y="664"/>
                    <a:pt x="2376" y="664"/>
                  </a:cubicBezTo>
                  <a:lnTo>
                    <a:pt x="2333" y="672"/>
                  </a:lnTo>
                  <a:cubicBezTo>
                    <a:pt x="2332" y="672"/>
                    <a:pt x="2332" y="672"/>
                    <a:pt x="233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331" y="656"/>
                  </a:lnTo>
                  <a:lnTo>
                    <a:pt x="2330" y="657"/>
                  </a:lnTo>
                  <a:lnTo>
                    <a:pt x="2373" y="649"/>
                  </a:lnTo>
                  <a:lnTo>
                    <a:pt x="2370" y="650"/>
                  </a:lnTo>
                  <a:lnTo>
                    <a:pt x="2404" y="626"/>
                  </a:lnTo>
                  <a:lnTo>
                    <a:pt x="2402" y="628"/>
                  </a:lnTo>
                  <a:lnTo>
                    <a:pt x="2426" y="594"/>
                  </a:lnTo>
                  <a:lnTo>
                    <a:pt x="2425" y="597"/>
                  </a:lnTo>
                  <a:lnTo>
                    <a:pt x="2433" y="554"/>
                  </a:lnTo>
                  <a:lnTo>
                    <a:pt x="2432" y="555"/>
                  </a:lnTo>
                  <a:lnTo>
                    <a:pt x="2432" y="118"/>
                  </a:lnTo>
                  <a:lnTo>
                    <a:pt x="2433" y="120"/>
                  </a:lnTo>
                  <a:lnTo>
                    <a:pt x="2425" y="77"/>
                  </a:lnTo>
                  <a:lnTo>
                    <a:pt x="2426" y="80"/>
                  </a:lnTo>
                  <a:lnTo>
                    <a:pt x="2402" y="45"/>
                  </a:lnTo>
                  <a:lnTo>
                    <a:pt x="2404" y="47"/>
                  </a:lnTo>
                  <a:lnTo>
                    <a:pt x="2370" y="24"/>
                  </a:lnTo>
                  <a:lnTo>
                    <a:pt x="2373" y="25"/>
                  </a:lnTo>
                  <a:lnTo>
                    <a:pt x="2330" y="16"/>
                  </a:lnTo>
                  <a:lnTo>
                    <a:pt x="233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98240" y="192888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Calibri"/>
                </a:rPr>
                <a:t>END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00240" y="208584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Club of Inter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0680" y="2851200"/>
              <a:ext cx="2119320" cy="330120"/>
            </a:xfrm>
            <a:custGeom>
              <a:avLst/>
              <a:gdLst/>
              <a:ahLst/>
              <a:rect l="l" t="t" r="r" b="b"/>
              <a:pathLst>
                <a:path w="4112" h="640">
                  <a:moveTo>
                    <a:pt x="0" y="107"/>
                  </a:moveTo>
                  <a:cubicBezTo>
                    <a:pt x="0" y="48"/>
                    <a:pt x="48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107" y="0"/>
                  </a:lnTo>
                  <a:lnTo>
                    <a:pt x="4006" y="0"/>
                  </a:lnTo>
                  <a:lnTo>
                    <a:pt x="4006" y="0"/>
                  </a:lnTo>
                  <a:cubicBezTo>
                    <a:pt x="4065" y="0"/>
                    <a:pt x="4112" y="48"/>
                    <a:pt x="4112" y="107"/>
                  </a:cubicBezTo>
                  <a:cubicBezTo>
                    <a:pt x="4112" y="107"/>
                    <a:pt x="4112" y="107"/>
                    <a:pt x="4112" y="107"/>
                  </a:cubicBezTo>
                  <a:lnTo>
                    <a:pt x="4112" y="107"/>
                  </a:lnTo>
                  <a:lnTo>
                    <a:pt x="4112" y="534"/>
                  </a:lnTo>
                  <a:lnTo>
                    <a:pt x="4112" y="534"/>
                  </a:lnTo>
                  <a:cubicBezTo>
                    <a:pt x="4112" y="593"/>
                    <a:pt x="4065" y="640"/>
                    <a:pt x="4006" y="640"/>
                  </a:cubicBezTo>
                  <a:cubicBezTo>
                    <a:pt x="4006" y="640"/>
                    <a:pt x="4006" y="640"/>
                    <a:pt x="4006" y="640"/>
                  </a:cubicBezTo>
                  <a:lnTo>
                    <a:pt x="4006" y="640"/>
                  </a:lnTo>
                  <a:lnTo>
                    <a:pt x="107" y="640"/>
                  </a:lnTo>
                  <a:lnTo>
                    <a:pt x="107" y="640"/>
                  </a:lnTo>
                  <a:cubicBezTo>
                    <a:pt x="48" y="640"/>
                    <a:pt x="0" y="593"/>
                    <a:pt x="0" y="534"/>
                  </a:cubicBezTo>
                  <a:cubicBezTo>
                    <a:pt x="0" y="534"/>
                    <a:pt x="0" y="534"/>
                    <a:pt x="0" y="534"/>
                  </a:cubicBezTo>
                  <a:lnTo>
                    <a:pt x="0" y="107"/>
                  </a:lnTo>
                  <a:close/>
                </a:path>
              </a:pathLst>
            </a:cu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7440" y="2847960"/>
              <a:ext cx="2127240" cy="338040"/>
            </a:xfrm>
            <a:custGeom>
              <a:avLst/>
              <a:gdLst/>
              <a:ahLst/>
              <a:rect l="l" t="t" r="r" b="b"/>
              <a:pathLst>
                <a:path w="4128" h="656">
                  <a:moveTo>
                    <a:pt x="0" y="115"/>
                  </a:moveTo>
                  <a:cubicBezTo>
                    <a:pt x="0" y="115"/>
                    <a:pt x="1" y="114"/>
                    <a:pt x="1" y="114"/>
                  </a:cubicBezTo>
                  <a:lnTo>
                    <a:pt x="9" y="72"/>
                  </a:lnTo>
                  <a:cubicBezTo>
                    <a:pt x="9" y="71"/>
                    <a:pt x="9" y="70"/>
                    <a:pt x="10" y="69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9" y="10"/>
                  </a:lnTo>
                  <a:cubicBezTo>
                    <a:pt x="70" y="9"/>
                    <a:pt x="71" y="9"/>
                    <a:pt x="72" y="9"/>
                  </a:cubicBezTo>
                  <a:lnTo>
                    <a:pt x="114" y="1"/>
                  </a:lnTo>
                  <a:cubicBezTo>
                    <a:pt x="114" y="1"/>
                    <a:pt x="115" y="0"/>
                    <a:pt x="115" y="0"/>
                  </a:cubicBezTo>
                  <a:lnTo>
                    <a:pt x="4014" y="0"/>
                  </a:lnTo>
                  <a:cubicBezTo>
                    <a:pt x="4015" y="0"/>
                    <a:pt x="4015" y="1"/>
                    <a:pt x="4016" y="1"/>
                  </a:cubicBezTo>
                  <a:lnTo>
                    <a:pt x="4057" y="9"/>
                  </a:lnTo>
                  <a:cubicBezTo>
                    <a:pt x="4058" y="9"/>
                    <a:pt x="4059" y="9"/>
                    <a:pt x="4060" y="10"/>
                  </a:cubicBezTo>
                  <a:lnTo>
                    <a:pt x="4094" y="33"/>
                  </a:lnTo>
                  <a:cubicBezTo>
                    <a:pt x="4095" y="33"/>
                    <a:pt x="4096" y="34"/>
                    <a:pt x="4096" y="35"/>
                  </a:cubicBezTo>
                  <a:lnTo>
                    <a:pt x="4119" y="69"/>
                  </a:lnTo>
                  <a:cubicBezTo>
                    <a:pt x="4120" y="70"/>
                    <a:pt x="4120" y="71"/>
                    <a:pt x="4120" y="72"/>
                  </a:cubicBezTo>
                  <a:lnTo>
                    <a:pt x="4128" y="114"/>
                  </a:lnTo>
                  <a:cubicBezTo>
                    <a:pt x="4128" y="114"/>
                    <a:pt x="4128" y="115"/>
                    <a:pt x="4128" y="115"/>
                  </a:cubicBezTo>
                  <a:lnTo>
                    <a:pt x="4128" y="542"/>
                  </a:lnTo>
                  <a:cubicBezTo>
                    <a:pt x="4128" y="543"/>
                    <a:pt x="4128" y="543"/>
                    <a:pt x="4128" y="544"/>
                  </a:cubicBezTo>
                  <a:lnTo>
                    <a:pt x="4120" y="585"/>
                  </a:lnTo>
                  <a:cubicBezTo>
                    <a:pt x="4120" y="586"/>
                    <a:pt x="4120" y="587"/>
                    <a:pt x="4119" y="588"/>
                  </a:cubicBezTo>
                  <a:lnTo>
                    <a:pt x="4096" y="622"/>
                  </a:lnTo>
                  <a:cubicBezTo>
                    <a:pt x="4096" y="623"/>
                    <a:pt x="4095" y="624"/>
                    <a:pt x="4094" y="624"/>
                  </a:cubicBezTo>
                  <a:lnTo>
                    <a:pt x="4060" y="647"/>
                  </a:lnTo>
                  <a:cubicBezTo>
                    <a:pt x="4059" y="648"/>
                    <a:pt x="4058" y="648"/>
                    <a:pt x="4057" y="648"/>
                  </a:cubicBezTo>
                  <a:lnTo>
                    <a:pt x="4016" y="656"/>
                  </a:lnTo>
                  <a:cubicBezTo>
                    <a:pt x="4015" y="656"/>
                    <a:pt x="4015" y="656"/>
                    <a:pt x="4014" y="656"/>
                  </a:cubicBezTo>
                  <a:lnTo>
                    <a:pt x="115" y="656"/>
                  </a:lnTo>
                  <a:cubicBezTo>
                    <a:pt x="115" y="656"/>
                    <a:pt x="114" y="656"/>
                    <a:pt x="114" y="656"/>
                  </a:cubicBezTo>
                  <a:lnTo>
                    <a:pt x="72" y="648"/>
                  </a:lnTo>
                  <a:cubicBezTo>
                    <a:pt x="71" y="648"/>
                    <a:pt x="70" y="648"/>
                    <a:pt x="69" y="647"/>
                  </a:cubicBezTo>
                  <a:lnTo>
                    <a:pt x="35" y="624"/>
                  </a:lnTo>
                  <a:cubicBezTo>
                    <a:pt x="34" y="624"/>
                    <a:pt x="33" y="623"/>
                    <a:pt x="33" y="622"/>
                  </a:cubicBezTo>
                  <a:lnTo>
                    <a:pt x="10" y="588"/>
                  </a:lnTo>
                  <a:cubicBezTo>
                    <a:pt x="9" y="587"/>
                    <a:pt x="9" y="586"/>
                    <a:pt x="9" y="585"/>
                  </a:cubicBezTo>
                  <a:lnTo>
                    <a:pt x="1" y="544"/>
                  </a:lnTo>
                  <a:cubicBezTo>
                    <a:pt x="1" y="543"/>
                    <a:pt x="0" y="543"/>
                    <a:pt x="0" y="542"/>
                  </a:cubicBezTo>
                  <a:lnTo>
                    <a:pt x="0" y="115"/>
                  </a:lnTo>
                  <a:close/>
                  <a:moveTo>
                    <a:pt x="16" y="542"/>
                  </a:moveTo>
                  <a:lnTo>
                    <a:pt x="16" y="541"/>
                  </a:lnTo>
                  <a:lnTo>
                    <a:pt x="24" y="582"/>
                  </a:lnTo>
                  <a:lnTo>
                    <a:pt x="23" y="579"/>
                  </a:lnTo>
                  <a:lnTo>
                    <a:pt x="46" y="613"/>
                  </a:lnTo>
                  <a:lnTo>
                    <a:pt x="44" y="611"/>
                  </a:lnTo>
                  <a:lnTo>
                    <a:pt x="78" y="634"/>
                  </a:lnTo>
                  <a:lnTo>
                    <a:pt x="75" y="633"/>
                  </a:lnTo>
                  <a:lnTo>
                    <a:pt x="117" y="641"/>
                  </a:lnTo>
                  <a:lnTo>
                    <a:pt x="115" y="640"/>
                  </a:lnTo>
                  <a:lnTo>
                    <a:pt x="4014" y="640"/>
                  </a:lnTo>
                  <a:lnTo>
                    <a:pt x="4013" y="641"/>
                  </a:lnTo>
                  <a:lnTo>
                    <a:pt x="4054" y="633"/>
                  </a:lnTo>
                  <a:lnTo>
                    <a:pt x="4051" y="634"/>
                  </a:lnTo>
                  <a:lnTo>
                    <a:pt x="4085" y="611"/>
                  </a:lnTo>
                  <a:lnTo>
                    <a:pt x="4083" y="613"/>
                  </a:lnTo>
                  <a:lnTo>
                    <a:pt x="4106" y="579"/>
                  </a:lnTo>
                  <a:lnTo>
                    <a:pt x="4105" y="582"/>
                  </a:lnTo>
                  <a:lnTo>
                    <a:pt x="4113" y="541"/>
                  </a:lnTo>
                  <a:lnTo>
                    <a:pt x="4112" y="542"/>
                  </a:lnTo>
                  <a:lnTo>
                    <a:pt x="4112" y="115"/>
                  </a:lnTo>
                  <a:lnTo>
                    <a:pt x="4113" y="117"/>
                  </a:lnTo>
                  <a:lnTo>
                    <a:pt x="4105" y="75"/>
                  </a:lnTo>
                  <a:lnTo>
                    <a:pt x="4106" y="78"/>
                  </a:lnTo>
                  <a:lnTo>
                    <a:pt x="4083" y="44"/>
                  </a:lnTo>
                  <a:lnTo>
                    <a:pt x="4085" y="46"/>
                  </a:lnTo>
                  <a:lnTo>
                    <a:pt x="4051" y="23"/>
                  </a:lnTo>
                  <a:lnTo>
                    <a:pt x="4054" y="24"/>
                  </a:lnTo>
                  <a:lnTo>
                    <a:pt x="4013" y="16"/>
                  </a:lnTo>
                  <a:lnTo>
                    <a:pt x="4014" y="16"/>
                  </a:lnTo>
                  <a:lnTo>
                    <a:pt x="115" y="16"/>
                  </a:lnTo>
                  <a:lnTo>
                    <a:pt x="117" y="16"/>
                  </a:lnTo>
                  <a:lnTo>
                    <a:pt x="75" y="24"/>
                  </a:lnTo>
                  <a:lnTo>
                    <a:pt x="78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8"/>
                  </a:lnTo>
                  <a:lnTo>
                    <a:pt x="24" y="75"/>
                  </a:lnTo>
                  <a:lnTo>
                    <a:pt x="16" y="117"/>
                  </a:lnTo>
                  <a:lnTo>
                    <a:pt x="16" y="115"/>
                  </a:lnTo>
                  <a:lnTo>
                    <a:pt x="16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9280" y="2936880"/>
              <a:ext cx="157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Network permanent activ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27280" y="4022640"/>
              <a:ext cx="1501560" cy="339840"/>
            </a:xfrm>
            <a:custGeom>
              <a:avLst/>
              <a:gdLst/>
              <a:ahLst/>
              <a:rect l="l" t="t" r="r" b="b"/>
              <a:pathLst>
                <a:path w="2912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2803" y="0"/>
                  </a:lnTo>
                  <a:lnTo>
                    <a:pt x="2803" y="0"/>
                  </a:lnTo>
                  <a:cubicBezTo>
                    <a:pt x="2864" y="0"/>
                    <a:pt x="2912" y="49"/>
                    <a:pt x="2912" y="110"/>
                  </a:cubicBezTo>
                  <a:cubicBezTo>
                    <a:pt x="2912" y="110"/>
                    <a:pt x="2912" y="110"/>
                    <a:pt x="2912" y="110"/>
                  </a:cubicBezTo>
                  <a:lnTo>
                    <a:pt x="2912" y="110"/>
                  </a:lnTo>
                  <a:lnTo>
                    <a:pt x="2912" y="547"/>
                  </a:lnTo>
                  <a:lnTo>
                    <a:pt x="2912" y="547"/>
                  </a:lnTo>
                  <a:cubicBezTo>
                    <a:pt x="2912" y="608"/>
                    <a:pt x="2864" y="656"/>
                    <a:pt x="2803" y="656"/>
                  </a:cubicBezTo>
                  <a:cubicBezTo>
                    <a:pt x="2803" y="656"/>
                    <a:pt x="2803" y="656"/>
                    <a:pt x="2803" y="656"/>
                  </a:cubicBezTo>
                  <a:lnTo>
                    <a:pt x="2803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007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24040" y="4019400"/>
              <a:ext cx="1508040" cy="346320"/>
            </a:xfrm>
            <a:custGeom>
              <a:avLst/>
              <a:gdLst/>
              <a:ahLst/>
              <a:rect l="l" t="t" r="r" b="b"/>
              <a:pathLst>
                <a:path w="292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811" y="0"/>
                  </a:lnTo>
                  <a:cubicBezTo>
                    <a:pt x="2812" y="0"/>
                    <a:pt x="2813" y="1"/>
                    <a:pt x="2813" y="1"/>
                  </a:cubicBezTo>
                  <a:lnTo>
                    <a:pt x="2856" y="10"/>
                  </a:lnTo>
                  <a:cubicBezTo>
                    <a:pt x="2857" y="10"/>
                    <a:pt x="2858" y="10"/>
                    <a:pt x="2859" y="11"/>
                  </a:cubicBezTo>
                  <a:lnTo>
                    <a:pt x="2893" y="34"/>
                  </a:lnTo>
                  <a:cubicBezTo>
                    <a:pt x="2894" y="34"/>
                    <a:pt x="2895" y="35"/>
                    <a:pt x="2895" y="36"/>
                  </a:cubicBezTo>
                  <a:lnTo>
                    <a:pt x="2919" y="71"/>
                  </a:lnTo>
                  <a:cubicBezTo>
                    <a:pt x="2920" y="72"/>
                    <a:pt x="2920" y="73"/>
                    <a:pt x="2920" y="74"/>
                  </a:cubicBezTo>
                  <a:lnTo>
                    <a:pt x="2928" y="117"/>
                  </a:lnTo>
                  <a:cubicBezTo>
                    <a:pt x="2928" y="117"/>
                    <a:pt x="2928" y="118"/>
                    <a:pt x="2928" y="118"/>
                  </a:cubicBezTo>
                  <a:lnTo>
                    <a:pt x="2928" y="555"/>
                  </a:lnTo>
                  <a:cubicBezTo>
                    <a:pt x="2928" y="556"/>
                    <a:pt x="2928" y="556"/>
                    <a:pt x="2928" y="557"/>
                  </a:cubicBezTo>
                  <a:lnTo>
                    <a:pt x="2920" y="600"/>
                  </a:lnTo>
                  <a:cubicBezTo>
                    <a:pt x="2920" y="601"/>
                    <a:pt x="2920" y="602"/>
                    <a:pt x="2919" y="603"/>
                  </a:cubicBezTo>
                  <a:lnTo>
                    <a:pt x="2895" y="637"/>
                  </a:lnTo>
                  <a:cubicBezTo>
                    <a:pt x="2894" y="638"/>
                    <a:pt x="2894" y="638"/>
                    <a:pt x="2893" y="639"/>
                  </a:cubicBezTo>
                  <a:lnTo>
                    <a:pt x="2859" y="663"/>
                  </a:lnTo>
                  <a:cubicBezTo>
                    <a:pt x="2858" y="664"/>
                    <a:pt x="2857" y="664"/>
                    <a:pt x="2856" y="664"/>
                  </a:cubicBezTo>
                  <a:lnTo>
                    <a:pt x="2813" y="672"/>
                  </a:lnTo>
                  <a:cubicBezTo>
                    <a:pt x="2812" y="672"/>
                    <a:pt x="2812" y="672"/>
                    <a:pt x="281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811" y="656"/>
                  </a:lnTo>
                  <a:lnTo>
                    <a:pt x="2810" y="657"/>
                  </a:lnTo>
                  <a:lnTo>
                    <a:pt x="2853" y="649"/>
                  </a:lnTo>
                  <a:lnTo>
                    <a:pt x="2850" y="650"/>
                  </a:lnTo>
                  <a:lnTo>
                    <a:pt x="2884" y="626"/>
                  </a:lnTo>
                  <a:lnTo>
                    <a:pt x="2882" y="628"/>
                  </a:lnTo>
                  <a:lnTo>
                    <a:pt x="2906" y="594"/>
                  </a:lnTo>
                  <a:lnTo>
                    <a:pt x="2905" y="597"/>
                  </a:lnTo>
                  <a:lnTo>
                    <a:pt x="2913" y="554"/>
                  </a:lnTo>
                  <a:lnTo>
                    <a:pt x="2912" y="555"/>
                  </a:lnTo>
                  <a:lnTo>
                    <a:pt x="2912" y="118"/>
                  </a:lnTo>
                  <a:lnTo>
                    <a:pt x="2913" y="120"/>
                  </a:lnTo>
                  <a:lnTo>
                    <a:pt x="2905" y="77"/>
                  </a:lnTo>
                  <a:lnTo>
                    <a:pt x="2906" y="80"/>
                  </a:lnTo>
                  <a:lnTo>
                    <a:pt x="2882" y="45"/>
                  </a:lnTo>
                  <a:lnTo>
                    <a:pt x="2884" y="47"/>
                  </a:lnTo>
                  <a:lnTo>
                    <a:pt x="2850" y="24"/>
                  </a:lnTo>
                  <a:lnTo>
                    <a:pt x="2853" y="25"/>
                  </a:lnTo>
                  <a:lnTo>
                    <a:pt x="2810" y="16"/>
                  </a:lnTo>
                  <a:lnTo>
                    <a:pt x="281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240" y="403236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Calibri"/>
                </a:rPr>
                <a:t>WG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13120" y="4032360"/>
              <a:ext cx="127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Calibri"/>
                </a:rPr>
                <a:t>Research Community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53240" y="418932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Calibri"/>
                </a:rPr>
                <a:t>sup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27280" y="4889520"/>
              <a:ext cx="1501560" cy="338040"/>
            </a:xfrm>
            <a:custGeom>
              <a:avLst/>
              <a:gdLst/>
              <a:ahLst/>
              <a:rect l="l" t="t" r="r" b="b"/>
              <a:pathLst>
                <a:path w="2912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2803" y="0"/>
                  </a:lnTo>
                  <a:lnTo>
                    <a:pt x="2803" y="0"/>
                  </a:lnTo>
                  <a:cubicBezTo>
                    <a:pt x="2864" y="0"/>
                    <a:pt x="2912" y="49"/>
                    <a:pt x="2912" y="110"/>
                  </a:cubicBezTo>
                  <a:cubicBezTo>
                    <a:pt x="2912" y="110"/>
                    <a:pt x="2912" y="110"/>
                    <a:pt x="2912" y="110"/>
                  </a:cubicBezTo>
                  <a:lnTo>
                    <a:pt x="2912" y="110"/>
                  </a:lnTo>
                  <a:lnTo>
                    <a:pt x="2912" y="547"/>
                  </a:lnTo>
                  <a:lnTo>
                    <a:pt x="2912" y="547"/>
                  </a:lnTo>
                  <a:cubicBezTo>
                    <a:pt x="2912" y="608"/>
                    <a:pt x="2864" y="656"/>
                    <a:pt x="2803" y="656"/>
                  </a:cubicBezTo>
                  <a:cubicBezTo>
                    <a:pt x="2803" y="656"/>
                    <a:pt x="2803" y="656"/>
                    <a:pt x="2803" y="656"/>
                  </a:cubicBezTo>
                  <a:lnTo>
                    <a:pt x="2803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007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4040" y="4886280"/>
              <a:ext cx="1508040" cy="345960"/>
            </a:xfrm>
            <a:custGeom>
              <a:avLst/>
              <a:gdLst/>
              <a:ahLst/>
              <a:rect l="l" t="t" r="r" b="b"/>
              <a:pathLst>
                <a:path w="292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811" y="0"/>
                  </a:lnTo>
                  <a:cubicBezTo>
                    <a:pt x="2812" y="0"/>
                    <a:pt x="2813" y="1"/>
                    <a:pt x="2813" y="1"/>
                  </a:cubicBezTo>
                  <a:lnTo>
                    <a:pt x="2856" y="10"/>
                  </a:lnTo>
                  <a:cubicBezTo>
                    <a:pt x="2857" y="10"/>
                    <a:pt x="2858" y="10"/>
                    <a:pt x="2859" y="11"/>
                  </a:cubicBezTo>
                  <a:lnTo>
                    <a:pt x="2893" y="34"/>
                  </a:lnTo>
                  <a:cubicBezTo>
                    <a:pt x="2894" y="34"/>
                    <a:pt x="2895" y="35"/>
                    <a:pt x="2895" y="36"/>
                  </a:cubicBezTo>
                  <a:lnTo>
                    <a:pt x="2919" y="71"/>
                  </a:lnTo>
                  <a:cubicBezTo>
                    <a:pt x="2920" y="72"/>
                    <a:pt x="2920" y="73"/>
                    <a:pt x="2920" y="74"/>
                  </a:cubicBezTo>
                  <a:lnTo>
                    <a:pt x="2928" y="117"/>
                  </a:lnTo>
                  <a:cubicBezTo>
                    <a:pt x="2928" y="117"/>
                    <a:pt x="2928" y="118"/>
                    <a:pt x="2928" y="118"/>
                  </a:cubicBezTo>
                  <a:lnTo>
                    <a:pt x="2928" y="555"/>
                  </a:lnTo>
                  <a:cubicBezTo>
                    <a:pt x="2928" y="556"/>
                    <a:pt x="2928" y="556"/>
                    <a:pt x="2928" y="557"/>
                  </a:cubicBezTo>
                  <a:lnTo>
                    <a:pt x="2920" y="600"/>
                  </a:lnTo>
                  <a:cubicBezTo>
                    <a:pt x="2920" y="601"/>
                    <a:pt x="2920" y="602"/>
                    <a:pt x="2919" y="603"/>
                  </a:cubicBezTo>
                  <a:lnTo>
                    <a:pt x="2895" y="637"/>
                  </a:lnTo>
                  <a:cubicBezTo>
                    <a:pt x="2894" y="638"/>
                    <a:pt x="2894" y="638"/>
                    <a:pt x="2893" y="639"/>
                  </a:cubicBezTo>
                  <a:lnTo>
                    <a:pt x="2859" y="663"/>
                  </a:lnTo>
                  <a:cubicBezTo>
                    <a:pt x="2858" y="664"/>
                    <a:pt x="2857" y="664"/>
                    <a:pt x="2856" y="664"/>
                  </a:cubicBezTo>
                  <a:lnTo>
                    <a:pt x="2813" y="672"/>
                  </a:lnTo>
                  <a:cubicBezTo>
                    <a:pt x="2812" y="672"/>
                    <a:pt x="2812" y="672"/>
                    <a:pt x="281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811" y="656"/>
                  </a:lnTo>
                  <a:lnTo>
                    <a:pt x="2810" y="657"/>
                  </a:lnTo>
                  <a:lnTo>
                    <a:pt x="2853" y="649"/>
                  </a:lnTo>
                  <a:lnTo>
                    <a:pt x="2850" y="650"/>
                  </a:lnTo>
                  <a:lnTo>
                    <a:pt x="2884" y="626"/>
                  </a:lnTo>
                  <a:lnTo>
                    <a:pt x="2882" y="628"/>
                  </a:lnTo>
                  <a:lnTo>
                    <a:pt x="2906" y="594"/>
                  </a:lnTo>
                  <a:lnTo>
                    <a:pt x="2905" y="597"/>
                  </a:lnTo>
                  <a:lnTo>
                    <a:pt x="2913" y="554"/>
                  </a:lnTo>
                  <a:lnTo>
                    <a:pt x="2912" y="555"/>
                  </a:lnTo>
                  <a:lnTo>
                    <a:pt x="2912" y="118"/>
                  </a:lnTo>
                  <a:lnTo>
                    <a:pt x="2913" y="120"/>
                  </a:lnTo>
                  <a:lnTo>
                    <a:pt x="2905" y="77"/>
                  </a:lnTo>
                  <a:lnTo>
                    <a:pt x="2906" y="80"/>
                  </a:lnTo>
                  <a:lnTo>
                    <a:pt x="2882" y="45"/>
                  </a:lnTo>
                  <a:lnTo>
                    <a:pt x="2884" y="47"/>
                  </a:lnTo>
                  <a:lnTo>
                    <a:pt x="2850" y="24"/>
                  </a:lnTo>
                  <a:lnTo>
                    <a:pt x="2853" y="25"/>
                  </a:lnTo>
                  <a:lnTo>
                    <a:pt x="2810" y="16"/>
                  </a:lnTo>
                  <a:lnTo>
                    <a:pt x="281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39320" y="49784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Calibri"/>
                </a:rPr>
                <a:t>WG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97440" y="497844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Calibri"/>
                </a:rPr>
                <a:t>Policy sup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27280" y="5756400"/>
              <a:ext cx="1501560" cy="338040"/>
            </a:xfrm>
            <a:custGeom>
              <a:avLst/>
              <a:gdLst/>
              <a:ahLst/>
              <a:rect l="l" t="t" r="r" b="b"/>
              <a:pathLst>
                <a:path w="2912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2803" y="0"/>
                  </a:lnTo>
                  <a:lnTo>
                    <a:pt x="2803" y="0"/>
                  </a:lnTo>
                  <a:cubicBezTo>
                    <a:pt x="2864" y="0"/>
                    <a:pt x="2912" y="49"/>
                    <a:pt x="2912" y="110"/>
                  </a:cubicBezTo>
                  <a:cubicBezTo>
                    <a:pt x="2912" y="110"/>
                    <a:pt x="2912" y="110"/>
                    <a:pt x="2912" y="110"/>
                  </a:cubicBezTo>
                  <a:lnTo>
                    <a:pt x="2912" y="110"/>
                  </a:lnTo>
                  <a:lnTo>
                    <a:pt x="2912" y="547"/>
                  </a:lnTo>
                  <a:lnTo>
                    <a:pt x="2912" y="547"/>
                  </a:lnTo>
                  <a:cubicBezTo>
                    <a:pt x="2912" y="608"/>
                    <a:pt x="2864" y="656"/>
                    <a:pt x="2803" y="656"/>
                  </a:cubicBezTo>
                  <a:cubicBezTo>
                    <a:pt x="2803" y="656"/>
                    <a:pt x="2803" y="656"/>
                    <a:pt x="2803" y="656"/>
                  </a:cubicBezTo>
                  <a:lnTo>
                    <a:pt x="2803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007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24040" y="5751360"/>
              <a:ext cx="1508040" cy="347760"/>
            </a:xfrm>
            <a:custGeom>
              <a:avLst/>
              <a:gdLst/>
              <a:ahLst/>
              <a:rect l="l" t="t" r="r" b="b"/>
              <a:pathLst>
                <a:path w="292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811" y="0"/>
                  </a:lnTo>
                  <a:cubicBezTo>
                    <a:pt x="2812" y="0"/>
                    <a:pt x="2813" y="1"/>
                    <a:pt x="2813" y="1"/>
                  </a:cubicBezTo>
                  <a:lnTo>
                    <a:pt x="2856" y="10"/>
                  </a:lnTo>
                  <a:cubicBezTo>
                    <a:pt x="2857" y="10"/>
                    <a:pt x="2858" y="10"/>
                    <a:pt x="2859" y="11"/>
                  </a:cubicBezTo>
                  <a:lnTo>
                    <a:pt x="2893" y="34"/>
                  </a:lnTo>
                  <a:cubicBezTo>
                    <a:pt x="2894" y="34"/>
                    <a:pt x="2895" y="35"/>
                    <a:pt x="2895" y="36"/>
                  </a:cubicBezTo>
                  <a:lnTo>
                    <a:pt x="2919" y="71"/>
                  </a:lnTo>
                  <a:cubicBezTo>
                    <a:pt x="2920" y="72"/>
                    <a:pt x="2920" y="73"/>
                    <a:pt x="2920" y="74"/>
                  </a:cubicBezTo>
                  <a:lnTo>
                    <a:pt x="2928" y="117"/>
                  </a:lnTo>
                  <a:cubicBezTo>
                    <a:pt x="2928" y="117"/>
                    <a:pt x="2928" y="118"/>
                    <a:pt x="2928" y="118"/>
                  </a:cubicBezTo>
                  <a:lnTo>
                    <a:pt x="2928" y="555"/>
                  </a:lnTo>
                  <a:cubicBezTo>
                    <a:pt x="2928" y="556"/>
                    <a:pt x="2928" y="556"/>
                    <a:pt x="2928" y="557"/>
                  </a:cubicBezTo>
                  <a:lnTo>
                    <a:pt x="2920" y="600"/>
                  </a:lnTo>
                  <a:cubicBezTo>
                    <a:pt x="2920" y="601"/>
                    <a:pt x="2920" y="602"/>
                    <a:pt x="2919" y="603"/>
                  </a:cubicBezTo>
                  <a:lnTo>
                    <a:pt x="2895" y="637"/>
                  </a:lnTo>
                  <a:cubicBezTo>
                    <a:pt x="2894" y="638"/>
                    <a:pt x="2894" y="638"/>
                    <a:pt x="2893" y="639"/>
                  </a:cubicBezTo>
                  <a:lnTo>
                    <a:pt x="2859" y="663"/>
                  </a:lnTo>
                  <a:cubicBezTo>
                    <a:pt x="2858" y="664"/>
                    <a:pt x="2857" y="664"/>
                    <a:pt x="2856" y="664"/>
                  </a:cubicBezTo>
                  <a:lnTo>
                    <a:pt x="2813" y="672"/>
                  </a:lnTo>
                  <a:cubicBezTo>
                    <a:pt x="2812" y="672"/>
                    <a:pt x="2812" y="672"/>
                    <a:pt x="281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811" y="656"/>
                  </a:lnTo>
                  <a:lnTo>
                    <a:pt x="2810" y="657"/>
                  </a:lnTo>
                  <a:lnTo>
                    <a:pt x="2853" y="649"/>
                  </a:lnTo>
                  <a:lnTo>
                    <a:pt x="2850" y="650"/>
                  </a:lnTo>
                  <a:lnTo>
                    <a:pt x="2884" y="626"/>
                  </a:lnTo>
                  <a:lnTo>
                    <a:pt x="2882" y="628"/>
                  </a:lnTo>
                  <a:lnTo>
                    <a:pt x="2906" y="594"/>
                  </a:lnTo>
                  <a:lnTo>
                    <a:pt x="2905" y="597"/>
                  </a:lnTo>
                  <a:lnTo>
                    <a:pt x="2913" y="554"/>
                  </a:lnTo>
                  <a:lnTo>
                    <a:pt x="2912" y="555"/>
                  </a:lnTo>
                  <a:lnTo>
                    <a:pt x="2912" y="118"/>
                  </a:lnTo>
                  <a:lnTo>
                    <a:pt x="2913" y="120"/>
                  </a:lnTo>
                  <a:lnTo>
                    <a:pt x="2905" y="77"/>
                  </a:lnTo>
                  <a:lnTo>
                    <a:pt x="2906" y="80"/>
                  </a:lnTo>
                  <a:lnTo>
                    <a:pt x="2882" y="45"/>
                  </a:lnTo>
                  <a:lnTo>
                    <a:pt x="2884" y="47"/>
                  </a:lnTo>
                  <a:lnTo>
                    <a:pt x="2850" y="24"/>
                  </a:lnTo>
                  <a:lnTo>
                    <a:pt x="2853" y="25"/>
                  </a:lnTo>
                  <a:lnTo>
                    <a:pt x="2810" y="16"/>
                  </a:lnTo>
                  <a:lnTo>
                    <a:pt x="281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40680" y="584352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Calibri"/>
                </a:rPr>
                <a:t>WG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94840" y="5843520"/>
              <a:ext cx="105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Calibri"/>
                </a:rPr>
                <a:t>Extension sup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33840" y="4460760"/>
              <a:ext cx="1608120" cy="371520"/>
            </a:xfrm>
            <a:custGeom>
              <a:avLst/>
              <a:gdLst/>
              <a:ahLst/>
              <a:rect l="l" t="t" r="r" b="b"/>
              <a:pathLst>
                <a:path w="3120" h="720">
                  <a:moveTo>
                    <a:pt x="0" y="120"/>
                  </a:moveTo>
                  <a:cubicBezTo>
                    <a:pt x="0" y="54"/>
                    <a:pt x="54" y="0"/>
                    <a:pt x="120" y="0"/>
                  </a:cubicBezTo>
                  <a:cubicBezTo>
                    <a:pt x="120" y="0"/>
                    <a:pt x="120" y="0"/>
                    <a:pt x="120" y="0"/>
                  </a:cubicBezTo>
                  <a:lnTo>
                    <a:pt x="120" y="0"/>
                  </a:lnTo>
                  <a:lnTo>
                    <a:pt x="3000" y="0"/>
                  </a:lnTo>
                  <a:lnTo>
                    <a:pt x="3000" y="0"/>
                  </a:lnTo>
                  <a:cubicBezTo>
                    <a:pt x="3067" y="0"/>
                    <a:pt x="3120" y="54"/>
                    <a:pt x="3120" y="120"/>
                  </a:cubicBezTo>
                  <a:cubicBezTo>
                    <a:pt x="3120" y="120"/>
                    <a:pt x="3120" y="120"/>
                    <a:pt x="3120" y="120"/>
                  </a:cubicBezTo>
                  <a:lnTo>
                    <a:pt x="3120" y="120"/>
                  </a:lnTo>
                  <a:lnTo>
                    <a:pt x="3120" y="600"/>
                  </a:lnTo>
                  <a:lnTo>
                    <a:pt x="3120" y="600"/>
                  </a:lnTo>
                  <a:cubicBezTo>
                    <a:pt x="3120" y="667"/>
                    <a:pt x="3067" y="720"/>
                    <a:pt x="3000" y="720"/>
                  </a:cubicBezTo>
                  <a:cubicBezTo>
                    <a:pt x="3000" y="720"/>
                    <a:pt x="3000" y="720"/>
                    <a:pt x="3000" y="720"/>
                  </a:cubicBezTo>
                  <a:lnTo>
                    <a:pt x="3000" y="720"/>
                  </a:lnTo>
                  <a:lnTo>
                    <a:pt x="120" y="720"/>
                  </a:lnTo>
                  <a:lnTo>
                    <a:pt x="120" y="720"/>
                  </a:lnTo>
                  <a:cubicBezTo>
                    <a:pt x="54" y="720"/>
                    <a:pt x="0" y="667"/>
                    <a:pt x="0" y="600"/>
                  </a:cubicBezTo>
                  <a:cubicBezTo>
                    <a:pt x="0" y="600"/>
                    <a:pt x="0" y="600"/>
                    <a:pt x="0" y="600"/>
                  </a:cubicBezTo>
                  <a:lnTo>
                    <a:pt x="0" y="12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30600" y="4456080"/>
              <a:ext cx="1616040" cy="379440"/>
            </a:xfrm>
            <a:custGeom>
              <a:avLst/>
              <a:gdLst/>
              <a:ahLst/>
              <a:rect l="l" t="t" r="r" b="b"/>
              <a:pathLst>
                <a:path w="3136" h="736">
                  <a:moveTo>
                    <a:pt x="0" y="128"/>
                  </a:moveTo>
                  <a:cubicBezTo>
                    <a:pt x="0" y="128"/>
                    <a:pt x="1" y="127"/>
                    <a:pt x="1" y="127"/>
                  </a:cubicBezTo>
                  <a:lnTo>
                    <a:pt x="10" y="80"/>
                  </a:lnTo>
                  <a:cubicBezTo>
                    <a:pt x="10" y="79"/>
                    <a:pt x="10" y="78"/>
                    <a:pt x="11" y="77"/>
                  </a:cubicBezTo>
                  <a:lnTo>
                    <a:pt x="37" y="39"/>
                  </a:lnTo>
                  <a:cubicBezTo>
                    <a:pt x="37" y="38"/>
                    <a:pt x="38" y="37"/>
                    <a:pt x="39" y="37"/>
                  </a:cubicBezTo>
                  <a:lnTo>
                    <a:pt x="77" y="11"/>
                  </a:lnTo>
                  <a:cubicBezTo>
                    <a:pt x="78" y="10"/>
                    <a:pt x="79" y="10"/>
                    <a:pt x="80" y="10"/>
                  </a:cubicBezTo>
                  <a:lnTo>
                    <a:pt x="127" y="1"/>
                  </a:lnTo>
                  <a:cubicBezTo>
                    <a:pt x="127" y="1"/>
                    <a:pt x="128" y="0"/>
                    <a:pt x="128" y="0"/>
                  </a:cubicBezTo>
                  <a:lnTo>
                    <a:pt x="3008" y="0"/>
                  </a:lnTo>
                  <a:cubicBezTo>
                    <a:pt x="3009" y="0"/>
                    <a:pt x="3009" y="1"/>
                    <a:pt x="3010" y="1"/>
                  </a:cubicBezTo>
                  <a:lnTo>
                    <a:pt x="3057" y="10"/>
                  </a:lnTo>
                  <a:cubicBezTo>
                    <a:pt x="3058" y="10"/>
                    <a:pt x="3059" y="10"/>
                    <a:pt x="3060" y="11"/>
                  </a:cubicBezTo>
                  <a:lnTo>
                    <a:pt x="3098" y="37"/>
                  </a:lnTo>
                  <a:cubicBezTo>
                    <a:pt x="3099" y="37"/>
                    <a:pt x="3100" y="38"/>
                    <a:pt x="3100" y="39"/>
                  </a:cubicBezTo>
                  <a:lnTo>
                    <a:pt x="3126" y="77"/>
                  </a:lnTo>
                  <a:cubicBezTo>
                    <a:pt x="3127" y="78"/>
                    <a:pt x="3127" y="79"/>
                    <a:pt x="3127" y="80"/>
                  </a:cubicBezTo>
                  <a:lnTo>
                    <a:pt x="3136" y="127"/>
                  </a:lnTo>
                  <a:cubicBezTo>
                    <a:pt x="3136" y="127"/>
                    <a:pt x="3136" y="128"/>
                    <a:pt x="3136" y="128"/>
                  </a:cubicBezTo>
                  <a:lnTo>
                    <a:pt x="3136" y="608"/>
                  </a:lnTo>
                  <a:cubicBezTo>
                    <a:pt x="3136" y="609"/>
                    <a:pt x="3136" y="609"/>
                    <a:pt x="3136" y="610"/>
                  </a:cubicBezTo>
                  <a:lnTo>
                    <a:pt x="3127" y="657"/>
                  </a:lnTo>
                  <a:cubicBezTo>
                    <a:pt x="3127" y="658"/>
                    <a:pt x="3127" y="659"/>
                    <a:pt x="3126" y="660"/>
                  </a:cubicBezTo>
                  <a:lnTo>
                    <a:pt x="3100" y="698"/>
                  </a:lnTo>
                  <a:cubicBezTo>
                    <a:pt x="3100" y="699"/>
                    <a:pt x="3099" y="700"/>
                    <a:pt x="3098" y="700"/>
                  </a:cubicBezTo>
                  <a:lnTo>
                    <a:pt x="3060" y="726"/>
                  </a:lnTo>
                  <a:cubicBezTo>
                    <a:pt x="3059" y="727"/>
                    <a:pt x="3058" y="727"/>
                    <a:pt x="3057" y="727"/>
                  </a:cubicBezTo>
                  <a:lnTo>
                    <a:pt x="3010" y="736"/>
                  </a:lnTo>
                  <a:cubicBezTo>
                    <a:pt x="3009" y="736"/>
                    <a:pt x="3009" y="736"/>
                    <a:pt x="3008" y="736"/>
                  </a:cubicBezTo>
                  <a:lnTo>
                    <a:pt x="128" y="736"/>
                  </a:lnTo>
                  <a:cubicBezTo>
                    <a:pt x="128" y="736"/>
                    <a:pt x="127" y="736"/>
                    <a:pt x="127" y="736"/>
                  </a:cubicBezTo>
                  <a:lnTo>
                    <a:pt x="80" y="727"/>
                  </a:lnTo>
                  <a:cubicBezTo>
                    <a:pt x="79" y="727"/>
                    <a:pt x="78" y="727"/>
                    <a:pt x="77" y="726"/>
                  </a:cubicBezTo>
                  <a:lnTo>
                    <a:pt x="39" y="700"/>
                  </a:lnTo>
                  <a:cubicBezTo>
                    <a:pt x="38" y="700"/>
                    <a:pt x="37" y="699"/>
                    <a:pt x="37" y="698"/>
                  </a:cubicBezTo>
                  <a:lnTo>
                    <a:pt x="11" y="660"/>
                  </a:lnTo>
                  <a:cubicBezTo>
                    <a:pt x="10" y="659"/>
                    <a:pt x="10" y="658"/>
                    <a:pt x="10" y="657"/>
                  </a:cubicBezTo>
                  <a:lnTo>
                    <a:pt x="1" y="610"/>
                  </a:lnTo>
                  <a:cubicBezTo>
                    <a:pt x="1" y="609"/>
                    <a:pt x="0" y="609"/>
                    <a:pt x="0" y="608"/>
                  </a:cubicBezTo>
                  <a:lnTo>
                    <a:pt x="0" y="128"/>
                  </a:lnTo>
                  <a:close/>
                  <a:moveTo>
                    <a:pt x="16" y="608"/>
                  </a:moveTo>
                  <a:lnTo>
                    <a:pt x="16" y="607"/>
                  </a:lnTo>
                  <a:lnTo>
                    <a:pt x="25" y="654"/>
                  </a:lnTo>
                  <a:lnTo>
                    <a:pt x="24" y="651"/>
                  </a:lnTo>
                  <a:lnTo>
                    <a:pt x="50" y="689"/>
                  </a:lnTo>
                  <a:lnTo>
                    <a:pt x="48" y="687"/>
                  </a:lnTo>
                  <a:lnTo>
                    <a:pt x="86" y="713"/>
                  </a:lnTo>
                  <a:lnTo>
                    <a:pt x="83" y="712"/>
                  </a:lnTo>
                  <a:lnTo>
                    <a:pt x="130" y="721"/>
                  </a:lnTo>
                  <a:lnTo>
                    <a:pt x="128" y="720"/>
                  </a:lnTo>
                  <a:lnTo>
                    <a:pt x="3008" y="720"/>
                  </a:lnTo>
                  <a:lnTo>
                    <a:pt x="3007" y="721"/>
                  </a:lnTo>
                  <a:lnTo>
                    <a:pt x="3054" y="712"/>
                  </a:lnTo>
                  <a:lnTo>
                    <a:pt x="3051" y="713"/>
                  </a:lnTo>
                  <a:lnTo>
                    <a:pt x="3089" y="687"/>
                  </a:lnTo>
                  <a:lnTo>
                    <a:pt x="3087" y="689"/>
                  </a:lnTo>
                  <a:lnTo>
                    <a:pt x="3113" y="651"/>
                  </a:lnTo>
                  <a:lnTo>
                    <a:pt x="3112" y="654"/>
                  </a:lnTo>
                  <a:lnTo>
                    <a:pt x="3121" y="607"/>
                  </a:lnTo>
                  <a:lnTo>
                    <a:pt x="3120" y="608"/>
                  </a:lnTo>
                  <a:lnTo>
                    <a:pt x="3120" y="128"/>
                  </a:lnTo>
                  <a:lnTo>
                    <a:pt x="3121" y="130"/>
                  </a:lnTo>
                  <a:lnTo>
                    <a:pt x="3112" y="83"/>
                  </a:lnTo>
                  <a:lnTo>
                    <a:pt x="3113" y="86"/>
                  </a:lnTo>
                  <a:lnTo>
                    <a:pt x="3087" y="48"/>
                  </a:lnTo>
                  <a:lnTo>
                    <a:pt x="3089" y="50"/>
                  </a:lnTo>
                  <a:lnTo>
                    <a:pt x="3051" y="24"/>
                  </a:lnTo>
                  <a:lnTo>
                    <a:pt x="3054" y="25"/>
                  </a:lnTo>
                  <a:lnTo>
                    <a:pt x="3007" y="16"/>
                  </a:lnTo>
                  <a:lnTo>
                    <a:pt x="3008" y="16"/>
                  </a:lnTo>
                  <a:lnTo>
                    <a:pt x="128" y="16"/>
                  </a:lnTo>
                  <a:lnTo>
                    <a:pt x="130" y="16"/>
                  </a:lnTo>
                  <a:lnTo>
                    <a:pt x="83" y="25"/>
                  </a:lnTo>
                  <a:lnTo>
                    <a:pt x="86" y="24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24" y="86"/>
                  </a:lnTo>
                  <a:lnTo>
                    <a:pt x="25" y="83"/>
                  </a:lnTo>
                  <a:lnTo>
                    <a:pt x="16" y="130"/>
                  </a:lnTo>
                  <a:lnTo>
                    <a:pt x="16" y="128"/>
                  </a:lnTo>
                  <a:lnTo>
                    <a:pt x="16" y="6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45400" y="448452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Virtu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34920" y="4484520"/>
              <a:ext cx="18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La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85720" y="4630680"/>
              <a:ext cx="137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                    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Tools &amp; 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33840" y="5327640"/>
              <a:ext cx="1608120" cy="330120"/>
            </a:xfrm>
            <a:custGeom>
              <a:avLst/>
              <a:gdLst/>
              <a:ahLst/>
              <a:rect l="l" t="t" r="r" b="b"/>
              <a:pathLst>
                <a:path w="3120" h="640">
                  <a:moveTo>
                    <a:pt x="0" y="107"/>
                  </a:moveTo>
                  <a:cubicBezTo>
                    <a:pt x="0" y="48"/>
                    <a:pt x="48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107" y="0"/>
                  </a:lnTo>
                  <a:lnTo>
                    <a:pt x="3014" y="0"/>
                  </a:lnTo>
                  <a:lnTo>
                    <a:pt x="3014" y="0"/>
                  </a:lnTo>
                  <a:cubicBezTo>
                    <a:pt x="3073" y="0"/>
                    <a:pt x="3120" y="48"/>
                    <a:pt x="3120" y="107"/>
                  </a:cubicBezTo>
                  <a:cubicBezTo>
                    <a:pt x="3120" y="107"/>
                    <a:pt x="3120" y="107"/>
                    <a:pt x="3120" y="107"/>
                  </a:cubicBezTo>
                  <a:lnTo>
                    <a:pt x="3120" y="107"/>
                  </a:lnTo>
                  <a:lnTo>
                    <a:pt x="3120" y="534"/>
                  </a:lnTo>
                  <a:lnTo>
                    <a:pt x="3120" y="534"/>
                  </a:lnTo>
                  <a:cubicBezTo>
                    <a:pt x="3120" y="593"/>
                    <a:pt x="3073" y="640"/>
                    <a:pt x="3014" y="640"/>
                  </a:cubicBezTo>
                  <a:cubicBezTo>
                    <a:pt x="3014" y="640"/>
                    <a:pt x="3014" y="640"/>
                    <a:pt x="3014" y="640"/>
                  </a:cubicBezTo>
                  <a:lnTo>
                    <a:pt x="3014" y="640"/>
                  </a:lnTo>
                  <a:lnTo>
                    <a:pt x="107" y="640"/>
                  </a:lnTo>
                  <a:lnTo>
                    <a:pt x="107" y="640"/>
                  </a:lnTo>
                  <a:cubicBezTo>
                    <a:pt x="48" y="640"/>
                    <a:pt x="0" y="593"/>
                    <a:pt x="0" y="534"/>
                  </a:cubicBezTo>
                  <a:cubicBezTo>
                    <a:pt x="0" y="534"/>
                    <a:pt x="0" y="534"/>
                    <a:pt x="0" y="534"/>
                  </a:cubicBezTo>
                  <a:lnTo>
                    <a:pt x="0" y="107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30600" y="5322960"/>
              <a:ext cx="1616040" cy="338040"/>
            </a:xfrm>
            <a:custGeom>
              <a:avLst/>
              <a:gdLst/>
              <a:ahLst/>
              <a:rect l="l" t="t" r="r" b="b"/>
              <a:pathLst>
                <a:path w="3136" h="656">
                  <a:moveTo>
                    <a:pt x="0" y="115"/>
                  </a:moveTo>
                  <a:cubicBezTo>
                    <a:pt x="0" y="115"/>
                    <a:pt x="1" y="114"/>
                    <a:pt x="1" y="114"/>
                  </a:cubicBezTo>
                  <a:lnTo>
                    <a:pt x="9" y="72"/>
                  </a:lnTo>
                  <a:cubicBezTo>
                    <a:pt x="9" y="71"/>
                    <a:pt x="9" y="70"/>
                    <a:pt x="10" y="69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9" y="10"/>
                  </a:lnTo>
                  <a:cubicBezTo>
                    <a:pt x="70" y="9"/>
                    <a:pt x="71" y="9"/>
                    <a:pt x="72" y="9"/>
                  </a:cubicBezTo>
                  <a:lnTo>
                    <a:pt x="114" y="1"/>
                  </a:lnTo>
                  <a:cubicBezTo>
                    <a:pt x="114" y="1"/>
                    <a:pt x="115" y="0"/>
                    <a:pt x="115" y="0"/>
                  </a:cubicBezTo>
                  <a:lnTo>
                    <a:pt x="3022" y="0"/>
                  </a:lnTo>
                  <a:cubicBezTo>
                    <a:pt x="3023" y="0"/>
                    <a:pt x="3023" y="1"/>
                    <a:pt x="3024" y="1"/>
                  </a:cubicBezTo>
                  <a:lnTo>
                    <a:pt x="3065" y="9"/>
                  </a:lnTo>
                  <a:cubicBezTo>
                    <a:pt x="3066" y="9"/>
                    <a:pt x="3067" y="9"/>
                    <a:pt x="3068" y="10"/>
                  </a:cubicBezTo>
                  <a:lnTo>
                    <a:pt x="3102" y="33"/>
                  </a:lnTo>
                  <a:cubicBezTo>
                    <a:pt x="3103" y="33"/>
                    <a:pt x="3104" y="34"/>
                    <a:pt x="3104" y="35"/>
                  </a:cubicBezTo>
                  <a:lnTo>
                    <a:pt x="3127" y="69"/>
                  </a:lnTo>
                  <a:cubicBezTo>
                    <a:pt x="3128" y="70"/>
                    <a:pt x="3128" y="71"/>
                    <a:pt x="3128" y="72"/>
                  </a:cubicBezTo>
                  <a:lnTo>
                    <a:pt x="3136" y="114"/>
                  </a:lnTo>
                  <a:cubicBezTo>
                    <a:pt x="3136" y="114"/>
                    <a:pt x="3136" y="115"/>
                    <a:pt x="3136" y="115"/>
                  </a:cubicBezTo>
                  <a:lnTo>
                    <a:pt x="3136" y="542"/>
                  </a:lnTo>
                  <a:cubicBezTo>
                    <a:pt x="3136" y="543"/>
                    <a:pt x="3136" y="543"/>
                    <a:pt x="3136" y="544"/>
                  </a:cubicBezTo>
                  <a:lnTo>
                    <a:pt x="3128" y="585"/>
                  </a:lnTo>
                  <a:cubicBezTo>
                    <a:pt x="3128" y="586"/>
                    <a:pt x="3128" y="587"/>
                    <a:pt x="3127" y="588"/>
                  </a:cubicBezTo>
                  <a:lnTo>
                    <a:pt x="3104" y="622"/>
                  </a:lnTo>
                  <a:cubicBezTo>
                    <a:pt x="3104" y="623"/>
                    <a:pt x="3103" y="624"/>
                    <a:pt x="3102" y="624"/>
                  </a:cubicBezTo>
                  <a:lnTo>
                    <a:pt x="3068" y="647"/>
                  </a:lnTo>
                  <a:cubicBezTo>
                    <a:pt x="3067" y="648"/>
                    <a:pt x="3066" y="648"/>
                    <a:pt x="3065" y="648"/>
                  </a:cubicBezTo>
                  <a:lnTo>
                    <a:pt x="3024" y="656"/>
                  </a:lnTo>
                  <a:cubicBezTo>
                    <a:pt x="3023" y="656"/>
                    <a:pt x="3023" y="656"/>
                    <a:pt x="3022" y="656"/>
                  </a:cubicBezTo>
                  <a:lnTo>
                    <a:pt x="115" y="656"/>
                  </a:lnTo>
                  <a:cubicBezTo>
                    <a:pt x="115" y="656"/>
                    <a:pt x="114" y="656"/>
                    <a:pt x="114" y="656"/>
                  </a:cubicBezTo>
                  <a:lnTo>
                    <a:pt x="72" y="648"/>
                  </a:lnTo>
                  <a:cubicBezTo>
                    <a:pt x="71" y="648"/>
                    <a:pt x="70" y="648"/>
                    <a:pt x="69" y="647"/>
                  </a:cubicBezTo>
                  <a:lnTo>
                    <a:pt x="35" y="624"/>
                  </a:lnTo>
                  <a:cubicBezTo>
                    <a:pt x="34" y="624"/>
                    <a:pt x="33" y="623"/>
                    <a:pt x="33" y="622"/>
                  </a:cubicBezTo>
                  <a:lnTo>
                    <a:pt x="10" y="588"/>
                  </a:lnTo>
                  <a:cubicBezTo>
                    <a:pt x="9" y="587"/>
                    <a:pt x="9" y="586"/>
                    <a:pt x="9" y="585"/>
                  </a:cubicBezTo>
                  <a:lnTo>
                    <a:pt x="1" y="544"/>
                  </a:lnTo>
                  <a:cubicBezTo>
                    <a:pt x="1" y="543"/>
                    <a:pt x="0" y="543"/>
                    <a:pt x="0" y="542"/>
                  </a:cubicBezTo>
                  <a:lnTo>
                    <a:pt x="0" y="115"/>
                  </a:lnTo>
                  <a:close/>
                  <a:moveTo>
                    <a:pt x="16" y="542"/>
                  </a:moveTo>
                  <a:lnTo>
                    <a:pt x="16" y="541"/>
                  </a:lnTo>
                  <a:lnTo>
                    <a:pt x="24" y="582"/>
                  </a:lnTo>
                  <a:lnTo>
                    <a:pt x="23" y="579"/>
                  </a:lnTo>
                  <a:lnTo>
                    <a:pt x="46" y="613"/>
                  </a:lnTo>
                  <a:lnTo>
                    <a:pt x="44" y="611"/>
                  </a:lnTo>
                  <a:lnTo>
                    <a:pt x="78" y="634"/>
                  </a:lnTo>
                  <a:lnTo>
                    <a:pt x="75" y="633"/>
                  </a:lnTo>
                  <a:lnTo>
                    <a:pt x="117" y="641"/>
                  </a:lnTo>
                  <a:lnTo>
                    <a:pt x="115" y="640"/>
                  </a:lnTo>
                  <a:lnTo>
                    <a:pt x="3022" y="640"/>
                  </a:lnTo>
                  <a:lnTo>
                    <a:pt x="3021" y="641"/>
                  </a:lnTo>
                  <a:lnTo>
                    <a:pt x="3062" y="633"/>
                  </a:lnTo>
                  <a:lnTo>
                    <a:pt x="3059" y="634"/>
                  </a:lnTo>
                  <a:lnTo>
                    <a:pt x="3093" y="611"/>
                  </a:lnTo>
                  <a:lnTo>
                    <a:pt x="3091" y="613"/>
                  </a:lnTo>
                  <a:lnTo>
                    <a:pt x="3114" y="579"/>
                  </a:lnTo>
                  <a:lnTo>
                    <a:pt x="3113" y="582"/>
                  </a:lnTo>
                  <a:lnTo>
                    <a:pt x="3121" y="541"/>
                  </a:lnTo>
                  <a:lnTo>
                    <a:pt x="3120" y="542"/>
                  </a:lnTo>
                  <a:lnTo>
                    <a:pt x="3120" y="115"/>
                  </a:lnTo>
                  <a:lnTo>
                    <a:pt x="3121" y="117"/>
                  </a:lnTo>
                  <a:lnTo>
                    <a:pt x="3113" y="75"/>
                  </a:lnTo>
                  <a:lnTo>
                    <a:pt x="3114" y="78"/>
                  </a:lnTo>
                  <a:lnTo>
                    <a:pt x="3091" y="44"/>
                  </a:lnTo>
                  <a:lnTo>
                    <a:pt x="3093" y="46"/>
                  </a:lnTo>
                  <a:lnTo>
                    <a:pt x="3059" y="23"/>
                  </a:lnTo>
                  <a:lnTo>
                    <a:pt x="3062" y="24"/>
                  </a:lnTo>
                  <a:lnTo>
                    <a:pt x="3021" y="16"/>
                  </a:lnTo>
                  <a:lnTo>
                    <a:pt x="3022" y="16"/>
                  </a:lnTo>
                  <a:lnTo>
                    <a:pt x="115" y="16"/>
                  </a:lnTo>
                  <a:lnTo>
                    <a:pt x="117" y="16"/>
                  </a:lnTo>
                  <a:lnTo>
                    <a:pt x="75" y="24"/>
                  </a:lnTo>
                  <a:lnTo>
                    <a:pt x="78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8"/>
                  </a:lnTo>
                  <a:lnTo>
                    <a:pt x="24" y="75"/>
                  </a:lnTo>
                  <a:lnTo>
                    <a:pt x="16" y="117"/>
                  </a:lnTo>
                  <a:lnTo>
                    <a:pt x="16" y="115"/>
                  </a:lnTo>
                  <a:lnTo>
                    <a:pt x="16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52640" y="5411880"/>
              <a:ext cx="1441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ENDURE network of expe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33840" y="6168960"/>
              <a:ext cx="1608120" cy="330120"/>
            </a:xfrm>
            <a:custGeom>
              <a:avLst/>
              <a:gdLst/>
              <a:ahLst/>
              <a:rect l="l" t="t" r="r" b="b"/>
              <a:pathLst>
                <a:path w="3120" h="640">
                  <a:moveTo>
                    <a:pt x="0" y="107"/>
                  </a:moveTo>
                  <a:cubicBezTo>
                    <a:pt x="0" y="48"/>
                    <a:pt x="48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107" y="0"/>
                  </a:lnTo>
                  <a:lnTo>
                    <a:pt x="3014" y="0"/>
                  </a:lnTo>
                  <a:lnTo>
                    <a:pt x="3014" y="0"/>
                  </a:lnTo>
                  <a:cubicBezTo>
                    <a:pt x="3073" y="0"/>
                    <a:pt x="3120" y="48"/>
                    <a:pt x="3120" y="107"/>
                  </a:cubicBezTo>
                  <a:cubicBezTo>
                    <a:pt x="3120" y="107"/>
                    <a:pt x="3120" y="107"/>
                    <a:pt x="3120" y="107"/>
                  </a:cubicBezTo>
                  <a:lnTo>
                    <a:pt x="3120" y="107"/>
                  </a:lnTo>
                  <a:lnTo>
                    <a:pt x="3120" y="534"/>
                  </a:lnTo>
                  <a:lnTo>
                    <a:pt x="3120" y="534"/>
                  </a:lnTo>
                  <a:cubicBezTo>
                    <a:pt x="3120" y="593"/>
                    <a:pt x="3073" y="640"/>
                    <a:pt x="3014" y="640"/>
                  </a:cubicBezTo>
                  <a:cubicBezTo>
                    <a:pt x="3014" y="640"/>
                    <a:pt x="3014" y="640"/>
                    <a:pt x="3014" y="640"/>
                  </a:cubicBezTo>
                  <a:lnTo>
                    <a:pt x="3014" y="640"/>
                  </a:lnTo>
                  <a:lnTo>
                    <a:pt x="107" y="640"/>
                  </a:lnTo>
                  <a:lnTo>
                    <a:pt x="107" y="640"/>
                  </a:lnTo>
                  <a:cubicBezTo>
                    <a:pt x="48" y="640"/>
                    <a:pt x="0" y="593"/>
                    <a:pt x="0" y="534"/>
                  </a:cubicBezTo>
                  <a:cubicBezTo>
                    <a:pt x="0" y="534"/>
                    <a:pt x="0" y="534"/>
                    <a:pt x="0" y="534"/>
                  </a:cubicBezTo>
                  <a:lnTo>
                    <a:pt x="0" y="107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30600" y="6164280"/>
              <a:ext cx="1616040" cy="338040"/>
            </a:xfrm>
            <a:custGeom>
              <a:avLst/>
              <a:gdLst/>
              <a:ahLst/>
              <a:rect l="l" t="t" r="r" b="b"/>
              <a:pathLst>
                <a:path w="3136" h="656">
                  <a:moveTo>
                    <a:pt x="0" y="115"/>
                  </a:moveTo>
                  <a:cubicBezTo>
                    <a:pt x="0" y="115"/>
                    <a:pt x="1" y="114"/>
                    <a:pt x="1" y="114"/>
                  </a:cubicBezTo>
                  <a:lnTo>
                    <a:pt x="9" y="72"/>
                  </a:lnTo>
                  <a:cubicBezTo>
                    <a:pt x="9" y="71"/>
                    <a:pt x="9" y="70"/>
                    <a:pt x="10" y="69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9" y="10"/>
                  </a:lnTo>
                  <a:cubicBezTo>
                    <a:pt x="70" y="9"/>
                    <a:pt x="71" y="9"/>
                    <a:pt x="72" y="9"/>
                  </a:cubicBezTo>
                  <a:lnTo>
                    <a:pt x="114" y="1"/>
                  </a:lnTo>
                  <a:cubicBezTo>
                    <a:pt x="114" y="1"/>
                    <a:pt x="115" y="0"/>
                    <a:pt x="115" y="0"/>
                  </a:cubicBezTo>
                  <a:lnTo>
                    <a:pt x="3022" y="0"/>
                  </a:lnTo>
                  <a:cubicBezTo>
                    <a:pt x="3023" y="0"/>
                    <a:pt x="3023" y="1"/>
                    <a:pt x="3024" y="1"/>
                  </a:cubicBezTo>
                  <a:lnTo>
                    <a:pt x="3065" y="9"/>
                  </a:lnTo>
                  <a:cubicBezTo>
                    <a:pt x="3066" y="9"/>
                    <a:pt x="3067" y="9"/>
                    <a:pt x="3068" y="10"/>
                  </a:cubicBezTo>
                  <a:lnTo>
                    <a:pt x="3102" y="33"/>
                  </a:lnTo>
                  <a:cubicBezTo>
                    <a:pt x="3103" y="33"/>
                    <a:pt x="3104" y="34"/>
                    <a:pt x="3104" y="35"/>
                  </a:cubicBezTo>
                  <a:lnTo>
                    <a:pt x="3127" y="69"/>
                  </a:lnTo>
                  <a:cubicBezTo>
                    <a:pt x="3128" y="70"/>
                    <a:pt x="3128" y="71"/>
                    <a:pt x="3128" y="72"/>
                  </a:cubicBezTo>
                  <a:lnTo>
                    <a:pt x="3136" y="114"/>
                  </a:lnTo>
                  <a:cubicBezTo>
                    <a:pt x="3136" y="114"/>
                    <a:pt x="3136" y="115"/>
                    <a:pt x="3136" y="115"/>
                  </a:cubicBezTo>
                  <a:lnTo>
                    <a:pt x="3136" y="542"/>
                  </a:lnTo>
                  <a:cubicBezTo>
                    <a:pt x="3136" y="543"/>
                    <a:pt x="3136" y="543"/>
                    <a:pt x="3136" y="544"/>
                  </a:cubicBezTo>
                  <a:lnTo>
                    <a:pt x="3128" y="585"/>
                  </a:lnTo>
                  <a:cubicBezTo>
                    <a:pt x="3128" y="586"/>
                    <a:pt x="3128" y="587"/>
                    <a:pt x="3127" y="588"/>
                  </a:cubicBezTo>
                  <a:lnTo>
                    <a:pt x="3104" y="622"/>
                  </a:lnTo>
                  <a:cubicBezTo>
                    <a:pt x="3104" y="623"/>
                    <a:pt x="3103" y="624"/>
                    <a:pt x="3102" y="624"/>
                  </a:cubicBezTo>
                  <a:lnTo>
                    <a:pt x="3068" y="647"/>
                  </a:lnTo>
                  <a:cubicBezTo>
                    <a:pt x="3067" y="648"/>
                    <a:pt x="3066" y="648"/>
                    <a:pt x="3065" y="648"/>
                  </a:cubicBezTo>
                  <a:lnTo>
                    <a:pt x="3024" y="656"/>
                  </a:lnTo>
                  <a:cubicBezTo>
                    <a:pt x="3023" y="656"/>
                    <a:pt x="3023" y="656"/>
                    <a:pt x="3022" y="656"/>
                  </a:cubicBezTo>
                  <a:lnTo>
                    <a:pt x="115" y="656"/>
                  </a:lnTo>
                  <a:cubicBezTo>
                    <a:pt x="115" y="656"/>
                    <a:pt x="114" y="656"/>
                    <a:pt x="114" y="656"/>
                  </a:cubicBezTo>
                  <a:lnTo>
                    <a:pt x="72" y="648"/>
                  </a:lnTo>
                  <a:cubicBezTo>
                    <a:pt x="71" y="648"/>
                    <a:pt x="70" y="648"/>
                    <a:pt x="69" y="647"/>
                  </a:cubicBezTo>
                  <a:lnTo>
                    <a:pt x="35" y="624"/>
                  </a:lnTo>
                  <a:cubicBezTo>
                    <a:pt x="34" y="624"/>
                    <a:pt x="33" y="623"/>
                    <a:pt x="33" y="622"/>
                  </a:cubicBezTo>
                  <a:lnTo>
                    <a:pt x="10" y="588"/>
                  </a:lnTo>
                  <a:cubicBezTo>
                    <a:pt x="9" y="587"/>
                    <a:pt x="9" y="586"/>
                    <a:pt x="9" y="585"/>
                  </a:cubicBezTo>
                  <a:lnTo>
                    <a:pt x="1" y="544"/>
                  </a:lnTo>
                  <a:cubicBezTo>
                    <a:pt x="1" y="543"/>
                    <a:pt x="0" y="543"/>
                    <a:pt x="0" y="542"/>
                  </a:cubicBezTo>
                  <a:lnTo>
                    <a:pt x="0" y="115"/>
                  </a:lnTo>
                  <a:close/>
                  <a:moveTo>
                    <a:pt x="16" y="542"/>
                  </a:moveTo>
                  <a:lnTo>
                    <a:pt x="16" y="541"/>
                  </a:lnTo>
                  <a:lnTo>
                    <a:pt x="24" y="582"/>
                  </a:lnTo>
                  <a:lnTo>
                    <a:pt x="23" y="579"/>
                  </a:lnTo>
                  <a:lnTo>
                    <a:pt x="46" y="613"/>
                  </a:lnTo>
                  <a:lnTo>
                    <a:pt x="44" y="611"/>
                  </a:lnTo>
                  <a:lnTo>
                    <a:pt x="78" y="634"/>
                  </a:lnTo>
                  <a:lnTo>
                    <a:pt x="75" y="633"/>
                  </a:lnTo>
                  <a:lnTo>
                    <a:pt x="117" y="641"/>
                  </a:lnTo>
                  <a:lnTo>
                    <a:pt x="115" y="640"/>
                  </a:lnTo>
                  <a:lnTo>
                    <a:pt x="3022" y="640"/>
                  </a:lnTo>
                  <a:lnTo>
                    <a:pt x="3021" y="641"/>
                  </a:lnTo>
                  <a:lnTo>
                    <a:pt x="3062" y="633"/>
                  </a:lnTo>
                  <a:lnTo>
                    <a:pt x="3059" y="634"/>
                  </a:lnTo>
                  <a:lnTo>
                    <a:pt x="3093" y="611"/>
                  </a:lnTo>
                  <a:lnTo>
                    <a:pt x="3091" y="613"/>
                  </a:lnTo>
                  <a:lnTo>
                    <a:pt x="3114" y="579"/>
                  </a:lnTo>
                  <a:lnTo>
                    <a:pt x="3113" y="582"/>
                  </a:lnTo>
                  <a:lnTo>
                    <a:pt x="3121" y="541"/>
                  </a:lnTo>
                  <a:lnTo>
                    <a:pt x="3120" y="542"/>
                  </a:lnTo>
                  <a:lnTo>
                    <a:pt x="3120" y="115"/>
                  </a:lnTo>
                  <a:lnTo>
                    <a:pt x="3121" y="117"/>
                  </a:lnTo>
                  <a:lnTo>
                    <a:pt x="3113" y="75"/>
                  </a:lnTo>
                  <a:lnTo>
                    <a:pt x="3114" y="78"/>
                  </a:lnTo>
                  <a:lnTo>
                    <a:pt x="3091" y="44"/>
                  </a:lnTo>
                  <a:lnTo>
                    <a:pt x="3093" y="46"/>
                  </a:lnTo>
                  <a:lnTo>
                    <a:pt x="3059" y="23"/>
                  </a:lnTo>
                  <a:lnTo>
                    <a:pt x="3062" y="24"/>
                  </a:lnTo>
                  <a:lnTo>
                    <a:pt x="3021" y="16"/>
                  </a:lnTo>
                  <a:lnTo>
                    <a:pt x="3022" y="16"/>
                  </a:lnTo>
                  <a:lnTo>
                    <a:pt x="115" y="16"/>
                  </a:lnTo>
                  <a:lnTo>
                    <a:pt x="117" y="16"/>
                  </a:lnTo>
                  <a:lnTo>
                    <a:pt x="75" y="24"/>
                  </a:lnTo>
                  <a:lnTo>
                    <a:pt x="78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8"/>
                  </a:lnTo>
                  <a:lnTo>
                    <a:pt x="24" y="75"/>
                  </a:lnTo>
                  <a:lnTo>
                    <a:pt x="16" y="117"/>
                  </a:lnTo>
                  <a:lnTo>
                    <a:pt x="16" y="115"/>
                  </a:lnTo>
                  <a:lnTo>
                    <a:pt x="16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91440" y="6173640"/>
              <a:ext cx="1107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ENDURE Inform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30120" y="6173640"/>
              <a:ext cx="33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cent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57960" y="633096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ENDUR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6760" y="6330960"/>
              <a:ext cx="104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Network of Adviso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" descr=""/>
            <p:cNvPicPr/>
            <p:nvPr/>
          </p:nvPicPr>
          <p:blipFill>
            <a:blip r:embed="rId1"/>
            <a:stretch/>
          </p:blipFill>
          <p:spPr>
            <a:xfrm>
              <a:off x="5586480" y="1341360"/>
              <a:ext cx="230976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2"/>
            <a:stretch/>
          </p:blipFill>
          <p:spPr>
            <a:xfrm>
              <a:off x="5586480" y="1341360"/>
              <a:ext cx="2309760" cy="6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5769000" y="2851200"/>
              <a:ext cx="2367000" cy="677880"/>
            </a:xfrm>
            <a:custGeom>
              <a:avLst/>
              <a:gdLst/>
              <a:ahLst/>
              <a:rect l="l" t="t" r="r" b="b"/>
              <a:pathLst>
                <a:path w="4592" h="1312">
                  <a:moveTo>
                    <a:pt x="0" y="219"/>
                  </a:moveTo>
                  <a:cubicBezTo>
                    <a:pt x="0" y="98"/>
                    <a:pt x="98" y="0"/>
                    <a:pt x="219" y="0"/>
                  </a:cubicBezTo>
                  <a:cubicBezTo>
                    <a:pt x="219" y="0"/>
                    <a:pt x="219" y="0"/>
                    <a:pt x="219" y="0"/>
                  </a:cubicBezTo>
                  <a:lnTo>
                    <a:pt x="219" y="0"/>
                  </a:lnTo>
                  <a:lnTo>
                    <a:pt x="4374" y="0"/>
                  </a:lnTo>
                  <a:lnTo>
                    <a:pt x="4374" y="0"/>
                  </a:lnTo>
                  <a:cubicBezTo>
                    <a:pt x="4495" y="0"/>
                    <a:pt x="4592" y="98"/>
                    <a:pt x="4592" y="219"/>
                  </a:cubicBezTo>
                  <a:cubicBezTo>
                    <a:pt x="4592" y="219"/>
                    <a:pt x="4592" y="219"/>
                    <a:pt x="4592" y="219"/>
                  </a:cubicBezTo>
                  <a:lnTo>
                    <a:pt x="4592" y="219"/>
                  </a:lnTo>
                  <a:lnTo>
                    <a:pt x="4592" y="1094"/>
                  </a:lnTo>
                  <a:lnTo>
                    <a:pt x="4592" y="1094"/>
                  </a:lnTo>
                  <a:cubicBezTo>
                    <a:pt x="4592" y="1215"/>
                    <a:pt x="4495" y="1312"/>
                    <a:pt x="4374" y="1312"/>
                  </a:cubicBezTo>
                  <a:cubicBezTo>
                    <a:pt x="4374" y="1312"/>
                    <a:pt x="4374" y="1312"/>
                    <a:pt x="4374" y="1312"/>
                  </a:cubicBezTo>
                  <a:lnTo>
                    <a:pt x="4374" y="1312"/>
                  </a:lnTo>
                  <a:lnTo>
                    <a:pt x="219" y="1312"/>
                  </a:lnTo>
                  <a:lnTo>
                    <a:pt x="219" y="1312"/>
                  </a:lnTo>
                  <a:cubicBezTo>
                    <a:pt x="98" y="1312"/>
                    <a:pt x="0" y="1215"/>
                    <a:pt x="0" y="1094"/>
                  </a:cubicBezTo>
                  <a:cubicBezTo>
                    <a:pt x="0" y="1094"/>
                    <a:pt x="0" y="1094"/>
                    <a:pt x="0" y="1094"/>
                  </a:cubicBezTo>
                  <a:lnTo>
                    <a:pt x="0" y="219"/>
                  </a:lnTo>
                  <a:close/>
                </a:path>
              </a:pathLst>
            </a:cu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64320" y="2847960"/>
              <a:ext cx="2374920" cy="684360"/>
            </a:xfrm>
            <a:custGeom>
              <a:avLst/>
              <a:gdLst/>
              <a:ahLst/>
              <a:rect l="l" t="t" r="r" b="b"/>
              <a:pathLst>
                <a:path w="4608" h="1328">
                  <a:moveTo>
                    <a:pt x="0" y="227"/>
                  </a:moveTo>
                  <a:lnTo>
                    <a:pt x="4" y="183"/>
                  </a:lnTo>
                  <a:cubicBezTo>
                    <a:pt x="5" y="182"/>
                    <a:pt x="5" y="182"/>
                    <a:pt x="5" y="181"/>
                  </a:cubicBezTo>
                  <a:lnTo>
                    <a:pt x="18" y="140"/>
                  </a:lnTo>
                  <a:cubicBezTo>
                    <a:pt x="18" y="140"/>
                    <a:pt x="18" y="139"/>
                    <a:pt x="18" y="139"/>
                  </a:cubicBezTo>
                  <a:lnTo>
                    <a:pt x="38" y="102"/>
                  </a:lnTo>
                  <a:cubicBezTo>
                    <a:pt x="39" y="101"/>
                    <a:pt x="39" y="101"/>
                    <a:pt x="39" y="100"/>
                  </a:cubicBezTo>
                  <a:lnTo>
                    <a:pt x="66" y="67"/>
                  </a:lnTo>
                  <a:cubicBezTo>
                    <a:pt x="67" y="67"/>
                    <a:pt x="67" y="67"/>
                    <a:pt x="67" y="66"/>
                  </a:cubicBezTo>
                  <a:lnTo>
                    <a:pt x="100" y="39"/>
                  </a:lnTo>
                  <a:cubicBezTo>
                    <a:pt x="101" y="39"/>
                    <a:pt x="101" y="39"/>
                    <a:pt x="102" y="38"/>
                  </a:cubicBezTo>
                  <a:lnTo>
                    <a:pt x="139" y="18"/>
                  </a:lnTo>
                  <a:cubicBezTo>
                    <a:pt x="139" y="18"/>
                    <a:pt x="140" y="18"/>
                    <a:pt x="140" y="18"/>
                  </a:cubicBezTo>
                  <a:lnTo>
                    <a:pt x="181" y="5"/>
                  </a:lnTo>
                  <a:cubicBezTo>
                    <a:pt x="182" y="5"/>
                    <a:pt x="182" y="5"/>
                    <a:pt x="183" y="4"/>
                  </a:cubicBezTo>
                  <a:lnTo>
                    <a:pt x="227" y="0"/>
                  </a:lnTo>
                  <a:lnTo>
                    <a:pt x="4382" y="0"/>
                  </a:lnTo>
                  <a:lnTo>
                    <a:pt x="4427" y="4"/>
                  </a:lnTo>
                  <a:cubicBezTo>
                    <a:pt x="4428" y="5"/>
                    <a:pt x="4428" y="5"/>
                    <a:pt x="4429" y="5"/>
                  </a:cubicBezTo>
                  <a:lnTo>
                    <a:pt x="4470" y="18"/>
                  </a:lnTo>
                  <a:cubicBezTo>
                    <a:pt x="4470" y="18"/>
                    <a:pt x="4471" y="18"/>
                    <a:pt x="4471" y="18"/>
                  </a:cubicBezTo>
                  <a:lnTo>
                    <a:pt x="4508" y="38"/>
                  </a:lnTo>
                  <a:cubicBezTo>
                    <a:pt x="4509" y="39"/>
                    <a:pt x="4509" y="39"/>
                    <a:pt x="4510" y="39"/>
                  </a:cubicBezTo>
                  <a:lnTo>
                    <a:pt x="4542" y="66"/>
                  </a:lnTo>
                  <a:cubicBezTo>
                    <a:pt x="4542" y="67"/>
                    <a:pt x="4542" y="67"/>
                    <a:pt x="4543" y="67"/>
                  </a:cubicBezTo>
                  <a:lnTo>
                    <a:pt x="4570" y="100"/>
                  </a:lnTo>
                  <a:cubicBezTo>
                    <a:pt x="4570" y="101"/>
                    <a:pt x="4570" y="101"/>
                    <a:pt x="4571" y="102"/>
                  </a:cubicBezTo>
                  <a:lnTo>
                    <a:pt x="4591" y="139"/>
                  </a:lnTo>
                  <a:cubicBezTo>
                    <a:pt x="4591" y="139"/>
                    <a:pt x="4591" y="140"/>
                    <a:pt x="4591" y="140"/>
                  </a:cubicBezTo>
                  <a:lnTo>
                    <a:pt x="4604" y="181"/>
                  </a:lnTo>
                  <a:cubicBezTo>
                    <a:pt x="4604" y="182"/>
                    <a:pt x="4604" y="182"/>
                    <a:pt x="4604" y="183"/>
                  </a:cubicBezTo>
                  <a:lnTo>
                    <a:pt x="4608" y="227"/>
                  </a:lnTo>
                  <a:lnTo>
                    <a:pt x="4608" y="1102"/>
                  </a:lnTo>
                  <a:lnTo>
                    <a:pt x="4604" y="1147"/>
                  </a:lnTo>
                  <a:cubicBezTo>
                    <a:pt x="4604" y="1148"/>
                    <a:pt x="4604" y="1148"/>
                    <a:pt x="4604" y="1149"/>
                  </a:cubicBezTo>
                  <a:lnTo>
                    <a:pt x="4591" y="1190"/>
                  </a:lnTo>
                  <a:cubicBezTo>
                    <a:pt x="4591" y="1190"/>
                    <a:pt x="4591" y="1191"/>
                    <a:pt x="4591" y="1191"/>
                  </a:cubicBezTo>
                  <a:lnTo>
                    <a:pt x="4571" y="1228"/>
                  </a:lnTo>
                  <a:cubicBezTo>
                    <a:pt x="4570" y="1229"/>
                    <a:pt x="4570" y="1229"/>
                    <a:pt x="4570" y="1230"/>
                  </a:cubicBezTo>
                  <a:lnTo>
                    <a:pt x="4543" y="1262"/>
                  </a:lnTo>
                  <a:cubicBezTo>
                    <a:pt x="4542" y="1262"/>
                    <a:pt x="4542" y="1262"/>
                    <a:pt x="4542" y="1263"/>
                  </a:cubicBezTo>
                  <a:lnTo>
                    <a:pt x="4510" y="1290"/>
                  </a:lnTo>
                  <a:cubicBezTo>
                    <a:pt x="4509" y="1290"/>
                    <a:pt x="4509" y="1290"/>
                    <a:pt x="4508" y="1291"/>
                  </a:cubicBezTo>
                  <a:lnTo>
                    <a:pt x="4471" y="1311"/>
                  </a:lnTo>
                  <a:cubicBezTo>
                    <a:pt x="4471" y="1311"/>
                    <a:pt x="4470" y="1311"/>
                    <a:pt x="4470" y="1311"/>
                  </a:cubicBezTo>
                  <a:lnTo>
                    <a:pt x="4429" y="1324"/>
                  </a:lnTo>
                  <a:cubicBezTo>
                    <a:pt x="4428" y="1324"/>
                    <a:pt x="4428" y="1324"/>
                    <a:pt x="4427" y="1324"/>
                  </a:cubicBezTo>
                  <a:lnTo>
                    <a:pt x="4383" y="1328"/>
                  </a:lnTo>
                  <a:lnTo>
                    <a:pt x="227" y="1328"/>
                  </a:lnTo>
                  <a:lnTo>
                    <a:pt x="183" y="1324"/>
                  </a:lnTo>
                  <a:cubicBezTo>
                    <a:pt x="182" y="1324"/>
                    <a:pt x="182" y="1324"/>
                    <a:pt x="181" y="1324"/>
                  </a:cubicBezTo>
                  <a:lnTo>
                    <a:pt x="140" y="1311"/>
                  </a:lnTo>
                  <a:cubicBezTo>
                    <a:pt x="140" y="1311"/>
                    <a:pt x="139" y="1311"/>
                    <a:pt x="139" y="1311"/>
                  </a:cubicBezTo>
                  <a:lnTo>
                    <a:pt x="102" y="1291"/>
                  </a:lnTo>
                  <a:cubicBezTo>
                    <a:pt x="101" y="1290"/>
                    <a:pt x="101" y="1290"/>
                    <a:pt x="100" y="1290"/>
                  </a:cubicBezTo>
                  <a:lnTo>
                    <a:pt x="67" y="1263"/>
                  </a:lnTo>
                  <a:cubicBezTo>
                    <a:pt x="67" y="1262"/>
                    <a:pt x="67" y="1262"/>
                    <a:pt x="66" y="1262"/>
                  </a:cubicBezTo>
                  <a:lnTo>
                    <a:pt x="39" y="1230"/>
                  </a:lnTo>
                  <a:cubicBezTo>
                    <a:pt x="39" y="1229"/>
                    <a:pt x="39" y="1229"/>
                    <a:pt x="38" y="1228"/>
                  </a:cubicBezTo>
                  <a:lnTo>
                    <a:pt x="18" y="1191"/>
                  </a:lnTo>
                  <a:cubicBezTo>
                    <a:pt x="18" y="1191"/>
                    <a:pt x="18" y="1190"/>
                    <a:pt x="18" y="1190"/>
                  </a:cubicBezTo>
                  <a:lnTo>
                    <a:pt x="5" y="1149"/>
                  </a:lnTo>
                  <a:cubicBezTo>
                    <a:pt x="5" y="1148"/>
                    <a:pt x="5" y="1148"/>
                    <a:pt x="4" y="1147"/>
                  </a:cubicBezTo>
                  <a:lnTo>
                    <a:pt x="0" y="1103"/>
                  </a:lnTo>
                  <a:lnTo>
                    <a:pt x="0" y="227"/>
                  </a:lnTo>
                  <a:close/>
                  <a:moveTo>
                    <a:pt x="16" y="1102"/>
                  </a:moveTo>
                  <a:lnTo>
                    <a:pt x="20" y="1146"/>
                  </a:lnTo>
                  <a:lnTo>
                    <a:pt x="20" y="1144"/>
                  </a:lnTo>
                  <a:lnTo>
                    <a:pt x="33" y="1185"/>
                  </a:lnTo>
                  <a:lnTo>
                    <a:pt x="33" y="1184"/>
                  </a:lnTo>
                  <a:lnTo>
                    <a:pt x="53" y="1221"/>
                  </a:lnTo>
                  <a:lnTo>
                    <a:pt x="52" y="1219"/>
                  </a:lnTo>
                  <a:lnTo>
                    <a:pt x="79" y="1251"/>
                  </a:lnTo>
                  <a:lnTo>
                    <a:pt x="78" y="1250"/>
                  </a:lnTo>
                  <a:lnTo>
                    <a:pt x="111" y="1277"/>
                  </a:lnTo>
                  <a:lnTo>
                    <a:pt x="109" y="1276"/>
                  </a:lnTo>
                  <a:lnTo>
                    <a:pt x="146" y="1296"/>
                  </a:lnTo>
                  <a:lnTo>
                    <a:pt x="145" y="1296"/>
                  </a:lnTo>
                  <a:lnTo>
                    <a:pt x="186" y="1309"/>
                  </a:lnTo>
                  <a:lnTo>
                    <a:pt x="184" y="1308"/>
                  </a:lnTo>
                  <a:lnTo>
                    <a:pt x="227" y="1312"/>
                  </a:lnTo>
                  <a:lnTo>
                    <a:pt x="4382" y="1312"/>
                  </a:lnTo>
                  <a:lnTo>
                    <a:pt x="4426" y="1308"/>
                  </a:lnTo>
                  <a:lnTo>
                    <a:pt x="4424" y="1309"/>
                  </a:lnTo>
                  <a:lnTo>
                    <a:pt x="4465" y="1296"/>
                  </a:lnTo>
                  <a:lnTo>
                    <a:pt x="4464" y="1296"/>
                  </a:lnTo>
                  <a:lnTo>
                    <a:pt x="4501" y="1276"/>
                  </a:lnTo>
                  <a:lnTo>
                    <a:pt x="4499" y="1277"/>
                  </a:lnTo>
                  <a:lnTo>
                    <a:pt x="4531" y="1250"/>
                  </a:lnTo>
                  <a:lnTo>
                    <a:pt x="4530" y="1251"/>
                  </a:lnTo>
                  <a:lnTo>
                    <a:pt x="4557" y="1219"/>
                  </a:lnTo>
                  <a:lnTo>
                    <a:pt x="4556" y="1221"/>
                  </a:lnTo>
                  <a:lnTo>
                    <a:pt x="4576" y="1184"/>
                  </a:lnTo>
                  <a:lnTo>
                    <a:pt x="4576" y="1185"/>
                  </a:lnTo>
                  <a:lnTo>
                    <a:pt x="4589" y="1144"/>
                  </a:lnTo>
                  <a:lnTo>
                    <a:pt x="4588" y="1146"/>
                  </a:lnTo>
                  <a:lnTo>
                    <a:pt x="4592" y="1102"/>
                  </a:lnTo>
                  <a:lnTo>
                    <a:pt x="4592" y="228"/>
                  </a:lnTo>
                  <a:lnTo>
                    <a:pt x="4588" y="184"/>
                  </a:lnTo>
                  <a:lnTo>
                    <a:pt x="4589" y="186"/>
                  </a:lnTo>
                  <a:lnTo>
                    <a:pt x="4576" y="145"/>
                  </a:lnTo>
                  <a:lnTo>
                    <a:pt x="4576" y="146"/>
                  </a:lnTo>
                  <a:lnTo>
                    <a:pt x="4556" y="109"/>
                  </a:lnTo>
                  <a:lnTo>
                    <a:pt x="4557" y="111"/>
                  </a:lnTo>
                  <a:lnTo>
                    <a:pt x="4530" y="78"/>
                  </a:lnTo>
                  <a:lnTo>
                    <a:pt x="4531" y="79"/>
                  </a:lnTo>
                  <a:lnTo>
                    <a:pt x="4499" y="52"/>
                  </a:lnTo>
                  <a:lnTo>
                    <a:pt x="4501" y="53"/>
                  </a:lnTo>
                  <a:lnTo>
                    <a:pt x="4464" y="33"/>
                  </a:lnTo>
                  <a:lnTo>
                    <a:pt x="4465" y="33"/>
                  </a:lnTo>
                  <a:lnTo>
                    <a:pt x="4424" y="20"/>
                  </a:lnTo>
                  <a:lnTo>
                    <a:pt x="4426" y="20"/>
                  </a:lnTo>
                  <a:lnTo>
                    <a:pt x="4382" y="16"/>
                  </a:lnTo>
                  <a:lnTo>
                    <a:pt x="228" y="16"/>
                  </a:lnTo>
                  <a:lnTo>
                    <a:pt x="184" y="20"/>
                  </a:lnTo>
                  <a:lnTo>
                    <a:pt x="186" y="20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09" y="53"/>
                  </a:lnTo>
                  <a:lnTo>
                    <a:pt x="111" y="52"/>
                  </a:lnTo>
                  <a:lnTo>
                    <a:pt x="78" y="79"/>
                  </a:lnTo>
                  <a:lnTo>
                    <a:pt x="79" y="78"/>
                  </a:lnTo>
                  <a:lnTo>
                    <a:pt x="52" y="111"/>
                  </a:lnTo>
                  <a:lnTo>
                    <a:pt x="53" y="109"/>
                  </a:lnTo>
                  <a:lnTo>
                    <a:pt x="33" y="146"/>
                  </a:lnTo>
                  <a:lnTo>
                    <a:pt x="33" y="145"/>
                  </a:lnTo>
                  <a:lnTo>
                    <a:pt x="20" y="186"/>
                  </a:lnTo>
                  <a:lnTo>
                    <a:pt x="20" y="184"/>
                  </a:lnTo>
                  <a:lnTo>
                    <a:pt x="16" y="227"/>
                  </a:lnTo>
                  <a:lnTo>
                    <a:pt x="16" y="1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94560" y="2871720"/>
              <a:ext cx="18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Ad hoc Project building task force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19640" y="3027240"/>
              <a:ext cx="43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88480" y="3027240"/>
              <a:ext cx="109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Identify relevant ca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92360" y="31845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58240" y="3184560"/>
              <a:ext cx="162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support proposal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92360" y="334980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59320" y="3349800"/>
              <a:ext cx="152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contribute to ongoing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92840" y="5087880"/>
              <a:ext cx="1417680" cy="800280"/>
            </a:xfrm>
            <a:custGeom>
              <a:avLst/>
              <a:gdLst/>
              <a:ahLst/>
              <a:rect l="l" t="t" r="r" b="b"/>
              <a:pathLst>
                <a:path w="2752" h="1552">
                  <a:moveTo>
                    <a:pt x="0" y="776"/>
                  </a:moveTo>
                  <a:cubicBezTo>
                    <a:pt x="0" y="348"/>
                    <a:pt x="617" y="0"/>
                    <a:pt x="1376" y="0"/>
                  </a:cubicBezTo>
                  <a:lnTo>
                    <a:pt x="1376" y="0"/>
                  </a:lnTo>
                  <a:cubicBezTo>
                    <a:pt x="2136" y="0"/>
                    <a:pt x="2752" y="348"/>
                    <a:pt x="2752" y="776"/>
                  </a:cubicBezTo>
                  <a:cubicBezTo>
                    <a:pt x="2752" y="776"/>
                    <a:pt x="2752" y="776"/>
                    <a:pt x="2752" y="776"/>
                  </a:cubicBezTo>
                  <a:lnTo>
                    <a:pt x="2752" y="776"/>
                  </a:lnTo>
                  <a:cubicBezTo>
                    <a:pt x="2752" y="1205"/>
                    <a:pt x="2136" y="1552"/>
                    <a:pt x="1376" y="1552"/>
                  </a:cubicBezTo>
                  <a:cubicBezTo>
                    <a:pt x="1376" y="1552"/>
                    <a:pt x="1376" y="1552"/>
                    <a:pt x="1376" y="1552"/>
                  </a:cubicBezTo>
                  <a:lnTo>
                    <a:pt x="1376" y="1552"/>
                  </a:lnTo>
                  <a:cubicBezTo>
                    <a:pt x="617" y="1552"/>
                    <a:pt x="0" y="1205"/>
                    <a:pt x="0" y="776"/>
                  </a:cubicBezTo>
                  <a:cubicBezTo>
                    <a:pt x="0" y="776"/>
                    <a:pt x="0" y="776"/>
                    <a:pt x="0" y="776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88160" y="5083200"/>
              <a:ext cx="1427040" cy="809640"/>
            </a:xfrm>
            <a:custGeom>
              <a:avLst/>
              <a:gdLst/>
              <a:ahLst/>
              <a:rect l="l" t="t" r="r" b="b"/>
              <a:pathLst>
                <a:path w="2768" h="1568">
                  <a:moveTo>
                    <a:pt x="0" y="785"/>
                  </a:moveTo>
                  <a:cubicBezTo>
                    <a:pt x="0" y="785"/>
                    <a:pt x="0" y="784"/>
                    <a:pt x="0" y="784"/>
                  </a:cubicBezTo>
                  <a:lnTo>
                    <a:pt x="7" y="705"/>
                  </a:lnTo>
                  <a:cubicBezTo>
                    <a:pt x="8" y="704"/>
                    <a:pt x="8" y="704"/>
                    <a:pt x="8" y="703"/>
                  </a:cubicBezTo>
                  <a:lnTo>
                    <a:pt x="29" y="626"/>
                  </a:lnTo>
                  <a:cubicBezTo>
                    <a:pt x="29" y="626"/>
                    <a:pt x="29" y="626"/>
                    <a:pt x="29" y="625"/>
                  </a:cubicBezTo>
                  <a:lnTo>
                    <a:pt x="63" y="550"/>
                  </a:lnTo>
                  <a:cubicBezTo>
                    <a:pt x="63" y="550"/>
                    <a:pt x="64" y="549"/>
                    <a:pt x="64" y="549"/>
                  </a:cubicBezTo>
                  <a:lnTo>
                    <a:pt x="110" y="478"/>
                  </a:lnTo>
                  <a:lnTo>
                    <a:pt x="168" y="409"/>
                  </a:lnTo>
                  <a:lnTo>
                    <a:pt x="238" y="345"/>
                  </a:lnTo>
                  <a:lnTo>
                    <a:pt x="319" y="285"/>
                  </a:lnTo>
                  <a:lnTo>
                    <a:pt x="407" y="230"/>
                  </a:lnTo>
                  <a:lnTo>
                    <a:pt x="506" y="178"/>
                  </a:lnTo>
                  <a:lnTo>
                    <a:pt x="612" y="134"/>
                  </a:lnTo>
                  <a:lnTo>
                    <a:pt x="727" y="95"/>
                  </a:lnTo>
                  <a:lnTo>
                    <a:pt x="847" y="62"/>
                  </a:lnTo>
                  <a:lnTo>
                    <a:pt x="974" y="36"/>
                  </a:lnTo>
                  <a:lnTo>
                    <a:pt x="1106" y="17"/>
                  </a:lnTo>
                  <a:lnTo>
                    <a:pt x="1243" y="4"/>
                  </a:lnTo>
                  <a:lnTo>
                    <a:pt x="1384" y="0"/>
                  </a:lnTo>
                  <a:lnTo>
                    <a:pt x="1526" y="4"/>
                  </a:lnTo>
                  <a:lnTo>
                    <a:pt x="1662" y="16"/>
                  </a:lnTo>
                  <a:lnTo>
                    <a:pt x="1795" y="36"/>
                  </a:lnTo>
                  <a:lnTo>
                    <a:pt x="1922" y="62"/>
                  </a:lnTo>
                  <a:lnTo>
                    <a:pt x="2043" y="95"/>
                  </a:lnTo>
                  <a:lnTo>
                    <a:pt x="2156" y="134"/>
                  </a:lnTo>
                  <a:lnTo>
                    <a:pt x="2263" y="178"/>
                  </a:lnTo>
                  <a:lnTo>
                    <a:pt x="2361" y="229"/>
                  </a:lnTo>
                  <a:lnTo>
                    <a:pt x="2451" y="285"/>
                  </a:lnTo>
                  <a:lnTo>
                    <a:pt x="2530" y="344"/>
                  </a:lnTo>
                  <a:lnTo>
                    <a:pt x="2600" y="409"/>
                  </a:lnTo>
                  <a:lnTo>
                    <a:pt x="2659" y="477"/>
                  </a:lnTo>
                  <a:lnTo>
                    <a:pt x="2705" y="549"/>
                  </a:lnTo>
                  <a:cubicBezTo>
                    <a:pt x="2705" y="549"/>
                    <a:pt x="2706" y="550"/>
                    <a:pt x="2706" y="550"/>
                  </a:cubicBezTo>
                  <a:lnTo>
                    <a:pt x="2740" y="625"/>
                  </a:lnTo>
                  <a:cubicBezTo>
                    <a:pt x="2740" y="626"/>
                    <a:pt x="2740" y="626"/>
                    <a:pt x="2740" y="626"/>
                  </a:cubicBezTo>
                  <a:lnTo>
                    <a:pt x="2761" y="703"/>
                  </a:lnTo>
                  <a:cubicBezTo>
                    <a:pt x="2761" y="704"/>
                    <a:pt x="2761" y="704"/>
                    <a:pt x="2761" y="705"/>
                  </a:cubicBezTo>
                  <a:lnTo>
                    <a:pt x="2768" y="784"/>
                  </a:lnTo>
                  <a:cubicBezTo>
                    <a:pt x="2768" y="784"/>
                    <a:pt x="2768" y="785"/>
                    <a:pt x="2768" y="785"/>
                  </a:cubicBezTo>
                  <a:lnTo>
                    <a:pt x="2761" y="864"/>
                  </a:lnTo>
                  <a:cubicBezTo>
                    <a:pt x="2761" y="865"/>
                    <a:pt x="2761" y="865"/>
                    <a:pt x="2761" y="866"/>
                  </a:cubicBezTo>
                  <a:lnTo>
                    <a:pt x="2740" y="944"/>
                  </a:lnTo>
                  <a:cubicBezTo>
                    <a:pt x="2740" y="944"/>
                    <a:pt x="2740" y="944"/>
                    <a:pt x="2740" y="945"/>
                  </a:cubicBezTo>
                  <a:lnTo>
                    <a:pt x="2706" y="1019"/>
                  </a:lnTo>
                  <a:cubicBezTo>
                    <a:pt x="2706" y="1019"/>
                    <a:pt x="2705" y="1019"/>
                    <a:pt x="2705" y="1020"/>
                  </a:cubicBezTo>
                  <a:lnTo>
                    <a:pt x="2659" y="1091"/>
                  </a:lnTo>
                  <a:lnTo>
                    <a:pt x="2601" y="1160"/>
                  </a:lnTo>
                  <a:lnTo>
                    <a:pt x="2531" y="1224"/>
                  </a:lnTo>
                  <a:lnTo>
                    <a:pt x="2451" y="1285"/>
                  </a:lnTo>
                  <a:lnTo>
                    <a:pt x="2362" y="1340"/>
                  </a:lnTo>
                  <a:lnTo>
                    <a:pt x="2263" y="1391"/>
                  </a:lnTo>
                  <a:lnTo>
                    <a:pt x="2157" y="1436"/>
                  </a:lnTo>
                  <a:lnTo>
                    <a:pt x="2043" y="1474"/>
                  </a:lnTo>
                  <a:lnTo>
                    <a:pt x="1923" y="1507"/>
                  </a:lnTo>
                  <a:lnTo>
                    <a:pt x="1795" y="1533"/>
                  </a:lnTo>
                  <a:lnTo>
                    <a:pt x="1663" y="1552"/>
                  </a:lnTo>
                  <a:lnTo>
                    <a:pt x="1526" y="1564"/>
                  </a:lnTo>
                  <a:lnTo>
                    <a:pt x="1385" y="1568"/>
                  </a:lnTo>
                  <a:lnTo>
                    <a:pt x="1243" y="1564"/>
                  </a:lnTo>
                  <a:lnTo>
                    <a:pt x="1107" y="1552"/>
                  </a:lnTo>
                  <a:lnTo>
                    <a:pt x="974" y="1533"/>
                  </a:lnTo>
                  <a:lnTo>
                    <a:pt x="848" y="1507"/>
                  </a:lnTo>
                  <a:lnTo>
                    <a:pt x="727" y="1474"/>
                  </a:lnTo>
                  <a:lnTo>
                    <a:pt x="613" y="1436"/>
                  </a:lnTo>
                  <a:lnTo>
                    <a:pt x="506" y="1391"/>
                  </a:lnTo>
                  <a:lnTo>
                    <a:pt x="408" y="1341"/>
                  </a:lnTo>
                  <a:lnTo>
                    <a:pt x="319" y="1285"/>
                  </a:lnTo>
                  <a:lnTo>
                    <a:pt x="239" y="1225"/>
                  </a:lnTo>
                  <a:lnTo>
                    <a:pt x="169" y="1160"/>
                  </a:lnTo>
                  <a:lnTo>
                    <a:pt x="110" y="1092"/>
                  </a:lnTo>
                  <a:lnTo>
                    <a:pt x="64" y="1020"/>
                  </a:lnTo>
                  <a:cubicBezTo>
                    <a:pt x="64" y="1019"/>
                    <a:pt x="63" y="1019"/>
                    <a:pt x="63" y="1019"/>
                  </a:cubicBezTo>
                  <a:lnTo>
                    <a:pt x="29" y="945"/>
                  </a:lnTo>
                  <a:cubicBezTo>
                    <a:pt x="29" y="944"/>
                    <a:pt x="29" y="944"/>
                    <a:pt x="29" y="944"/>
                  </a:cubicBezTo>
                  <a:lnTo>
                    <a:pt x="8" y="866"/>
                  </a:lnTo>
                  <a:cubicBezTo>
                    <a:pt x="8" y="865"/>
                    <a:pt x="8" y="865"/>
                    <a:pt x="7" y="864"/>
                  </a:cubicBezTo>
                  <a:lnTo>
                    <a:pt x="0" y="785"/>
                  </a:lnTo>
                  <a:close/>
                  <a:moveTo>
                    <a:pt x="23" y="863"/>
                  </a:moveTo>
                  <a:lnTo>
                    <a:pt x="23" y="861"/>
                  </a:lnTo>
                  <a:lnTo>
                    <a:pt x="44" y="939"/>
                  </a:lnTo>
                  <a:lnTo>
                    <a:pt x="44" y="938"/>
                  </a:lnTo>
                  <a:lnTo>
                    <a:pt x="78" y="1012"/>
                  </a:lnTo>
                  <a:lnTo>
                    <a:pt x="77" y="1011"/>
                  </a:lnTo>
                  <a:lnTo>
                    <a:pt x="123" y="1081"/>
                  </a:lnTo>
                  <a:lnTo>
                    <a:pt x="180" y="1149"/>
                  </a:lnTo>
                  <a:lnTo>
                    <a:pt x="248" y="1212"/>
                  </a:lnTo>
                  <a:lnTo>
                    <a:pt x="328" y="1272"/>
                  </a:lnTo>
                  <a:lnTo>
                    <a:pt x="415" y="1326"/>
                  </a:lnTo>
                  <a:lnTo>
                    <a:pt x="513" y="1376"/>
                  </a:lnTo>
                  <a:lnTo>
                    <a:pt x="618" y="1421"/>
                  </a:lnTo>
                  <a:lnTo>
                    <a:pt x="732" y="1459"/>
                  </a:lnTo>
                  <a:lnTo>
                    <a:pt x="851" y="1492"/>
                  </a:lnTo>
                  <a:lnTo>
                    <a:pt x="977" y="1518"/>
                  </a:lnTo>
                  <a:lnTo>
                    <a:pt x="1108" y="1536"/>
                  </a:lnTo>
                  <a:lnTo>
                    <a:pt x="1244" y="1548"/>
                  </a:lnTo>
                  <a:lnTo>
                    <a:pt x="1384" y="1552"/>
                  </a:lnTo>
                  <a:lnTo>
                    <a:pt x="1525" y="1548"/>
                  </a:lnTo>
                  <a:lnTo>
                    <a:pt x="1660" y="1537"/>
                  </a:lnTo>
                  <a:lnTo>
                    <a:pt x="1792" y="1518"/>
                  </a:lnTo>
                  <a:lnTo>
                    <a:pt x="1918" y="1492"/>
                  </a:lnTo>
                  <a:lnTo>
                    <a:pt x="2038" y="1459"/>
                  </a:lnTo>
                  <a:lnTo>
                    <a:pt x="2150" y="1421"/>
                  </a:lnTo>
                  <a:lnTo>
                    <a:pt x="2256" y="1376"/>
                  </a:lnTo>
                  <a:lnTo>
                    <a:pt x="2353" y="1327"/>
                  </a:lnTo>
                  <a:lnTo>
                    <a:pt x="2442" y="1272"/>
                  </a:lnTo>
                  <a:lnTo>
                    <a:pt x="2520" y="1213"/>
                  </a:lnTo>
                  <a:lnTo>
                    <a:pt x="2588" y="1149"/>
                  </a:lnTo>
                  <a:lnTo>
                    <a:pt x="2646" y="1082"/>
                  </a:lnTo>
                  <a:lnTo>
                    <a:pt x="2692" y="1011"/>
                  </a:lnTo>
                  <a:lnTo>
                    <a:pt x="2691" y="1012"/>
                  </a:lnTo>
                  <a:lnTo>
                    <a:pt x="2725" y="938"/>
                  </a:lnTo>
                  <a:lnTo>
                    <a:pt x="2725" y="939"/>
                  </a:lnTo>
                  <a:lnTo>
                    <a:pt x="2746" y="861"/>
                  </a:lnTo>
                  <a:lnTo>
                    <a:pt x="2745" y="863"/>
                  </a:lnTo>
                  <a:lnTo>
                    <a:pt x="2752" y="784"/>
                  </a:lnTo>
                  <a:lnTo>
                    <a:pt x="2752" y="785"/>
                  </a:lnTo>
                  <a:lnTo>
                    <a:pt x="2745" y="706"/>
                  </a:lnTo>
                  <a:lnTo>
                    <a:pt x="2746" y="708"/>
                  </a:lnTo>
                  <a:lnTo>
                    <a:pt x="2725" y="631"/>
                  </a:lnTo>
                  <a:lnTo>
                    <a:pt x="2725" y="632"/>
                  </a:lnTo>
                  <a:lnTo>
                    <a:pt x="2691" y="557"/>
                  </a:lnTo>
                  <a:lnTo>
                    <a:pt x="2692" y="558"/>
                  </a:lnTo>
                  <a:lnTo>
                    <a:pt x="2646" y="488"/>
                  </a:lnTo>
                  <a:lnTo>
                    <a:pt x="2589" y="420"/>
                  </a:lnTo>
                  <a:lnTo>
                    <a:pt x="2521" y="357"/>
                  </a:lnTo>
                  <a:lnTo>
                    <a:pt x="2442" y="298"/>
                  </a:lnTo>
                  <a:lnTo>
                    <a:pt x="2354" y="244"/>
                  </a:lnTo>
                  <a:lnTo>
                    <a:pt x="2256" y="193"/>
                  </a:lnTo>
                  <a:lnTo>
                    <a:pt x="2151" y="149"/>
                  </a:lnTo>
                  <a:lnTo>
                    <a:pt x="2038" y="110"/>
                  </a:lnTo>
                  <a:lnTo>
                    <a:pt x="1919" y="77"/>
                  </a:lnTo>
                  <a:lnTo>
                    <a:pt x="1792" y="51"/>
                  </a:lnTo>
                  <a:lnTo>
                    <a:pt x="1661" y="32"/>
                  </a:lnTo>
                  <a:lnTo>
                    <a:pt x="1525" y="20"/>
                  </a:lnTo>
                  <a:lnTo>
                    <a:pt x="1385" y="16"/>
                  </a:lnTo>
                  <a:lnTo>
                    <a:pt x="1244" y="20"/>
                  </a:lnTo>
                  <a:lnTo>
                    <a:pt x="1109" y="32"/>
                  </a:lnTo>
                  <a:lnTo>
                    <a:pt x="977" y="51"/>
                  </a:lnTo>
                  <a:lnTo>
                    <a:pt x="852" y="77"/>
                  </a:lnTo>
                  <a:lnTo>
                    <a:pt x="732" y="110"/>
                  </a:lnTo>
                  <a:lnTo>
                    <a:pt x="619" y="149"/>
                  </a:lnTo>
                  <a:lnTo>
                    <a:pt x="513" y="193"/>
                  </a:lnTo>
                  <a:lnTo>
                    <a:pt x="416" y="243"/>
                  </a:lnTo>
                  <a:lnTo>
                    <a:pt x="328" y="298"/>
                  </a:lnTo>
                  <a:lnTo>
                    <a:pt x="249" y="356"/>
                  </a:lnTo>
                  <a:lnTo>
                    <a:pt x="181" y="420"/>
                  </a:lnTo>
                  <a:lnTo>
                    <a:pt x="123" y="487"/>
                  </a:lnTo>
                  <a:lnTo>
                    <a:pt x="77" y="558"/>
                  </a:lnTo>
                  <a:lnTo>
                    <a:pt x="78" y="557"/>
                  </a:lnTo>
                  <a:lnTo>
                    <a:pt x="44" y="632"/>
                  </a:lnTo>
                  <a:lnTo>
                    <a:pt x="44" y="631"/>
                  </a:lnTo>
                  <a:lnTo>
                    <a:pt x="23" y="708"/>
                  </a:lnTo>
                  <a:lnTo>
                    <a:pt x="23" y="706"/>
                  </a:lnTo>
                  <a:lnTo>
                    <a:pt x="16" y="785"/>
                  </a:lnTo>
                  <a:lnTo>
                    <a:pt x="16" y="784"/>
                  </a:lnTo>
                  <a:lnTo>
                    <a:pt x="23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17920" y="54054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FP7 Capac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34080" y="5823000"/>
              <a:ext cx="1419480" cy="799920"/>
            </a:xfrm>
            <a:custGeom>
              <a:avLst/>
              <a:gdLst/>
              <a:ahLst/>
              <a:rect l="l" t="t" r="r" b="b"/>
              <a:pathLst>
                <a:path w="2752" h="1552">
                  <a:moveTo>
                    <a:pt x="0" y="776"/>
                  </a:moveTo>
                  <a:cubicBezTo>
                    <a:pt x="0" y="348"/>
                    <a:pt x="617" y="0"/>
                    <a:pt x="1376" y="0"/>
                  </a:cubicBezTo>
                  <a:lnTo>
                    <a:pt x="1376" y="0"/>
                  </a:lnTo>
                  <a:cubicBezTo>
                    <a:pt x="2136" y="0"/>
                    <a:pt x="2752" y="348"/>
                    <a:pt x="2752" y="776"/>
                  </a:cubicBezTo>
                  <a:cubicBezTo>
                    <a:pt x="2752" y="776"/>
                    <a:pt x="2752" y="776"/>
                    <a:pt x="2752" y="776"/>
                  </a:cubicBezTo>
                  <a:lnTo>
                    <a:pt x="2752" y="776"/>
                  </a:lnTo>
                  <a:cubicBezTo>
                    <a:pt x="2752" y="1205"/>
                    <a:pt x="2136" y="1552"/>
                    <a:pt x="1376" y="1552"/>
                  </a:cubicBezTo>
                  <a:cubicBezTo>
                    <a:pt x="1376" y="1552"/>
                    <a:pt x="1376" y="1552"/>
                    <a:pt x="1376" y="1552"/>
                  </a:cubicBezTo>
                  <a:lnTo>
                    <a:pt x="1376" y="1552"/>
                  </a:lnTo>
                  <a:cubicBezTo>
                    <a:pt x="617" y="1552"/>
                    <a:pt x="0" y="1205"/>
                    <a:pt x="0" y="776"/>
                  </a:cubicBezTo>
                  <a:cubicBezTo>
                    <a:pt x="0" y="776"/>
                    <a:pt x="0" y="776"/>
                    <a:pt x="0" y="776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30840" y="5818320"/>
              <a:ext cx="1425600" cy="807840"/>
            </a:xfrm>
            <a:custGeom>
              <a:avLst/>
              <a:gdLst/>
              <a:ahLst/>
              <a:rect l="l" t="t" r="r" b="b"/>
              <a:pathLst>
                <a:path w="2768" h="1568">
                  <a:moveTo>
                    <a:pt x="0" y="785"/>
                  </a:moveTo>
                  <a:cubicBezTo>
                    <a:pt x="0" y="785"/>
                    <a:pt x="0" y="784"/>
                    <a:pt x="0" y="784"/>
                  </a:cubicBezTo>
                  <a:lnTo>
                    <a:pt x="7" y="705"/>
                  </a:lnTo>
                  <a:cubicBezTo>
                    <a:pt x="8" y="704"/>
                    <a:pt x="8" y="704"/>
                    <a:pt x="8" y="703"/>
                  </a:cubicBezTo>
                  <a:lnTo>
                    <a:pt x="29" y="626"/>
                  </a:lnTo>
                  <a:cubicBezTo>
                    <a:pt x="29" y="626"/>
                    <a:pt x="29" y="626"/>
                    <a:pt x="29" y="625"/>
                  </a:cubicBezTo>
                  <a:lnTo>
                    <a:pt x="63" y="550"/>
                  </a:lnTo>
                  <a:cubicBezTo>
                    <a:pt x="63" y="550"/>
                    <a:pt x="64" y="549"/>
                    <a:pt x="64" y="549"/>
                  </a:cubicBezTo>
                  <a:lnTo>
                    <a:pt x="110" y="478"/>
                  </a:lnTo>
                  <a:lnTo>
                    <a:pt x="168" y="409"/>
                  </a:lnTo>
                  <a:lnTo>
                    <a:pt x="238" y="345"/>
                  </a:lnTo>
                  <a:lnTo>
                    <a:pt x="319" y="285"/>
                  </a:lnTo>
                  <a:lnTo>
                    <a:pt x="407" y="230"/>
                  </a:lnTo>
                  <a:lnTo>
                    <a:pt x="506" y="178"/>
                  </a:lnTo>
                  <a:lnTo>
                    <a:pt x="612" y="134"/>
                  </a:lnTo>
                  <a:lnTo>
                    <a:pt x="727" y="95"/>
                  </a:lnTo>
                  <a:lnTo>
                    <a:pt x="847" y="62"/>
                  </a:lnTo>
                  <a:lnTo>
                    <a:pt x="974" y="36"/>
                  </a:lnTo>
                  <a:lnTo>
                    <a:pt x="1106" y="17"/>
                  </a:lnTo>
                  <a:lnTo>
                    <a:pt x="1243" y="4"/>
                  </a:lnTo>
                  <a:lnTo>
                    <a:pt x="1384" y="0"/>
                  </a:lnTo>
                  <a:lnTo>
                    <a:pt x="1526" y="4"/>
                  </a:lnTo>
                  <a:lnTo>
                    <a:pt x="1662" y="16"/>
                  </a:lnTo>
                  <a:lnTo>
                    <a:pt x="1795" y="36"/>
                  </a:lnTo>
                  <a:lnTo>
                    <a:pt x="1922" y="62"/>
                  </a:lnTo>
                  <a:lnTo>
                    <a:pt x="2043" y="95"/>
                  </a:lnTo>
                  <a:lnTo>
                    <a:pt x="2156" y="134"/>
                  </a:lnTo>
                  <a:lnTo>
                    <a:pt x="2263" y="178"/>
                  </a:lnTo>
                  <a:lnTo>
                    <a:pt x="2361" y="229"/>
                  </a:lnTo>
                  <a:lnTo>
                    <a:pt x="2451" y="285"/>
                  </a:lnTo>
                  <a:lnTo>
                    <a:pt x="2530" y="344"/>
                  </a:lnTo>
                  <a:lnTo>
                    <a:pt x="2600" y="409"/>
                  </a:lnTo>
                  <a:lnTo>
                    <a:pt x="2659" y="477"/>
                  </a:lnTo>
                  <a:lnTo>
                    <a:pt x="2705" y="549"/>
                  </a:lnTo>
                  <a:cubicBezTo>
                    <a:pt x="2705" y="549"/>
                    <a:pt x="2706" y="550"/>
                    <a:pt x="2706" y="550"/>
                  </a:cubicBezTo>
                  <a:lnTo>
                    <a:pt x="2740" y="625"/>
                  </a:lnTo>
                  <a:cubicBezTo>
                    <a:pt x="2740" y="626"/>
                    <a:pt x="2740" y="626"/>
                    <a:pt x="2740" y="626"/>
                  </a:cubicBezTo>
                  <a:lnTo>
                    <a:pt x="2761" y="703"/>
                  </a:lnTo>
                  <a:cubicBezTo>
                    <a:pt x="2761" y="704"/>
                    <a:pt x="2761" y="704"/>
                    <a:pt x="2761" y="705"/>
                  </a:cubicBezTo>
                  <a:lnTo>
                    <a:pt x="2768" y="784"/>
                  </a:lnTo>
                  <a:cubicBezTo>
                    <a:pt x="2768" y="784"/>
                    <a:pt x="2768" y="785"/>
                    <a:pt x="2768" y="785"/>
                  </a:cubicBezTo>
                  <a:lnTo>
                    <a:pt x="2761" y="864"/>
                  </a:lnTo>
                  <a:cubicBezTo>
                    <a:pt x="2761" y="865"/>
                    <a:pt x="2761" y="865"/>
                    <a:pt x="2761" y="866"/>
                  </a:cubicBezTo>
                  <a:lnTo>
                    <a:pt x="2740" y="944"/>
                  </a:lnTo>
                  <a:cubicBezTo>
                    <a:pt x="2740" y="944"/>
                    <a:pt x="2740" y="944"/>
                    <a:pt x="2740" y="945"/>
                  </a:cubicBezTo>
                  <a:lnTo>
                    <a:pt x="2706" y="1019"/>
                  </a:lnTo>
                  <a:cubicBezTo>
                    <a:pt x="2706" y="1019"/>
                    <a:pt x="2705" y="1019"/>
                    <a:pt x="2705" y="1020"/>
                  </a:cubicBezTo>
                  <a:lnTo>
                    <a:pt x="2659" y="1091"/>
                  </a:lnTo>
                  <a:lnTo>
                    <a:pt x="2601" y="1160"/>
                  </a:lnTo>
                  <a:lnTo>
                    <a:pt x="2531" y="1224"/>
                  </a:lnTo>
                  <a:lnTo>
                    <a:pt x="2451" y="1285"/>
                  </a:lnTo>
                  <a:lnTo>
                    <a:pt x="2362" y="1340"/>
                  </a:lnTo>
                  <a:lnTo>
                    <a:pt x="2263" y="1391"/>
                  </a:lnTo>
                  <a:lnTo>
                    <a:pt x="2157" y="1436"/>
                  </a:lnTo>
                  <a:lnTo>
                    <a:pt x="2043" y="1474"/>
                  </a:lnTo>
                  <a:lnTo>
                    <a:pt x="1923" y="1507"/>
                  </a:lnTo>
                  <a:lnTo>
                    <a:pt x="1795" y="1533"/>
                  </a:lnTo>
                  <a:lnTo>
                    <a:pt x="1663" y="1552"/>
                  </a:lnTo>
                  <a:lnTo>
                    <a:pt x="1526" y="1564"/>
                  </a:lnTo>
                  <a:lnTo>
                    <a:pt x="1385" y="1568"/>
                  </a:lnTo>
                  <a:lnTo>
                    <a:pt x="1243" y="1564"/>
                  </a:lnTo>
                  <a:lnTo>
                    <a:pt x="1107" y="1552"/>
                  </a:lnTo>
                  <a:lnTo>
                    <a:pt x="974" y="1533"/>
                  </a:lnTo>
                  <a:lnTo>
                    <a:pt x="848" y="1507"/>
                  </a:lnTo>
                  <a:lnTo>
                    <a:pt x="727" y="1474"/>
                  </a:lnTo>
                  <a:lnTo>
                    <a:pt x="613" y="1436"/>
                  </a:lnTo>
                  <a:lnTo>
                    <a:pt x="506" y="1391"/>
                  </a:lnTo>
                  <a:lnTo>
                    <a:pt x="408" y="1341"/>
                  </a:lnTo>
                  <a:lnTo>
                    <a:pt x="319" y="1285"/>
                  </a:lnTo>
                  <a:lnTo>
                    <a:pt x="239" y="1225"/>
                  </a:lnTo>
                  <a:lnTo>
                    <a:pt x="169" y="1160"/>
                  </a:lnTo>
                  <a:lnTo>
                    <a:pt x="110" y="1092"/>
                  </a:lnTo>
                  <a:lnTo>
                    <a:pt x="64" y="1020"/>
                  </a:lnTo>
                  <a:cubicBezTo>
                    <a:pt x="64" y="1019"/>
                    <a:pt x="63" y="1019"/>
                    <a:pt x="63" y="1019"/>
                  </a:cubicBezTo>
                  <a:lnTo>
                    <a:pt x="29" y="945"/>
                  </a:lnTo>
                  <a:cubicBezTo>
                    <a:pt x="29" y="944"/>
                    <a:pt x="29" y="944"/>
                    <a:pt x="29" y="944"/>
                  </a:cubicBezTo>
                  <a:lnTo>
                    <a:pt x="8" y="866"/>
                  </a:lnTo>
                  <a:cubicBezTo>
                    <a:pt x="8" y="865"/>
                    <a:pt x="8" y="865"/>
                    <a:pt x="7" y="864"/>
                  </a:cubicBezTo>
                  <a:lnTo>
                    <a:pt x="0" y="785"/>
                  </a:lnTo>
                  <a:close/>
                  <a:moveTo>
                    <a:pt x="23" y="863"/>
                  </a:moveTo>
                  <a:lnTo>
                    <a:pt x="23" y="861"/>
                  </a:lnTo>
                  <a:lnTo>
                    <a:pt x="44" y="939"/>
                  </a:lnTo>
                  <a:lnTo>
                    <a:pt x="44" y="938"/>
                  </a:lnTo>
                  <a:lnTo>
                    <a:pt x="78" y="1012"/>
                  </a:lnTo>
                  <a:lnTo>
                    <a:pt x="77" y="1011"/>
                  </a:lnTo>
                  <a:lnTo>
                    <a:pt x="123" y="1081"/>
                  </a:lnTo>
                  <a:lnTo>
                    <a:pt x="180" y="1149"/>
                  </a:lnTo>
                  <a:lnTo>
                    <a:pt x="248" y="1212"/>
                  </a:lnTo>
                  <a:lnTo>
                    <a:pt x="328" y="1272"/>
                  </a:lnTo>
                  <a:lnTo>
                    <a:pt x="415" y="1326"/>
                  </a:lnTo>
                  <a:lnTo>
                    <a:pt x="513" y="1376"/>
                  </a:lnTo>
                  <a:lnTo>
                    <a:pt x="618" y="1421"/>
                  </a:lnTo>
                  <a:lnTo>
                    <a:pt x="732" y="1459"/>
                  </a:lnTo>
                  <a:lnTo>
                    <a:pt x="851" y="1492"/>
                  </a:lnTo>
                  <a:lnTo>
                    <a:pt x="977" y="1518"/>
                  </a:lnTo>
                  <a:lnTo>
                    <a:pt x="1108" y="1536"/>
                  </a:lnTo>
                  <a:lnTo>
                    <a:pt x="1244" y="1548"/>
                  </a:lnTo>
                  <a:lnTo>
                    <a:pt x="1384" y="1552"/>
                  </a:lnTo>
                  <a:lnTo>
                    <a:pt x="1525" y="1548"/>
                  </a:lnTo>
                  <a:lnTo>
                    <a:pt x="1660" y="1537"/>
                  </a:lnTo>
                  <a:lnTo>
                    <a:pt x="1792" y="1518"/>
                  </a:lnTo>
                  <a:lnTo>
                    <a:pt x="1918" y="1492"/>
                  </a:lnTo>
                  <a:lnTo>
                    <a:pt x="2038" y="1459"/>
                  </a:lnTo>
                  <a:lnTo>
                    <a:pt x="2150" y="1421"/>
                  </a:lnTo>
                  <a:lnTo>
                    <a:pt x="2256" y="1376"/>
                  </a:lnTo>
                  <a:lnTo>
                    <a:pt x="2353" y="1327"/>
                  </a:lnTo>
                  <a:lnTo>
                    <a:pt x="2442" y="1272"/>
                  </a:lnTo>
                  <a:lnTo>
                    <a:pt x="2520" y="1213"/>
                  </a:lnTo>
                  <a:lnTo>
                    <a:pt x="2588" y="1149"/>
                  </a:lnTo>
                  <a:lnTo>
                    <a:pt x="2646" y="1082"/>
                  </a:lnTo>
                  <a:lnTo>
                    <a:pt x="2692" y="1011"/>
                  </a:lnTo>
                  <a:lnTo>
                    <a:pt x="2691" y="1012"/>
                  </a:lnTo>
                  <a:lnTo>
                    <a:pt x="2725" y="938"/>
                  </a:lnTo>
                  <a:lnTo>
                    <a:pt x="2725" y="939"/>
                  </a:lnTo>
                  <a:lnTo>
                    <a:pt x="2746" y="861"/>
                  </a:lnTo>
                  <a:lnTo>
                    <a:pt x="2745" y="863"/>
                  </a:lnTo>
                  <a:lnTo>
                    <a:pt x="2752" y="784"/>
                  </a:lnTo>
                  <a:lnTo>
                    <a:pt x="2752" y="785"/>
                  </a:lnTo>
                  <a:lnTo>
                    <a:pt x="2745" y="706"/>
                  </a:lnTo>
                  <a:lnTo>
                    <a:pt x="2746" y="708"/>
                  </a:lnTo>
                  <a:lnTo>
                    <a:pt x="2725" y="631"/>
                  </a:lnTo>
                  <a:lnTo>
                    <a:pt x="2725" y="632"/>
                  </a:lnTo>
                  <a:lnTo>
                    <a:pt x="2691" y="557"/>
                  </a:lnTo>
                  <a:lnTo>
                    <a:pt x="2692" y="558"/>
                  </a:lnTo>
                  <a:lnTo>
                    <a:pt x="2646" y="488"/>
                  </a:lnTo>
                  <a:lnTo>
                    <a:pt x="2589" y="420"/>
                  </a:lnTo>
                  <a:lnTo>
                    <a:pt x="2521" y="357"/>
                  </a:lnTo>
                  <a:lnTo>
                    <a:pt x="2442" y="298"/>
                  </a:lnTo>
                  <a:lnTo>
                    <a:pt x="2354" y="244"/>
                  </a:lnTo>
                  <a:lnTo>
                    <a:pt x="2256" y="193"/>
                  </a:lnTo>
                  <a:lnTo>
                    <a:pt x="2151" y="149"/>
                  </a:lnTo>
                  <a:lnTo>
                    <a:pt x="2038" y="110"/>
                  </a:lnTo>
                  <a:lnTo>
                    <a:pt x="1919" y="77"/>
                  </a:lnTo>
                  <a:lnTo>
                    <a:pt x="1792" y="51"/>
                  </a:lnTo>
                  <a:lnTo>
                    <a:pt x="1661" y="32"/>
                  </a:lnTo>
                  <a:lnTo>
                    <a:pt x="1525" y="20"/>
                  </a:lnTo>
                  <a:lnTo>
                    <a:pt x="1385" y="16"/>
                  </a:lnTo>
                  <a:lnTo>
                    <a:pt x="1244" y="20"/>
                  </a:lnTo>
                  <a:lnTo>
                    <a:pt x="1109" y="32"/>
                  </a:lnTo>
                  <a:lnTo>
                    <a:pt x="977" y="51"/>
                  </a:lnTo>
                  <a:lnTo>
                    <a:pt x="852" y="77"/>
                  </a:lnTo>
                  <a:lnTo>
                    <a:pt x="732" y="110"/>
                  </a:lnTo>
                  <a:lnTo>
                    <a:pt x="619" y="149"/>
                  </a:lnTo>
                  <a:lnTo>
                    <a:pt x="513" y="193"/>
                  </a:lnTo>
                  <a:lnTo>
                    <a:pt x="416" y="243"/>
                  </a:lnTo>
                  <a:lnTo>
                    <a:pt x="328" y="298"/>
                  </a:lnTo>
                  <a:lnTo>
                    <a:pt x="249" y="356"/>
                  </a:lnTo>
                  <a:lnTo>
                    <a:pt x="181" y="420"/>
                  </a:lnTo>
                  <a:lnTo>
                    <a:pt x="123" y="487"/>
                  </a:lnTo>
                  <a:lnTo>
                    <a:pt x="77" y="558"/>
                  </a:lnTo>
                  <a:lnTo>
                    <a:pt x="78" y="557"/>
                  </a:lnTo>
                  <a:lnTo>
                    <a:pt x="44" y="632"/>
                  </a:lnTo>
                  <a:lnTo>
                    <a:pt x="44" y="631"/>
                  </a:lnTo>
                  <a:lnTo>
                    <a:pt x="23" y="708"/>
                  </a:lnTo>
                  <a:lnTo>
                    <a:pt x="23" y="706"/>
                  </a:lnTo>
                  <a:lnTo>
                    <a:pt x="16" y="785"/>
                  </a:lnTo>
                  <a:lnTo>
                    <a:pt x="16" y="784"/>
                  </a:lnTo>
                  <a:lnTo>
                    <a:pt x="23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44040" y="6138720"/>
              <a:ext cx="76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SSA, INCO ca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92760" y="4336920"/>
              <a:ext cx="1425600" cy="800280"/>
            </a:xfrm>
            <a:custGeom>
              <a:avLst/>
              <a:gdLst/>
              <a:ahLst/>
              <a:rect l="l" t="t" r="r" b="b"/>
              <a:pathLst>
                <a:path w="2768" h="1552">
                  <a:moveTo>
                    <a:pt x="0" y="776"/>
                  </a:moveTo>
                  <a:cubicBezTo>
                    <a:pt x="0" y="348"/>
                    <a:pt x="620" y="0"/>
                    <a:pt x="1384" y="0"/>
                  </a:cubicBezTo>
                  <a:lnTo>
                    <a:pt x="1384" y="0"/>
                  </a:lnTo>
                  <a:cubicBezTo>
                    <a:pt x="2149" y="0"/>
                    <a:pt x="2768" y="348"/>
                    <a:pt x="2768" y="776"/>
                  </a:cubicBezTo>
                  <a:cubicBezTo>
                    <a:pt x="2768" y="776"/>
                    <a:pt x="2768" y="776"/>
                    <a:pt x="2768" y="776"/>
                  </a:cubicBezTo>
                  <a:lnTo>
                    <a:pt x="2768" y="776"/>
                  </a:lnTo>
                  <a:cubicBezTo>
                    <a:pt x="2768" y="1205"/>
                    <a:pt x="2149" y="1552"/>
                    <a:pt x="1384" y="1552"/>
                  </a:cubicBezTo>
                  <a:cubicBezTo>
                    <a:pt x="1384" y="1552"/>
                    <a:pt x="1384" y="1552"/>
                    <a:pt x="1384" y="1552"/>
                  </a:cubicBezTo>
                  <a:lnTo>
                    <a:pt x="1384" y="1552"/>
                  </a:lnTo>
                  <a:cubicBezTo>
                    <a:pt x="620" y="1552"/>
                    <a:pt x="0" y="1205"/>
                    <a:pt x="0" y="776"/>
                  </a:cubicBezTo>
                  <a:cubicBezTo>
                    <a:pt x="0" y="776"/>
                    <a:pt x="0" y="776"/>
                    <a:pt x="0" y="776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88080" y="4332240"/>
              <a:ext cx="1435320" cy="809640"/>
            </a:xfrm>
            <a:custGeom>
              <a:avLst/>
              <a:gdLst/>
              <a:ahLst/>
              <a:rect l="l" t="t" r="r" b="b"/>
              <a:pathLst>
                <a:path w="2784" h="1568">
                  <a:moveTo>
                    <a:pt x="0" y="785"/>
                  </a:moveTo>
                  <a:cubicBezTo>
                    <a:pt x="0" y="785"/>
                    <a:pt x="0" y="784"/>
                    <a:pt x="0" y="784"/>
                  </a:cubicBezTo>
                  <a:lnTo>
                    <a:pt x="7" y="705"/>
                  </a:lnTo>
                  <a:cubicBezTo>
                    <a:pt x="8" y="704"/>
                    <a:pt x="8" y="704"/>
                    <a:pt x="8" y="703"/>
                  </a:cubicBezTo>
                  <a:lnTo>
                    <a:pt x="29" y="626"/>
                  </a:lnTo>
                  <a:cubicBezTo>
                    <a:pt x="29" y="626"/>
                    <a:pt x="29" y="626"/>
                    <a:pt x="29" y="625"/>
                  </a:cubicBezTo>
                  <a:lnTo>
                    <a:pt x="63" y="550"/>
                  </a:lnTo>
                  <a:cubicBezTo>
                    <a:pt x="63" y="550"/>
                    <a:pt x="64" y="549"/>
                    <a:pt x="64" y="549"/>
                  </a:cubicBezTo>
                  <a:lnTo>
                    <a:pt x="111" y="478"/>
                  </a:lnTo>
                  <a:lnTo>
                    <a:pt x="169" y="409"/>
                  </a:lnTo>
                  <a:lnTo>
                    <a:pt x="239" y="345"/>
                  </a:lnTo>
                  <a:lnTo>
                    <a:pt x="320" y="285"/>
                  </a:lnTo>
                  <a:lnTo>
                    <a:pt x="410" y="230"/>
                  </a:lnTo>
                  <a:lnTo>
                    <a:pt x="509" y="178"/>
                  </a:lnTo>
                  <a:lnTo>
                    <a:pt x="615" y="134"/>
                  </a:lnTo>
                  <a:lnTo>
                    <a:pt x="730" y="95"/>
                  </a:lnTo>
                  <a:lnTo>
                    <a:pt x="851" y="62"/>
                  </a:lnTo>
                  <a:lnTo>
                    <a:pt x="980" y="36"/>
                  </a:lnTo>
                  <a:lnTo>
                    <a:pt x="1112" y="17"/>
                  </a:lnTo>
                  <a:lnTo>
                    <a:pt x="1251" y="4"/>
                  </a:lnTo>
                  <a:lnTo>
                    <a:pt x="1392" y="0"/>
                  </a:lnTo>
                  <a:lnTo>
                    <a:pt x="1535" y="4"/>
                  </a:lnTo>
                  <a:lnTo>
                    <a:pt x="1672" y="16"/>
                  </a:lnTo>
                  <a:lnTo>
                    <a:pt x="1806" y="36"/>
                  </a:lnTo>
                  <a:lnTo>
                    <a:pt x="1933" y="62"/>
                  </a:lnTo>
                  <a:lnTo>
                    <a:pt x="2055" y="95"/>
                  </a:lnTo>
                  <a:lnTo>
                    <a:pt x="2169" y="134"/>
                  </a:lnTo>
                  <a:lnTo>
                    <a:pt x="2277" y="178"/>
                  </a:lnTo>
                  <a:lnTo>
                    <a:pt x="2375" y="229"/>
                  </a:lnTo>
                  <a:lnTo>
                    <a:pt x="2465" y="285"/>
                  </a:lnTo>
                  <a:lnTo>
                    <a:pt x="2545" y="344"/>
                  </a:lnTo>
                  <a:lnTo>
                    <a:pt x="2615" y="409"/>
                  </a:lnTo>
                  <a:lnTo>
                    <a:pt x="2674" y="477"/>
                  </a:lnTo>
                  <a:lnTo>
                    <a:pt x="2721" y="549"/>
                  </a:lnTo>
                  <a:cubicBezTo>
                    <a:pt x="2721" y="549"/>
                    <a:pt x="2722" y="550"/>
                    <a:pt x="2722" y="550"/>
                  </a:cubicBezTo>
                  <a:lnTo>
                    <a:pt x="2756" y="625"/>
                  </a:lnTo>
                  <a:cubicBezTo>
                    <a:pt x="2756" y="626"/>
                    <a:pt x="2756" y="626"/>
                    <a:pt x="2756" y="626"/>
                  </a:cubicBezTo>
                  <a:lnTo>
                    <a:pt x="2777" y="703"/>
                  </a:lnTo>
                  <a:cubicBezTo>
                    <a:pt x="2777" y="704"/>
                    <a:pt x="2777" y="704"/>
                    <a:pt x="2777" y="705"/>
                  </a:cubicBezTo>
                  <a:lnTo>
                    <a:pt x="2784" y="784"/>
                  </a:lnTo>
                  <a:cubicBezTo>
                    <a:pt x="2784" y="784"/>
                    <a:pt x="2784" y="785"/>
                    <a:pt x="2784" y="785"/>
                  </a:cubicBezTo>
                  <a:lnTo>
                    <a:pt x="2777" y="864"/>
                  </a:lnTo>
                  <a:cubicBezTo>
                    <a:pt x="2777" y="865"/>
                    <a:pt x="2777" y="865"/>
                    <a:pt x="2777" y="866"/>
                  </a:cubicBezTo>
                  <a:lnTo>
                    <a:pt x="2756" y="944"/>
                  </a:lnTo>
                  <a:cubicBezTo>
                    <a:pt x="2756" y="944"/>
                    <a:pt x="2756" y="944"/>
                    <a:pt x="2756" y="945"/>
                  </a:cubicBezTo>
                  <a:lnTo>
                    <a:pt x="2722" y="1019"/>
                  </a:lnTo>
                  <a:cubicBezTo>
                    <a:pt x="2722" y="1019"/>
                    <a:pt x="2721" y="1020"/>
                    <a:pt x="2721" y="1020"/>
                  </a:cubicBezTo>
                  <a:lnTo>
                    <a:pt x="2674" y="1091"/>
                  </a:lnTo>
                  <a:lnTo>
                    <a:pt x="2616" y="1160"/>
                  </a:lnTo>
                  <a:lnTo>
                    <a:pt x="2546" y="1224"/>
                  </a:lnTo>
                  <a:lnTo>
                    <a:pt x="2465" y="1285"/>
                  </a:lnTo>
                  <a:lnTo>
                    <a:pt x="2376" y="1340"/>
                  </a:lnTo>
                  <a:lnTo>
                    <a:pt x="2277" y="1391"/>
                  </a:lnTo>
                  <a:lnTo>
                    <a:pt x="2170" y="1436"/>
                  </a:lnTo>
                  <a:lnTo>
                    <a:pt x="2055" y="1474"/>
                  </a:lnTo>
                  <a:lnTo>
                    <a:pt x="1934" y="1507"/>
                  </a:lnTo>
                  <a:lnTo>
                    <a:pt x="1806" y="1533"/>
                  </a:lnTo>
                  <a:lnTo>
                    <a:pt x="1673" y="1552"/>
                  </a:lnTo>
                  <a:lnTo>
                    <a:pt x="1535" y="1564"/>
                  </a:lnTo>
                  <a:lnTo>
                    <a:pt x="1393" y="1568"/>
                  </a:lnTo>
                  <a:lnTo>
                    <a:pt x="1251" y="1564"/>
                  </a:lnTo>
                  <a:lnTo>
                    <a:pt x="1113" y="1552"/>
                  </a:lnTo>
                  <a:lnTo>
                    <a:pt x="980" y="1533"/>
                  </a:lnTo>
                  <a:lnTo>
                    <a:pt x="852" y="1507"/>
                  </a:lnTo>
                  <a:lnTo>
                    <a:pt x="730" y="1474"/>
                  </a:lnTo>
                  <a:lnTo>
                    <a:pt x="616" y="1436"/>
                  </a:lnTo>
                  <a:lnTo>
                    <a:pt x="509" y="1391"/>
                  </a:lnTo>
                  <a:lnTo>
                    <a:pt x="411" y="1341"/>
                  </a:lnTo>
                  <a:lnTo>
                    <a:pt x="320" y="1285"/>
                  </a:lnTo>
                  <a:lnTo>
                    <a:pt x="240" y="1225"/>
                  </a:lnTo>
                  <a:lnTo>
                    <a:pt x="170" y="1160"/>
                  </a:lnTo>
                  <a:lnTo>
                    <a:pt x="111" y="1092"/>
                  </a:lnTo>
                  <a:lnTo>
                    <a:pt x="64" y="1020"/>
                  </a:lnTo>
                  <a:cubicBezTo>
                    <a:pt x="64" y="1020"/>
                    <a:pt x="63" y="1019"/>
                    <a:pt x="63" y="1019"/>
                  </a:cubicBezTo>
                  <a:lnTo>
                    <a:pt x="29" y="945"/>
                  </a:lnTo>
                  <a:cubicBezTo>
                    <a:pt x="29" y="944"/>
                    <a:pt x="29" y="944"/>
                    <a:pt x="29" y="944"/>
                  </a:cubicBezTo>
                  <a:lnTo>
                    <a:pt x="8" y="866"/>
                  </a:lnTo>
                  <a:cubicBezTo>
                    <a:pt x="8" y="865"/>
                    <a:pt x="8" y="865"/>
                    <a:pt x="7" y="864"/>
                  </a:cubicBezTo>
                  <a:lnTo>
                    <a:pt x="0" y="785"/>
                  </a:lnTo>
                  <a:close/>
                  <a:moveTo>
                    <a:pt x="23" y="863"/>
                  </a:moveTo>
                  <a:lnTo>
                    <a:pt x="23" y="861"/>
                  </a:lnTo>
                  <a:lnTo>
                    <a:pt x="44" y="939"/>
                  </a:lnTo>
                  <a:lnTo>
                    <a:pt x="44" y="938"/>
                  </a:lnTo>
                  <a:lnTo>
                    <a:pt x="78" y="1012"/>
                  </a:lnTo>
                  <a:lnTo>
                    <a:pt x="77" y="1011"/>
                  </a:lnTo>
                  <a:lnTo>
                    <a:pt x="124" y="1081"/>
                  </a:lnTo>
                  <a:lnTo>
                    <a:pt x="181" y="1149"/>
                  </a:lnTo>
                  <a:lnTo>
                    <a:pt x="249" y="1212"/>
                  </a:lnTo>
                  <a:lnTo>
                    <a:pt x="329" y="1272"/>
                  </a:lnTo>
                  <a:lnTo>
                    <a:pt x="418" y="1326"/>
                  </a:lnTo>
                  <a:lnTo>
                    <a:pt x="516" y="1376"/>
                  </a:lnTo>
                  <a:lnTo>
                    <a:pt x="621" y="1421"/>
                  </a:lnTo>
                  <a:lnTo>
                    <a:pt x="735" y="1459"/>
                  </a:lnTo>
                  <a:lnTo>
                    <a:pt x="855" y="1492"/>
                  </a:lnTo>
                  <a:lnTo>
                    <a:pt x="983" y="1518"/>
                  </a:lnTo>
                  <a:lnTo>
                    <a:pt x="1114" y="1536"/>
                  </a:lnTo>
                  <a:lnTo>
                    <a:pt x="1252" y="1548"/>
                  </a:lnTo>
                  <a:lnTo>
                    <a:pt x="1392" y="1552"/>
                  </a:lnTo>
                  <a:lnTo>
                    <a:pt x="1534" y="1548"/>
                  </a:lnTo>
                  <a:lnTo>
                    <a:pt x="1670" y="1537"/>
                  </a:lnTo>
                  <a:lnTo>
                    <a:pt x="1803" y="1518"/>
                  </a:lnTo>
                  <a:lnTo>
                    <a:pt x="1929" y="1492"/>
                  </a:lnTo>
                  <a:lnTo>
                    <a:pt x="2050" y="1459"/>
                  </a:lnTo>
                  <a:lnTo>
                    <a:pt x="2163" y="1421"/>
                  </a:lnTo>
                  <a:lnTo>
                    <a:pt x="2270" y="1376"/>
                  </a:lnTo>
                  <a:lnTo>
                    <a:pt x="2367" y="1327"/>
                  </a:lnTo>
                  <a:lnTo>
                    <a:pt x="2456" y="1272"/>
                  </a:lnTo>
                  <a:lnTo>
                    <a:pt x="2535" y="1213"/>
                  </a:lnTo>
                  <a:lnTo>
                    <a:pt x="2603" y="1149"/>
                  </a:lnTo>
                  <a:lnTo>
                    <a:pt x="2661" y="1082"/>
                  </a:lnTo>
                  <a:lnTo>
                    <a:pt x="2708" y="1011"/>
                  </a:lnTo>
                  <a:lnTo>
                    <a:pt x="2707" y="1012"/>
                  </a:lnTo>
                  <a:lnTo>
                    <a:pt x="2741" y="938"/>
                  </a:lnTo>
                  <a:lnTo>
                    <a:pt x="2741" y="939"/>
                  </a:lnTo>
                  <a:lnTo>
                    <a:pt x="2762" y="861"/>
                  </a:lnTo>
                  <a:lnTo>
                    <a:pt x="2761" y="863"/>
                  </a:lnTo>
                  <a:lnTo>
                    <a:pt x="2768" y="784"/>
                  </a:lnTo>
                  <a:lnTo>
                    <a:pt x="2768" y="785"/>
                  </a:lnTo>
                  <a:lnTo>
                    <a:pt x="2761" y="706"/>
                  </a:lnTo>
                  <a:lnTo>
                    <a:pt x="2762" y="708"/>
                  </a:lnTo>
                  <a:lnTo>
                    <a:pt x="2741" y="631"/>
                  </a:lnTo>
                  <a:lnTo>
                    <a:pt x="2741" y="632"/>
                  </a:lnTo>
                  <a:lnTo>
                    <a:pt x="2707" y="557"/>
                  </a:lnTo>
                  <a:lnTo>
                    <a:pt x="2708" y="558"/>
                  </a:lnTo>
                  <a:lnTo>
                    <a:pt x="2661" y="488"/>
                  </a:lnTo>
                  <a:lnTo>
                    <a:pt x="2604" y="420"/>
                  </a:lnTo>
                  <a:lnTo>
                    <a:pt x="2536" y="357"/>
                  </a:lnTo>
                  <a:lnTo>
                    <a:pt x="2456" y="298"/>
                  </a:lnTo>
                  <a:lnTo>
                    <a:pt x="2368" y="244"/>
                  </a:lnTo>
                  <a:lnTo>
                    <a:pt x="2270" y="193"/>
                  </a:lnTo>
                  <a:lnTo>
                    <a:pt x="2164" y="149"/>
                  </a:lnTo>
                  <a:lnTo>
                    <a:pt x="2050" y="110"/>
                  </a:lnTo>
                  <a:lnTo>
                    <a:pt x="1930" y="77"/>
                  </a:lnTo>
                  <a:lnTo>
                    <a:pt x="1803" y="51"/>
                  </a:lnTo>
                  <a:lnTo>
                    <a:pt x="1671" y="32"/>
                  </a:lnTo>
                  <a:lnTo>
                    <a:pt x="1534" y="20"/>
                  </a:lnTo>
                  <a:lnTo>
                    <a:pt x="1393" y="16"/>
                  </a:lnTo>
                  <a:lnTo>
                    <a:pt x="1252" y="20"/>
                  </a:lnTo>
                  <a:lnTo>
                    <a:pt x="1115" y="32"/>
                  </a:lnTo>
                  <a:lnTo>
                    <a:pt x="983" y="51"/>
                  </a:lnTo>
                  <a:lnTo>
                    <a:pt x="856" y="77"/>
                  </a:lnTo>
                  <a:lnTo>
                    <a:pt x="735" y="110"/>
                  </a:lnTo>
                  <a:lnTo>
                    <a:pt x="622" y="149"/>
                  </a:lnTo>
                  <a:lnTo>
                    <a:pt x="516" y="193"/>
                  </a:lnTo>
                  <a:lnTo>
                    <a:pt x="419" y="243"/>
                  </a:lnTo>
                  <a:lnTo>
                    <a:pt x="329" y="298"/>
                  </a:lnTo>
                  <a:lnTo>
                    <a:pt x="250" y="356"/>
                  </a:lnTo>
                  <a:lnTo>
                    <a:pt x="182" y="420"/>
                  </a:lnTo>
                  <a:lnTo>
                    <a:pt x="124" y="487"/>
                  </a:lnTo>
                  <a:lnTo>
                    <a:pt x="77" y="558"/>
                  </a:lnTo>
                  <a:lnTo>
                    <a:pt x="78" y="557"/>
                  </a:lnTo>
                  <a:lnTo>
                    <a:pt x="44" y="632"/>
                  </a:lnTo>
                  <a:lnTo>
                    <a:pt x="44" y="631"/>
                  </a:lnTo>
                  <a:lnTo>
                    <a:pt x="23" y="708"/>
                  </a:lnTo>
                  <a:lnTo>
                    <a:pt x="23" y="706"/>
                  </a:lnTo>
                  <a:lnTo>
                    <a:pt x="16" y="785"/>
                  </a:lnTo>
                  <a:lnTo>
                    <a:pt x="16" y="784"/>
                  </a:lnTo>
                  <a:lnTo>
                    <a:pt x="23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12160" y="449568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ITN, IRCE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78680" y="465300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Marie Curi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10800" y="48085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A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87880" y="4270320"/>
              <a:ext cx="787320" cy="380880"/>
            </a:xfrm>
            <a:custGeom>
              <a:avLst/>
              <a:gdLst/>
              <a:ahLst/>
              <a:rect l="l" t="t" r="r" b="b"/>
              <a:pathLst>
                <a:path w="1528" h="736">
                  <a:moveTo>
                    <a:pt x="1086" y="736"/>
                  </a:moveTo>
                  <a:lnTo>
                    <a:pt x="547" y="491"/>
                  </a:lnTo>
                  <a:lnTo>
                    <a:pt x="792" y="491"/>
                  </a:lnTo>
                  <a:lnTo>
                    <a:pt x="792" y="491"/>
                  </a:lnTo>
                  <a:cubicBezTo>
                    <a:pt x="674" y="197"/>
                    <a:pt x="356" y="0"/>
                    <a:pt x="0" y="0"/>
                  </a:cubicBezTo>
                  <a:lnTo>
                    <a:pt x="0" y="0"/>
                  </a:lnTo>
                  <a:lnTo>
                    <a:pt x="491" y="0"/>
                  </a:lnTo>
                  <a:lnTo>
                    <a:pt x="491" y="0"/>
                  </a:lnTo>
                  <a:cubicBezTo>
                    <a:pt x="847" y="0"/>
                    <a:pt x="1164" y="197"/>
                    <a:pt x="1283" y="491"/>
                  </a:cubicBezTo>
                  <a:lnTo>
                    <a:pt x="1283" y="491"/>
                  </a:lnTo>
                  <a:lnTo>
                    <a:pt x="1528" y="491"/>
                  </a:lnTo>
                  <a:lnTo>
                    <a:pt x="1086" y="736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54440" y="4270320"/>
              <a:ext cx="560520" cy="380880"/>
            </a:xfrm>
            <a:custGeom>
              <a:avLst/>
              <a:gdLst/>
              <a:ahLst/>
              <a:rect l="l" t="t" r="r" b="b"/>
              <a:pathLst>
                <a:path w="1086" h="736">
                  <a:moveTo>
                    <a:pt x="1086" y="33"/>
                  </a:moveTo>
                  <a:cubicBezTo>
                    <a:pt x="733" y="127"/>
                    <a:pt x="491" y="413"/>
                    <a:pt x="491" y="736"/>
                  </a:cubicBezTo>
                  <a:lnTo>
                    <a:pt x="491" y="736"/>
                  </a:lnTo>
                  <a:lnTo>
                    <a:pt x="0" y="736"/>
                  </a:lnTo>
                  <a:lnTo>
                    <a:pt x="0" y="736"/>
                  </a:lnTo>
                  <a:cubicBezTo>
                    <a:pt x="0" y="330"/>
                    <a:pt x="376" y="0"/>
                    <a:pt x="840" y="0"/>
                  </a:cubicBezTo>
                  <a:cubicBezTo>
                    <a:pt x="924" y="0"/>
                    <a:pt x="1006" y="11"/>
                    <a:pt x="1086" y="33"/>
                  </a:cubicBezTo>
                  <a:close/>
                </a:path>
              </a:pathLst>
            </a:custGeom>
            <a:solidFill>
              <a:srgbClr val="40689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51200" y="4267080"/>
              <a:ext cx="1239840" cy="387360"/>
            </a:xfrm>
            <a:custGeom>
              <a:avLst/>
              <a:gdLst/>
              <a:ahLst/>
              <a:rect l="l" t="t" r="r" b="b"/>
              <a:pathLst>
                <a:path w="781" h="244">
                  <a:moveTo>
                    <a:pt x="356" y="16"/>
                  </a:moveTo>
                  <a:lnTo>
                    <a:pt x="315" y="30"/>
                  </a:lnTo>
                  <a:lnTo>
                    <a:pt x="315" y="30"/>
                  </a:lnTo>
                  <a:lnTo>
                    <a:pt x="278" y="50"/>
                  </a:lnTo>
                  <a:lnTo>
                    <a:pt x="278" y="49"/>
                  </a:lnTo>
                  <a:lnTo>
                    <a:pt x="245" y="74"/>
                  </a:lnTo>
                  <a:lnTo>
                    <a:pt x="246" y="73"/>
                  </a:lnTo>
                  <a:lnTo>
                    <a:pt x="217" y="102"/>
                  </a:lnTo>
                  <a:lnTo>
                    <a:pt x="218" y="101"/>
                  </a:lnTo>
                  <a:lnTo>
                    <a:pt x="195" y="133"/>
                  </a:lnTo>
                  <a:lnTo>
                    <a:pt x="195" y="132"/>
                  </a:lnTo>
                  <a:lnTo>
                    <a:pt x="178" y="167"/>
                  </a:lnTo>
                  <a:lnTo>
                    <a:pt x="178" y="167"/>
                  </a:lnTo>
                  <a:lnTo>
                    <a:pt x="168" y="204"/>
                  </a:lnTo>
                  <a:lnTo>
                    <a:pt x="168" y="203"/>
                  </a:lnTo>
                  <a:lnTo>
                    <a:pt x="164" y="244"/>
                  </a:lnTo>
                  <a:lnTo>
                    <a:pt x="0" y="244"/>
                  </a:lnTo>
                  <a:lnTo>
                    <a:pt x="1" y="217"/>
                  </a:lnTo>
                  <a:lnTo>
                    <a:pt x="6" y="193"/>
                  </a:lnTo>
                  <a:lnTo>
                    <a:pt x="13" y="170"/>
                  </a:lnTo>
                  <a:lnTo>
                    <a:pt x="22" y="148"/>
                  </a:lnTo>
                  <a:lnTo>
                    <a:pt x="33" y="126"/>
                  </a:lnTo>
                  <a:lnTo>
                    <a:pt x="47" y="107"/>
                  </a:lnTo>
                  <a:lnTo>
                    <a:pt x="63" y="88"/>
                  </a:lnTo>
                  <a:lnTo>
                    <a:pt x="81" y="71"/>
                  </a:lnTo>
                  <a:lnTo>
                    <a:pt x="121" y="41"/>
                  </a:lnTo>
                  <a:lnTo>
                    <a:pt x="144" y="29"/>
                  </a:lnTo>
                  <a:lnTo>
                    <a:pt x="168" y="19"/>
                  </a:lnTo>
                  <a:lnTo>
                    <a:pt x="193" y="11"/>
                  </a:lnTo>
                  <a:lnTo>
                    <a:pt x="220" y="5"/>
                  </a:lnTo>
                  <a:lnTo>
                    <a:pt x="247" y="1"/>
                  </a:lnTo>
                  <a:lnTo>
                    <a:pt x="275" y="0"/>
                  </a:lnTo>
                  <a:lnTo>
                    <a:pt x="435" y="0"/>
                  </a:lnTo>
                  <a:lnTo>
                    <a:pt x="478" y="3"/>
                  </a:lnTo>
                  <a:lnTo>
                    <a:pt x="519" y="12"/>
                  </a:lnTo>
                  <a:lnTo>
                    <a:pt x="558" y="25"/>
                  </a:lnTo>
                  <a:lnTo>
                    <a:pt x="594" y="44"/>
                  </a:lnTo>
                  <a:lnTo>
                    <a:pt x="626" y="67"/>
                  </a:lnTo>
                  <a:lnTo>
                    <a:pt x="654" y="95"/>
                  </a:lnTo>
                  <a:lnTo>
                    <a:pt x="676" y="126"/>
                  </a:lnTo>
                  <a:lnTo>
                    <a:pt x="694" y="161"/>
                  </a:lnTo>
                  <a:lnTo>
                    <a:pt x="692" y="159"/>
                  </a:lnTo>
                  <a:lnTo>
                    <a:pt x="781" y="159"/>
                  </a:lnTo>
                  <a:lnTo>
                    <a:pt x="628" y="244"/>
                  </a:lnTo>
                  <a:lnTo>
                    <a:pt x="441" y="159"/>
                  </a:lnTo>
                  <a:lnTo>
                    <a:pt x="532" y="159"/>
                  </a:lnTo>
                  <a:lnTo>
                    <a:pt x="530" y="163"/>
                  </a:lnTo>
                  <a:lnTo>
                    <a:pt x="513" y="129"/>
                  </a:lnTo>
                  <a:lnTo>
                    <a:pt x="513" y="129"/>
                  </a:lnTo>
                  <a:lnTo>
                    <a:pt x="490" y="98"/>
                  </a:lnTo>
                  <a:lnTo>
                    <a:pt x="491" y="99"/>
                  </a:lnTo>
                  <a:lnTo>
                    <a:pt x="463" y="71"/>
                  </a:lnTo>
                  <a:lnTo>
                    <a:pt x="463" y="72"/>
                  </a:lnTo>
                  <a:lnTo>
                    <a:pt x="431" y="49"/>
                  </a:lnTo>
                  <a:lnTo>
                    <a:pt x="432" y="49"/>
                  </a:lnTo>
                  <a:lnTo>
                    <a:pt x="396" y="30"/>
                  </a:lnTo>
                  <a:lnTo>
                    <a:pt x="397" y="30"/>
                  </a:lnTo>
                  <a:lnTo>
                    <a:pt x="358" y="16"/>
                  </a:lnTo>
                  <a:lnTo>
                    <a:pt x="358" y="16"/>
                  </a:lnTo>
                  <a:lnTo>
                    <a:pt x="317" y="8"/>
                  </a:lnTo>
                  <a:lnTo>
                    <a:pt x="318" y="8"/>
                  </a:lnTo>
                  <a:lnTo>
                    <a:pt x="275" y="5"/>
                  </a:lnTo>
                  <a:lnTo>
                    <a:pt x="276" y="0"/>
                  </a:lnTo>
                  <a:lnTo>
                    <a:pt x="318" y="3"/>
                  </a:lnTo>
                  <a:lnTo>
                    <a:pt x="360" y="12"/>
                  </a:lnTo>
                  <a:lnTo>
                    <a:pt x="399" y="25"/>
                  </a:lnTo>
                  <a:lnTo>
                    <a:pt x="434" y="44"/>
                  </a:lnTo>
                  <a:lnTo>
                    <a:pt x="466" y="67"/>
                  </a:lnTo>
                  <a:lnTo>
                    <a:pt x="495" y="95"/>
                  </a:lnTo>
                  <a:lnTo>
                    <a:pt x="517" y="126"/>
                  </a:lnTo>
                  <a:lnTo>
                    <a:pt x="537" y="165"/>
                  </a:lnTo>
                  <a:lnTo>
                    <a:pt x="453" y="165"/>
                  </a:lnTo>
                  <a:lnTo>
                    <a:pt x="454" y="160"/>
                  </a:lnTo>
                  <a:lnTo>
                    <a:pt x="629" y="239"/>
                  </a:lnTo>
                  <a:lnTo>
                    <a:pt x="627" y="239"/>
                  </a:lnTo>
                  <a:lnTo>
                    <a:pt x="770" y="160"/>
                  </a:lnTo>
                  <a:lnTo>
                    <a:pt x="771" y="165"/>
                  </a:lnTo>
                  <a:lnTo>
                    <a:pt x="690" y="165"/>
                  </a:lnTo>
                  <a:lnTo>
                    <a:pt x="672" y="129"/>
                  </a:lnTo>
                  <a:lnTo>
                    <a:pt x="672" y="129"/>
                  </a:lnTo>
                  <a:lnTo>
                    <a:pt x="650" y="98"/>
                  </a:lnTo>
                  <a:lnTo>
                    <a:pt x="650" y="99"/>
                  </a:lnTo>
                  <a:lnTo>
                    <a:pt x="622" y="71"/>
                  </a:lnTo>
                  <a:lnTo>
                    <a:pt x="623" y="72"/>
                  </a:lnTo>
                  <a:lnTo>
                    <a:pt x="591" y="49"/>
                  </a:lnTo>
                  <a:lnTo>
                    <a:pt x="591" y="49"/>
                  </a:lnTo>
                  <a:lnTo>
                    <a:pt x="556" y="30"/>
                  </a:lnTo>
                  <a:lnTo>
                    <a:pt x="556" y="30"/>
                  </a:lnTo>
                  <a:lnTo>
                    <a:pt x="517" y="16"/>
                  </a:lnTo>
                  <a:lnTo>
                    <a:pt x="518" y="16"/>
                  </a:lnTo>
                  <a:lnTo>
                    <a:pt x="477" y="8"/>
                  </a:lnTo>
                  <a:lnTo>
                    <a:pt x="477" y="8"/>
                  </a:lnTo>
                  <a:lnTo>
                    <a:pt x="435" y="5"/>
                  </a:lnTo>
                  <a:lnTo>
                    <a:pt x="435" y="5"/>
                  </a:lnTo>
                  <a:lnTo>
                    <a:pt x="275" y="5"/>
                  </a:lnTo>
                  <a:lnTo>
                    <a:pt x="276" y="5"/>
                  </a:lnTo>
                  <a:lnTo>
                    <a:pt x="248" y="6"/>
                  </a:lnTo>
                  <a:lnTo>
                    <a:pt x="248" y="6"/>
                  </a:lnTo>
                  <a:lnTo>
                    <a:pt x="221" y="10"/>
                  </a:lnTo>
                  <a:lnTo>
                    <a:pt x="221" y="10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47" y="34"/>
                  </a:lnTo>
                  <a:lnTo>
                    <a:pt x="147" y="34"/>
                  </a:lnTo>
                  <a:lnTo>
                    <a:pt x="124" y="46"/>
                  </a:lnTo>
                  <a:lnTo>
                    <a:pt x="124" y="46"/>
                  </a:lnTo>
                  <a:lnTo>
                    <a:pt x="84" y="75"/>
                  </a:lnTo>
                  <a:lnTo>
                    <a:pt x="84" y="75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51" y="110"/>
                  </a:lnTo>
                  <a:lnTo>
                    <a:pt x="51" y="110"/>
                  </a:lnTo>
                  <a:lnTo>
                    <a:pt x="38" y="129"/>
                  </a:lnTo>
                  <a:lnTo>
                    <a:pt x="38" y="129"/>
                  </a:lnTo>
                  <a:lnTo>
                    <a:pt x="27" y="150"/>
                  </a:lnTo>
                  <a:lnTo>
                    <a:pt x="27" y="150"/>
                  </a:lnTo>
                  <a:lnTo>
                    <a:pt x="17" y="172"/>
                  </a:lnTo>
                  <a:lnTo>
                    <a:pt x="17" y="171"/>
                  </a:lnTo>
                  <a:lnTo>
                    <a:pt x="11" y="194"/>
                  </a:lnTo>
                  <a:lnTo>
                    <a:pt x="11" y="194"/>
                  </a:lnTo>
                  <a:lnTo>
                    <a:pt x="6" y="218"/>
                  </a:lnTo>
                  <a:lnTo>
                    <a:pt x="6" y="217"/>
                  </a:lnTo>
                  <a:lnTo>
                    <a:pt x="5" y="242"/>
                  </a:lnTo>
                  <a:lnTo>
                    <a:pt x="2" y="239"/>
                  </a:lnTo>
                  <a:lnTo>
                    <a:pt x="162" y="239"/>
                  </a:lnTo>
                  <a:lnTo>
                    <a:pt x="159" y="242"/>
                  </a:lnTo>
                  <a:lnTo>
                    <a:pt x="163" y="203"/>
                  </a:lnTo>
                  <a:lnTo>
                    <a:pt x="174" y="165"/>
                  </a:lnTo>
                  <a:lnTo>
                    <a:pt x="191" y="130"/>
                  </a:lnTo>
                  <a:lnTo>
                    <a:pt x="214" y="98"/>
                  </a:lnTo>
                  <a:lnTo>
                    <a:pt x="242" y="69"/>
                  </a:lnTo>
                  <a:lnTo>
                    <a:pt x="275" y="45"/>
                  </a:lnTo>
                  <a:lnTo>
                    <a:pt x="313" y="25"/>
                  </a:lnTo>
                  <a:lnTo>
                    <a:pt x="354" y="11"/>
                  </a:lnTo>
                  <a:lnTo>
                    <a:pt x="35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56160" y="5079960"/>
              <a:ext cx="789120" cy="379440"/>
            </a:xfrm>
            <a:custGeom>
              <a:avLst/>
              <a:gdLst/>
              <a:ahLst/>
              <a:rect l="l" t="t" r="r" b="b"/>
              <a:pathLst>
                <a:path w="1528" h="736">
                  <a:moveTo>
                    <a:pt x="442" y="0"/>
                  </a:moveTo>
                  <a:lnTo>
                    <a:pt x="981" y="246"/>
                  </a:lnTo>
                  <a:lnTo>
                    <a:pt x="736" y="246"/>
                  </a:lnTo>
                  <a:lnTo>
                    <a:pt x="736" y="246"/>
                  </a:lnTo>
                  <a:cubicBezTo>
                    <a:pt x="854" y="540"/>
                    <a:pt x="1172" y="736"/>
                    <a:pt x="1528" y="736"/>
                  </a:cubicBezTo>
                  <a:lnTo>
                    <a:pt x="1528" y="736"/>
                  </a:lnTo>
                  <a:lnTo>
                    <a:pt x="1037" y="736"/>
                  </a:lnTo>
                  <a:lnTo>
                    <a:pt x="1037" y="736"/>
                  </a:lnTo>
                  <a:cubicBezTo>
                    <a:pt x="681" y="736"/>
                    <a:pt x="364" y="540"/>
                    <a:pt x="245" y="246"/>
                  </a:cubicBezTo>
                  <a:lnTo>
                    <a:pt x="245" y="246"/>
                  </a:lnTo>
                  <a:lnTo>
                    <a:pt x="0" y="246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18200" y="5079960"/>
              <a:ext cx="558720" cy="379440"/>
            </a:xfrm>
            <a:custGeom>
              <a:avLst/>
              <a:gdLst/>
              <a:ahLst/>
              <a:rect l="l" t="t" r="r" b="b"/>
              <a:pathLst>
                <a:path w="1085" h="736">
                  <a:moveTo>
                    <a:pt x="0" y="704"/>
                  </a:moveTo>
                  <a:cubicBezTo>
                    <a:pt x="353" y="610"/>
                    <a:pt x="595" y="324"/>
                    <a:pt x="595" y="0"/>
                  </a:cubicBezTo>
                  <a:lnTo>
                    <a:pt x="595" y="0"/>
                  </a:lnTo>
                  <a:lnTo>
                    <a:pt x="1085" y="0"/>
                  </a:lnTo>
                  <a:lnTo>
                    <a:pt x="1085" y="0"/>
                  </a:lnTo>
                  <a:cubicBezTo>
                    <a:pt x="1085" y="407"/>
                    <a:pt x="709" y="736"/>
                    <a:pt x="246" y="736"/>
                  </a:cubicBezTo>
                  <a:cubicBezTo>
                    <a:pt x="162" y="736"/>
                    <a:pt x="80" y="726"/>
                    <a:pt x="0" y="704"/>
                  </a:cubicBezTo>
                  <a:close/>
                </a:path>
              </a:pathLst>
            </a:custGeom>
            <a:solidFill>
              <a:srgbClr val="40689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541760" y="5075280"/>
              <a:ext cx="1239840" cy="388800"/>
            </a:xfrm>
            <a:custGeom>
              <a:avLst/>
              <a:gdLst/>
              <a:ahLst/>
              <a:rect l="l" t="t" r="r" b="b"/>
              <a:pathLst>
                <a:path w="781" h="245">
                  <a:moveTo>
                    <a:pt x="425" y="229"/>
                  </a:moveTo>
                  <a:lnTo>
                    <a:pt x="466" y="215"/>
                  </a:lnTo>
                  <a:lnTo>
                    <a:pt x="466" y="215"/>
                  </a:lnTo>
                  <a:lnTo>
                    <a:pt x="503" y="195"/>
                  </a:lnTo>
                  <a:lnTo>
                    <a:pt x="503" y="196"/>
                  </a:lnTo>
                  <a:lnTo>
                    <a:pt x="536" y="171"/>
                  </a:lnTo>
                  <a:lnTo>
                    <a:pt x="535" y="172"/>
                  </a:lnTo>
                  <a:lnTo>
                    <a:pt x="564" y="143"/>
                  </a:lnTo>
                  <a:lnTo>
                    <a:pt x="563" y="144"/>
                  </a:lnTo>
                  <a:lnTo>
                    <a:pt x="586" y="112"/>
                  </a:lnTo>
                  <a:lnTo>
                    <a:pt x="586" y="112"/>
                  </a:lnTo>
                  <a:lnTo>
                    <a:pt x="603" y="78"/>
                  </a:lnTo>
                  <a:lnTo>
                    <a:pt x="603" y="78"/>
                  </a:lnTo>
                  <a:lnTo>
                    <a:pt x="613" y="41"/>
                  </a:lnTo>
                  <a:lnTo>
                    <a:pt x="613" y="41"/>
                  </a:lnTo>
                  <a:lnTo>
                    <a:pt x="617" y="0"/>
                  </a:lnTo>
                  <a:lnTo>
                    <a:pt x="781" y="0"/>
                  </a:lnTo>
                  <a:lnTo>
                    <a:pt x="779" y="27"/>
                  </a:lnTo>
                  <a:lnTo>
                    <a:pt x="775" y="52"/>
                  </a:lnTo>
                  <a:lnTo>
                    <a:pt x="768" y="75"/>
                  </a:lnTo>
                  <a:lnTo>
                    <a:pt x="759" y="97"/>
                  </a:lnTo>
                  <a:lnTo>
                    <a:pt x="747" y="118"/>
                  </a:lnTo>
                  <a:lnTo>
                    <a:pt x="734" y="138"/>
                  </a:lnTo>
                  <a:lnTo>
                    <a:pt x="718" y="157"/>
                  </a:lnTo>
                  <a:lnTo>
                    <a:pt x="700" y="174"/>
                  </a:lnTo>
                  <a:lnTo>
                    <a:pt x="659" y="203"/>
                  </a:lnTo>
                  <a:lnTo>
                    <a:pt x="637" y="216"/>
                  </a:lnTo>
                  <a:lnTo>
                    <a:pt x="612" y="226"/>
                  </a:lnTo>
                  <a:lnTo>
                    <a:pt x="587" y="234"/>
                  </a:lnTo>
                  <a:lnTo>
                    <a:pt x="561" y="240"/>
                  </a:lnTo>
                  <a:lnTo>
                    <a:pt x="534" y="243"/>
                  </a:lnTo>
                  <a:lnTo>
                    <a:pt x="506" y="245"/>
                  </a:lnTo>
                  <a:lnTo>
                    <a:pt x="346" y="245"/>
                  </a:lnTo>
                  <a:lnTo>
                    <a:pt x="303" y="242"/>
                  </a:lnTo>
                  <a:lnTo>
                    <a:pt x="262" y="233"/>
                  </a:lnTo>
                  <a:lnTo>
                    <a:pt x="223" y="219"/>
                  </a:lnTo>
                  <a:lnTo>
                    <a:pt x="187" y="200"/>
                  </a:lnTo>
                  <a:lnTo>
                    <a:pt x="155" y="177"/>
                  </a:lnTo>
                  <a:lnTo>
                    <a:pt x="127" y="150"/>
                  </a:lnTo>
                  <a:lnTo>
                    <a:pt x="105" y="118"/>
                  </a:lnTo>
                  <a:lnTo>
                    <a:pt x="87" y="84"/>
                  </a:lnTo>
                  <a:lnTo>
                    <a:pt x="89" y="85"/>
                  </a:lnTo>
                  <a:lnTo>
                    <a:pt x="0" y="85"/>
                  </a:lnTo>
                  <a:lnTo>
                    <a:pt x="153" y="0"/>
                  </a:lnTo>
                  <a:lnTo>
                    <a:pt x="340" y="85"/>
                  </a:lnTo>
                  <a:lnTo>
                    <a:pt x="248" y="85"/>
                  </a:lnTo>
                  <a:lnTo>
                    <a:pt x="251" y="82"/>
                  </a:lnTo>
                  <a:lnTo>
                    <a:pt x="268" y="116"/>
                  </a:lnTo>
                  <a:lnTo>
                    <a:pt x="268" y="116"/>
                  </a:lnTo>
                  <a:lnTo>
                    <a:pt x="291" y="147"/>
                  </a:lnTo>
                  <a:lnTo>
                    <a:pt x="290" y="146"/>
                  </a:lnTo>
                  <a:lnTo>
                    <a:pt x="318" y="173"/>
                  </a:lnTo>
                  <a:lnTo>
                    <a:pt x="318" y="173"/>
                  </a:lnTo>
                  <a:lnTo>
                    <a:pt x="350" y="196"/>
                  </a:lnTo>
                  <a:lnTo>
                    <a:pt x="349" y="196"/>
                  </a:lnTo>
                  <a:lnTo>
                    <a:pt x="385" y="214"/>
                  </a:lnTo>
                  <a:lnTo>
                    <a:pt x="384" y="214"/>
                  </a:lnTo>
                  <a:lnTo>
                    <a:pt x="423" y="228"/>
                  </a:lnTo>
                  <a:lnTo>
                    <a:pt x="423" y="228"/>
                  </a:lnTo>
                  <a:lnTo>
                    <a:pt x="464" y="237"/>
                  </a:lnTo>
                  <a:lnTo>
                    <a:pt x="463" y="236"/>
                  </a:lnTo>
                  <a:lnTo>
                    <a:pt x="506" y="239"/>
                  </a:lnTo>
                  <a:lnTo>
                    <a:pt x="506" y="245"/>
                  </a:lnTo>
                  <a:lnTo>
                    <a:pt x="463" y="242"/>
                  </a:lnTo>
                  <a:lnTo>
                    <a:pt x="421" y="233"/>
                  </a:lnTo>
                  <a:lnTo>
                    <a:pt x="383" y="219"/>
                  </a:lnTo>
                  <a:lnTo>
                    <a:pt x="347" y="200"/>
                  </a:lnTo>
                  <a:lnTo>
                    <a:pt x="315" y="177"/>
                  </a:lnTo>
                  <a:lnTo>
                    <a:pt x="286" y="150"/>
                  </a:lnTo>
                  <a:lnTo>
                    <a:pt x="264" y="118"/>
                  </a:lnTo>
                  <a:lnTo>
                    <a:pt x="244" y="80"/>
                  </a:lnTo>
                  <a:lnTo>
                    <a:pt x="328" y="80"/>
                  </a:lnTo>
                  <a:lnTo>
                    <a:pt x="327" y="85"/>
                  </a:lnTo>
                  <a:lnTo>
                    <a:pt x="152" y="5"/>
                  </a:lnTo>
                  <a:lnTo>
                    <a:pt x="154" y="5"/>
                  </a:lnTo>
                  <a:lnTo>
                    <a:pt x="11" y="85"/>
                  </a:lnTo>
                  <a:lnTo>
                    <a:pt x="9" y="80"/>
                  </a:lnTo>
                  <a:lnTo>
                    <a:pt x="91" y="80"/>
                  </a:lnTo>
                  <a:lnTo>
                    <a:pt x="109" y="116"/>
                  </a:lnTo>
                  <a:lnTo>
                    <a:pt x="109" y="116"/>
                  </a:lnTo>
                  <a:lnTo>
                    <a:pt x="132" y="147"/>
                  </a:lnTo>
                  <a:lnTo>
                    <a:pt x="131" y="146"/>
                  </a:lnTo>
                  <a:lnTo>
                    <a:pt x="159" y="173"/>
                  </a:lnTo>
                  <a:lnTo>
                    <a:pt x="158" y="173"/>
                  </a:lnTo>
                  <a:lnTo>
                    <a:pt x="190" y="196"/>
                  </a:lnTo>
                  <a:lnTo>
                    <a:pt x="190" y="196"/>
                  </a:lnTo>
                  <a:lnTo>
                    <a:pt x="225" y="214"/>
                  </a:lnTo>
                  <a:lnTo>
                    <a:pt x="225" y="214"/>
                  </a:lnTo>
                  <a:lnTo>
                    <a:pt x="264" y="228"/>
                  </a:lnTo>
                  <a:lnTo>
                    <a:pt x="263" y="228"/>
                  </a:lnTo>
                  <a:lnTo>
                    <a:pt x="304" y="237"/>
                  </a:lnTo>
                  <a:lnTo>
                    <a:pt x="304" y="236"/>
                  </a:lnTo>
                  <a:lnTo>
                    <a:pt x="346" y="239"/>
                  </a:lnTo>
                  <a:lnTo>
                    <a:pt x="346" y="239"/>
                  </a:lnTo>
                  <a:lnTo>
                    <a:pt x="506" y="239"/>
                  </a:lnTo>
                  <a:lnTo>
                    <a:pt x="506" y="239"/>
                  </a:lnTo>
                  <a:lnTo>
                    <a:pt x="533" y="238"/>
                  </a:lnTo>
                  <a:lnTo>
                    <a:pt x="533" y="238"/>
                  </a:lnTo>
                  <a:lnTo>
                    <a:pt x="560" y="235"/>
                  </a:lnTo>
                  <a:lnTo>
                    <a:pt x="560" y="235"/>
                  </a:lnTo>
                  <a:lnTo>
                    <a:pt x="586" y="229"/>
                  </a:lnTo>
                  <a:lnTo>
                    <a:pt x="586" y="229"/>
                  </a:lnTo>
                  <a:lnTo>
                    <a:pt x="611" y="221"/>
                  </a:lnTo>
                  <a:lnTo>
                    <a:pt x="610" y="221"/>
                  </a:lnTo>
                  <a:lnTo>
                    <a:pt x="634" y="211"/>
                  </a:lnTo>
                  <a:lnTo>
                    <a:pt x="634" y="211"/>
                  </a:lnTo>
                  <a:lnTo>
                    <a:pt x="657" y="199"/>
                  </a:lnTo>
                  <a:lnTo>
                    <a:pt x="657" y="199"/>
                  </a:lnTo>
                  <a:lnTo>
                    <a:pt x="697" y="170"/>
                  </a:lnTo>
                  <a:lnTo>
                    <a:pt x="696" y="170"/>
                  </a:lnTo>
                  <a:lnTo>
                    <a:pt x="714" y="153"/>
                  </a:lnTo>
                  <a:lnTo>
                    <a:pt x="714" y="153"/>
                  </a:lnTo>
                  <a:lnTo>
                    <a:pt x="730" y="135"/>
                  </a:lnTo>
                  <a:lnTo>
                    <a:pt x="730" y="135"/>
                  </a:lnTo>
                  <a:lnTo>
                    <a:pt x="743" y="116"/>
                  </a:lnTo>
                  <a:lnTo>
                    <a:pt x="743" y="116"/>
                  </a:lnTo>
                  <a:lnTo>
                    <a:pt x="754" y="95"/>
                  </a:lnTo>
                  <a:lnTo>
                    <a:pt x="754" y="95"/>
                  </a:lnTo>
                  <a:lnTo>
                    <a:pt x="763" y="73"/>
                  </a:lnTo>
                  <a:lnTo>
                    <a:pt x="763" y="73"/>
                  </a:lnTo>
                  <a:lnTo>
                    <a:pt x="770" y="50"/>
                  </a:lnTo>
                  <a:lnTo>
                    <a:pt x="770" y="51"/>
                  </a:lnTo>
                  <a:lnTo>
                    <a:pt x="774" y="27"/>
                  </a:lnTo>
                  <a:lnTo>
                    <a:pt x="774" y="27"/>
                  </a:lnTo>
                  <a:lnTo>
                    <a:pt x="775" y="3"/>
                  </a:lnTo>
                  <a:lnTo>
                    <a:pt x="778" y="5"/>
                  </a:lnTo>
                  <a:lnTo>
                    <a:pt x="619" y="5"/>
                  </a:lnTo>
                  <a:lnTo>
                    <a:pt x="621" y="3"/>
                  </a:lnTo>
                  <a:lnTo>
                    <a:pt x="618" y="42"/>
                  </a:lnTo>
                  <a:lnTo>
                    <a:pt x="607" y="79"/>
                  </a:lnTo>
                  <a:lnTo>
                    <a:pt x="590" y="115"/>
                  </a:lnTo>
                  <a:lnTo>
                    <a:pt x="568" y="147"/>
                  </a:lnTo>
                  <a:lnTo>
                    <a:pt x="539" y="176"/>
                  </a:lnTo>
                  <a:lnTo>
                    <a:pt x="506" y="200"/>
                  </a:lnTo>
                  <a:lnTo>
                    <a:pt x="468" y="220"/>
                  </a:lnTo>
                  <a:lnTo>
                    <a:pt x="427" y="234"/>
                  </a:lnTo>
                  <a:lnTo>
                    <a:pt x="425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22400" y="0"/>
            <a:ext cx="5087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ENDURE </a:t>
            </a:r>
            <a:br>
              <a:rPr sz="2600"/>
            </a:b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European Research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Verdana"/>
              </a:rPr>
              <a:t>http://www.endure-network.eu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The ENDURE consortium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0480" y="1484280"/>
            <a:ext cx="205740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Research</a:t>
            </a:r>
            <a:r>
              <a:rPr b="1" lang="en-GB" sz="1700" spc="-1" strike="noStrike">
                <a:solidFill>
                  <a:srgbClr val="c0022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 u="sng">
                <a:solidFill>
                  <a:srgbClr val="ee820f"/>
                </a:solidFill>
                <a:uFillTx/>
                <a:latin typeface="Arial"/>
              </a:rPr>
              <a:t>INRA</a:t>
            </a:r>
            <a:r>
              <a:rPr b="1" lang="en-GB" sz="1700" spc="-1" strike="noStrike" u="sng">
                <a:solidFill>
                  <a:srgbClr val="ff9966"/>
                </a:solidFill>
                <a:uFillTx/>
                <a:latin typeface="Arial"/>
              </a:rPr>
              <a:t> </a:t>
            </a:r>
            <a:r>
              <a:rPr b="1" lang="en-GB" sz="1700" spc="-1" strike="noStrike" u="sng">
                <a:solidFill>
                  <a:srgbClr val="000000"/>
                </a:solidFill>
                <a:uFillTx/>
                <a:latin typeface="Arial"/>
              </a:rPr>
              <a:t>- FR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JKI</a:t>
            </a:r>
            <a:r>
              <a:rPr b="1" lang="de-DE" sz="17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RRES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- UK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CIRAD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F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CNR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AGROS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- CH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WUR (PRI-PPO-LEI)</a:t>
            </a:r>
            <a:r>
              <a:rPr b="1" lang="en-GB" sz="17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N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IHAR</a:t>
            </a:r>
            <a:r>
              <a:rPr b="1" lang="en-GB" sz="17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P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17880" y="3213000"/>
            <a:ext cx="165708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DAAS</a:t>
            </a:r>
            <a:r>
              <a:rPr b="1" lang="en-GB" sz="17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DK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ACTA</a:t>
            </a:r>
            <a:r>
              <a:rPr b="1" lang="en-GB" sz="17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FR</a:t>
            </a:r>
            <a:r>
              <a:rPr b="1" lang="en-GB" sz="17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5029200"/>
            <a:ext cx="16761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IBMA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- I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17880" y="1484280"/>
            <a:ext cx="19206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Education &amp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SSSUP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SZIE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H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UdL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S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bdf53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9966"/>
                </a:solidFill>
                <a:latin typeface="Arial"/>
              </a:rPr>
              <a:t>AU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D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17880" y="4343400"/>
            <a:ext cx="1736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IT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- F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4440" y="5918040"/>
            <a:ext cx="2652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In collaboratio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INCO count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942840"/>
            <a:ext cx="6290640" cy="5610240"/>
            <a:chOff x="3048120" y="942840"/>
            <a:chExt cx="6290640" cy="5610240"/>
          </a:xfrm>
        </p:grpSpPr>
        <p:sp>
          <p:nvSpPr>
            <p:cNvPr id="126" name=""/>
            <p:cNvSpPr/>
            <p:nvPr/>
          </p:nvSpPr>
          <p:spPr>
            <a:xfrm>
              <a:off x="6864120" y="1066680"/>
              <a:ext cx="133200" cy="190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7" y="2"/>
                  </a:moveTo>
                  <a:cubicBezTo>
                    <a:pt x="2" y="2"/>
                    <a:pt x="0" y="0"/>
                    <a:pt x="7" y="0"/>
                  </a:cubicBezTo>
                  <a:cubicBezTo>
                    <a:pt x="10" y="0"/>
                    <a:pt x="14" y="2"/>
                    <a:pt x="7" y="2"/>
                  </a:cubicBezTo>
                </a:path>
              </a:pathLst>
            </a:custGeom>
            <a:solidFill>
              <a:srgbClr val="a9a8a7"/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760" y="1000080"/>
              <a:ext cx="37440" cy="95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1" y="3"/>
                  </a:moveTo>
                  <a:cubicBezTo>
                    <a:pt x="2" y="0"/>
                    <a:pt x="2" y="1"/>
                    <a:pt x="4" y="3"/>
                  </a:cubicBezTo>
                  <a:cubicBezTo>
                    <a:pt x="0" y="10"/>
                    <a:pt x="0" y="7"/>
                    <a:pt x="1" y="3"/>
                  </a:cubicBezTo>
                </a:path>
              </a:pathLst>
            </a:custGeom>
            <a:solidFill>
              <a:srgbClr val="a9a8a7"/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3760" y="942840"/>
              <a:ext cx="2295000" cy="3924360"/>
            </a:xfrm>
            <a:custGeom>
              <a:avLst/>
              <a:gdLst/>
              <a:ahLst/>
              <a:rect l="l" t="t" r="r" b="b"/>
              <a:pathLst>
                <a:path w="241" h="412">
                  <a:moveTo>
                    <a:pt x="10" y="204"/>
                  </a:moveTo>
                  <a:cubicBezTo>
                    <a:pt x="11" y="204"/>
                    <a:pt x="16" y="206"/>
                    <a:pt x="16" y="207"/>
                  </a:cubicBezTo>
                  <a:cubicBezTo>
                    <a:pt x="16" y="207"/>
                    <a:pt x="10" y="208"/>
                    <a:pt x="10" y="208"/>
                  </a:cubicBezTo>
                  <a:cubicBezTo>
                    <a:pt x="7" y="206"/>
                    <a:pt x="7" y="206"/>
                    <a:pt x="10" y="204"/>
                  </a:cubicBezTo>
                  <a:moveTo>
                    <a:pt x="17" y="211"/>
                  </a:moveTo>
                  <a:cubicBezTo>
                    <a:pt x="14" y="214"/>
                    <a:pt x="13" y="219"/>
                    <a:pt x="10" y="220"/>
                  </a:cubicBezTo>
                  <a:cubicBezTo>
                    <a:pt x="9" y="220"/>
                    <a:pt x="5" y="218"/>
                    <a:pt x="7" y="217"/>
                  </a:cubicBezTo>
                  <a:cubicBezTo>
                    <a:pt x="7" y="212"/>
                    <a:pt x="13" y="212"/>
                    <a:pt x="17" y="211"/>
                  </a:cubicBezTo>
                  <a:moveTo>
                    <a:pt x="241" y="0"/>
                  </a:moveTo>
                  <a:cubicBezTo>
                    <a:pt x="194" y="14"/>
                    <a:pt x="125" y="34"/>
                    <a:pt x="122" y="29"/>
                  </a:cubicBezTo>
                  <a:cubicBezTo>
                    <a:pt x="124" y="25"/>
                    <a:pt x="129" y="21"/>
                    <a:pt x="133" y="19"/>
                  </a:cubicBezTo>
                  <a:cubicBezTo>
                    <a:pt x="118" y="12"/>
                    <a:pt x="120" y="14"/>
                    <a:pt x="104" y="16"/>
                  </a:cubicBezTo>
                  <a:cubicBezTo>
                    <a:pt x="106" y="20"/>
                    <a:pt x="116" y="19"/>
                    <a:pt x="117" y="23"/>
                  </a:cubicBezTo>
                  <a:cubicBezTo>
                    <a:pt x="118" y="26"/>
                    <a:pt x="113" y="34"/>
                    <a:pt x="117" y="37"/>
                  </a:cubicBezTo>
                  <a:cubicBezTo>
                    <a:pt x="127" y="34"/>
                    <a:pt x="125" y="49"/>
                    <a:pt x="132" y="54"/>
                  </a:cubicBezTo>
                  <a:cubicBezTo>
                    <a:pt x="130" y="54"/>
                    <a:pt x="120" y="52"/>
                    <a:pt x="117" y="50"/>
                  </a:cubicBezTo>
                  <a:cubicBezTo>
                    <a:pt x="116" y="52"/>
                    <a:pt x="115" y="57"/>
                    <a:pt x="113" y="62"/>
                  </a:cubicBezTo>
                  <a:cubicBezTo>
                    <a:pt x="111" y="67"/>
                    <a:pt x="111" y="61"/>
                    <a:pt x="109" y="68"/>
                  </a:cubicBezTo>
                  <a:cubicBezTo>
                    <a:pt x="107" y="75"/>
                    <a:pt x="115" y="75"/>
                    <a:pt x="115" y="84"/>
                  </a:cubicBezTo>
                  <a:cubicBezTo>
                    <a:pt x="109" y="90"/>
                    <a:pt x="96" y="82"/>
                    <a:pt x="91" y="87"/>
                  </a:cubicBezTo>
                  <a:cubicBezTo>
                    <a:pt x="92" y="93"/>
                    <a:pt x="94" y="94"/>
                    <a:pt x="102" y="94"/>
                  </a:cubicBezTo>
                  <a:cubicBezTo>
                    <a:pt x="102" y="96"/>
                    <a:pt x="104" y="104"/>
                    <a:pt x="100" y="104"/>
                  </a:cubicBezTo>
                  <a:cubicBezTo>
                    <a:pt x="95" y="105"/>
                    <a:pt x="92" y="102"/>
                    <a:pt x="88" y="101"/>
                  </a:cubicBezTo>
                  <a:cubicBezTo>
                    <a:pt x="86" y="101"/>
                    <a:pt x="78" y="104"/>
                    <a:pt x="77" y="100"/>
                  </a:cubicBezTo>
                  <a:cubicBezTo>
                    <a:pt x="77" y="96"/>
                    <a:pt x="76" y="91"/>
                    <a:pt x="74" y="87"/>
                  </a:cubicBezTo>
                  <a:cubicBezTo>
                    <a:pt x="77" y="73"/>
                    <a:pt x="60" y="75"/>
                    <a:pt x="51" y="65"/>
                  </a:cubicBezTo>
                  <a:cubicBezTo>
                    <a:pt x="65" y="65"/>
                    <a:pt x="101" y="77"/>
                    <a:pt x="103" y="55"/>
                  </a:cubicBezTo>
                  <a:lnTo>
                    <a:pt x="104" y="47"/>
                  </a:lnTo>
                  <a:cubicBezTo>
                    <a:pt x="105" y="42"/>
                    <a:pt x="98" y="33"/>
                    <a:pt x="91" y="34"/>
                  </a:cubicBezTo>
                  <a:cubicBezTo>
                    <a:pt x="82" y="35"/>
                    <a:pt x="73" y="27"/>
                    <a:pt x="67" y="26"/>
                  </a:cubicBezTo>
                  <a:cubicBezTo>
                    <a:pt x="58" y="24"/>
                    <a:pt x="47" y="29"/>
                    <a:pt x="40" y="26"/>
                  </a:cubicBezTo>
                  <a:cubicBezTo>
                    <a:pt x="43" y="20"/>
                    <a:pt x="50" y="27"/>
                    <a:pt x="37" y="18"/>
                  </a:cubicBezTo>
                  <a:cubicBezTo>
                    <a:pt x="35" y="20"/>
                    <a:pt x="38" y="20"/>
                    <a:pt x="36" y="23"/>
                  </a:cubicBezTo>
                  <a:lnTo>
                    <a:pt x="31" y="27"/>
                  </a:lnTo>
                  <a:lnTo>
                    <a:pt x="26" y="33"/>
                  </a:lnTo>
                  <a:lnTo>
                    <a:pt x="21" y="35"/>
                  </a:lnTo>
                  <a:lnTo>
                    <a:pt x="24" y="52"/>
                  </a:lnTo>
                  <a:cubicBezTo>
                    <a:pt x="25" y="53"/>
                    <a:pt x="25" y="52"/>
                    <a:pt x="29" y="54"/>
                  </a:cubicBezTo>
                  <a:cubicBezTo>
                    <a:pt x="38" y="60"/>
                    <a:pt x="32" y="66"/>
                    <a:pt x="35" y="74"/>
                  </a:cubicBezTo>
                  <a:lnTo>
                    <a:pt x="45" y="87"/>
                  </a:lnTo>
                  <a:lnTo>
                    <a:pt x="42" y="101"/>
                  </a:lnTo>
                  <a:cubicBezTo>
                    <a:pt x="44" y="105"/>
                    <a:pt x="43" y="103"/>
                    <a:pt x="47" y="106"/>
                  </a:cubicBezTo>
                  <a:lnTo>
                    <a:pt x="49" y="112"/>
                  </a:lnTo>
                  <a:lnTo>
                    <a:pt x="56" y="112"/>
                  </a:lnTo>
                  <a:lnTo>
                    <a:pt x="54" y="116"/>
                  </a:lnTo>
                  <a:lnTo>
                    <a:pt x="55" y="120"/>
                  </a:lnTo>
                  <a:lnTo>
                    <a:pt x="54" y="125"/>
                  </a:lnTo>
                  <a:cubicBezTo>
                    <a:pt x="61" y="126"/>
                    <a:pt x="61" y="128"/>
                    <a:pt x="64" y="133"/>
                  </a:cubicBezTo>
                  <a:cubicBezTo>
                    <a:pt x="70" y="142"/>
                    <a:pt x="54" y="163"/>
                    <a:pt x="46" y="170"/>
                  </a:cubicBezTo>
                  <a:cubicBezTo>
                    <a:pt x="48" y="171"/>
                    <a:pt x="52" y="172"/>
                    <a:pt x="54" y="171"/>
                  </a:cubicBezTo>
                  <a:cubicBezTo>
                    <a:pt x="54" y="179"/>
                    <a:pt x="59" y="175"/>
                    <a:pt x="65" y="175"/>
                  </a:cubicBezTo>
                  <a:cubicBezTo>
                    <a:pt x="65" y="181"/>
                    <a:pt x="51" y="183"/>
                    <a:pt x="51" y="192"/>
                  </a:cubicBezTo>
                  <a:cubicBezTo>
                    <a:pt x="49" y="196"/>
                    <a:pt x="50" y="196"/>
                    <a:pt x="49" y="197"/>
                  </a:cubicBezTo>
                  <a:cubicBezTo>
                    <a:pt x="51" y="201"/>
                    <a:pt x="52" y="202"/>
                    <a:pt x="53" y="207"/>
                  </a:cubicBezTo>
                  <a:cubicBezTo>
                    <a:pt x="50" y="212"/>
                    <a:pt x="49" y="215"/>
                    <a:pt x="48" y="215"/>
                  </a:cubicBezTo>
                  <a:cubicBezTo>
                    <a:pt x="54" y="219"/>
                    <a:pt x="55" y="215"/>
                    <a:pt x="62" y="220"/>
                  </a:cubicBezTo>
                  <a:cubicBezTo>
                    <a:pt x="68" y="225"/>
                    <a:pt x="60" y="245"/>
                    <a:pt x="53" y="248"/>
                  </a:cubicBezTo>
                  <a:cubicBezTo>
                    <a:pt x="54" y="248"/>
                    <a:pt x="51" y="248"/>
                    <a:pt x="49" y="246"/>
                  </a:cubicBezTo>
                  <a:cubicBezTo>
                    <a:pt x="47" y="244"/>
                    <a:pt x="44" y="242"/>
                    <a:pt x="43" y="240"/>
                  </a:cubicBezTo>
                  <a:cubicBezTo>
                    <a:pt x="41" y="239"/>
                    <a:pt x="36" y="238"/>
                    <a:pt x="34" y="238"/>
                  </a:cubicBezTo>
                  <a:cubicBezTo>
                    <a:pt x="31" y="238"/>
                    <a:pt x="32" y="240"/>
                    <a:pt x="30" y="241"/>
                  </a:cubicBezTo>
                  <a:cubicBezTo>
                    <a:pt x="31" y="241"/>
                    <a:pt x="25" y="239"/>
                    <a:pt x="17" y="240"/>
                  </a:cubicBezTo>
                  <a:cubicBezTo>
                    <a:pt x="16" y="240"/>
                    <a:pt x="16" y="240"/>
                    <a:pt x="15" y="240"/>
                  </a:cubicBezTo>
                  <a:cubicBezTo>
                    <a:pt x="15" y="239"/>
                    <a:pt x="14" y="239"/>
                    <a:pt x="14" y="239"/>
                  </a:cubicBezTo>
                  <a:cubicBezTo>
                    <a:pt x="14" y="239"/>
                    <a:pt x="13" y="239"/>
                    <a:pt x="13" y="239"/>
                  </a:cubicBezTo>
                  <a:cubicBezTo>
                    <a:pt x="12" y="240"/>
                    <a:pt x="12" y="240"/>
                    <a:pt x="11" y="241"/>
                  </a:cubicBezTo>
                  <a:cubicBezTo>
                    <a:pt x="10" y="242"/>
                    <a:pt x="8" y="243"/>
                    <a:pt x="3" y="244"/>
                  </a:cubicBezTo>
                  <a:cubicBezTo>
                    <a:pt x="3" y="247"/>
                    <a:pt x="6" y="250"/>
                    <a:pt x="6" y="253"/>
                  </a:cubicBezTo>
                  <a:cubicBezTo>
                    <a:pt x="7" y="257"/>
                    <a:pt x="6" y="263"/>
                    <a:pt x="9" y="266"/>
                  </a:cubicBezTo>
                  <a:cubicBezTo>
                    <a:pt x="8" y="268"/>
                    <a:pt x="3" y="270"/>
                    <a:pt x="0" y="270"/>
                  </a:cubicBezTo>
                  <a:cubicBezTo>
                    <a:pt x="1" y="272"/>
                    <a:pt x="3" y="273"/>
                    <a:pt x="5" y="274"/>
                  </a:cubicBezTo>
                  <a:cubicBezTo>
                    <a:pt x="4" y="274"/>
                    <a:pt x="2" y="277"/>
                    <a:pt x="2" y="277"/>
                  </a:cubicBezTo>
                  <a:cubicBezTo>
                    <a:pt x="3" y="277"/>
                    <a:pt x="4" y="276"/>
                    <a:pt x="5" y="276"/>
                  </a:cubicBezTo>
                  <a:cubicBezTo>
                    <a:pt x="8" y="276"/>
                    <a:pt x="11" y="276"/>
                    <a:pt x="11" y="276"/>
                  </a:cubicBezTo>
                  <a:lnTo>
                    <a:pt x="13" y="280"/>
                  </a:lnTo>
                  <a:lnTo>
                    <a:pt x="30" y="275"/>
                  </a:lnTo>
                  <a:cubicBezTo>
                    <a:pt x="34" y="276"/>
                    <a:pt x="38" y="292"/>
                    <a:pt x="37" y="298"/>
                  </a:cubicBezTo>
                  <a:cubicBezTo>
                    <a:pt x="36" y="301"/>
                    <a:pt x="33" y="303"/>
                    <a:pt x="32" y="306"/>
                  </a:cubicBezTo>
                  <a:cubicBezTo>
                    <a:pt x="35" y="308"/>
                    <a:pt x="39" y="308"/>
                    <a:pt x="37" y="313"/>
                  </a:cubicBezTo>
                  <a:lnTo>
                    <a:pt x="41" y="316"/>
                  </a:lnTo>
                  <a:cubicBezTo>
                    <a:pt x="43" y="319"/>
                    <a:pt x="46" y="327"/>
                    <a:pt x="47" y="328"/>
                  </a:cubicBezTo>
                  <a:lnTo>
                    <a:pt x="36" y="347"/>
                  </a:lnTo>
                  <a:cubicBezTo>
                    <a:pt x="36" y="348"/>
                    <a:pt x="36" y="350"/>
                    <a:pt x="36" y="352"/>
                  </a:cubicBezTo>
                  <a:lnTo>
                    <a:pt x="31" y="366"/>
                  </a:lnTo>
                  <a:lnTo>
                    <a:pt x="41" y="371"/>
                  </a:lnTo>
                  <a:cubicBezTo>
                    <a:pt x="48" y="375"/>
                    <a:pt x="55" y="368"/>
                    <a:pt x="57" y="366"/>
                  </a:cubicBezTo>
                  <a:cubicBezTo>
                    <a:pt x="60" y="368"/>
                    <a:pt x="61" y="370"/>
                    <a:pt x="65" y="371"/>
                  </a:cubicBezTo>
                  <a:cubicBezTo>
                    <a:pt x="71" y="363"/>
                    <a:pt x="73" y="364"/>
                    <a:pt x="77" y="360"/>
                  </a:cubicBezTo>
                  <a:cubicBezTo>
                    <a:pt x="81" y="366"/>
                    <a:pt x="89" y="370"/>
                    <a:pt x="93" y="373"/>
                  </a:cubicBezTo>
                  <a:cubicBezTo>
                    <a:pt x="96" y="375"/>
                    <a:pt x="99" y="376"/>
                    <a:pt x="100" y="379"/>
                  </a:cubicBezTo>
                  <a:cubicBezTo>
                    <a:pt x="102" y="380"/>
                    <a:pt x="101" y="384"/>
                    <a:pt x="102" y="389"/>
                  </a:cubicBezTo>
                  <a:cubicBezTo>
                    <a:pt x="104" y="396"/>
                    <a:pt x="104" y="399"/>
                    <a:pt x="112" y="398"/>
                  </a:cubicBezTo>
                  <a:lnTo>
                    <a:pt x="116" y="393"/>
                  </a:lnTo>
                  <a:lnTo>
                    <a:pt x="113" y="388"/>
                  </a:lnTo>
                  <a:lnTo>
                    <a:pt x="119" y="389"/>
                  </a:lnTo>
                  <a:cubicBezTo>
                    <a:pt x="119" y="380"/>
                    <a:pt x="119" y="381"/>
                    <a:pt x="125" y="374"/>
                  </a:cubicBezTo>
                  <a:cubicBezTo>
                    <a:pt x="133" y="366"/>
                    <a:pt x="143" y="371"/>
                    <a:pt x="150" y="377"/>
                  </a:cubicBezTo>
                  <a:cubicBezTo>
                    <a:pt x="151" y="378"/>
                    <a:pt x="146" y="386"/>
                    <a:pt x="147" y="385"/>
                  </a:cubicBezTo>
                  <a:cubicBezTo>
                    <a:pt x="148" y="385"/>
                    <a:pt x="150" y="392"/>
                    <a:pt x="151" y="390"/>
                  </a:cubicBezTo>
                  <a:cubicBezTo>
                    <a:pt x="153" y="387"/>
                    <a:pt x="152" y="390"/>
                    <a:pt x="154" y="386"/>
                  </a:cubicBezTo>
                  <a:cubicBezTo>
                    <a:pt x="155" y="384"/>
                    <a:pt x="160" y="390"/>
                    <a:pt x="161" y="388"/>
                  </a:cubicBezTo>
                  <a:cubicBezTo>
                    <a:pt x="162" y="385"/>
                    <a:pt x="164" y="385"/>
                    <a:pt x="165" y="381"/>
                  </a:cubicBezTo>
                  <a:cubicBezTo>
                    <a:pt x="166" y="379"/>
                    <a:pt x="154" y="380"/>
                    <a:pt x="155" y="378"/>
                  </a:cubicBezTo>
                  <a:cubicBezTo>
                    <a:pt x="155" y="377"/>
                    <a:pt x="155" y="377"/>
                    <a:pt x="155" y="377"/>
                  </a:cubicBezTo>
                  <a:cubicBezTo>
                    <a:pt x="155" y="377"/>
                    <a:pt x="155" y="377"/>
                    <a:pt x="156" y="375"/>
                  </a:cubicBezTo>
                  <a:cubicBezTo>
                    <a:pt x="157" y="372"/>
                    <a:pt x="170" y="366"/>
                    <a:pt x="171" y="361"/>
                  </a:cubicBezTo>
                  <a:cubicBezTo>
                    <a:pt x="174" y="351"/>
                    <a:pt x="167" y="344"/>
                    <a:pt x="170" y="345"/>
                  </a:cubicBezTo>
                  <a:cubicBezTo>
                    <a:pt x="171" y="346"/>
                    <a:pt x="175" y="351"/>
                    <a:pt x="176" y="351"/>
                  </a:cubicBezTo>
                  <a:cubicBezTo>
                    <a:pt x="180" y="352"/>
                    <a:pt x="177" y="363"/>
                    <a:pt x="172" y="371"/>
                  </a:cubicBezTo>
                  <a:cubicBezTo>
                    <a:pt x="170" y="374"/>
                    <a:pt x="172" y="377"/>
                    <a:pt x="173" y="378"/>
                  </a:cubicBezTo>
                  <a:cubicBezTo>
                    <a:pt x="173" y="380"/>
                    <a:pt x="169" y="380"/>
                    <a:pt x="169" y="382"/>
                  </a:cubicBezTo>
                  <a:cubicBezTo>
                    <a:pt x="170" y="384"/>
                    <a:pt x="178" y="384"/>
                    <a:pt x="184" y="386"/>
                  </a:cubicBezTo>
                  <a:cubicBezTo>
                    <a:pt x="187" y="386"/>
                    <a:pt x="209" y="402"/>
                    <a:pt x="210" y="399"/>
                  </a:cubicBezTo>
                  <a:lnTo>
                    <a:pt x="240" y="412"/>
                  </a:lnTo>
                  <a:moveTo>
                    <a:pt x="89" y="136"/>
                  </a:moveTo>
                  <a:cubicBezTo>
                    <a:pt x="93" y="132"/>
                    <a:pt x="90" y="135"/>
                    <a:pt x="94" y="135"/>
                  </a:cubicBezTo>
                  <a:cubicBezTo>
                    <a:pt x="96" y="130"/>
                    <a:pt x="87" y="128"/>
                    <a:pt x="85" y="126"/>
                  </a:cubicBezTo>
                  <a:cubicBezTo>
                    <a:pt x="88" y="125"/>
                    <a:pt x="98" y="126"/>
                    <a:pt x="99" y="130"/>
                  </a:cubicBezTo>
                  <a:cubicBezTo>
                    <a:pt x="101" y="134"/>
                    <a:pt x="114" y="152"/>
                    <a:pt x="100" y="152"/>
                  </a:cubicBezTo>
                  <a:cubicBezTo>
                    <a:pt x="101" y="150"/>
                    <a:pt x="99" y="146"/>
                    <a:pt x="98" y="144"/>
                  </a:cubicBezTo>
                  <a:cubicBezTo>
                    <a:pt x="93" y="144"/>
                    <a:pt x="90" y="143"/>
                    <a:pt x="89" y="136"/>
                  </a:cubicBezTo>
                  <a:moveTo>
                    <a:pt x="63" y="153"/>
                  </a:moveTo>
                  <a:cubicBezTo>
                    <a:pt x="63" y="156"/>
                    <a:pt x="63" y="158"/>
                    <a:pt x="61" y="158"/>
                  </a:cubicBezTo>
                  <a:cubicBezTo>
                    <a:pt x="64" y="163"/>
                    <a:pt x="72" y="167"/>
                    <a:pt x="75" y="174"/>
                  </a:cubicBezTo>
                  <a:cubicBezTo>
                    <a:pt x="78" y="170"/>
                    <a:pt x="76" y="169"/>
                    <a:pt x="82" y="171"/>
                  </a:cubicBezTo>
                  <a:cubicBezTo>
                    <a:pt x="85" y="163"/>
                    <a:pt x="75" y="142"/>
                    <a:pt x="63" y="153"/>
                  </a:cubicBezTo>
                </a:path>
              </a:pathLst>
            </a:custGeom>
            <a:solidFill>
              <a:srgbClr val="969696">
                <a:alpha val="85000"/>
              </a:srgbClr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97080" y="5124240"/>
              <a:ext cx="485640" cy="74304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40" y="42"/>
                  </a:moveTo>
                  <a:cubicBezTo>
                    <a:pt x="40" y="41"/>
                    <a:pt x="43" y="22"/>
                    <a:pt x="43" y="21"/>
                  </a:cubicBezTo>
                  <a:lnTo>
                    <a:pt x="51" y="16"/>
                  </a:lnTo>
                  <a:lnTo>
                    <a:pt x="50" y="12"/>
                  </a:lnTo>
                  <a:lnTo>
                    <a:pt x="34" y="5"/>
                  </a:lnTo>
                  <a:cubicBezTo>
                    <a:pt x="34" y="5"/>
                    <a:pt x="34" y="4"/>
                    <a:pt x="36" y="2"/>
                  </a:cubicBezTo>
                  <a:lnTo>
                    <a:pt x="27" y="0"/>
                  </a:lnTo>
                  <a:cubicBezTo>
                    <a:pt x="29" y="2"/>
                    <a:pt x="20" y="8"/>
                    <a:pt x="18" y="10"/>
                  </a:cubicBezTo>
                  <a:cubicBezTo>
                    <a:pt x="26" y="18"/>
                    <a:pt x="12" y="18"/>
                    <a:pt x="16" y="25"/>
                  </a:cubicBezTo>
                  <a:cubicBezTo>
                    <a:pt x="10" y="31"/>
                    <a:pt x="6" y="40"/>
                    <a:pt x="0" y="45"/>
                  </a:cubicBezTo>
                  <a:cubicBezTo>
                    <a:pt x="1" y="49"/>
                    <a:pt x="4" y="53"/>
                    <a:pt x="7" y="56"/>
                  </a:cubicBezTo>
                  <a:cubicBezTo>
                    <a:pt x="8" y="61"/>
                    <a:pt x="1" y="61"/>
                    <a:pt x="4" y="64"/>
                  </a:cubicBezTo>
                  <a:cubicBezTo>
                    <a:pt x="7" y="67"/>
                    <a:pt x="2" y="72"/>
                    <a:pt x="0" y="75"/>
                  </a:cubicBezTo>
                  <a:lnTo>
                    <a:pt x="19" y="78"/>
                  </a:lnTo>
                  <a:lnTo>
                    <a:pt x="28" y="66"/>
                  </a:lnTo>
                  <a:cubicBezTo>
                    <a:pt x="36" y="66"/>
                    <a:pt x="37" y="65"/>
                    <a:pt x="29" y="63"/>
                  </a:cubicBezTo>
                  <a:lnTo>
                    <a:pt x="34" y="53"/>
                  </a:lnTo>
                  <a:cubicBezTo>
                    <a:pt x="35" y="51"/>
                    <a:pt x="30" y="47"/>
                    <a:pt x="31" y="42"/>
                  </a:cubicBezTo>
                  <a:lnTo>
                    <a:pt x="34" y="45"/>
                  </a:lnTo>
                  <a:lnTo>
                    <a:pt x="40" y="42"/>
                  </a:lnTo>
                </a:path>
              </a:pathLst>
            </a:custGeom>
            <a:solidFill>
              <a:srgbClr val="c2c1c1"/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2200" y="1009440"/>
              <a:ext cx="1495080" cy="2076480"/>
            </a:xfrm>
            <a:custGeom>
              <a:avLst/>
              <a:gdLst/>
              <a:ahLst/>
              <a:rect l="l" t="t" r="r" b="b"/>
              <a:pathLst>
                <a:path w="157" h="218">
                  <a:moveTo>
                    <a:pt x="55" y="133"/>
                  </a:moveTo>
                  <a:cubicBezTo>
                    <a:pt x="55" y="130"/>
                    <a:pt x="56" y="129"/>
                    <a:pt x="57" y="128"/>
                  </a:cubicBezTo>
                  <a:cubicBezTo>
                    <a:pt x="58" y="127"/>
                    <a:pt x="60" y="126"/>
                    <a:pt x="62" y="125"/>
                  </a:cubicBezTo>
                  <a:cubicBezTo>
                    <a:pt x="63" y="124"/>
                    <a:pt x="65" y="124"/>
                    <a:pt x="67" y="121"/>
                  </a:cubicBezTo>
                  <a:cubicBezTo>
                    <a:pt x="64" y="116"/>
                    <a:pt x="67" y="111"/>
                    <a:pt x="69" y="105"/>
                  </a:cubicBezTo>
                  <a:lnTo>
                    <a:pt x="67" y="103"/>
                  </a:lnTo>
                  <a:cubicBezTo>
                    <a:pt x="68" y="101"/>
                    <a:pt x="76" y="96"/>
                    <a:pt x="76" y="93"/>
                  </a:cubicBezTo>
                  <a:lnTo>
                    <a:pt x="77" y="81"/>
                  </a:lnTo>
                  <a:cubicBezTo>
                    <a:pt x="77" y="78"/>
                    <a:pt x="80" y="78"/>
                    <a:pt x="80" y="76"/>
                  </a:cubicBezTo>
                  <a:lnTo>
                    <a:pt x="77" y="66"/>
                  </a:lnTo>
                  <a:lnTo>
                    <a:pt x="81" y="60"/>
                  </a:lnTo>
                  <a:lnTo>
                    <a:pt x="85" y="59"/>
                  </a:lnTo>
                  <a:lnTo>
                    <a:pt x="90" y="49"/>
                  </a:lnTo>
                  <a:cubicBezTo>
                    <a:pt x="94" y="52"/>
                    <a:pt x="97" y="54"/>
                    <a:pt x="102" y="51"/>
                  </a:cubicBezTo>
                  <a:cubicBezTo>
                    <a:pt x="102" y="50"/>
                    <a:pt x="99" y="42"/>
                    <a:pt x="99" y="42"/>
                  </a:cubicBezTo>
                  <a:cubicBezTo>
                    <a:pt x="101" y="40"/>
                    <a:pt x="105" y="36"/>
                    <a:pt x="107" y="35"/>
                  </a:cubicBezTo>
                  <a:cubicBezTo>
                    <a:pt x="110" y="38"/>
                    <a:pt x="111" y="36"/>
                    <a:pt x="117" y="43"/>
                  </a:cubicBezTo>
                  <a:lnTo>
                    <a:pt x="122" y="41"/>
                  </a:lnTo>
                  <a:lnTo>
                    <a:pt x="125" y="43"/>
                  </a:lnTo>
                  <a:lnTo>
                    <a:pt x="129" y="43"/>
                  </a:lnTo>
                  <a:lnTo>
                    <a:pt x="132" y="33"/>
                  </a:lnTo>
                  <a:lnTo>
                    <a:pt x="130" y="27"/>
                  </a:lnTo>
                  <a:lnTo>
                    <a:pt x="134" y="20"/>
                  </a:lnTo>
                  <a:lnTo>
                    <a:pt x="140" y="16"/>
                  </a:lnTo>
                  <a:lnTo>
                    <a:pt x="147" y="21"/>
                  </a:lnTo>
                  <a:lnTo>
                    <a:pt x="150" y="21"/>
                  </a:lnTo>
                  <a:lnTo>
                    <a:pt x="147" y="28"/>
                  </a:lnTo>
                  <a:lnTo>
                    <a:pt x="152" y="26"/>
                  </a:lnTo>
                  <a:lnTo>
                    <a:pt x="157" y="20"/>
                  </a:lnTo>
                  <a:cubicBezTo>
                    <a:pt x="153" y="16"/>
                    <a:pt x="152" y="21"/>
                    <a:pt x="149" y="16"/>
                  </a:cubicBezTo>
                  <a:cubicBezTo>
                    <a:pt x="150" y="14"/>
                    <a:pt x="154" y="15"/>
                    <a:pt x="151" y="9"/>
                  </a:cubicBezTo>
                  <a:lnTo>
                    <a:pt x="157" y="8"/>
                  </a:lnTo>
                  <a:cubicBezTo>
                    <a:pt x="149" y="0"/>
                    <a:pt x="143" y="0"/>
                    <a:pt x="140" y="11"/>
                  </a:cubicBezTo>
                  <a:lnTo>
                    <a:pt x="138" y="4"/>
                  </a:lnTo>
                  <a:cubicBezTo>
                    <a:pt x="131" y="1"/>
                    <a:pt x="136" y="8"/>
                    <a:pt x="134" y="11"/>
                  </a:cubicBezTo>
                  <a:cubicBezTo>
                    <a:pt x="131" y="11"/>
                    <a:pt x="131" y="12"/>
                    <a:pt x="128" y="13"/>
                  </a:cubicBezTo>
                  <a:cubicBezTo>
                    <a:pt x="127" y="11"/>
                    <a:pt x="130" y="4"/>
                    <a:pt x="125" y="5"/>
                  </a:cubicBezTo>
                  <a:cubicBezTo>
                    <a:pt x="119" y="10"/>
                    <a:pt x="121" y="11"/>
                    <a:pt x="115" y="11"/>
                  </a:cubicBezTo>
                  <a:cubicBezTo>
                    <a:pt x="110" y="13"/>
                    <a:pt x="107" y="20"/>
                    <a:pt x="107" y="24"/>
                  </a:cubicBezTo>
                  <a:cubicBezTo>
                    <a:pt x="103" y="28"/>
                    <a:pt x="104" y="27"/>
                    <a:pt x="100" y="26"/>
                  </a:cubicBezTo>
                  <a:cubicBezTo>
                    <a:pt x="94" y="32"/>
                    <a:pt x="92" y="31"/>
                    <a:pt x="92" y="38"/>
                  </a:cubicBezTo>
                  <a:cubicBezTo>
                    <a:pt x="81" y="49"/>
                    <a:pt x="81" y="57"/>
                    <a:pt x="72" y="64"/>
                  </a:cubicBezTo>
                  <a:cubicBezTo>
                    <a:pt x="72" y="72"/>
                    <a:pt x="57" y="81"/>
                    <a:pt x="63" y="90"/>
                  </a:cubicBezTo>
                  <a:cubicBezTo>
                    <a:pt x="57" y="92"/>
                    <a:pt x="53" y="96"/>
                    <a:pt x="59" y="104"/>
                  </a:cubicBezTo>
                  <a:cubicBezTo>
                    <a:pt x="55" y="108"/>
                    <a:pt x="50" y="110"/>
                    <a:pt x="54" y="113"/>
                  </a:cubicBezTo>
                  <a:cubicBezTo>
                    <a:pt x="48" y="118"/>
                    <a:pt x="36" y="125"/>
                    <a:pt x="38" y="133"/>
                  </a:cubicBezTo>
                  <a:cubicBezTo>
                    <a:pt x="41" y="131"/>
                    <a:pt x="51" y="119"/>
                    <a:pt x="51" y="129"/>
                  </a:cubicBezTo>
                  <a:cubicBezTo>
                    <a:pt x="47" y="135"/>
                    <a:pt x="44" y="138"/>
                    <a:pt x="36" y="135"/>
                  </a:cubicBezTo>
                  <a:cubicBezTo>
                    <a:pt x="26" y="138"/>
                    <a:pt x="14" y="148"/>
                    <a:pt x="3" y="157"/>
                  </a:cubicBezTo>
                  <a:cubicBezTo>
                    <a:pt x="5" y="162"/>
                    <a:pt x="5" y="166"/>
                    <a:pt x="1" y="171"/>
                  </a:cubicBezTo>
                  <a:cubicBezTo>
                    <a:pt x="2" y="175"/>
                    <a:pt x="0" y="181"/>
                    <a:pt x="1" y="184"/>
                  </a:cubicBezTo>
                  <a:cubicBezTo>
                    <a:pt x="14" y="184"/>
                    <a:pt x="4" y="190"/>
                    <a:pt x="1" y="196"/>
                  </a:cubicBezTo>
                  <a:cubicBezTo>
                    <a:pt x="4" y="199"/>
                    <a:pt x="3" y="198"/>
                    <a:pt x="8" y="196"/>
                  </a:cubicBezTo>
                  <a:cubicBezTo>
                    <a:pt x="10" y="202"/>
                    <a:pt x="7" y="203"/>
                    <a:pt x="4" y="206"/>
                  </a:cubicBezTo>
                  <a:cubicBezTo>
                    <a:pt x="4" y="218"/>
                    <a:pt x="10" y="214"/>
                    <a:pt x="15" y="218"/>
                  </a:cubicBezTo>
                  <a:cubicBezTo>
                    <a:pt x="23" y="218"/>
                    <a:pt x="34" y="206"/>
                    <a:pt x="39" y="201"/>
                  </a:cubicBezTo>
                  <a:lnTo>
                    <a:pt x="42" y="192"/>
                  </a:lnTo>
                  <a:lnTo>
                    <a:pt x="46" y="198"/>
                  </a:lnTo>
                  <a:lnTo>
                    <a:pt x="50" y="201"/>
                  </a:lnTo>
                  <a:cubicBezTo>
                    <a:pt x="53" y="183"/>
                    <a:pt x="51" y="198"/>
                    <a:pt x="51" y="190"/>
                  </a:cubicBezTo>
                  <a:cubicBezTo>
                    <a:pt x="52" y="190"/>
                    <a:pt x="56" y="187"/>
                    <a:pt x="57" y="187"/>
                  </a:cubicBezTo>
                  <a:lnTo>
                    <a:pt x="55" y="174"/>
                  </a:lnTo>
                  <a:cubicBezTo>
                    <a:pt x="58" y="170"/>
                    <a:pt x="60" y="173"/>
                    <a:pt x="60" y="168"/>
                  </a:cubicBezTo>
                  <a:cubicBezTo>
                    <a:pt x="52" y="157"/>
                    <a:pt x="53" y="146"/>
                    <a:pt x="55" y="133"/>
                  </a:cubicBezTo>
                </a:path>
              </a:pathLst>
            </a:custGeom>
            <a:solidFill>
              <a:srgbClr val="969696">
                <a:alpha val="85000"/>
              </a:srgbClr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0120" y="3443040"/>
              <a:ext cx="3333240" cy="2441880"/>
            </a:xfrm>
            <a:custGeom>
              <a:avLst/>
              <a:gdLst/>
              <a:ahLst/>
              <a:rect l="l" t="t" r="r" b="b"/>
              <a:pathLst>
                <a:path w="334" h="270">
                  <a:moveTo>
                    <a:pt x="226" y="0"/>
                  </a:moveTo>
                  <a:cubicBezTo>
                    <a:pt x="300" y="0"/>
                    <a:pt x="334" y="61"/>
                    <a:pt x="302" y="135"/>
                  </a:cubicBezTo>
                  <a:cubicBezTo>
                    <a:pt x="270" y="210"/>
                    <a:pt x="183" y="270"/>
                    <a:pt x="108" y="270"/>
                  </a:cubicBezTo>
                  <a:cubicBezTo>
                    <a:pt x="34" y="270"/>
                    <a:pt x="0" y="210"/>
                    <a:pt x="32" y="135"/>
                  </a:cubicBezTo>
                  <a:cubicBezTo>
                    <a:pt x="64" y="61"/>
                    <a:pt x="151" y="0"/>
                    <a:pt x="226" y="0"/>
                  </a:cubicBezTo>
                </a:path>
              </a:pathLst>
            </a:custGeom>
            <a:noFill/>
            <a:ln w="9360">
              <a:solidFill>
                <a:srgbClr val="dede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2787480"/>
              <a:ext cx="5009760" cy="3673440"/>
            </a:xfrm>
            <a:custGeom>
              <a:avLst/>
              <a:gdLst/>
              <a:ahLst/>
              <a:rect l="l" t="t" r="r" b="b"/>
              <a:pathLst>
                <a:path w="502" h="406">
                  <a:moveTo>
                    <a:pt x="339" y="0"/>
                  </a:moveTo>
                  <a:cubicBezTo>
                    <a:pt x="450" y="0"/>
                    <a:pt x="502" y="91"/>
                    <a:pt x="454" y="203"/>
                  </a:cubicBezTo>
                  <a:cubicBezTo>
                    <a:pt x="405" y="315"/>
                    <a:pt x="275" y="406"/>
                    <a:pt x="163" y="406"/>
                  </a:cubicBezTo>
                  <a:cubicBezTo>
                    <a:pt x="52" y="406"/>
                    <a:pt x="0" y="315"/>
                    <a:pt x="48" y="203"/>
                  </a:cubicBezTo>
                  <a:cubicBezTo>
                    <a:pt x="97" y="91"/>
                    <a:pt x="227" y="0"/>
                    <a:pt x="339" y="0"/>
                  </a:cubicBezTo>
                </a:path>
              </a:pathLst>
            </a:custGeom>
            <a:noFill/>
            <a:ln w="9360">
              <a:solidFill>
                <a:srgbClr val="dede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130640" y="1028520"/>
              <a:ext cx="4828320" cy="5524560"/>
              <a:chOff x="4130640" y="1028520"/>
              <a:chExt cx="4828320" cy="552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6730560" y="1180800"/>
                <a:ext cx="123480" cy="666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2" y="5"/>
                    </a:moveTo>
                    <a:cubicBezTo>
                      <a:pt x="2" y="5"/>
                      <a:pt x="1" y="6"/>
                      <a:pt x="0" y="7"/>
                    </a:cubicBezTo>
                    <a:cubicBezTo>
                      <a:pt x="1" y="7"/>
                      <a:pt x="2" y="6"/>
                      <a:pt x="3" y="6"/>
                    </a:cubicBezTo>
                    <a:cubicBezTo>
                      <a:pt x="13" y="0"/>
                      <a:pt x="10" y="1"/>
                      <a:pt x="2" y="5"/>
                    </a:cubicBezTo>
                  </a:path>
                </a:pathLst>
              </a:custGeom>
              <a:solidFill>
                <a:srgbClr val="a9a8a7"/>
              </a:solidFill>
              <a:ln w="0">
                <a:solidFill>
                  <a:srgbClr val="ece9e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73480" y="1161720"/>
                <a:ext cx="866160" cy="1590840"/>
              </a:xfrm>
              <a:custGeom>
                <a:avLst/>
                <a:gdLst/>
                <a:ahLst/>
                <a:rect l="l" t="t" r="r" b="b"/>
                <a:pathLst>
                  <a:path w="91" h="167">
                    <a:moveTo>
                      <a:pt x="78" y="92"/>
                    </a:moveTo>
                    <a:lnTo>
                      <a:pt x="81" y="89"/>
                    </a:lnTo>
                    <a:lnTo>
                      <a:pt x="73" y="88"/>
                    </a:lnTo>
                    <a:cubicBezTo>
                      <a:pt x="73" y="86"/>
                      <a:pt x="72" y="84"/>
                      <a:pt x="72" y="82"/>
                    </a:cubicBezTo>
                    <a:cubicBezTo>
                      <a:pt x="69" y="82"/>
                      <a:pt x="67" y="79"/>
                      <a:pt x="66" y="77"/>
                    </a:cubicBezTo>
                    <a:lnTo>
                      <a:pt x="70" y="64"/>
                    </a:lnTo>
                    <a:lnTo>
                      <a:pt x="60" y="51"/>
                    </a:lnTo>
                    <a:cubicBezTo>
                      <a:pt x="57" y="48"/>
                      <a:pt x="58" y="44"/>
                      <a:pt x="59" y="37"/>
                    </a:cubicBezTo>
                    <a:cubicBezTo>
                      <a:pt x="55" y="33"/>
                      <a:pt x="55" y="30"/>
                      <a:pt x="49" y="29"/>
                    </a:cubicBezTo>
                    <a:lnTo>
                      <a:pt x="45" y="12"/>
                    </a:lnTo>
                    <a:lnTo>
                      <a:pt x="48" y="5"/>
                    </a:lnTo>
                    <a:lnTo>
                      <a:pt x="44" y="5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29" y="11"/>
                    </a:lnTo>
                    <a:lnTo>
                      <a:pt x="30" y="18"/>
                    </a:lnTo>
                    <a:lnTo>
                      <a:pt x="30" y="21"/>
                    </a:lnTo>
                    <a:lnTo>
                      <a:pt x="26" y="27"/>
                    </a:lnTo>
                    <a:lnTo>
                      <a:pt x="24" y="27"/>
                    </a:lnTo>
                    <a:lnTo>
                      <a:pt x="20" y="25"/>
                    </a:lnTo>
                    <a:lnTo>
                      <a:pt x="15" y="27"/>
                    </a:lnTo>
                    <a:cubicBezTo>
                      <a:pt x="14" y="27"/>
                      <a:pt x="13" y="24"/>
                      <a:pt x="5" y="19"/>
                    </a:cubicBezTo>
                    <a:cubicBezTo>
                      <a:pt x="5" y="19"/>
                      <a:pt x="2" y="21"/>
                      <a:pt x="0" y="23"/>
                    </a:cubicBezTo>
                    <a:cubicBezTo>
                      <a:pt x="3" y="27"/>
                      <a:pt x="10" y="30"/>
                      <a:pt x="14" y="31"/>
                    </a:cubicBezTo>
                    <a:cubicBezTo>
                      <a:pt x="23" y="34"/>
                      <a:pt x="25" y="51"/>
                      <a:pt x="27" y="58"/>
                    </a:cubicBezTo>
                    <a:lnTo>
                      <a:pt x="27" y="69"/>
                    </a:lnTo>
                    <a:cubicBezTo>
                      <a:pt x="31" y="73"/>
                      <a:pt x="42" y="75"/>
                      <a:pt x="42" y="82"/>
                    </a:cubicBezTo>
                    <a:cubicBezTo>
                      <a:pt x="35" y="80"/>
                      <a:pt x="32" y="97"/>
                      <a:pt x="32" y="104"/>
                    </a:cubicBezTo>
                    <a:cubicBezTo>
                      <a:pt x="26" y="103"/>
                      <a:pt x="31" y="106"/>
                      <a:pt x="30" y="108"/>
                    </a:cubicBezTo>
                    <a:cubicBezTo>
                      <a:pt x="26" y="108"/>
                      <a:pt x="25" y="117"/>
                      <a:pt x="19" y="119"/>
                    </a:cubicBezTo>
                    <a:cubicBezTo>
                      <a:pt x="19" y="122"/>
                      <a:pt x="18" y="125"/>
                      <a:pt x="17" y="127"/>
                    </a:cubicBezTo>
                    <a:cubicBezTo>
                      <a:pt x="19" y="135"/>
                      <a:pt x="20" y="148"/>
                      <a:pt x="23" y="157"/>
                    </a:cubicBezTo>
                    <a:cubicBezTo>
                      <a:pt x="25" y="160"/>
                      <a:pt x="33" y="161"/>
                      <a:pt x="36" y="164"/>
                    </a:cubicBezTo>
                    <a:cubicBezTo>
                      <a:pt x="53" y="167"/>
                      <a:pt x="64" y="148"/>
                      <a:pt x="70" y="147"/>
                    </a:cubicBezTo>
                    <a:cubicBezTo>
                      <a:pt x="77" y="141"/>
                      <a:pt x="83" y="132"/>
                      <a:pt x="86" y="127"/>
                    </a:cubicBezTo>
                    <a:cubicBezTo>
                      <a:pt x="89" y="119"/>
                      <a:pt x="91" y="115"/>
                      <a:pt x="88" y="109"/>
                    </a:cubicBezTo>
                    <a:cubicBezTo>
                      <a:pt x="86" y="105"/>
                      <a:pt x="82" y="102"/>
                      <a:pt x="78" y="102"/>
                    </a:cubicBezTo>
                    <a:lnTo>
                      <a:pt x="79" y="97"/>
                    </a:lnTo>
                    <a:lnTo>
                      <a:pt x="78" y="92"/>
                    </a:lnTo>
                  </a:path>
                </a:pathLst>
              </a:custGeom>
              <a:solidFill>
                <a:srgbClr val="c0c0c0"/>
              </a:solidFill>
              <a:ln w="0">
                <a:solidFill>
                  <a:srgbClr val="ece9e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4130640" y="1028520"/>
                <a:ext cx="4828320" cy="5524560"/>
                <a:chOff x="4130640" y="1028520"/>
                <a:chExt cx="4828320" cy="55245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187160" y="1028520"/>
                  <a:ext cx="3781080" cy="5524560"/>
                </a:xfrm>
                <a:prstGeom prst="rect">
                  <a:avLst/>
                </a:prstGeom>
                <a:solidFill>
                  <a:srgbClr val="a9a8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39920" y="6276600"/>
                  <a:ext cx="56880" cy="478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4"/>
                      </a:moveTo>
                      <a:cubicBezTo>
                        <a:pt x="0" y="2"/>
                        <a:pt x="3" y="5"/>
                        <a:pt x="3" y="1"/>
                      </a:cubicBezTo>
                      <a:cubicBezTo>
                        <a:pt x="5" y="1"/>
                        <a:pt x="6" y="0"/>
                        <a:pt x="4" y="4"/>
                      </a:cubicBez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835240" y="4162320"/>
                  <a:ext cx="132840" cy="19980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8" y="0"/>
                      </a:moveTo>
                      <a:lnTo>
                        <a:pt x="11" y="13"/>
                      </a:lnTo>
                      <a:cubicBezTo>
                        <a:pt x="11" y="14"/>
                        <a:pt x="13" y="14"/>
                        <a:pt x="14" y="17"/>
                      </a:cubicBezTo>
                      <a:lnTo>
                        <a:pt x="14" y="21"/>
                      </a:lnTo>
                      <a:cubicBezTo>
                        <a:pt x="13" y="20"/>
                        <a:pt x="7" y="19"/>
                        <a:pt x="7" y="19"/>
                      </a:cubicBezTo>
                      <a:lnTo>
                        <a:pt x="0" y="2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149680" y="5838480"/>
                  <a:ext cx="47160" cy="7632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4"/>
                      </a:moveTo>
                      <a:cubicBezTo>
                        <a:pt x="3" y="2"/>
                        <a:pt x="1" y="3"/>
                        <a:pt x="1" y="2"/>
                      </a:cubicBezTo>
                      <a:cubicBezTo>
                        <a:pt x="2" y="1"/>
                        <a:pt x="2" y="0"/>
                        <a:pt x="2" y="1"/>
                      </a:cubicBezTo>
                      <a:cubicBezTo>
                        <a:pt x="2" y="3"/>
                        <a:pt x="5" y="3"/>
                        <a:pt x="4" y="4"/>
                      </a:cubicBezTo>
                      <a:cubicBezTo>
                        <a:pt x="3" y="7"/>
                        <a:pt x="0" y="8"/>
                        <a:pt x="2" y="4"/>
                      </a:cubicBez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349840" y="6000480"/>
                  <a:ext cx="47160" cy="10476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1" y="4"/>
                      </a:moveTo>
                      <a:cubicBezTo>
                        <a:pt x="0" y="11"/>
                        <a:pt x="2" y="11"/>
                        <a:pt x="0" y="11"/>
                      </a:cubicBezTo>
                      <a:cubicBezTo>
                        <a:pt x="2" y="11"/>
                        <a:pt x="2" y="9"/>
                        <a:pt x="2" y="8"/>
                      </a:cubicBezTo>
                      <a:cubicBezTo>
                        <a:pt x="3" y="6"/>
                        <a:pt x="5" y="6"/>
                        <a:pt x="3" y="4"/>
                      </a:cubicBezTo>
                      <a:cubicBezTo>
                        <a:pt x="3" y="4"/>
                        <a:pt x="3" y="0"/>
                        <a:pt x="1" y="3"/>
                      </a:cubicBezTo>
                      <a:lnTo>
                        <a:pt x="1" y="4"/>
                      </a:ln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778160" y="6133680"/>
                  <a:ext cx="28440" cy="669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2"/>
                      </a:moveTo>
                      <a:cubicBezTo>
                        <a:pt x="2" y="2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1"/>
                        <a:pt x="3" y="2"/>
                        <a:pt x="3" y="3"/>
                      </a:cubicBezTo>
                      <a:cubicBezTo>
                        <a:pt x="0" y="7"/>
                        <a:pt x="1" y="2"/>
                        <a:pt x="1" y="2"/>
                      </a:cubicBez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102000" y="2247480"/>
                  <a:ext cx="85320" cy="5724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5" y="2"/>
                      </a:moveTo>
                      <a:cubicBezTo>
                        <a:pt x="2" y="3"/>
                        <a:pt x="2" y="0"/>
                        <a:pt x="0" y="5"/>
                      </a:cubicBezTo>
                      <a:cubicBezTo>
                        <a:pt x="1" y="6"/>
                        <a:pt x="7" y="5"/>
                        <a:pt x="9" y="4"/>
                      </a:cubicBezTo>
                      <a:cubicBezTo>
                        <a:pt x="6" y="4"/>
                        <a:pt x="9" y="2"/>
                        <a:pt x="7" y="0"/>
                      </a:cubicBezTo>
                      <a:cubicBezTo>
                        <a:pt x="6" y="0"/>
                        <a:pt x="6" y="1"/>
                        <a:pt x="5" y="2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197040" y="2209680"/>
                  <a:ext cx="47160" cy="56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2"/>
                      </a:moveTo>
                      <a:cubicBezTo>
                        <a:pt x="0" y="0"/>
                        <a:pt x="1" y="6"/>
                        <a:pt x="1" y="5"/>
                      </a:cubicBezTo>
                      <a:cubicBezTo>
                        <a:pt x="4" y="2"/>
                        <a:pt x="5" y="2"/>
                        <a:pt x="3" y="1"/>
                      </a:cubicBezTo>
                      <a:cubicBezTo>
                        <a:pt x="3" y="1"/>
                        <a:pt x="1" y="2"/>
                        <a:pt x="0" y="2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01800" y="2028600"/>
                  <a:ext cx="66240" cy="57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6"/>
                      </a:moveTo>
                      <a:cubicBezTo>
                        <a:pt x="6" y="2"/>
                        <a:pt x="7" y="3"/>
                        <a:pt x="6" y="0"/>
                      </a:cubicBezTo>
                      <a:lnTo>
                        <a:pt x="4" y="0"/>
                      </a:lnTo>
                      <a:cubicBezTo>
                        <a:pt x="2" y="1"/>
                        <a:pt x="0" y="6"/>
                        <a:pt x="4" y="6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11320" y="150480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cubicBezTo>
                        <a:pt x="4" y="6"/>
                        <a:pt x="7" y="6"/>
                        <a:pt x="8" y="0"/>
                      </a:cubicBezTo>
                      <a:cubicBezTo>
                        <a:pt x="8" y="0"/>
                        <a:pt x="6" y="0"/>
                        <a:pt x="5" y="0"/>
                      </a:cubicBezTo>
                      <a:cubicBezTo>
                        <a:pt x="1" y="5"/>
                        <a:pt x="5" y="3"/>
                        <a:pt x="0" y="8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30400" y="1361880"/>
                  <a:ext cx="152280" cy="13320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7" y="3"/>
                      </a:moveTo>
                      <a:cubicBezTo>
                        <a:pt x="7" y="9"/>
                        <a:pt x="0" y="6"/>
                        <a:pt x="6" y="14"/>
                      </a:cubicBezTo>
                      <a:cubicBezTo>
                        <a:pt x="16" y="8"/>
                        <a:pt x="11" y="8"/>
                        <a:pt x="11" y="0"/>
                      </a:cubicBezTo>
                      <a:cubicBezTo>
                        <a:pt x="9" y="0"/>
                        <a:pt x="9" y="2"/>
                        <a:pt x="7" y="3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673320" y="1352160"/>
                  <a:ext cx="66240" cy="57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0"/>
                      </a:moveTo>
                      <a:cubicBezTo>
                        <a:pt x="3" y="0"/>
                        <a:pt x="0" y="3"/>
                        <a:pt x="0" y="6"/>
                      </a:cubicBezTo>
                      <a:cubicBezTo>
                        <a:pt x="1" y="6"/>
                        <a:pt x="3" y="6"/>
                        <a:pt x="4" y="6"/>
                      </a:cubicBezTo>
                      <a:cubicBezTo>
                        <a:pt x="4" y="5"/>
                        <a:pt x="7" y="1"/>
                        <a:pt x="4" y="0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49640" y="1276200"/>
                  <a:ext cx="37800" cy="381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4" y="2"/>
                      </a:lnTo>
                      <a:cubicBezTo>
                        <a:pt x="3" y="2"/>
                        <a:pt x="0" y="4"/>
                        <a:pt x="0" y="3"/>
                      </a:cubicBezTo>
                      <a:cubicBezTo>
                        <a:pt x="0" y="1"/>
                        <a:pt x="4" y="2"/>
                        <a:pt x="3" y="0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82920" y="2314440"/>
                  <a:ext cx="28080" cy="38160"/>
                </a:xfrm>
                <a:prstGeom prst="ellipse">
                  <a:avLst/>
                </a:pr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882840" y="5209920"/>
                  <a:ext cx="85320" cy="6660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3"/>
                      </a:moveTo>
                      <a:cubicBezTo>
                        <a:pt x="9" y="7"/>
                        <a:pt x="0" y="7"/>
                        <a:pt x="0" y="3"/>
                      </a:cubicBezTo>
                      <a:cubicBezTo>
                        <a:pt x="0" y="0"/>
                        <a:pt x="9" y="0"/>
                        <a:pt x="9" y="3"/>
                      </a:cubicBezTo>
                    </a:path>
                  </a:pathLst>
                </a:custGeom>
                <a:solidFill>
                  <a:srgbClr val="9893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63760" y="3695400"/>
                  <a:ext cx="66240" cy="25740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6" y="0"/>
                      </a:moveTo>
                      <a:lnTo>
                        <a:pt x="7" y="7"/>
                      </a:lnTo>
                      <a:lnTo>
                        <a:pt x="3" y="13"/>
                      </a:lnTo>
                      <a:lnTo>
                        <a:pt x="3" y="19"/>
                      </a:lnTo>
                      <a:cubicBezTo>
                        <a:pt x="3" y="23"/>
                        <a:pt x="0" y="24"/>
                        <a:pt x="0" y="27"/>
                      </a:cubicBez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130360" y="3333600"/>
                  <a:ext cx="132840" cy="1047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0"/>
                      </a:moveTo>
                      <a:cubicBezTo>
                        <a:pt x="13" y="4"/>
                        <a:pt x="9" y="1"/>
                        <a:pt x="6" y="4"/>
                      </a:cubicBezTo>
                      <a:lnTo>
                        <a:pt x="0" y="11"/>
                      </a:ln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35240" y="3885840"/>
                  <a:ext cx="18720" cy="1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111440" y="3962160"/>
                  <a:ext cx="18720" cy="1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4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044920" y="5295600"/>
                  <a:ext cx="914040" cy="762120"/>
                </a:xfrm>
                <a:custGeom>
                  <a:avLst/>
                  <a:gdLst/>
                  <a:ahLst/>
                  <a:rect l="l" t="t" r="r" b="b"/>
                  <a:pathLst>
                    <a:path w="96" h="80">
                      <a:moveTo>
                        <a:pt x="55" y="8"/>
                      </a:moveTo>
                      <a:cubicBezTo>
                        <a:pt x="41" y="4"/>
                        <a:pt x="29" y="0"/>
                        <a:pt x="28" y="1"/>
                      </a:cubicBezTo>
                      <a:cubicBezTo>
                        <a:pt x="31" y="3"/>
                        <a:pt x="34" y="5"/>
                        <a:pt x="34" y="9"/>
                      </a:cubicBezTo>
                      <a:cubicBezTo>
                        <a:pt x="31" y="22"/>
                        <a:pt x="4" y="10"/>
                        <a:pt x="0" y="24"/>
                      </a:cubicBezTo>
                      <a:cubicBezTo>
                        <a:pt x="0" y="26"/>
                        <a:pt x="0" y="30"/>
                        <a:pt x="2" y="32"/>
                      </a:cubicBezTo>
                      <a:cubicBezTo>
                        <a:pt x="4" y="31"/>
                        <a:pt x="8" y="31"/>
                        <a:pt x="10" y="32"/>
                      </a:cubicBezTo>
                      <a:cubicBezTo>
                        <a:pt x="10" y="33"/>
                        <a:pt x="8" y="35"/>
                        <a:pt x="7" y="35"/>
                      </a:cubicBezTo>
                      <a:cubicBezTo>
                        <a:pt x="8" y="35"/>
                        <a:pt x="9" y="37"/>
                        <a:pt x="10" y="37"/>
                      </a:cubicBezTo>
                      <a:cubicBezTo>
                        <a:pt x="10" y="39"/>
                        <a:pt x="10" y="43"/>
                        <a:pt x="15" y="45"/>
                      </a:cubicBezTo>
                      <a:cubicBezTo>
                        <a:pt x="15" y="45"/>
                        <a:pt x="19" y="48"/>
                        <a:pt x="15" y="46"/>
                      </a:cubicBezTo>
                      <a:cubicBezTo>
                        <a:pt x="10" y="45"/>
                        <a:pt x="8" y="47"/>
                        <a:pt x="14" y="51"/>
                      </a:cubicBezTo>
                      <a:cubicBezTo>
                        <a:pt x="19" y="54"/>
                        <a:pt x="11" y="51"/>
                        <a:pt x="11" y="52"/>
                      </a:cubicBezTo>
                      <a:cubicBezTo>
                        <a:pt x="10" y="52"/>
                        <a:pt x="11" y="54"/>
                        <a:pt x="11" y="54"/>
                      </a:cubicBezTo>
                      <a:lnTo>
                        <a:pt x="19" y="54"/>
                      </a:lnTo>
                      <a:cubicBezTo>
                        <a:pt x="19" y="56"/>
                        <a:pt x="18" y="62"/>
                        <a:pt x="19" y="63"/>
                      </a:cubicBezTo>
                      <a:cubicBezTo>
                        <a:pt x="21" y="65"/>
                        <a:pt x="23" y="62"/>
                        <a:pt x="24" y="64"/>
                      </a:cubicBezTo>
                      <a:cubicBezTo>
                        <a:pt x="24" y="63"/>
                        <a:pt x="19" y="67"/>
                        <a:pt x="22" y="68"/>
                      </a:cubicBezTo>
                      <a:cubicBezTo>
                        <a:pt x="24" y="70"/>
                        <a:pt x="28" y="64"/>
                        <a:pt x="29" y="65"/>
                      </a:cubicBezTo>
                      <a:cubicBezTo>
                        <a:pt x="30" y="65"/>
                        <a:pt x="34" y="65"/>
                        <a:pt x="34" y="66"/>
                      </a:cubicBezTo>
                      <a:lnTo>
                        <a:pt x="26" y="71"/>
                      </a:lnTo>
                      <a:cubicBezTo>
                        <a:pt x="26" y="72"/>
                        <a:pt x="27" y="73"/>
                        <a:pt x="28" y="73"/>
                      </a:cubicBezTo>
                      <a:cubicBezTo>
                        <a:pt x="29" y="73"/>
                        <a:pt x="29" y="74"/>
                        <a:pt x="31" y="72"/>
                      </a:cubicBezTo>
                      <a:cubicBezTo>
                        <a:pt x="33" y="69"/>
                        <a:pt x="33" y="72"/>
                        <a:pt x="35" y="72"/>
                      </a:cubicBezTo>
                      <a:cubicBezTo>
                        <a:pt x="35" y="72"/>
                        <a:pt x="42" y="76"/>
                        <a:pt x="49" y="78"/>
                      </a:cubicBezTo>
                      <a:cubicBezTo>
                        <a:pt x="58" y="80"/>
                        <a:pt x="63" y="72"/>
                        <a:pt x="73" y="74"/>
                      </a:cubicBezTo>
                      <a:cubicBezTo>
                        <a:pt x="76" y="74"/>
                        <a:pt x="78" y="75"/>
                        <a:pt x="80" y="75"/>
                      </a:cubicBezTo>
                      <a:cubicBezTo>
                        <a:pt x="79" y="73"/>
                        <a:pt x="81" y="69"/>
                        <a:pt x="83" y="69"/>
                      </a:cubicBezTo>
                      <a:cubicBezTo>
                        <a:pt x="84" y="67"/>
                        <a:pt x="86" y="65"/>
                        <a:pt x="88" y="66"/>
                      </a:cubicBezTo>
                      <a:cubicBezTo>
                        <a:pt x="90" y="65"/>
                        <a:pt x="91" y="64"/>
                        <a:pt x="91" y="62"/>
                      </a:cubicBezTo>
                      <a:cubicBezTo>
                        <a:pt x="89" y="58"/>
                        <a:pt x="90" y="52"/>
                        <a:pt x="92" y="48"/>
                      </a:cubicBezTo>
                      <a:cubicBezTo>
                        <a:pt x="92" y="47"/>
                        <a:pt x="91" y="45"/>
                        <a:pt x="91" y="44"/>
                      </a:cubicBezTo>
                      <a:cubicBezTo>
                        <a:pt x="90" y="41"/>
                        <a:pt x="93" y="39"/>
                        <a:pt x="91" y="36"/>
                      </a:cubicBezTo>
                      <a:cubicBezTo>
                        <a:pt x="91" y="35"/>
                        <a:pt x="91" y="34"/>
                        <a:pt x="91" y="33"/>
                      </a:cubicBezTo>
                      <a:cubicBezTo>
                        <a:pt x="90" y="28"/>
                        <a:pt x="90" y="23"/>
                        <a:pt x="89" y="19"/>
                      </a:cubicBezTo>
                      <a:cubicBezTo>
                        <a:pt x="86" y="19"/>
                        <a:pt x="82" y="18"/>
                        <a:pt x="79" y="18"/>
                      </a:cubicBezTo>
                      <a:lnTo>
                        <a:pt x="72" y="18"/>
                      </a:lnTo>
                      <a:cubicBezTo>
                        <a:pt x="71" y="19"/>
                        <a:pt x="68" y="20"/>
                        <a:pt x="67" y="20"/>
                      </a:cubicBezTo>
                      <a:lnTo>
                        <a:pt x="67" y="20"/>
                      </a:lnTo>
                      <a:cubicBezTo>
                        <a:pt x="64" y="20"/>
                        <a:pt x="56" y="18"/>
                        <a:pt x="57" y="15"/>
                      </a:cubicBezTo>
                      <a:cubicBezTo>
                        <a:pt x="56" y="14"/>
                        <a:pt x="54" y="13"/>
                        <a:pt x="54" y="12"/>
                      </a:cubicBezTo>
                      <a:cubicBezTo>
                        <a:pt x="54" y="10"/>
                        <a:pt x="54" y="9"/>
                        <a:pt x="55" y="8"/>
                      </a:cubicBezTo>
                      <a:moveTo>
                        <a:pt x="89" y="72"/>
                      </a:moveTo>
                      <a:lnTo>
                        <a:pt x="89" y="72"/>
                      </a:lnTo>
                      <a:moveTo>
                        <a:pt x="95" y="26"/>
                      </a:moveTo>
                      <a:cubicBezTo>
                        <a:pt x="96" y="25"/>
                        <a:pt x="95" y="23"/>
                        <a:pt x="95" y="22"/>
                      </a:cubicBezTo>
                      <a:cubicBezTo>
                        <a:pt x="95" y="23"/>
                        <a:pt x="95" y="25"/>
                        <a:pt x="95" y="26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9893a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130640" y="1380960"/>
                  <a:ext cx="723600" cy="55224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8" y="9"/>
                      </a:moveTo>
                      <a:cubicBezTo>
                        <a:pt x="10" y="7"/>
                        <a:pt x="14" y="3"/>
                        <a:pt x="17" y="2"/>
                      </a:cubicBezTo>
                      <a:cubicBezTo>
                        <a:pt x="21" y="6"/>
                        <a:pt x="20" y="6"/>
                        <a:pt x="21" y="0"/>
                      </a:cubicBezTo>
                      <a:cubicBezTo>
                        <a:pt x="26" y="0"/>
                        <a:pt x="28" y="8"/>
                        <a:pt x="28" y="12"/>
                      </a:cubicBezTo>
                      <a:cubicBezTo>
                        <a:pt x="26" y="18"/>
                        <a:pt x="24" y="19"/>
                        <a:pt x="30" y="18"/>
                      </a:cubicBezTo>
                      <a:cubicBezTo>
                        <a:pt x="32" y="18"/>
                        <a:pt x="32" y="12"/>
                        <a:pt x="33" y="12"/>
                      </a:cubicBezTo>
                      <a:cubicBezTo>
                        <a:pt x="39" y="12"/>
                        <a:pt x="37" y="10"/>
                        <a:pt x="37" y="18"/>
                      </a:cubicBezTo>
                      <a:cubicBezTo>
                        <a:pt x="37" y="18"/>
                        <a:pt x="39" y="20"/>
                        <a:pt x="39" y="15"/>
                      </a:cubicBezTo>
                      <a:cubicBezTo>
                        <a:pt x="44" y="13"/>
                        <a:pt x="51" y="14"/>
                        <a:pt x="51" y="20"/>
                      </a:cubicBezTo>
                      <a:cubicBezTo>
                        <a:pt x="55" y="15"/>
                        <a:pt x="56" y="15"/>
                        <a:pt x="58" y="21"/>
                      </a:cubicBezTo>
                      <a:cubicBezTo>
                        <a:pt x="59" y="20"/>
                        <a:pt x="58" y="16"/>
                        <a:pt x="59" y="14"/>
                      </a:cubicBezTo>
                      <a:cubicBezTo>
                        <a:pt x="64" y="14"/>
                        <a:pt x="65" y="20"/>
                        <a:pt x="65" y="22"/>
                      </a:cubicBezTo>
                      <a:cubicBezTo>
                        <a:pt x="68" y="19"/>
                        <a:pt x="67" y="19"/>
                        <a:pt x="69" y="21"/>
                      </a:cubicBezTo>
                      <a:cubicBezTo>
                        <a:pt x="71" y="24"/>
                        <a:pt x="68" y="25"/>
                        <a:pt x="68" y="26"/>
                      </a:cubicBezTo>
                      <a:cubicBezTo>
                        <a:pt x="68" y="29"/>
                        <a:pt x="71" y="32"/>
                        <a:pt x="72" y="35"/>
                      </a:cubicBezTo>
                      <a:cubicBezTo>
                        <a:pt x="76" y="51"/>
                        <a:pt x="55" y="49"/>
                        <a:pt x="49" y="55"/>
                      </a:cubicBezTo>
                      <a:cubicBezTo>
                        <a:pt x="43" y="51"/>
                        <a:pt x="34" y="58"/>
                        <a:pt x="29" y="57"/>
                      </a:cubicBezTo>
                      <a:cubicBezTo>
                        <a:pt x="19" y="54"/>
                        <a:pt x="16" y="40"/>
                        <a:pt x="5" y="40"/>
                      </a:cubicBezTo>
                      <a:cubicBezTo>
                        <a:pt x="5" y="33"/>
                        <a:pt x="4" y="36"/>
                        <a:pt x="10" y="36"/>
                      </a:cubicBezTo>
                      <a:cubicBezTo>
                        <a:pt x="16" y="30"/>
                        <a:pt x="11" y="23"/>
                        <a:pt x="4" y="24"/>
                      </a:cubicBezTo>
                      <a:cubicBezTo>
                        <a:pt x="0" y="17"/>
                        <a:pt x="10" y="19"/>
                        <a:pt x="13" y="20"/>
                      </a:cubicBezTo>
                      <a:lnTo>
                        <a:pt x="17" y="16"/>
                      </a:lnTo>
                      <a:cubicBezTo>
                        <a:pt x="14" y="13"/>
                        <a:pt x="8" y="14"/>
                        <a:pt x="8" y="9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301880" y="4371840"/>
                  <a:ext cx="923760" cy="666720"/>
                </a:xfrm>
                <a:custGeom>
                  <a:avLst/>
                  <a:gdLst/>
                  <a:ahLst/>
                  <a:rect l="l" t="t" r="r" b="b"/>
                  <a:pathLst>
                    <a:path w="97" h="70">
                      <a:moveTo>
                        <a:pt x="97" y="38"/>
                      </a:moveTo>
                      <a:cubicBezTo>
                        <a:pt x="97" y="37"/>
                        <a:pt x="95" y="34"/>
                        <a:pt x="95" y="33"/>
                      </a:cubicBezTo>
                      <a:lnTo>
                        <a:pt x="92" y="38"/>
                      </a:lnTo>
                      <a:cubicBezTo>
                        <a:pt x="91" y="39"/>
                        <a:pt x="88" y="38"/>
                        <a:pt x="86" y="38"/>
                      </a:cubicBezTo>
                      <a:cubicBezTo>
                        <a:pt x="84" y="37"/>
                        <a:pt x="82" y="29"/>
                        <a:pt x="82" y="27"/>
                      </a:cubicBezTo>
                      <a:cubicBezTo>
                        <a:pt x="80" y="18"/>
                        <a:pt x="81" y="18"/>
                        <a:pt x="73" y="13"/>
                      </a:cubicBezTo>
                      <a:cubicBezTo>
                        <a:pt x="69" y="10"/>
                        <a:pt x="61" y="7"/>
                        <a:pt x="56" y="0"/>
                      </a:cubicBezTo>
                      <a:cubicBezTo>
                        <a:pt x="53" y="3"/>
                        <a:pt x="47" y="6"/>
                        <a:pt x="45" y="10"/>
                      </a:cubicBezTo>
                      <a:cubicBezTo>
                        <a:pt x="42" y="10"/>
                        <a:pt x="39" y="8"/>
                        <a:pt x="37" y="6"/>
                      </a:cubicBezTo>
                      <a:cubicBezTo>
                        <a:pt x="30" y="12"/>
                        <a:pt x="26" y="14"/>
                        <a:pt x="21" y="11"/>
                      </a:cubicBezTo>
                      <a:cubicBezTo>
                        <a:pt x="16" y="14"/>
                        <a:pt x="14" y="22"/>
                        <a:pt x="10" y="28"/>
                      </a:cubicBezTo>
                      <a:cubicBezTo>
                        <a:pt x="11" y="33"/>
                        <a:pt x="10" y="35"/>
                        <a:pt x="8" y="39"/>
                      </a:cubicBezTo>
                      <a:lnTo>
                        <a:pt x="0" y="43"/>
                      </a:lnTo>
                      <a:lnTo>
                        <a:pt x="4" y="51"/>
                      </a:lnTo>
                      <a:lnTo>
                        <a:pt x="10" y="54"/>
                      </a:lnTo>
                      <a:cubicBezTo>
                        <a:pt x="11" y="57"/>
                        <a:pt x="11" y="58"/>
                        <a:pt x="10" y="59"/>
                      </a:cubicBezTo>
                      <a:lnTo>
                        <a:pt x="20" y="64"/>
                      </a:lnTo>
                      <a:lnTo>
                        <a:pt x="25" y="60"/>
                      </a:lnTo>
                      <a:lnTo>
                        <a:pt x="28" y="67"/>
                      </a:lnTo>
                      <a:lnTo>
                        <a:pt x="34" y="70"/>
                      </a:lnTo>
                      <a:lnTo>
                        <a:pt x="47" y="70"/>
                      </a:lnTo>
                      <a:lnTo>
                        <a:pt x="62" y="65"/>
                      </a:lnTo>
                      <a:cubicBezTo>
                        <a:pt x="66" y="64"/>
                        <a:pt x="66" y="61"/>
                        <a:pt x="71" y="59"/>
                      </a:cubicBezTo>
                      <a:cubicBezTo>
                        <a:pt x="76" y="56"/>
                        <a:pt x="76" y="57"/>
                        <a:pt x="81" y="58"/>
                      </a:cubicBezTo>
                      <a:cubicBezTo>
                        <a:pt x="84" y="59"/>
                        <a:pt x="87" y="62"/>
                        <a:pt x="91" y="60"/>
                      </a:cubicBezTo>
                      <a:lnTo>
                        <a:pt x="89" y="47"/>
                      </a:lnTo>
                      <a:lnTo>
                        <a:pt x="97" y="38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016480" y="5209920"/>
                  <a:ext cx="294840" cy="276120"/>
                </a:xfrm>
                <a:custGeom>
                  <a:avLst/>
                  <a:gdLst/>
                  <a:ahLst/>
                  <a:rect l="l" t="t" r="r" b="b"/>
                  <a:pathLst>
                    <a:path w="31" h="29">
                      <a:moveTo>
                        <a:pt x="23" y="6"/>
                      </a:moveTo>
                      <a:cubicBezTo>
                        <a:pt x="21" y="4"/>
                        <a:pt x="19" y="2"/>
                        <a:pt x="16" y="0"/>
                      </a:cubicBez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0" y="6"/>
                      </a:lnTo>
                      <a:cubicBezTo>
                        <a:pt x="1" y="7"/>
                        <a:pt x="4" y="11"/>
                        <a:pt x="5" y="12"/>
                      </a:cubicBezTo>
                      <a:cubicBezTo>
                        <a:pt x="3" y="14"/>
                        <a:pt x="1" y="19"/>
                        <a:pt x="1" y="22"/>
                      </a:cubicBezTo>
                      <a:cubicBezTo>
                        <a:pt x="2" y="22"/>
                        <a:pt x="3" y="21"/>
                        <a:pt x="5" y="21"/>
                      </a:cubicBezTo>
                      <a:cubicBezTo>
                        <a:pt x="6" y="21"/>
                        <a:pt x="2" y="28"/>
                        <a:pt x="2" y="29"/>
                      </a:cubicBezTo>
                      <a:cubicBezTo>
                        <a:pt x="3" y="29"/>
                        <a:pt x="8" y="26"/>
                        <a:pt x="10" y="23"/>
                      </a:cubicBezTo>
                      <a:cubicBezTo>
                        <a:pt x="11" y="21"/>
                        <a:pt x="10" y="20"/>
                        <a:pt x="11" y="20"/>
                      </a:cubicBezTo>
                      <a:cubicBezTo>
                        <a:pt x="13" y="19"/>
                        <a:pt x="15" y="17"/>
                        <a:pt x="16" y="17"/>
                      </a:cubicBezTo>
                      <a:cubicBezTo>
                        <a:pt x="20" y="14"/>
                        <a:pt x="26" y="14"/>
                        <a:pt x="30" y="12"/>
                      </a:cubicBezTo>
                      <a:cubicBezTo>
                        <a:pt x="30" y="11"/>
                        <a:pt x="31" y="10"/>
                        <a:pt x="31" y="10"/>
                      </a:cubicBezTo>
                      <a:cubicBezTo>
                        <a:pt x="28" y="9"/>
                        <a:pt x="27" y="7"/>
                        <a:pt x="23" y="6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40200" y="4895640"/>
                  <a:ext cx="628200" cy="523800"/>
                </a:xfrm>
                <a:custGeom>
                  <a:avLst/>
                  <a:gdLst/>
                  <a:ahLst/>
                  <a:rect l="l" t="t" r="r" b="b"/>
                  <a:pathLst>
                    <a:path w="66" h="55">
                      <a:moveTo>
                        <a:pt x="64" y="22"/>
                      </a:moveTo>
                      <a:cubicBezTo>
                        <a:pt x="63" y="16"/>
                        <a:pt x="64" y="11"/>
                        <a:pt x="66" y="6"/>
                      </a:cubicBezTo>
                      <a:cubicBezTo>
                        <a:pt x="66" y="5"/>
                        <a:pt x="64" y="6"/>
                        <a:pt x="64" y="6"/>
                      </a:cubicBezTo>
                      <a:cubicBezTo>
                        <a:pt x="60" y="6"/>
                        <a:pt x="60" y="4"/>
                        <a:pt x="57" y="3"/>
                      </a:cubicBezTo>
                      <a:cubicBezTo>
                        <a:pt x="48" y="0"/>
                        <a:pt x="44" y="5"/>
                        <a:pt x="38" y="10"/>
                      </a:cubicBezTo>
                      <a:lnTo>
                        <a:pt x="22" y="15"/>
                      </a:lnTo>
                      <a:lnTo>
                        <a:pt x="9" y="15"/>
                      </a:lnTo>
                      <a:lnTo>
                        <a:pt x="3" y="12"/>
                      </a:lnTo>
                      <a:lnTo>
                        <a:pt x="0" y="18"/>
                      </a:lnTo>
                      <a:lnTo>
                        <a:pt x="7" y="28"/>
                      </a:lnTo>
                      <a:lnTo>
                        <a:pt x="3" y="33"/>
                      </a:lnTo>
                      <a:lnTo>
                        <a:pt x="3" y="42"/>
                      </a:lnTo>
                      <a:cubicBezTo>
                        <a:pt x="4" y="42"/>
                        <a:pt x="8" y="43"/>
                        <a:pt x="9" y="43"/>
                      </a:cubicBezTo>
                      <a:lnTo>
                        <a:pt x="12" y="48"/>
                      </a:lnTo>
                      <a:lnTo>
                        <a:pt x="11" y="51"/>
                      </a:lnTo>
                      <a:lnTo>
                        <a:pt x="12" y="55"/>
                      </a:lnTo>
                      <a:lnTo>
                        <a:pt x="21" y="50"/>
                      </a:lnTo>
                      <a:cubicBezTo>
                        <a:pt x="22" y="50"/>
                        <a:pt x="25" y="50"/>
                        <a:pt x="26" y="50"/>
                      </a:cubicBezTo>
                      <a:lnTo>
                        <a:pt x="33" y="47"/>
                      </a:lnTo>
                      <a:lnTo>
                        <a:pt x="38" y="49"/>
                      </a:lnTo>
                      <a:lnTo>
                        <a:pt x="46" y="46"/>
                      </a:lnTo>
                      <a:lnTo>
                        <a:pt x="44" y="44"/>
                      </a:lnTo>
                      <a:lnTo>
                        <a:pt x="57" y="34"/>
                      </a:lnTo>
                      <a:lnTo>
                        <a:pt x="60" y="33"/>
                      </a:lnTo>
                      <a:lnTo>
                        <a:pt x="62" y="35"/>
                      </a:lnTo>
                      <a:lnTo>
                        <a:pt x="64" y="35"/>
                      </a:lnTo>
                      <a:lnTo>
                        <a:pt x="66" y="33"/>
                      </a:lnTo>
                      <a:lnTo>
                        <a:pt x="61" y="27"/>
                      </a:lnTo>
                      <a:lnTo>
                        <a:pt x="64" y="22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35280" y="5295600"/>
                  <a:ext cx="199800" cy="39996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21" y="22"/>
                      </a:moveTo>
                      <a:cubicBezTo>
                        <a:pt x="16" y="16"/>
                        <a:pt x="16" y="12"/>
                        <a:pt x="16" y="5"/>
                      </a:cubicBezTo>
                      <a:cubicBezTo>
                        <a:pt x="15" y="1"/>
                        <a:pt x="9" y="3"/>
                        <a:pt x="7" y="0"/>
                      </a:cubicBezTo>
                      <a:cubicBezTo>
                        <a:pt x="12" y="3"/>
                        <a:pt x="2" y="1"/>
                        <a:pt x="0" y="5"/>
                      </a:cubicBezTo>
                      <a:cubicBezTo>
                        <a:pt x="0" y="6"/>
                        <a:pt x="0" y="6"/>
                        <a:pt x="0" y="7"/>
                      </a:cubicBezTo>
                      <a:cubicBezTo>
                        <a:pt x="0" y="8"/>
                        <a:pt x="2" y="7"/>
                        <a:pt x="2" y="8"/>
                      </a:cubicBezTo>
                      <a:cubicBezTo>
                        <a:pt x="2" y="9"/>
                        <a:pt x="2" y="12"/>
                        <a:pt x="2" y="14"/>
                      </a:cubicBezTo>
                      <a:cubicBezTo>
                        <a:pt x="4" y="18"/>
                        <a:pt x="5" y="21"/>
                        <a:pt x="6" y="23"/>
                      </a:cubicBezTo>
                      <a:cubicBezTo>
                        <a:pt x="6" y="24"/>
                        <a:pt x="4" y="27"/>
                        <a:pt x="4" y="28"/>
                      </a:cubicBezTo>
                      <a:cubicBezTo>
                        <a:pt x="5" y="34"/>
                        <a:pt x="11" y="38"/>
                        <a:pt x="15" y="42"/>
                      </a:cubicBezTo>
                      <a:cubicBezTo>
                        <a:pt x="17" y="41"/>
                        <a:pt x="18" y="40"/>
                        <a:pt x="18" y="40"/>
                      </a:cubicBezTo>
                      <a:cubicBezTo>
                        <a:pt x="19" y="40"/>
                        <a:pt x="18" y="40"/>
                        <a:pt x="17" y="38"/>
                      </a:cubicBezTo>
                      <a:lnTo>
                        <a:pt x="18" y="35"/>
                      </a:lnTo>
                      <a:lnTo>
                        <a:pt x="21" y="22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9893a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16360" y="3180960"/>
                  <a:ext cx="685440" cy="866880"/>
                </a:xfrm>
                <a:custGeom>
                  <a:avLst/>
                  <a:gdLst/>
                  <a:ahLst/>
                  <a:rect l="l" t="t" r="r" b="b"/>
                  <a:pathLst>
                    <a:path w="72" h="91">
                      <a:moveTo>
                        <a:pt x="30" y="0"/>
                      </a:moveTo>
                      <a:cubicBezTo>
                        <a:pt x="30" y="2"/>
                        <a:pt x="43" y="18"/>
                        <a:pt x="43" y="18"/>
                      </a:cubicBezTo>
                      <a:cubicBezTo>
                        <a:pt x="47" y="22"/>
                        <a:pt x="57" y="24"/>
                        <a:pt x="59" y="29"/>
                      </a:cubicBezTo>
                      <a:cubicBezTo>
                        <a:pt x="60" y="33"/>
                        <a:pt x="58" y="41"/>
                        <a:pt x="60" y="44"/>
                      </a:cubicBezTo>
                      <a:cubicBezTo>
                        <a:pt x="64" y="51"/>
                        <a:pt x="72" y="52"/>
                        <a:pt x="72" y="60"/>
                      </a:cubicBezTo>
                      <a:cubicBezTo>
                        <a:pt x="69" y="60"/>
                        <a:pt x="70" y="64"/>
                        <a:pt x="68" y="62"/>
                      </a:cubicBezTo>
                      <a:lnTo>
                        <a:pt x="62" y="58"/>
                      </a:lnTo>
                      <a:cubicBezTo>
                        <a:pt x="61" y="60"/>
                        <a:pt x="62" y="66"/>
                        <a:pt x="63" y="69"/>
                      </a:cubicBezTo>
                      <a:cubicBezTo>
                        <a:pt x="71" y="74"/>
                        <a:pt x="65" y="75"/>
                        <a:pt x="71" y="81"/>
                      </a:cubicBezTo>
                      <a:cubicBezTo>
                        <a:pt x="71" y="83"/>
                        <a:pt x="70" y="85"/>
                        <a:pt x="70" y="86"/>
                      </a:cubicBezTo>
                      <a:cubicBezTo>
                        <a:pt x="64" y="86"/>
                        <a:pt x="65" y="89"/>
                        <a:pt x="59" y="87"/>
                      </a:cubicBezTo>
                      <a:cubicBezTo>
                        <a:pt x="51" y="85"/>
                        <a:pt x="43" y="91"/>
                        <a:pt x="35" y="91"/>
                      </a:cubicBezTo>
                      <a:cubicBezTo>
                        <a:pt x="35" y="87"/>
                        <a:pt x="15" y="90"/>
                        <a:pt x="13" y="90"/>
                      </a:cubicBezTo>
                      <a:cubicBezTo>
                        <a:pt x="10" y="83"/>
                        <a:pt x="11" y="83"/>
                        <a:pt x="5" y="77"/>
                      </a:cubicBezTo>
                      <a:cubicBezTo>
                        <a:pt x="5" y="77"/>
                        <a:pt x="5" y="77"/>
                        <a:pt x="5" y="77"/>
                      </a:cubicBezTo>
                      <a:cubicBezTo>
                        <a:pt x="5" y="76"/>
                        <a:pt x="5" y="75"/>
                        <a:pt x="5" y="74"/>
                      </a:cubicBezTo>
                      <a:cubicBezTo>
                        <a:pt x="4" y="73"/>
                        <a:pt x="2" y="71"/>
                        <a:pt x="0" y="71"/>
                      </a:cubicBezTo>
                      <a:cubicBezTo>
                        <a:pt x="0" y="67"/>
                        <a:pt x="5" y="66"/>
                        <a:pt x="5" y="63"/>
                      </a:cubicBezTo>
                      <a:cubicBezTo>
                        <a:pt x="5" y="58"/>
                        <a:pt x="2" y="47"/>
                        <a:pt x="1" y="44"/>
                      </a:cubicBezTo>
                      <a:cubicBezTo>
                        <a:pt x="2" y="43"/>
                        <a:pt x="4" y="41"/>
                        <a:pt x="7" y="37"/>
                      </a:cubicBezTo>
                      <a:cubicBezTo>
                        <a:pt x="7" y="36"/>
                        <a:pt x="8" y="35"/>
                        <a:pt x="9" y="34"/>
                      </a:cubicBezTo>
                      <a:cubicBezTo>
                        <a:pt x="12" y="37"/>
                        <a:pt x="13" y="35"/>
                        <a:pt x="14" y="33"/>
                      </a:cubicBezTo>
                      <a:cubicBezTo>
                        <a:pt x="14" y="32"/>
                        <a:pt x="12" y="31"/>
                        <a:pt x="13" y="26"/>
                      </a:cubicBezTo>
                      <a:cubicBezTo>
                        <a:pt x="19" y="24"/>
                        <a:pt x="17" y="21"/>
                        <a:pt x="21" y="13"/>
                      </a:cubicBezTo>
                      <a:cubicBezTo>
                        <a:pt x="23" y="13"/>
                        <a:pt x="30" y="3"/>
                        <a:pt x="30" y="0"/>
                      </a:cubicBezTo>
                    </a:path>
                  </a:pathLst>
                </a:custGeom>
                <a:solidFill>
                  <a:srgbClr val="969696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47960" y="3952800"/>
                  <a:ext cx="1342800" cy="771480"/>
                </a:xfrm>
                <a:custGeom>
                  <a:avLst/>
                  <a:gdLst/>
                  <a:ahLst/>
                  <a:rect l="l" t="t" r="r" b="b"/>
                  <a:pathLst>
                    <a:path w="141" h="81">
                      <a:moveTo>
                        <a:pt x="108" y="52"/>
                      </a:moveTo>
                      <a:lnTo>
                        <a:pt x="119" y="58"/>
                      </a:lnTo>
                      <a:lnTo>
                        <a:pt x="118" y="60"/>
                      </a:lnTo>
                      <a:lnTo>
                        <a:pt x="116" y="66"/>
                      </a:lnTo>
                      <a:lnTo>
                        <a:pt x="120" y="71"/>
                      </a:lnTo>
                      <a:lnTo>
                        <a:pt x="123" y="67"/>
                      </a:lnTo>
                      <a:lnTo>
                        <a:pt x="129" y="69"/>
                      </a:lnTo>
                      <a:lnTo>
                        <a:pt x="135" y="62"/>
                      </a:lnTo>
                      <a:lnTo>
                        <a:pt x="124" y="60"/>
                      </a:lnTo>
                      <a:lnTo>
                        <a:pt x="124" y="56"/>
                      </a:lnTo>
                      <a:lnTo>
                        <a:pt x="130" y="52"/>
                      </a:lnTo>
                      <a:lnTo>
                        <a:pt x="133" y="50"/>
                      </a:lnTo>
                      <a:lnTo>
                        <a:pt x="140" y="43"/>
                      </a:lnTo>
                      <a:lnTo>
                        <a:pt x="141" y="34"/>
                      </a:lnTo>
                      <a:lnTo>
                        <a:pt x="138" y="25"/>
                      </a:lnTo>
                      <a:lnTo>
                        <a:pt x="132" y="17"/>
                      </a:lnTo>
                      <a:lnTo>
                        <a:pt x="124" y="14"/>
                      </a:lnTo>
                      <a:lnTo>
                        <a:pt x="107" y="7"/>
                      </a:lnTo>
                      <a:cubicBezTo>
                        <a:pt x="107" y="9"/>
                        <a:pt x="102" y="8"/>
                        <a:pt x="99" y="7"/>
                      </a:cubicBezTo>
                      <a:cubicBezTo>
                        <a:pt x="85" y="3"/>
                        <a:pt x="87" y="4"/>
                        <a:pt x="81" y="6"/>
                      </a:cubicBezTo>
                      <a:cubicBezTo>
                        <a:pt x="78" y="5"/>
                        <a:pt x="75" y="0"/>
                        <a:pt x="64" y="4"/>
                      </a:cubicBezTo>
                      <a:cubicBezTo>
                        <a:pt x="58" y="2"/>
                        <a:pt x="53" y="3"/>
                        <a:pt x="45" y="6"/>
                      </a:cubicBezTo>
                      <a:cubicBezTo>
                        <a:pt x="45" y="6"/>
                        <a:pt x="38" y="7"/>
                        <a:pt x="37" y="8"/>
                      </a:cubicBezTo>
                      <a:cubicBezTo>
                        <a:pt x="36" y="2"/>
                        <a:pt x="20" y="6"/>
                        <a:pt x="15" y="6"/>
                      </a:cubicBezTo>
                      <a:cubicBezTo>
                        <a:pt x="15" y="7"/>
                        <a:pt x="16" y="8"/>
                        <a:pt x="17" y="10"/>
                      </a:cubicBezTo>
                      <a:cubicBezTo>
                        <a:pt x="13" y="16"/>
                        <a:pt x="8" y="21"/>
                        <a:pt x="5" y="28"/>
                      </a:cubicBezTo>
                      <a:cubicBezTo>
                        <a:pt x="5" y="30"/>
                        <a:pt x="6" y="30"/>
                        <a:pt x="6" y="33"/>
                      </a:cubicBezTo>
                      <a:cubicBezTo>
                        <a:pt x="6" y="33"/>
                        <a:pt x="0" y="47"/>
                        <a:pt x="1" y="47"/>
                      </a:cubicBezTo>
                      <a:cubicBezTo>
                        <a:pt x="4" y="49"/>
                        <a:pt x="12" y="54"/>
                        <a:pt x="16" y="53"/>
                      </a:cubicBezTo>
                      <a:cubicBezTo>
                        <a:pt x="20" y="53"/>
                        <a:pt x="24" y="50"/>
                        <a:pt x="27" y="47"/>
                      </a:cubicBezTo>
                      <a:cubicBezTo>
                        <a:pt x="27" y="47"/>
                        <a:pt x="35" y="53"/>
                        <a:pt x="35" y="51"/>
                      </a:cubicBezTo>
                      <a:cubicBezTo>
                        <a:pt x="35" y="49"/>
                        <a:pt x="46" y="42"/>
                        <a:pt x="46" y="41"/>
                      </a:cubicBezTo>
                      <a:cubicBezTo>
                        <a:pt x="46" y="41"/>
                        <a:pt x="53" y="49"/>
                        <a:pt x="59" y="51"/>
                      </a:cubicBezTo>
                      <a:cubicBezTo>
                        <a:pt x="61" y="54"/>
                        <a:pt x="66" y="55"/>
                        <a:pt x="70" y="60"/>
                      </a:cubicBezTo>
                      <a:cubicBezTo>
                        <a:pt x="72" y="63"/>
                        <a:pt x="71" y="67"/>
                        <a:pt x="72" y="70"/>
                      </a:cubicBezTo>
                      <a:cubicBezTo>
                        <a:pt x="72" y="76"/>
                        <a:pt x="76" y="81"/>
                        <a:pt x="82" y="79"/>
                      </a:cubicBezTo>
                      <a:cubicBezTo>
                        <a:pt x="83" y="77"/>
                        <a:pt x="85" y="74"/>
                        <a:pt x="85" y="74"/>
                      </a:cubicBezTo>
                      <a:lnTo>
                        <a:pt x="83" y="69"/>
                      </a:lnTo>
                      <a:cubicBezTo>
                        <a:pt x="85" y="69"/>
                        <a:pt x="87" y="70"/>
                        <a:pt x="89" y="70"/>
                      </a:cubicBezTo>
                      <a:cubicBezTo>
                        <a:pt x="89" y="59"/>
                        <a:pt x="95" y="50"/>
                        <a:pt x="108" y="52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35400" y="4371840"/>
                  <a:ext cx="313920" cy="142920"/>
                </a:xfrm>
                <a:custGeom>
                  <a:avLst/>
                  <a:gdLst/>
                  <a:ahLst/>
                  <a:rect l="l" t="t" r="r" b="b"/>
                  <a:pathLst>
                    <a:path w="33" h="15">
                      <a:moveTo>
                        <a:pt x="10" y="0"/>
                      </a:moveTo>
                      <a:cubicBezTo>
                        <a:pt x="11" y="0"/>
                        <a:pt x="22" y="5"/>
                        <a:pt x="24" y="5"/>
                      </a:cubicBezTo>
                      <a:cubicBezTo>
                        <a:pt x="26" y="6"/>
                        <a:pt x="32" y="12"/>
                        <a:pt x="33" y="14"/>
                      </a:cubicBezTo>
                      <a:cubicBezTo>
                        <a:pt x="33" y="15"/>
                        <a:pt x="26" y="11"/>
                        <a:pt x="25" y="13"/>
                      </a:cubicBezTo>
                      <a:cubicBezTo>
                        <a:pt x="18" y="14"/>
                        <a:pt x="19" y="14"/>
                        <a:pt x="13" y="10"/>
                      </a:cubicBezTo>
                      <a:cubicBezTo>
                        <a:pt x="10" y="8"/>
                        <a:pt x="6" y="6"/>
                        <a:pt x="3" y="4"/>
                      </a:cubicBezTo>
                      <a:cubicBezTo>
                        <a:pt x="3" y="4"/>
                        <a:pt x="0" y="0"/>
                        <a:pt x="0" y="0"/>
                      </a:cubicBezTo>
                      <a:cubicBezTo>
                        <a:pt x="3" y="0"/>
                        <a:pt x="7" y="0"/>
                        <a:pt x="10" y="0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78200" y="5295600"/>
                  <a:ext cx="275760" cy="2095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20" y="0"/>
                      </a:moveTo>
                      <a:lnTo>
                        <a:pt x="8" y="6"/>
                      </a:lnTo>
                      <a:lnTo>
                        <a:pt x="1" y="7"/>
                      </a:lnTo>
                      <a:cubicBezTo>
                        <a:pt x="0" y="11"/>
                        <a:pt x="3" y="19"/>
                        <a:pt x="6" y="22"/>
                      </a:cubicBezTo>
                      <a:cubicBezTo>
                        <a:pt x="14" y="22"/>
                        <a:pt x="15" y="21"/>
                        <a:pt x="21" y="16"/>
                      </a:cubicBezTo>
                      <a:lnTo>
                        <a:pt x="25" y="16"/>
                      </a:lnTo>
                      <a:lnTo>
                        <a:pt x="29" y="13"/>
                      </a:lnTo>
                      <a:lnTo>
                        <a:pt x="28" y="9"/>
                      </a:lnTo>
                      <a:lnTo>
                        <a:pt x="29" y="6"/>
                      </a:lnTo>
                      <a:lnTo>
                        <a:pt x="27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606720" y="4714560"/>
                  <a:ext cx="999720" cy="647640"/>
                </a:xfrm>
                <a:custGeom>
                  <a:avLst/>
                  <a:gdLst/>
                  <a:ahLst/>
                  <a:rect l="l" t="t" r="r" b="b"/>
                  <a:pathLst>
                    <a:path w="105" h="68">
                      <a:moveTo>
                        <a:pt x="101" y="61"/>
                      </a:moveTo>
                      <a:lnTo>
                        <a:pt x="101" y="52"/>
                      </a:lnTo>
                      <a:lnTo>
                        <a:pt x="105" y="47"/>
                      </a:lnTo>
                      <a:lnTo>
                        <a:pt x="98" y="37"/>
                      </a:lnTo>
                      <a:lnTo>
                        <a:pt x="101" y="31"/>
                      </a:lnTo>
                      <a:lnTo>
                        <a:pt x="98" y="24"/>
                      </a:lnTo>
                      <a:lnTo>
                        <a:pt x="93" y="28"/>
                      </a:lnTo>
                      <a:lnTo>
                        <a:pt x="83" y="23"/>
                      </a:lnTo>
                      <a:cubicBezTo>
                        <a:pt x="85" y="18"/>
                        <a:pt x="81" y="18"/>
                        <a:pt x="77" y="15"/>
                      </a:cubicBezTo>
                      <a:lnTo>
                        <a:pt x="74" y="7"/>
                      </a:lnTo>
                      <a:lnTo>
                        <a:pt x="56" y="9"/>
                      </a:lnTo>
                      <a:lnTo>
                        <a:pt x="40" y="14"/>
                      </a:lnTo>
                      <a:lnTo>
                        <a:pt x="28" y="0"/>
                      </a:lnTo>
                      <a:cubicBezTo>
                        <a:pt x="23" y="3"/>
                        <a:pt x="15" y="2"/>
                        <a:pt x="13" y="7"/>
                      </a:cubicBezTo>
                      <a:lnTo>
                        <a:pt x="0" y="7"/>
                      </a:lnTo>
                      <a:lnTo>
                        <a:pt x="4" y="18"/>
                      </a:lnTo>
                      <a:cubicBezTo>
                        <a:pt x="3" y="18"/>
                        <a:pt x="2" y="22"/>
                        <a:pt x="1" y="23"/>
                      </a:cubicBezTo>
                      <a:cubicBezTo>
                        <a:pt x="2" y="24"/>
                        <a:pt x="4" y="28"/>
                        <a:pt x="4" y="30"/>
                      </a:cubicBezTo>
                      <a:cubicBezTo>
                        <a:pt x="8" y="26"/>
                        <a:pt x="4" y="25"/>
                        <a:pt x="9" y="22"/>
                      </a:cubicBezTo>
                      <a:cubicBezTo>
                        <a:pt x="12" y="24"/>
                        <a:pt x="13" y="27"/>
                        <a:pt x="15" y="28"/>
                      </a:cubicBezTo>
                      <a:cubicBezTo>
                        <a:pt x="17" y="29"/>
                        <a:pt x="17" y="33"/>
                        <a:pt x="17" y="36"/>
                      </a:cubicBezTo>
                      <a:cubicBezTo>
                        <a:pt x="16" y="38"/>
                        <a:pt x="21" y="39"/>
                        <a:pt x="22" y="42"/>
                      </a:cubicBezTo>
                      <a:cubicBezTo>
                        <a:pt x="22" y="44"/>
                        <a:pt x="25" y="45"/>
                        <a:pt x="28" y="46"/>
                      </a:cubicBezTo>
                      <a:cubicBezTo>
                        <a:pt x="29" y="46"/>
                        <a:pt x="30" y="48"/>
                        <a:pt x="30" y="50"/>
                      </a:cubicBezTo>
                      <a:cubicBezTo>
                        <a:pt x="37" y="48"/>
                        <a:pt x="42" y="54"/>
                        <a:pt x="47" y="59"/>
                      </a:cubicBezTo>
                      <a:cubicBezTo>
                        <a:pt x="50" y="58"/>
                        <a:pt x="61" y="65"/>
                        <a:pt x="62" y="67"/>
                      </a:cubicBezTo>
                      <a:cubicBezTo>
                        <a:pt x="64" y="68"/>
                        <a:pt x="66" y="67"/>
                        <a:pt x="66" y="66"/>
                      </a:cubicBezTo>
                      <a:cubicBezTo>
                        <a:pt x="69" y="66"/>
                        <a:pt x="68" y="63"/>
                        <a:pt x="74" y="63"/>
                      </a:cubicBezTo>
                      <a:cubicBezTo>
                        <a:pt x="76" y="62"/>
                        <a:pt x="77" y="63"/>
                        <a:pt x="79" y="63"/>
                      </a:cubicBezTo>
                      <a:cubicBezTo>
                        <a:pt x="82" y="64"/>
                        <a:pt x="83" y="66"/>
                        <a:pt x="83" y="68"/>
                      </a:cubicBezTo>
                      <a:lnTo>
                        <a:pt x="90" y="67"/>
                      </a:lnTo>
                      <a:lnTo>
                        <a:pt x="101" y="61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9893a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282800" y="2752560"/>
                  <a:ext cx="352080" cy="23796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26" y="0"/>
                      </a:moveTo>
                      <a:cubicBezTo>
                        <a:pt x="36" y="1"/>
                        <a:pt x="31" y="3"/>
                        <a:pt x="31" y="8"/>
                      </a:cubicBezTo>
                      <a:cubicBezTo>
                        <a:pt x="30" y="8"/>
                        <a:pt x="31" y="12"/>
                        <a:pt x="32" y="12"/>
                      </a:cubicBezTo>
                      <a:lnTo>
                        <a:pt x="33" y="15"/>
                      </a:lnTo>
                      <a:cubicBezTo>
                        <a:pt x="37" y="17"/>
                        <a:pt x="28" y="25"/>
                        <a:pt x="28" y="24"/>
                      </a:cubicBezTo>
                      <a:cubicBezTo>
                        <a:pt x="27" y="24"/>
                        <a:pt x="26" y="17"/>
                        <a:pt x="19" y="20"/>
                      </a:cubicBezTo>
                      <a:cubicBezTo>
                        <a:pt x="16" y="20"/>
                        <a:pt x="15" y="23"/>
                        <a:pt x="11" y="23"/>
                      </a:cubicBezTo>
                      <a:cubicBezTo>
                        <a:pt x="11" y="23"/>
                        <a:pt x="11" y="21"/>
                        <a:pt x="10" y="20"/>
                      </a:cubicBezTo>
                      <a:cubicBezTo>
                        <a:pt x="9" y="20"/>
                        <a:pt x="4" y="24"/>
                        <a:pt x="4" y="22"/>
                      </a:cubicBezTo>
                      <a:cubicBezTo>
                        <a:pt x="3" y="22"/>
                        <a:pt x="3" y="17"/>
                        <a:pt x="3" y="16"/>
                      </a:cubicBezTo>
                      <a:cubicBezTo>
                        <a:pt x="1" y="14"/>
                        <a:pt x="0" y="13"/>
                        <a:pt x="0" y="10"/>
                      </a:cubicBezTo>
                      <a:cubicBezTo>
                        <a:pt x="4" y="7"/>
                        <a:pt x="3" y="2"/>
                        <a:pt x="14" y="2"/>
                      </a:cubicBezTo>
                      <a:cubicBezTo>
                        <a:pt x="16" y="2"/>
                        <a:pt x="23" y="0"/>
                        <a:pt x="26" y="0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44560" y="3323880"/>
                  <a:ext cx="437760" cy="514440"/>
                </a:xfrm>
                <a:custGeom>
                  <a:avLst/>
                  <a:gdLst/>
                  <a:ahLst/>
                  <a:rect l="l" t="t" r="r" b="b"/>
                  <a:pathLst>
                    <a:path w="46" h="54">
                      <a:moveTo>
                        <a:pt x="33" y="11"/>
                      </a:moveTo>
                      <a:cubicBezTo>
                        <a:pt x="32" y="13"/>
                        <a:pt x="36" y="18"/>
                        <a:pt x="40" y="16"/>
                      </a:cubicBezTo>
                      <a:cubicBezTo>
                        <a:pt x="42" y="18"/>
                        <a:pt x="46" y="24"/>
                        <a:pt x="46" y="27"/>
                      </a:cubicBezTo>
                      <a:cubicBezTo>
                        <a:pt x="45" y="29"/>
                        <a:pt x="39" y="33"/>
                        <a:pt x="40" y="36"/>
                      </a:cubicBezTo>
                      <a:cubicBezTo>
                        <a:pt x="41" y="48"/>
                        <a:pt x="33" y="50"/>
                        <a:pt x="23" y="49"/>
                      </a:cubicBezTo>
                      <a:cubicBezTo>
                        <a:pt x="20" y="48"/>
                        <a:pt x="18" y="53"/>
                        <a:pt x="13" y="54"/>
                      </a:cubicBezTo>
                      <a:cubicBezTo>
                        <a:pt x="1" y="47"/>
                        <a:pt x="0" y="51"/>
                        <a:pt x="1" y="47"/>
                      </a:cubicBezTo>
                      <a:cubicBezTo>
                        <a:pt x="3" y="43"/>
                        <a:pt x="1" y="39"/>
                        <a:pt x="1" y="38"/>
                      </a:cubicBezTo>
                      <a:cubicBezTo>
                        <a:pt x="2" y="37"/>
                        <a:pt x="7" y="37"/>
                        <a:pt x="7" y="36"/>
                      </a:cubicBezTo>
                      <a:cubicBezTo>
                        <a:pt x="7" y="35"/>
                        <a:pt x="3" y="35"/>
                        <a:pt x="3" y="33"/>
                      </a:cubicBezTo>
                      <a:cubicBezTo>
                        <a:pt x="2" y="27"/>
                        <a:pt x="10" y="33"/>
                        <a:pt x="10" y="32"/>
                      </a:cubicBezTo>
                      <a:cubicBezTo>
                        <a:pt x="12" y="31"/>
                        <a:pt x="10" y="24"/>
                        <a:pt x="12" y="28"/>
                      </a:cubicBezTo>
                      <a:cubicBezTo>
                        <a:pt x="14" y="32"/>
                        <a:pt x="20" y="28"/>
                        <a:pt x="21" y="26"/>
                      </a:cubicBezTo>
                      <a:cubicBezTo>
                        <a:pt x="15" y="26"/>
                        <a:pt x="11" y="26"/>
                        <a:pt x="9" y="22"/>
                      </a:cubicBezTo>
                      <a:cubicBezTo>
                        <a:pt x="14" y="20"/>
                        <a:pt x="17" y="20"/>
                        <a:pt x="13" y="15"/>
                      </a:cubicBezTo>
                      <a:lnTo>
                        <a:pt x="11" y="14"/>
                      </a:lnTo>
                      <a:cubicBezTo>
                        <a:pt x="14" y="7"/>
                        <a:pt x="24" y="10"/>
                        <a:pt x="26" y="13"/>
                      </a:cubicBezTo>
                      <a:cubicBezTo>
                        <a:pt x="28" y="13"/>
                        <a:pt x="30" y="12"/>
                        <a:pt x="31" y="11"/>
                      </a:cubicBezTo>
                      <a:lnTo>
                        <a:pt x="30" y="7"/>
                      </a:lnTo>
                      <a:cubicBezTo>
                        <a:pt x="29" y="7"/>
                        <a:pt x="28" y="8"/>
                        <a:pt x="26" y="6"/>
                      </a:cubicBezTo>
                      <a:cubicBezTo>
                        <a:pt x="27" y="4"/>
                        <a:pt x="29" y="6"/>
                        <a:pt x="30" y="5"/>
                      </a:cubicBezTo>
                      <a:cubicBezTo>
                        <a:pt x="31" y="1"/>
                        <a:pt x="37" y="0"/>
                        <a:pt x="40" y="0"/>
                      </a:cubicBezTo>
                      <a:lnTo>
                        <a:pt x="40" y="3"/>
                      </a:lnTo>
                      <a:lnTo>
                        <a:pt x="35" y="9"/>
                      </a:lnTo>
                      <a:cubicBezTo>
                        <a:pt x="33" y="11"/>
                        <a:pt x="37" y="9"/>
                        <a:pt x="36" y="11"/>
                      </a:cubicBezTo>
                      <a:cubicBezTo>
                        <a:pt x="35" y="13"/>
                        <a:pt x="34" y="11"/>
                        <a:pt x="33" y="11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435360" y="4076280"/>
                  <a:ext cx="1018800" cy="486000"/>
                </a:xfrm>
                <a:custGeom>
                  <a:avLst/>
                  <a:gdLst/>
                  <a:ahLst/>
                  <a:rect l="l" t="t" r="r" b="b"/>
                  <a:pathLst>
                    <a:path w="107" h="51">
                      <a:moveTo>
                        <a:pt x="77" y="21"/>
                      </a:moveTo>
                      <a:lnTo>
                        <a:pt x="71" y="22"/>
                      </a:lnTo>
                      <a:cubicBezTo>
                        <a:pt x="69" y="22"/>
                        <a:pt x="67" y="20"/>
                        <a:pt x="64" y="18"/>
                      </a:cubicBezTo>
                      <a:lnTo>
                        <a:pt x="59" y="17"/>
                      </a:lnTo>
                      <a:cubicBezTo>
                        <a:pt x="58" y="17"/>
                        <a:pt x="59" y="15"/>
                        <a:pt x="57" y="13"/>
                      </a:cubicBezTo>
                      <a:lnTo>
                        <a:pt x="55" y="12"/>
                      </a:lnTo>
                      <a:cubicBezTo>
                        <a:pt x="52" y="11"/>
                        <a:pt x="52" y="12"/>
                        <a:pt x="49" y="11"/>
                      </a:cubicBezTo>
                      <a:cubicBezTo>
                        <a:pt x="49" y="12"/>
                        <a:pt x="47" y="14"/>
                        <a:pt x="47" y="15"/>
                      </a:cubicBezTo>
                      <a:cubicBezTo>
                        <a:pt x="45" y="14"/>
                        <a:pt x="46" y="11"/>
                        <a:pt x="45" y="11"/>
                      </a:cubicBezTo>
                      <a:lnTo>
                        <a:pt x="43" y="7"/>
                      </a:lnTo>
                      <a:cubicBezTo>
                        <a:pt x="39" y="9"/>
                        <a:pt x="36" y="8"/>
                        <a:pt x="32" y="7"/>
                      </a:cubicBezTo>
                      <a:cubicBezTo>
                        <a:pt x="29" y="5"/>
                        <a:pt x="28" y="0"/>
                        <a:pt x="28" y="1"/>
                      </a:cubicBezTo>
                      <a:lnTo>
                        <a:pt x="28" y="3"/>
                      </a:lnTo>
                      <a:lnTo>
                        <a:pt x="22" y="1"/>
                      </a:lnTo>
                      <a:cubicBezTo>
                        <a:pt x="20" y="4"/>
                        <a:pt x="19" y="9"/>
                        <a:pt x="13" y="11"/>
                      </a:cubicBezTo>
                      <a:cubicBezTo>
                        <a:pt x="7" y="14"/>
                        <a:pt x="3" y="14"/>
                        <a:pt x="0" y="16"/>
                      </a:cubicBezTo>
                      <a:lnTo>
                        <a:pt x="7" y="20"/>
                      </a:lnTo>
                      <a:cubicBezTo>
                        <a:pt x="10" y="25"/>
                        <a:pt x="16" y="36"/>
                        <a:pt x="22" y="37"/>
                      </a:cubicBezTo>
                      <a:lnTo>
                        <a:pt x="24" y="40"/>
                      </a:lnTo>
                      <a:lnTo>
                        <a:pt x="26" y="40"/>
                      </a:lnTo>
                      <a:cubicBezTo>
                        <a:pt x="31" y="39"/>
                        <a:pt x="31" y="32"/>
                        <a:pt x="39" y="35"/>
                      </a:cubicBezTo>
                      <a:cubicBezTo>
                        <a:pt x="45" y="37"/>
                        <a:pt x="49" y="36"/>
                        <a:pt x="54" y="41"/>
                      </a:cubicBezTo>
                      <a:lnTo>
                        <a:pt x="56" y="41"/>
                      </a:lnTo>
                      <a:cubicBezTo>
                        <a:pt x="56" y="43"/>
                        <a:pt x="55" y="45"/>
                        <a:pt x="54" y="47"/>
                      </a:cubicBezTo>
                      <a:cubicBezTo>
                        <a:pt x="58" y="51"/>
                        <a:pt x="64" y="51"/>
                        <a:pt x="70" y="48"/>
                      </a:cubicBezTo>
                      <a:cubicBezTo>
                        <a:pt x="70" y="41"/>
                        <a:pt x="87" y="46"/>
                        <a:pt x="88" y="36"/>
                      </a:cubicBezTo>
                      <a:cubicBezTo>
                        <a:pt x="93" y="34"/>
                        <a:pt x="96" y="34"/>
                        <a:pt x="101" y="37"/>
                      </a:cubicBezTo>
                      <a:lnTo>
                        <a:pt x="107" y="23"/>
                      </a:lnTo>
                      <a:lnTo>
                        <a:pt x="96" y="23"/>
                      </a:lnTo>
                      <a:cubicBezTo>
                        <a:pt x="100" y="19"/>
                        <a:pt x="92" y="20"/>
                        <a:pt x="91" y="20"/>
                      </a:cubicBezTo>
                      <a:lnTo>
                        <a:pt x="86" y="21"/>
                      </a:lnTo>
                      <a:lnTo>
                        <a:pt x="82" y="24"/>
                      </a:lnTo>
                      <a:lnTo>
                        <a:pt x="77" y="21"/>
                      </a:ln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35360" y="4076280"/>
                  <a:ext cx="609120" cy="381240"/>
                </a:xfrm>
                <a:custGeom>
                  <a:avLst/>
                  <a:gdLst/>
                  <a:ahLst/>
                  <a:rect l="l" t="t" r="r" b="b"/>
                  <a:pathLst>
                    <a:path w="64" h="40">
                      <a:moveTo>
                        <a:pt x="64" y="19"/>
                      </a:moveTo>
                      <a:lnTo>
                        <a:pt x="58" y="17"/>
                      </a:lnTo>
                      <a:cubicBezTo>
                        <a:pt x="56" y="10"/>
                        <a:pt x="52" y="12"/>
                        <a:pt x="49" y="11"/>
                      </a:cubicBezTo>
                      <a:cubicBezTo>
                        <a:pt x="49" y="12"/>
                        <a:pt x="47" y="14"/>
                        <a:pt x="47" y="15"/>
                      </a:cubicBezTo>
                      <a:cubicBezTo>
                        <a:pt x="45" y="14"/>
                        <a:pt x="46" y="11"/>
                        <a:pt x="45" y="11"/>
                      </a:cubicBezTo>
                      <a:lnTo>
                        <a:pt x="43" y="7"/>
                      </a:lnTo>
                      <a:cubicBezTo>
                        <a:pt x="39" y="9"/>
                        <a:pt x="36" y="8"/>
                        <a:pt x="32" y="7"/>
                      </a:cubicBezTo>
                      <a:cubicBezTo>
                        <a:pt x="29" y="5"/>
                        <a:pt x="28" y="0"/>
                        <a:pt x="28" y="1"/>
                      </a:cubicBezTo>
                      <a:lnTo>
                        <a:pt x="28" y="3"/>
                      </a:lnTo>
                      <a:lnTo>
                        <a:pt x="22" y="1"/>
                      </a:lnTo>
                      <a:cubicBezTo>
                        <a:pt x="20" y="4"/>
                        <a:pt x="19" y="9"/>
                        <a:pt x="13" y="11"/>
                      </a:cubicBezTo>
                      <a:cubicBezTo>
                        <a:pt x="7" y="14"/>
                        <a:pt x="3" y="14"/>
                        <a:pt x="0" y="16"/>
                      </a:cubicBezTo>
                      <a:lnTo>
                        <a:pt x="7" y="20"/>
                      </a:lnTo>
                      <a:cubicBezTo>
                        <a:pt x="10" y="25"/>
                        <a:pt x="16" y="36"/>
                        <a:pt x="22" y="37"/>
                      </a:cubicBezTo>
                      <a:lnTo>
                        <a:pt x="24" y="40"/>
                      </a:lnTo>
                      <a:lnTo>
                        <a:pt x="26" y="40"/>
                      </a:lnTo>
                      <a:cubicBezTo>
                        <a:pt x="27" y="39"/>
                        <a:pt x="28" y="39"/>
                        <a:pt x="29" y="38"/>
                      </a:cubicBezTo>
                      <a:cubicBezTo>
                        <a:pt x="37" y="31"/>
                        <a:pt x="40" y="37"/>
                        <a:pt x="42" y="36"/>
                      </a:cubicBezTo>
                      <a:lnTo>
                        <a:pt x="64" y="19"/>
                      </a:ln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197040" y="4400280"/>
                  <a:ext cx="771120" cy="380880"/>
                </a:xfrm>
                <a:custGeom>
                  <a:avLst/>
                  <a:gdLst/>
                  <a:ahLst/>
                  <a:rect l="l" t="t" r="r" b="b"/>
                  <a:pathLst>
                    <a:path w="81" h="40">
                      <a:moveTo>
                        <a:pt x="75" y="23"/>
                      </a:moveTo>
                      <a:lnTo>
                        <a:pt x="71" y="19"/>
                      </a:lnTo>
                      <a:cubicBezTo>
                        <a:pt x="73" y="18"/>
                        <a:pt x="74" y="16"/>
                        <a:pt x="78" y="16"/>
                      </a:cubicBezTo>
                      <a:cubicBezTo>
                        <a:pt x="78" y="14"/>
                        <a:pt x="81" y="9"/>
                        <a:pt x="81" y="7"/>
                      </a:cubicBezTo>
                      <a:cubicBezTo>
                        <a:pt x="80" y="7"/>
                        <a:pt x="80" y="7"/>
                        <a:pt x="79" y="7"/>
                      </a:cubicBezTo>
                      <a:cubicBezTo>
                        <a:pt x="78" y="5"/>
                        <a:pt x="75" y="5"/>
                        <a:pt x="74" y="3"/>
                      </a:cubicBezTo>
                      <a:cubicBezTo>
                        <a:pt x="68" y="2"/>
                        <a:pt x="66" y="1"/>
                        <a:pt x="61" y="0"/>
                      </a:cubicBezTo>
                      <a:cubicBezTo>
                        <a:pt x="59" y="0"/>
                        <a:pt x="58" y="0"/>
                        <a:pt x="56" y="2"/>
                      </a:cubicBezTo>
                      <a:cubicBezTo>
                        <a:pt x="54" y="5"/>
                        <a:pt x="52" y="6"/>
                        <a:pt x="49" y="6"/>
                      </a:cubicBezTo>
                      <a:cubicBezTo>
                        <a:pt x="46" y="6"/>
                        <a:pt x="37" y="11"/>
                        <a:pt x="33" y="16"/>
                      </a:cubicBezTo>
                      <a:cubicBezTo>
                        <a:pt x="35" y="18"/>
                        <a:pt x="34" y="16"/>
                        <a:pt x="36" y="19"/>
                      </a:cubicBezTo>
                      <a:lnTo>
                        <a:pt x="28" y="20"/>
                      </a:lnTo>
                      <a:cubicBezTo>
                        <a:pt x="21" y="20"/>
                        <a:pt x="15" y="22"/>
                        <a:pt x="10" y="27"/>
                      </a:cubicBezTo>
                      <a:lnTo>
                        <a:pt x="4" y="21"/>
                      </a:lnTo>
                      <a:lnTo>
                        <a:pt x="0" y="22"/>
                      </a:lnTo>
                      <a:lnTo>
                        <a:pt x="3" y="26"/>
                      </a:lnTo>
                      <a:lnTo>
                        <a:pt x="1" y="29"/>
                      </a:lnTo>
                      <a:lnTo>
                        <a:pt x="8" y="32"/>
                      </a:lnTo>
                      <a:lnTo>
                        <a:pt x="10" y="35"/>
                      </a:lnTo>
                      <a:lnTo>
                        <a:pt x="16" y="35"/>
                      </a:lnTo>
                      <a:lnTo>
                        <a:pt x="26" y="30"/>
                      </a:lnTo>
                      <a:lnTo>
                        <a:pt x="43" y="40"/>
                      </a:lnTo>
                      <a:lnTo>
                        <a:pt x="55" y="40"/>
                      </a:lnTo>
                      <a:cubicBezTo>
                        <a:pt x="57" y="38"/>
                        <a:pt x="58" y="37"/>
                        <a:pt x="60" y="36"/>
                      </a:cubicBezTo>
                      <a:cubicBezTo>
                        <a:pt x="62" y="35"/>
                        <a:pt x="65" y="35"/>
                        <a:pt x="67" y="34"/>
                      </a:cubicBezTo>
                      <a:lnTo>
                        <a:pt x="71" y="33"/>
                      </a:lnTo>
                      <a:cubicBezTo>
                        <a:pt x="74" y="32"/>
                        <a:pt x="75" y="27"/>
                        <a:pt x="75" y="23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825520" y="4552560"/>
                  <a:ext cx="466560" cy="295560"/>
                </a:xfrm>
                <a:custGeom>
                  <a:avLst/>
                  <a:gdLst/>
                  <a:ahLst/>
                  <a:rect l="l" t="t" r="r" b="b"/>
                  <a:pathLst>
                    <a:path w="49" h="31">
                      <a:moveTo>
                        <a:pt x="40" y="13"/>
                      </a:moveTo>
                      <a:lnTo>
                        <a:pt x="42" y="10"/>
                      </a:lnTo>
                      <a:cubicBezTo>
                        <a:pt x="40" y="6"/>
                        <a:pt x="32" y="0"/>
                        <a:pt x="28" y="3"/>
                      </a:cubicBezTo>
                      <a:cubicBezTo>
                        <a:pt x="28" y="3"/>
                        <a:pt x="29" y="5"/>
                        <a:pt x="29" y="6"/>
                      </a:cubicBezTo>
                      <a:lnTo>
                        <a:pt x="22" y="7"/>
                      </a:lnTo>
                      <a:lnTo>
                        <a:pt x="21" y="2"/>
                      </a:lnTo>
                      <a:lnTo>
                        <a:pt x="15" y="3"/>
                      </a:lnTo>
                      <a:cubicBezTo>
                        <a:pt x="14" y="3"/>
                        <a:pt x="16" y="6"/>
                        <a:pt x="15" y="6"/>
                      </a:cubicBezTo>
                      <a:cubicBezTo>
                        <a:pt x="14" y="7"/>
                        <a:pt x="4" y="8"/>
                        <a:pt x="2" y="10"/>
                      </a:cubicBezTo>
                      <a:cubicBezTo>
                        <a:pt x="0" y="12"/>
                        <a:pt x="0" y="12"/>
                        <a:pt x="1" y="13"/>
                      </a:cubicBezTo>
                      <a:cubicBezTo>
                        <a:pt x="2" y="14"/>
                        <a:pt x="8" y="11"/>
                        <a:pt x="7" y="12"/>
                      </a:cubicBezTo>
                      <a:lnTo>
                        <a:pt x="3" y="18"/>
                      </a:lnTo>
                      <a:cubicBezTo>
                        <a:pt x="3" y="20"/>
                        <a:pt x="3" y="27"/>
                        <a:pt x="9" y="31"/>
                      </a:cubicBezTo>
                      <a:lnTo>
                        <a:pt x="25" y="28"/>
                      </a:lnTo>
                      <a:lnTo>
                        <a:pt x="25" y="24"/>
                      </a:lnTo>
                      <a:lnTo>
                        <a:pt x="28" y="22"/>
                      </a:lnTo>
                      <a:lnTo>
                        <a:pt x="33" y="30"/>
                      </a:lnTo>
                      <a:lnTo>
                        <a:pt x="36" y="22"/>
                      </a:lnTo>
                      <a:cubicBezTo>
                        <a:pt x="39" y="22"/>
                        <a:pt x="40" y="23"/>
                        <a:pt x="41" y="25"/>
                      </a:cubicBezTo>
                      <a:cubicBezTo>
                        <a:pt x="42" y="25"/>
                        <a:pt x="44" y="24"/>
                        <a:pt x="45" y="24"/>
                      </a:cubicBezTo>
                      <a:cubicBezTo>
                        <a:pt x="44" y="21"/>
                        <a:pt x="47" y="20"/>
                        <a:pt x="49" y="19"/>
                      </a:cubicBezTo>
                      <a:lnTo>
                        <a:pt x="47" y="17"/>
                      </a:lnTo>
                      <a:lnTo>
                        <a:pt x="40" y="13"/>
                      </a:ln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835160" y="4066920"/>
                  <a:ext cx="1285200" cy="1276200"/>
                </a:xfrm>
                <a:custGeom>
                  <a:avLst/>
                  <a:gdLst/>
                  <a:ahLst/>
                  <a:rect l="l" t="t" r="r" b="b"/>
                  <a:pathLst>
                    <a:path w="135" h="134">
                      <a:moveTo>
                        <a:pt x="14" y="111"/>
                      </a:moveTo>
                      <a:cubicBezTo>
                        <a:pt x="18" y="107"/>
                        <a:pt x="24" y="102"/>
                        <a:pt x="26" y="98"/>
                      </a:cubicBezTo>
                      <a:cubicBezTo>
                        <a:pt x="26" y="97"/>
                        <a:pt x="30" y="80"/>
                        <a:pt x="32" y="78"/>
                      </a:cubicBezTo>
                      <a:cubicBezTo>
                        <a:pt x="27" y="69"/>
                        <a:pt x="29" y="65"/>
                        <a:pt x="24" y="58"/>
                      </a:cubicBezTo>
                      <a:cubicBezTo>
                        <a:pt x="27" y="52"/>
                        <a:pt x="26" y="54"/>
                        <a:pt x="22" y="51"/>
                      </a:cubicBezTo>
                      <a:cubicBezTo>
                        <a:pt x="20" y="47"/>
                        <a:pt x="12" y="36"/>
                        <a:pt x="5" y="39"/>
                      </a:cubicBezTo>
                      <a:cubicBezTo>
                        <a:pt x="3" y="38"/>
                        <a:pt x="1" y="36"/>
                        <a:pt x="0" y="34"/>
                      </a:cubicBezTo>
                      <a:cubicBezTo>
                        <a:pt x="1" y="34"/>
                        <a:pt x="4" y="32"/>
                        <a:pt x="5" y="32"/>
                      </a:cubicBezTo>
                      <a:cubicBezTo>
                        <a:pt x="4" y="30"/>
                        <a:pt x="3" y="30"/>
                        <a:pt x="1" y="29"/>
                      </a:cubicBezTo>
                      <a:cubicBezTo>
                        <a:pt x="1" y="28"/>
                        <a:pt x="3" y="26"/>
                        <a:pt x="3" y="26"/>
                      </a:cubicBezTo>
                      <a:cubicBezTo>
                        <a:pt x="6" y="27"/>
                        <a:pt x="15" y="26"/>
                        <a:pt x="21" y="26"/>
                      </a:cubicBezTo>
                      <a:cubicBezTo>
                        <a:pt x="22" y="27"/>
                        <a:pt x="23" y="29"/>
                        <a:pt x="24" y="30"/>
                      </a:cubicBezTo>
                      <a:cubicBezTo>
                        <a:pt x="27" y="30"/>
                        <a:pt x="31" y="31"/>
                        <a:pt x="33" y="31"/>
                      </a:cubicBezTo>
                      <a:cubicBezTo>
                        <a:pt x="36" y="28"/>
                        <a:pt x="34" y="27"/>
                        <a:pt x="35" y="24"/>
                      </a:cubicBezTo>
                      <a:cubicBezTo>
                        <a:pt x="32" y="21"/>
                        <a:pt x="31" y="17"/>
                        <a:pt x="34" y="14"/>
                      </a:cubicBezTo>
                      <a:cubicBezTo>
                        <a:pt x="38" y="16"/>
                        <a:pt x="36" y="16"/>
                        <a:pt x="41" y="15"/>
                      </a:cubicBezTo>
                      <a:cubicBezTo>
                        <a:pt x="41" y="20"/>
                        <a:pt x="44" y="23"/>
                        <a:pt x="49" y="23"/>
                      </a:cubicBezTo>
                      <a:cubicBezTo>
                        <a:pt x="52" y="19"/>
                        <a:pt x="52" y="15"/>
                        <a:pt x="55" y="18"/>
                      </a:cubicBezTo>
                      <a:cubicBezTo>
                        <a:pt x="65" y="16"/>
                        <a:pt x="64" y="12"/>
                        <a:pt x="66" y="4"/>
                      </a:cubicBezTo>
                      <a:cubicBezTo>
                        <a:pt x="67" y="1"/>
                        <a:pt x="71" y="2"/>
                        <a:pt x="73" y="2"/>
                      </a:cubicBezTo>
                      <a:cubicBezTo>
                        <a:pt x="79" y="0"/>
                        <a:pt x="72" y="6"/>
                        <a:pt x="78" y="1"/>
                      </a:cubicBezTo>
                      <a:cubicBezTo>
                        <a:pt x="78" y="3"/>
                        <a:pt x="83" y="5"/>
                        <a:pt x="84" y="5"/>
                      </a:cubicBezTo>
                      <a:cubicBezTo>
                        <a:pt x="84" y="5"/>
                        <a:pt x="86" y="8"/>
                        <a:pt x="86" y="9"/>
                      </a:cubicBezTo>
                      <a:cubicBezTo>
                        <a:pt x="89" y="12"/>
                        <a:pt x="89" y="13"/>
                        <a:pt x="93" y="14"/>
                      </a:cubicBezTo>
                      <a:cubicBezTo>
                        <a:pt x="94" y="14"/>
                        <a:pt x="93" y="18"/>
                        <a:pt x="94" y="18"/>
                      </a:cubicBezTo>
                      <a:cubicBezTo>
                        <a:pt x="96" y="19"/>
                        <a:pt x="97" y="23"/>
                        <a:pt x="99" y="24"/>
                      </a:cubicBezTo>
                      <a:cubicBezTo>
                        <a:pt x="112" y="30"/>
                        <a:pt x="98" y="33"/>
                        <a:pt x="112" y="30"/>
                      </a:cubicBezTo>
                      <a:cubicBezTo>
                        <a:pt x="113" y="29"/>
                        <a:pt x="117" y="31"/>
                        <a:pt x="118" y="30"/>
                      </a:cubicBezTo>
                      <a:cubicBezTo>
                        <a:pt x="124" y="32"/>
                        <a:pt x="129" y="31"/>
                        <a:pt x="132" y="35"/>
                      </a:cubicBezTo>
                      <a:cubicBezTo>
                        <a:pt x="135" y="39"/>
                        <a:pt x="128" y="42"/>
                        <a:pt x="125" y="53"/>
                      </a:cubicBezTo>
                      <a:cubicBezTo>
                        <a:pt x="125" y="53"/>
                        <a:pt x="120" y="53"/>
                        <a:pt x="119" y="54"/>
                      </a:cubicBezTo>
                      <a:cubicBezTo>
                        <a:pt x="118" y="54"/>
                        <a:pt x="120" y="57"/>
                        <a:pt x="119" y="57"/>
                      </a:cubicBezTo>
                      <a:cubicBezTo>
                        <a:pt x="117" y="58"/>
                        <a:pt x="106" y="59"/>
                        <a:pt x="105" y="63"/>
                      </a:cubicBezTo>
                      <a:cubicBezTo>
                        <a:pt x="104" y="66"/>
                        <a:pt x="113" y="62"/>
                        <a:pt x="111" y="64"/>
                      </a:cubicBezTo>
                      <a:lnTo>
                        <a:pt x="107" y="69"/>
                      </a:lnTo>
                      <a:cubicBezTo>
                        <a:pt x="106" y="69"/>
                        <a:pt x="107" y="72"/>
                        <a:pt x="107" y="73"/>
                      </a:cubicBezTo>
                      <a:cubicBezTo>
                        <a:pt x="107" y="77"/>
                        <a:pt x="111" y="80"/>
                        <a:pt x="113" y="82"/>
                      </a:cubicBezTo>
                      <a:lnTo>
                        <a:pt x="120" y="92"/>
                      </a:lnTo>
                      <a:lnTo>
                        <a:pt x="114" y="95"/>
                      </a:lnTo>
                      <a:cubicBezTo>
                        <a:pt x="113" y="95"/>
                        <a:pt x="117" y="99"/>
                        <a:pt x="118" y="99"/>
                      </a:cubicBezTo>
                      <a:cubicBezTo>
                        <a:pt x="117" y="99"/>
                        <a:pt x="111" y="100"/>
                        <a:pt x="111" y="101"/>
                      </a:cubicBezTo>
                      <a:lnTo>
                        <a:pt x="111" y="107"/>
                      </a:lnTo>
                      <a:lnTo>
                        <a:pt x="117" y="113"/>
                      </a:lnTo>
                      <a:lnTo>
                        <a:pt x="121" y="113"/>
                      </a:lnTo>
                      <a:cubicBezTo>
                        <a:pt x="119" y="113"/>
                        <a:pt x="111" y="126"/>
                        <a:pt x="109" y="126"/>
                      </a:cubicBezTo>
                      <a:cubicBezTo>
                        <a:pt x="100" y="127"/>
                        <a:pt x="100" y="125"/>
                        <a:pt x="94" y="121"/>
                      </a:cubicBezTo>
                      <a:lnTo>
                        <a:pt x="89" y="122"/>
                      </a:lnTo>
                      <a:cubicBezTo>
                        <a:pt x="89" y="122"/>
                        <a:pt x="77" y="117"/>
                        <a:pt x="77" y="117"/>
                      </a:cubicBezTo>
                      <a:cubicBezTo>
                        <a:pt x="69" y="120"/>
                        <a:pt x="70" y="129"/>
                        <a:pt x="72" y="134"/>
                      </a:cubicBezTo>
                      <a:cubicBezTo>
                        <a:pt x="72" y="134"/>
                        <a:pt x="64" y="133"/>
                        <a:pt x="60" y="132"/>
                      </a:cubicBezTo>
                      <a:cubicBezTo>
                        <a:pt x="57" y="132"/>
                        <a:pt x="49" y="125"/>
                        <a:pt x="47" y="123"/>
                      </a:cubicBezTo>
                      <a:cubicBezTo>
                        <a:pt x="47" y="122"/>
                        <a:pt x="41" y="127"/>
                        <a:pt x="40" y="126"/>
                      </a:cubicBezTo>
                      <a:lnTo>
                        <a:pt x="34" y="121"/>
                      </a:lnTo>
                      <a:lnTo>
                        <a:pt x="31" y="122"/>
                      </a:lnTo>
                      <a:cubicBezTo>
                        <a:pt x="27" y="118"/>
                        <a:pt x="23" y="118"/>
                        <a:pt x="22" y="114"/>
                      </a:cubicBezTo>
                      <a:cubicBezTo>
                        <a:pt x="22" y="113"/>
                        <a:pt x="14" y="110"/>
                        <a:pt x="14" y="111"/>
                      </a:cubicBez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73200" y="5286240"/>
                  <a:ext cx="142560" cy="22860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2" y="8"/>
                      </a:moveTo>
                      <a:cubicBezTo>
                        <a:pt x="3" y="6"/>
                        <a:pt x="8" y="2"/>
                        <a:pt x="10" y="0"/>
                      </a:cubicBezTo>
                      <a:cubicBezTo>
                        <a:pt x="15" y="5"/>
                        <a:pt x="13" y="21"/>
                        <a:pt x="8" y="24"/>
                      </a:cubicBezTo>
                      <a:cubicBezTo>
                        <a:pt x="1" y="22"/>
                        <a:pt x="0" y="17"/>
                        <a:pt x="2" y="8"/>
                      </a:cubicBez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130520" y="3209760"/>
                  <a:ext cx="485280" cy="390600"/>
                </a:xfrm>
                <a:custGeom>
                  <a:avLst/>
                  <a:gdLst/>
                  <a:ahLst/>
                  <a:rect l="l" t="t" r="r" b="b"/>
                  <a:pathLst>
                    <a:path w="51" h="41">
                      <a:moveTo>
                        <a:pt x="50" y="10"/>
                      </a:moveTo>
                      <a:cubicBezTo>
                        <a:pt x="51" y="14"/>
                        <a:pt x="47" y="16"/>
                        <a:pt x="47" y="20"/>
                      </a:cubicBezTo>
                      <a:cubicBezTo>
                        <a:pt x="46" y="21"/>
                        <a:pt x="46" y="22"/>
                        <a:pt x="46" y="22"/>
                      </a:cubicBezTo>
                      <a:cubicBezTo>
                        <a:pt x="45" y="22"/>
                        <a:pt x="43" y="22"/>
                        <a:pt x="43" y="23"/>
                      </a:cubicBezTo>
                      <a:lnTo>
                        <a:pt x="43" y="26"/>
                      </a:lnTo>
                      <a:lnTo>
                        <a:pt x="44" y="30"/>
                      </a:lnTo>
                      <a:cubicBezTo>
                        <a:pt x="44" y="30"/>
                        <a:pt x="44" y="30"/>
                        <a:pt x="44" y="31"/>
                      </a:cubicBezTo>
                      <a:cubicBezTo>
                        <a:pt x="43" y="32"/>
                        <a:pt x="42" y="33"/>
                        <a:pt x="41" y="32"/>
                      </a:cubicBezTo>
                      <a:cubicBezTo>
                        <a:pt x="40" y="32"/>
                        <a:pt x="40" y="31"/>
                        <a:pt x="39" y="31"/>
                      </a:cubicBezTo>
                      <a:cubicBezTo>
                        <a:pt x="38" y="32"/>
                        <a:pt x="37" y="33"/>
                        <a:pt x="37" y="34"/>
                      </a:cubicBezTo>
                      <a:cubicBezTo>
                        <a:pt x="34" y="36"/>
                        <a:pt x="33" y="40"/>
                        <a:pt x="31" y="41"/>
                      </a:cubicBezTo>
                      <a:cubicBezTo>
                        <a:pt x="30" y="39"/>
                        <a:pt x="29" y="37"/>
                        <a:pt x="27" y="36"/>
                      </a:cubicBezTo>
                      <a:lnTo>
                        <a:pt x="14" y="41"/>
                      </a:lnTo>
                      <a:cubicBezTo>
                        <a:pt x="14" y="41"/>
                        <a:pt x="14" y="36"/>
                        <a:pt x="13" y="34"/>
                      </a:cubicBezTo>
                      <a:lnTo>
                        <a:pt x="15" y="30"/>
                      </a:lnTo>
                      <a:cubicBezTo>
                        <a:pt x="15" y="27"/>
                        <a:pt x="15" y="24"/>
                        <a:pt x="14" y="23"/>
                      </a:cubicBezTo>
                      <a:cubicBezTo>
                        <a:pt x="10" y="22"/>
                        <a:pt x="7" y="26"/>
                        <a:pt x="4" y="21"/>
                      </a:cubicBezTo>
                      <a:cubicBezTo>
                        <a:pt x="4" y="18"/>
                        <a:pt x="2" y="9"/>
                        <a:pt x="0" y="7"/>
                      </a:cubicBezTo>
                      <a:cubicBezTo>
                        <a:pt x="6" y="5"/>
                        <a:pt x="6" y="4"/>
                        <a:pt x="6" y="3"/>
                      </a:cubicBezTo>
                      <a:cubicBezTo>
                        <a:pt x="11" y="0"/>
                        <a:pt x="16" y="1"/>
                        <a:pt x="20" y="2"/>
                      </a:cubicBezTo>
                      <a:cubicBezTo>
                        <a:pt x="22" y="2"/>
                        <a:pt x="24" y="1"/>
                        <a:pt x="26" y="2"/>
                      </a:cubicBezTo>
                      <a:cubicBezTo>
                        <a:pt x="27" y="3"/>
                        <a:pt x="29" y="1"/>
                        <a:pt x="30" y="0"/>
                      </a:cubicBezTo>
                      <a:cubicBezTo>
                        <a:pt x="31" y="0"/>
                        <a:pt x="34" y="1"/>
                        <a:pt x="35" y="1"/>
                      </a:cubicBezTo>
                      <a:cubicBezTo>
                        <a:pt x="36" y="1"/>
                        <a:pt x="37" y="1"/>
                        <a:pt x="38" y="1"/>
                      </a:cubicBezTo>
                      <a:cubicBezTo>
                        <a:pt x="40" y="2"/>
                        <a:pt x="41" y="4"/>
                        <a:pt x="43" y="6"/>
                      </a:cubicBezTo>
                      <a:cubicBezTo>
                        <a:pt x="44" y="8"/>
                        <a:pt x="48" y="10"/>
                        <a:pt x="50" y="10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130520" y="2914560"/>
                  <a:ext cx="618840" cy="390240"/>
                </a:xfrm>
                <a:custGeom>
                  <a:avLst/>
                  <a:gdLst/>
                  <a:ahLst/>
                  <a:rect l="l" t="t" r="r" b="b"/>
                  <a:pathLst>
                    <a:path w="65" h="41">
                      <a:moveTo>
                        <a:pt x="1" y="38"/>
                      </a:moveTo>
                      <a:cubicBezTo>
                        <a:pt x="6" y="35"/>
                        <a:pt x="6" y="35"/>
                        <a:pt x="7" y="34"/>
                      </a:cubicBezTo>
                      <a:cubicBezTo>
                        <a:pt x="11" y="32"/>
                        <a:pt x="16" y="32"/>
                        <a:pt x="21" y="33"/>
                      </a:cubicBezTo>
                      <a:cubicBezTo>
                        <a:pt x="22" y="33"/>
                        <a:pt x="24" y="32"/>
                        <a:pt x="26" y="33"/>
                      </a:cubicBezTo>
                      <a:cubicBezTo>
                        <a:pt x="28" y="34"/>
                        <a:pt x="29" y="32"/>
                        <a:pt x="30" y="31"/>
                      </a:cubicBezTo>
                      <a:cubicBezTo>
                        <a:pt x="31" y="31"/>
                        <a:pt x="34" y="32"/>
                        <a:pt x="35" y="32"/>
                      </a:cubicBezTo>
                      <a:cubicBezTo>
                        <a:pt x="36" y="32"/>
                        <a:pt x="37" y="32"/>
                        <a:pt x="38" y="32"/>
                      </a:cubicBezTo>
                      <a:cubicBezTo>
                        <a:pt x="40" y="33"/>
                        <a:pt x="42" y="35"/>
                        <a:pt x="43" y="37"/>
                      </a:cubicBezTo>
                      <a:cubicBezTo>
                        <a:pt x="44" y="39"/>
                        <a:pt x="48" y="41"/>
                        <a:pt x="51" y="41"/>
                      </a:cubicBezTo>
                      <a:cubicBezTo>
                        <a:pt x="54" y="39"/>
                        <a:pt x="56" y="35"/>
                        <a:pt x="58" y="32"/>
                      </a:cubicBezTo>
                      <a:cubicBezTo>
                        <a:pt x="62" y="18"/>
                        <a:pt x="65" y="11"/>
                        <a:pt x="48" y="10"/>
                      </a:cubicBezTo>
                      <a:cubicBezTo>
                        <a:pt x="42" y="6"/>
                        <a:pt x="44" y="0"/>
                        <a:pt x="35" y="3"/>
                      </a:cubicBezTo>
                      <a:cubicBezTo>
                        <a:pt x="35" y="2"/>
                        <a:pt x="29" y="6"/>
                        <a:pt x="28" y="6"/>
                      </a:cubicBezTo>
                      <a:cubicBezTo>
                        <a:pt x="23" y="14"/>
                        <a:pt x="32" y="24"/>
                        <a:pt x="25" y="26"/>
                      </a:cubicBezTo>
                      <a:cubicBezTo>
                        <a:pt x="20" y="27"/>
                        <a:pt x="17" y="22"/>
                        <a:pt x="15" y="18"/>
                      </a:cubicBezTo>
                      <a:cubicBezTo>
                        <a:pt x="13" y="18"/>
                        <a:pt x="9" y="18"/>
                        <a:pt x="8" y="17"/>
                      </a:cubicBezTo>
                      <a:cubicBezTo>
                        <a:pt x="3" y="24"/>
                        <a:pt x="3" y="26"/>
                        <a:pt x="1" y="33"/>
                      </a:cubicBezTo>
                      <a:cubicBezTo>
                        <a:pt x="1" y="34"/>
                        <a:pt x="0" y="36"/>
                        <a:pt x="1" y="38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606720" y="4714560"/>
                  <a:ext cx="352080" cy="28584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37" y="9"/>
                      </a:moveTo>
                      <a:lnTo>
                        <a:pt x="28" y="0"/>
                      </a:lnTo>
                      <a:cubicBezTo>
                        <a:pt x="23" y="3"/>
                        <a:pt x="15" y="2"/>
                        <a:pt x="13" y="7"/>
                      </a:cubicBezTo>
                      <a:lnTo>
                        <a:pt x="0" y="7"/>
                      </a:lnTo>
                      <a:lnTo>
                        <a:pt x="4" y="18"/>
                      </a:lnTo>
                      <a:cubicBezTo>
                        <a:pt x="3" y="18"/>
                        <a:pt x="2" y="22"/>
                        <a:pt x="1" y="23"/>
                      </a:cubicBezTo>
                      <a:cubicBezTo>
                        <a:pt x="2" y="24"/>
                        <a:pt x="4" y="28"/>
                        <a:pt x="4" y="30"/>
                      </a:cubicBezTo>
                      <a:cubicBezTo>
                        <a:pt x="8" y="26"/>
                        <a:pt x="4" y="25"/>
                        <a:pt x="9" y="22"/>
                      </a:cubicBezTo>
                      <a:cubicBezTo>
                        <a:pt x="12" y="25"/>
                        <a:pt x="13" y="27"/>
                        <a:pt x="14" y="26"/>
                      </a:cubicBezTo>
                      <a:lnTo>
                        <a:pt x="37" y="9"/>
                      </a:ln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997320" y="4905000"/>
                  <a:ext cx="275760" cy="419400"/>
                </a:xfrm>
                <a:custGeom>
                  <a:avLst/>
                  <a:gdLst/>
                  <a:ahLst/>
                  <a:rect l="l" t="t" r="r" b="b"/>
                  <a:pathLst>
                    <a:path w="29" h="44">
                      <a:moveTo>
                        <a:pt x="24" y="8"/>
                      </a:moveTo>
                      <a:lnTo>
                        <a:pt x="12" y="0"/>
                      </a:lnTo>
                      <a:cubicBezTo>
                        <a:pt x="12" y="0"/>
                        <a:pt x="0" y="8"/>
                        <a:pt x="0" y="18"/>
                      </a:cubicBezTo>
                      <a:cubicBezTo>
                        <a:pt x="5" y="20"/>
                        <a:pt x="3" y="29"/>
                        <a:pt x="10" y="30"/>
                      </a:cubicBezTo>
                      <a:cubicBezTo>
                        <a:pt x="9" y="33"/>
                        <a:pt x="10" y="37"/>
                        <a:pt x="11" y="40"/>
                      </a:cubicBezTo>
                      <a:cubicBezTo>
                        <a:pt x="12" y="41"/>
                        <a:pt x="13" y="41"/>
                        <a:pt x="13" y="41"/>
                      </a:cubicBezTo>
                      <a:cubicBezTo>
                        <a:pt x="14" y="42"/>
                        <a:pt x="16" y="44"/>
                        <a:pt x="17" y="43"/>
                      </a:cubicBezTo>
                      <a:cubicBezTo>
                        <a:pt x="20" y="41"/>
                        <a:pt x="24" y="36"/>
                        <a:pt x="24" y="34"/>
                      </a:cubicBezTo>
                      <a:cubicBezTo>
                        <a:pt x="25" y="32"/>
                        <a:pt x="26" y="31"/>
                        <a:pt x="26" y="28"/>
                      </a:cubicBezTo>
                      <a:cubicBezTo>
                        <a:pt x="27" y="26"/>
                        <a:pt x="28" y="23"/>
                        <a:pt x="28" y="21"/>
                      </a:cubicBezTo>
                      <a:cubicBezTo>
                        <a:pt x="29" y="18"/>
                        <a:pt x="29" y="14"/>
                        <a:pt x="29" y="12"/>
                      </a:cubicBezTo>
                      <a:cubicBezTo>
                        <a:pt x="28" y="10"/>
                        <a:pt x="26" y="10"/>
                        <a:pt x="24" y="8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111440" y="4781160"/>
                  <a:ext cx="495000" cy="590760"/>
                </a:xfrm>
                <a:custGeom>
                  <a:avLst/>
                  <a:gdLst/>
                  <a:ahLst/>
                  <a:rect l="l" t="t" r="r" b="b"/>
                  <a:pathLst>
                    <a:path w="52" h="62">
                      <a:moveTo>
                        <a:pt x="4" y="56"/>
                      </a:moveTo>
                      <a:cubicBezTo>
                        <a:pt x="5" y="57"/>
                        <a:pt x="10" y="62"/>
                        <a:pt x="12" y="60"/>
                      </a:cubicBezTo>
                      <a:cubicBezTo>
                        <a:pt x="17" y="56"/>
                        <a:pt x="25" y="53"/>
                        <a:pt x="29" y="59"/>
                      </a:cubicBezTo>
                      <a:cubicBezTo>
                        <a:pt x="29" y="62"/>
                        <a:pt x="32" y="60"/>
                        <a:pt x="34" y="61"/>
                      </a:cubicBezTo>
                      <a:cubicBezTo>
                        <a:pt x="39" y="60"/>
                        <a:pt x="42" y="57"/>
                        <a:pt x="47" y="55"/>
                      </a:cubicBezTo>
                      <a:cubicBezTo>
                        <a:pt x="46" y="56"/>
                        <a:pt x="50" y="53"/>
                        <a:pt x="47" y="53"/>
                      </a:cubicBezTo>
                      <a:cubicBezTo>
                        <a:pt x="49" y="51"/>
                        <a:pt x="47" y="46"/>
                        <a:pt x="47" y="46"/>
                      </a:cubicBezTo>
                      <a:lnTo>
                        <a:pt x="52" y="40"/>
                      </a:lnTo>
                      <a:lnTo>
                        <a:pt x="45" y="31"/>
                      </a:lnTo>
                      <a:lnTo>
                        <a:pt x="48" y="24"/>
                      </a:lnTo>
                      <a:lnTo>
                        <a:pt x="45" y="17"/>
                      </a:lnTo>
                      <a:lnTo>
                        <a:pt x="40" y="21"/>
                      </a:lnTo>
                      <a:lnTo>
                        <a:pt x="30" y="16"/>
                      </a:lnTo>
                      <a:cubicBezTo>
                        <a:pt x="33" y="10"/>
                        <a:pt x="28" y="10"/>
                        <a:pt x="24" y="8"/>
                      </a:cubicBezTo>
                      <a:lnTo>
                        <a:pt x="21" y="0"/>
                      </a:lnTo>
                      <a:lnTo>
                        <a:pt x="3" y="1"/>
                      </a:lnTo>
                      <a:lnTo>
                        <a:pt x="0" y="13"/>
                      </a:lnTo>
                      <a:cubicBezTo>
                        <a:pt x="9" y="19"/>
                        <a:pt x="7" y="18"/>
                        <a:pt x="17" y="24"/>
                      </a:cubicBezTo>
                      <a:cubicBezTo>
                        <a:pt x="18" y="23"/>
                        <a:pt x="16" y="49"/>
                        <a:pt x="4" y="56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768800" y="5876640"/>
                  <a:ext cx="28080" cy="1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635160" y="3552480"/>
                  <a:ext cx="942840" cy="80964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89" y="44"/>
                      </a:moveTo>
                      <a:cubicBezTo>
                        <a:pt x="90" y="41"/>
                        <a:pt x="88" y="40"/>
                        <a:pt x="84" y="38"/>
                      </a:cubicBezTo>
                      <a:cubicBezTo>
                        <a:pt x="84" y="35"/>
                        <a:pt x="88" y="33"/>
                        <a:pt x="88" y="31"/>
                      </a:cubicBezTo>
                      <a:cubicBezTo>
                        <a:pt x="90" y="25"/>
                        <a:pt x="85" y="9"/>
                        <a:pt x="81" y="6"/>
                      </a:cubicBezTo>
                      <a:lnTo>
                        <a:pt x="64" y="12"/>
                      </a:lnTo>
                      <a:lnTo>
                        <a:pt x="63" y="8"/>
                      </a:lnTo>
                      <a:cubicBezTo>
                        <a:pt x="60" y="9"/>
                        <a:pt x="55" y="7"/>
                        <a:pt x="53" y="9"/>
                      </a:cubicBezTo>
                      <a:cubicBezTo>
                        <a:pt x="40" y="20"/>
                        <a:pt x="35" y="13"/>
                        <a:pt x="36" y="7"/>
                      </a:cubicBezTo>
                      <a:cubicBezTo>
                        <a:pt x="36" y="4"/>
                        <a:pt x="44" y="4"/>
                        <a:pt x="44" y="3"/>
                      </a:cubicBezTo>
                      <a:cubicBezTo>
                        <a:pt x="34" y="0"/>
                        <a:pt x="13" y="14"/>
                        <a:pt x="7" y="19"/>
                      </a:cubicBezTo>
                      <a:cubicBezTo>
                        <a:pt x="6" y="21"/>
                        <a:pt x="2" y="25"/>
                        <a:pt x="1" y="26"/>
                      </a:cubicBezTo>
                      <a:lnTo>
                        <a:pt x="2" y="32"/>
                      </a:lnTo>
                      <a:cubicBezTo>
                        <a:pt x="3" y="33"/>
                        <a:pt x="1" y="35"/>
                        <a:pt x="0" y="38"/>
                      </a:cubicBezTo>
                      <a:lnTo>
                        <a:pt x="6" y="47"/>
                      </a:lnTo>
                      <a:cubicBezTo>
                        <a:pt x="7" y="51"/>
                        <a:pt x="6" y="55"/>
                        <a:pt x="9" y="62"/>
                      </a:cubicBezTo>
                      <a:cubicBezTo>
                        <a:pt x="11" y="69"/>
                        <a:pt x="19" y="70"/>
                        <a:pt x="24" y="68"/>
                      </a:cubicBezTo>
                      <a:lnTo>
                        <a:pt x="27" y="72"/>
                      </a:lnTo>
                      <a:cubicBezTo>
                        <a:pt x="27" y="73"/>
                        <a:pt x="26" y="74"/>
                        <a:pt x="27" y="75"/>
                      </a:cubicBezTo>
                      <a:cubicBezTo>
                        <a:pt x="28" y="75"/>
                        <a:pt x="30" y="73"/>
                        <a:pt x="30" y="72"/>
                      </a:cubicBezTo>
                      <a:cubicBezTo>
                        <a:pt x="35" y="72"/>
                        <a:pt x="39" y="73"/>
                        <a:pt x="40" y="78"/>
                      </a:cubicBezTo>
                      <a:lnTo>
                        <a:pt x="45" y="79"/>
                      </a:lnTo>
                      <a:cubicBezTo>
                        <a:pt x="48" y="81"/>
                        <a:pt x="48" y="82"/>
                        <a:pt x="52" y="83"/>
                      </a:cubicBezTo>
                      <a:lnTo>
                        <a:pt x="58" y="82"/>
                      </a:lnTo>
                      <a:lnTo>
                        <a:pt x="63" y="85"/>
                      </a:lnTo>
                      <a:lnTo>
                        <a:pt x="67" y="82"/>
                      </a:lnTo>
                      <a:lnTo>
                        <a:pt x="72" y="81"/>
                      </a:lnTo>
                      <a:cubicBezTo>
                        <a:pt x="74" y="81"/>
                        <a:pt x="77" y="80"/>
                        <a:pt x="78" y="81"/>
                      </a:cubicBezTo>
                      <a:cubicBezTo>
                        <a:pt x="79" y="82"/>
                        <a:pt x="76" y="84"/>
                        <a:pt x="77" y="84"/>
                      </a:cubicBezTo>
                      <a:lnTo>
                        <a:pt x="88" y="84"/>
                      </a:lnTo>
                      <a:lnTo>
                        <a:pt x="87" y="79"/>
                      </a:lnTo>
                      <a:lnTo>
                        <a:pt x="99" y="60"/>
                      </a:lnTo>
                      <a:cubicBezTo>
                        <a:pt x="97" y="58"/>
                        <a:pt x="95" y="50"/>
                        <a:pt x="93" y="48"/>
                      </a:cubicBezTo>
                      <a:lnTo>
                        <a:pt x="89" y="44"/>
                      </a:lnTo>
                    </a:path>
                  </a:pathLst>
                </a:custGeom>
                <a:solidFill>
                  <a:srgbClr val="72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082920" y="3171600"/>
                  <a:ext cx="675720" cy="438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65" y="38"/>
                      </a:moveTo>
                      <a:cubicBezTo>
                        <a:pt x="71" y="40"/>
                        <a:pt x="66" y="33"/>
                        <a:pt x="63" y="37"/>
                      </a:cubicBezTo>
                      <a:cubicBezTo>
                        <a:pt x="61" y="40"/>
                        <a:pt x="63" y="40"/>
                        <a:pt x="65" y="38"/>
                      </a:cubicBezTo>
                      <a:moveTo>
                        <a:pt x="30" y="36"/>
                      </a:moveTo>
                      <a:cubicBezTo>
                        <a:pt x="30" y="24"/>
                        <a:pt x="30" y="28"/>
                        <a:pt x="35" y="26"/>
                      </a:cubicBezTo>
                      <a:cubicBezTo>
                        <a:pt x="36" y="26"/>
                        <a:pt x="37" y="18"/>
                        <a:pt x="41" y="20"/>
                      </a:cubicBezTo>
                      <a:cubicBezTo>
                        <a:pt x="39" y="21"/>
                        <a:pt x="41" y="28"/>
                        <a:pt x="39" y="30"/>
                      </a:cubicBezTo>
                      <a:cubicBezTo>
                        <a:pt x="39" y="32"/>
                        <a:pt x="42" y="33"/>
                        <a:pt x="42" y="35"/>
                      </a:cubicBezTo>
                      <a:cubicBezTo>
                        <a:pt x="34" y="40"/>
                        <a:pt x="42" y="36"/>
                        <a:pt x="30" y="36"/>
                      </a:cubicBezTo>
                      <a:moveTo>
                        <a:pt x="41" y="40"/>
                      </a:moveTo>
                      <a:cubicBezTo>
                        <a:pt x="39" y="42"/>
                        <a:pt x="38" y="44"/>
                        <a:pt x="38" y="46"/>
                      </a:cubicBezTo>
                      <a:cubicBezTo>
                        <a:pt x="35" y="46"/>
                        <a:pt x="40" y="44"/>
                        <a:pt x="37" y="43"/>
                      </a:cubicBezTo>
                      <a:cubicBezTo>
                        <a:pt x="37" y="42"/>
                        <a:pt x="28" y="41"/>
                        <a:pt x="41" y="40"/>
                      </a:cubicBezTo>
                      <a:moveTo>
                        <a:pt x="29" y="40"/>
                      </a:moveTo>
                      <a:cubicBezTo>
                        <a:pt x="29" y="40"/>
                        <a:pt x="27" y="42"/>
                        <a:pt x="27" y="42"/>
                      </a:cubicBezTo>
                      <a:cubicBezTo>
                        <a:pt x="30" y="44"/>
                        <a:pt x="27" y="46"/>
                        <a:pt x="30" y="46"/>
                      </a:cubicBezTo>
                      <a:cubicBezTo>
                        <a:pt x="30" y="44"/>
                        <a:pt x="31" y="45"/>
                        <a:pt x="33" y="43"/>
                      </a:cubicBezTo>
                      <a:cubicBezTo>
                        <a:pt x="32" y="43"/>
                        <a:pt x="27" y="39"/>
                        <a:pt x="29" y="40"/>
                      </a:cubicBezTo>
                      <a:moveTo>
                        <a:pt x="20" y="38"/>
                      </a:moveTo>
                      <a:lnTo>
                        <a:pt x="26" y="39"/>
                      </a:lnTo>
                      <a:cubicBezTo>
                        <a:pt x="26" y="37"/>
                        <a:pt x="26" y="31"/>
                        <a:pt x="25" y="29"/>
                      </a:cubicBezTo>
                      <a:cubicBezTo>
                        <a:pt x="22" y="29"/>
                        <a:pt x="17" y="35"/>
                        <a:pt x="20" y="38"/>
                      </a:cubicBezTo>
                      <a:moveTo>
                        <a:pt x="18" y="42"/>
                      </a:moveTo>
                      <a:lnTo>
                        <a:pt x="12" y="43"/>
                      </a:lnTo>
                      <a:lnTo>
                        <a:pt x="6" y="42"/>
                      </a:lnTo>
                      <a:cubicBezTo>
                        <a:pt x="6" y="39"/>
                        <a:pt x="5" y="37"/>
                        <a:pt x="5" y="35"/>
                      </a:cubicBezTo>
                      <a:cubicBezTo>
                        <a:pt x="1" y="32"/>
                        <a:pt x="2" y="19"/>
                        <a:pt x="1" y="14"/>
                      </a:cubicBezTo>
                      <a:cubicBezTo>
                        <a:pt x="8" y="17"/>
                        <a:pt x="12" y="15"/>
                        <a:pt x="15" y="12"/>
                      </a:cubicBezTo>
                      <a:cubicBezTo>
                        <a:pt x="15" y="11"/>
                        <a:pt x="9" y="8"/>
                        <a:pt x="5" y="11"/>
                      </a:cubicBezTo>
                      <a:cubicBezTo>
                        <a:pt x="0" y="14"/>
                        <a:pt x="7" y="5"/>
                        <a:pt x="6" y="5"/>
                      </a:cubicBezTo>
                      <a:cubicBezTo>
                        <a:pt x="8" y="5"/>
                        <a:pt x="14" y="5"/>
                        <a:pt x="16" y="5"/>
                      </a:cubicBezTo>
                      <a:cubicBezTo>
                        <a:pt x="16" y="2"/>
                        <a:pt x="18" y="1"/>
                        <a:pt x="20" y="0"/>
                      </a:cubicBezTo>
                      <a:cubicBezTo>
                        <a:pt x="21" y="3"/>
                        <a:pt x="19" y="10"/>
                        <a:pt x="18" y="13"/>
                      </a:cubicBezTo>
                      <a:cubicBezTo>
                        <a:pt x="19" y="15"/>
                        <a:pt x="26" y="15"/>
                        <a:pt x="27" y="17"/>
                      </a:cubicBezTo>
                      <a:cubicBezTo>
                        <a:pt x="26" y="17"/>
                        <a:pt x="21" y="20"/>
                        <a:pt x="20" y="20"/>
                      </a:cubicBezTo>
                      <a:cubicBezTo>
                        <a:pt x="21" y="23"/>
                        <a:pt x="16" y="34"/>
                        <a:pt x="12" y="37"/>
                      </a:cubicBezTo>
                      <a:cubicBezTo>
                        <a:pt x="9" y="40"/>
                        <a:pt x="12" y="37"/>
                        <a:pt x="12" y="39"/>
                      </a:cubicBezTo>
                      <a:cubicBezTo>
                        <a:pt x="13" y="39"/>
                        <a:pt x="15" y="40"/>
                        <a:pt x="18" y="42"/>
                      </a:cubicBez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901840" y="3552480"/>
                  <a:ext cx="799560" cy="1104840"/>
                </a:xfrm>
                <a:custGeom>
                  <a:avLst/>
                  <a:gdLst/>
                  <a:ahLst/>
                  <a:rect l="l" t="t" r="r" b="b"/>
                  <a:pathLst>
                    <a:path w="84" h="116">
                      <a:moveTo>
                        <a:pt x="56" y="71"/>
                      </a:moveTo>
                      <a:cubicBezTo>
                        <a:pt x="64" y="67"/>
                        <a:pt x="73" y="67"/>
                        <a:pt x="78" y="56"/>
                      </a:cubicBezTo>
                      <a:lnTo>
                        <a:pt x="83" y="58"/>
                      </a:lnTo>
                      <a:cubicBezTo>
                        <a:pt x="84" y="56"/>
                        <a:pt x="83" y="55"/>
                        <a:pt x="82" y="51"/>
                      </a:cubicBezTo>
                      <a:lnTo>
                        <a:pt x="81" y="41"/>
                      </a:lnTo>
                      <a:lnTo>
                        <a:pt x="75" y="32"/>
                      </a:lnTo>
                      <a:cubicBezTo>
                        <a:pt x="75" y="30"/>
                        <a:pt x="76" y="28"/>
                        <a:pt x="77" y="26"/>
                      </a:cubicBezTo>
                      <a:lnTo>
                        <a:pt x="75" y="16"/>
                      </a:lnTo>
                      <a:cubicBezTo>
                        <a:pt x="75" y="14"/>
                        <a:pt x="67" y="12"/>
                        <a:pt x="70" y="11"/>
                      </a:cubicBezTo>
                      <a:cubicBezTo>
                        <a:pt x="73" y="9"/>
                        <a:pt x="69" y="4"/>
                        <a:pt x="68" y="3"/>
                      </a:cubicBezTo>
                      <a:cubicBezTo>
                        <a:pt x="67" y="2"/>
                        <a:pt x="66" y="0"/>
                        <a:pt x="64" y="3"/>
                      </a:cubicBezTo>
                      <a:cubicBezTo>
                        <a:pt x="62" y="6"/>
                        <a:pt x="70" y="4"/>
                        <a:pt x="65" y="9"/>
                      </a:cubicBezTo>
                      <a:cubicBezTo>
                        <a:pt x="60" y="13"/>
                        <a:pt x="55" y="12"/>
                        <a:pt x="53" y="11"/>
                      </a:cubicBezTo>
                      <a:cubicBezTo>
                        <a:pt x="53" y="11"/>
                        <a:pt x="52" y="15"/>
                        <a:pt x="52" y="16"/>
                      </a:cubicBezTo>
                      <a:lnTo>
                        <a:pt x="47" y="15"/>
                      </a:lnTo>
                      <a:lnTo>
                        <a:pt x="47" y="12"/>
                      </a:lnTo>
                      <a:cubicBezTo>
                        <a:pt x="44" y="11"/>
                        <a:pt x="39" y="9"/>
                        <a:pt x="36" y="9"/>
                      </a:cubicBezTo>
                      <a:cubicBezTo>
                        <a:pt x="36" y="6"/>
                        <a:pt x="38" y="5"/>
                        <a:pt x="37" y="2"/>
                      </a:cubicBezTo>
                      <a:lnTo>
                        <a:pt x="30" y="3"/>
                      </a:lnTo>
                      <a:lnTo>
                        <a:pt x="25" y="2"/>
                      </a:lnTo>
                      <a:cubicBezTo>
                        <a:pt x="25" y="5"/>
                        <a:pt x="28" y="11"/>
                        <a:pt x="29" y="12"/>
                      </a:cubicBezTo>
                      <a:cubicBezTo>
                        <a:pt x="29" y="13"/>
                        <a:pt x="28" y="15"/>
                        <a:pt x="28" y="16"/>
                      </a:cubicBezTo>
                      <a:cubicBezTo>
                        <a:pt x="28" y="16"/>
                        <a:pt x="26" y="18"/>
                        <a:pt x="26" y="18"/>
                      </a:cubicBezTo>
                      <a:lnTo>
                        <a:pt x="25" y="16"/>
                      </a:lnTo>
                      <a:cubicBezTo>
                        <a:pt x="25" y="17"/>
                        <a:pt x="25" y="23"/>
                        <a:pt x="23" y="23"/>
                      </a:cubicBezTo>
                      <a:lnTo>
                        <a:pt x="21" y="23"/>
                      </a:lnTo>
                      <a:cubicBezTo>
                        <a:pt x="20" y="23"/>
                        <a:pt x="17" y="19"/>
                        <a:pt x="16" y="18"/>
                      </a:cubicBezTo>
                      <a:lnTo>
                        <a:pt x="12" y="22"/>
                      </a:lnTo>
                      <a:lnTo>
                        <a:pt x="14" y="30"/>
                      </a:lnTo>
                      <a:lnTo>
                        <a:pt x="9" y="36"/>
                      </a:lnTo>
                      <a:lnTo>
                        <a:pt x="11" y="39"/>
                      </a:lnTo>
                      <a:lnTo>
                        <a:pt x="1" y="47"/>
                      </a:lnTo>
                      <a:cubicBezTo>
                        <a:pt x="1" y="47"/>
                        <a:pt x="0" y="63"/>
                        <a:pt x="0" y="64"/>
                      </a:cubicBezTo>
                      <a:lnTo>
                        <a:pt x="4" y="77"/>
                      </a:lnTo>
                      <a:cubicBezTo>
                        <a:pt x="5" y="78"/>
                        <a:pt x="7" y="80"/>
                        <a:pt x="7" y="81"/>
                      </a:cubicBezTo>
                      <a:cubicBezTo>
                        <a:pt x="7" y="83"/>
                        <a:pt x="7" y="83"/>
                        <a:pt x="6" y="84"/>
                      </a:cubicBezTo>
                      <a:cubicBezTo>
                        <a:pt x="11" y="87"/>
                        <a:pt x="16" y="84"/>
                        <a:pt x="20" y="90"/>
                      </a:cubicBezTo>
                      <a:lnTo>
                        <a:pt x="20" y="92"/>
                      </a:lnTo>
                      <a:cubicBezTo>
                        <a:pt x="18" y="100"/>
                        <a:pt x="12" y="102"/>
                        <a:pt x="14" y="112"/>
                      </a:cubicBezTo>
                      <a:cubicBezTo>
                        <a:pt x="15" y="112"/>
                        <a:pt x="21" y="111"/>
                        <a:pt x="21" y="110"/>
                      </a:cubicBezTo>
                      <a:lnTo>
                        <a:pt x="20" y="108"/>
                      </a:lnTo>
                      <a:cubicBezTo>
                        <a:pt x="21" y="104"/>
                        <a:pt x="28" y="110"/>
                        <a:pt x="30" y="111"/>
                      </a:cubicBezTo>
                      <a:cubicBezTo>
                        <a:pt x="31" y="111"/>
                        <a:pt x="33" y="110"/>
                        <a:pt x="35" y="110"/>
                      </a:cubicBezTo>
                      <a:lnTo>
                        <a:pt x="41" y="116"/>
                      </a:lnTo>
                      <a:cubicBezTo>
                        <a:pt x="44" y="113"/>
                        <a:pt x="47" y="111"/>
                        <a:pt x="49" y="111"/>
                      </a:cubicBezTo>
                      <a:cubicBezTo>
                        <a:pt x="55" y="109"/>
                        <a:pt x="62" y="109"/>
                        <a:pt x="67" y="108"/>
                      </a:cubicBezTo>
                      <a:cubicBezTo>
                        <a:pt x="67" y="107"/>
                        <a:pt x="65" y="105"/>
                        <a:pt x="64" y="105"/>
                      </a:cubicBezTo>
                      <a:cubicBezTo>
                        <a:pt x="67" y="101"/>
                        <a:pt x="76" y="95"/>
                        <a:pt x="80" y="95"/>
                      </a:cubicBezTo>
                      <a:lnTo>
                        <a:pt x="78" y="92"/>
                      </a:lnTo>
                      <a:cubicBezTo>
                        <a:pt x="77" y="91"/>
                        <a:pt x="75" y="92"/>
                        <a:pt x="71" y="87"/>
                      </a:cubicBezTo>
                      <a:cubicBezTo>
                        <a:pt x="66" y="81"/>
                        <a:pt x="63" y="75"/>
                        <a:pt x="63" y="75"/>
                      </a:cubicBezTo>
                      <a:lnTo>
                        <a:pt x="56" y="71"/>
                      </a:ln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673240" y="3752640"/>
                  <a:ext cx="361440" cy="409680"/>
                </a:xfrm>
                <a:custGeom>
                  <a:avLst/>
                  <a:gdLst/>
                  <a:ahLst/>
                  <a:rect l="l" t="t" r="r" b="b"/>
                  <a:pathLst>
                    <a:path w="38" h="43">
                      <a:moveTo>
                        <a:pt x="24" y="26"/>
                      </a:moveTo>
                      <a:lnTo>
                        <a:pt x="35" y="18"/>
                      </a:lnTo>
                      <a:lnTo>
                        <a:pt x="33" y="15"/>
                      </a:lnTo>
                      <a:lnTo>
                        <a:pt x="38" y="9"/>
                      </a:lnTo>
                      <a:lnTo>
                        <a:pt x="36" y="3"/>
                      </a:lnTo>
                      <a:cubicBezTo>
                        <a:pt x="36" y="0"/>
                        <a:pt x="25" y="1"/>
                        <a:pt x="20" y="5"/>
                      </a:cubicBezTo>
                      <a:cubicBezTo>
                        <a:pt x="20" y="8"/>
                        <a:pt x="24" y="9"/>
                        <a:pt x="20" y="15"/>
                      </a:cubicBezTo>
                      <a:lnTo>
                        <a:pt x="17" y="15"/>
                      </a:lnTo>
                      <a:lnTo>
                        <a:pt x="16" y="14"/>
                      </a:lnTo>
                      <a:cubicBezTo>
                        <a:pt x="16" y="14"/>
                        <a:pt x="19" y="11"/>
                        <a:pt x="18" y="10"/>
                      </a:cubicBezTo>
                      <a:cubicBezTo>
                        <a:pt x="18" y="10"/>
                        <a:pt x="17" y="9"/>
                        <a:pt x="16" y="8"/>
                      </a:cubicBezTo>
                      <a:cubicBezTo>
                        <a:pt x="14" y="8"/>
                        <a:pt x="12" y="8"/>
                        <a:pt x="12" y="8"/>
                      </a:cubicBezTo>
                      <a:cubicBezTo>
                        <a:pt x="10" y="12"/>
                        <a:pt x="11" y="18"/>
                        <a:pt x="7" y="22"/>
                      </a:cubicBezTo>
                      <a:cubicBezTo>
                        <a:pt x="5" y="24"/>
                        <a:pt x="0" y="27"/>
                        <a:pt x="0" y="30"/>
                      </a:cubicBezTo>
                      <a:lnTo>
                        <a:pt x="4" y="32"/>
                      </a:lnTo>
                      <a:lnTo>
                        <a:pt x="10" y="30"/>
                      </a:lnTo>
                      <a:lnTo>
                        <a:pt x="21" y="36"/>
                      </a:lnTo>
                      <a:lnTo>
                        <a:pt x="20" y="41"/>
                      </a:lnTo>
                      <a:cubicBezTo>
                        <a:pt x="22" y="41"/>
                        <a:pt x="23" y="41"/>
                        <a:pt x="24" y="43"/>
                      </a:cubicBezTo>
                      <a:lnTo>
                        <a:pt x="24" y="26"/>
                      </a:ln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873480" y="4400280"/>
                  <a:ext cx="618480" cy="447840"/>
                </a:xfrm>
                <a:custGeom>
                  <a:avLst/>
                  <a:gdLst/>
                  <a:ahLst/>
                  <a:rect l="l" t="t" r="r" b="b"/>
                  <a:pathLst>
                    <a:path w="65" h="47">
                      <a:moveTo>
                        <a:pt x="55" y="25"/>
                      </a:moveTo>
                      <a:cubicBezTo>
                        <a:pt x="59" y="19"/>
                        <a:pt x="61" y="12"/>
                        <a:pt x="65" y="8"/>
                      </a:cubicBezTo>
                      <a:lnTo>
                        <a:pt x="55" y="3"/>
                      </a:lnTo>
                      <a:cubicBezTo>
                        <a:pt x="49" y="0"/>
                        <a:pt x="47" y="0"/>
                        <a:pt x="42" y="2"/>
                      </a:cubicBezTo>
                      <a:cubicBezTo>
                        <a:pt x="42" y="12"/>
                        <a:pt x="24" y="7"/>
                        <a:pt x="24" y="14"/>
                      </a:cubicBezTo>
                      <a:cubicBezTo>
                        <a:pt x="19" y="16"/>
                        <a:pt x="13" y="18"/>
                        <a:pt x="8" y="13"/>
                      </a:cubicBezTo>
                      <a:cubicBezTo>
                        <a:pt x="8" y="14"/>
                        <a:pt x="7" y="14"/>
                        <a:pt x="7" y="16"/>
                      </a:cubicBezTo>
                      <a:cubicBezTo>
                        <a:pt x="4" y="16"/>
                        <a:pt x="2" y="17"/>
                        <a:pt x="0" y="19"/>
                      </a:cubicBezTo>
                      <a:lnTo>
                        <a:pt x="4" y="22"/>
                      </a:lnTo>
                      <a:cubicBezTo>
                        <a:pt x="4" y="26"/>
                        <a:pt x="3" y="30"/>
                        <a:pt x="0" y="33"/>
                      </a:cubicBezTo>
                      <a:lnTo>
                        <a:pt x="12" y="47"/>
                      </a:lnTo>
                      <a:lnTo>
                        <a:pt x="28" y="42"/>
                      </a:lnTo>
                      <a:lnTo>
                        <a:pt x="46" y="40"/>
                      </a:lnTo>
                      <a:cubicBezTo>
                        <a:pt x="45" y="40"/>
                        <a:pt x="54" y="36"/>
                        <a:pt x="53" y="36"/>
                      </a:cubicBezTo>
                      <a:cubicBezTo>
                        <a:pt x="55" y="32"/>
                        <a:pt x="56" y="31"/>
                        <a:pt x="55" y="25"/>
                      </a:cubicBez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892120" y="4686120"/>
                  <a:ext cx="1295280" cy="1523880"/>
                </a:xfrm>
                <a:custGeom>
                  <a:avLst/>
                  <a:gdLst/>
                  <a:ahLst/>
                  <a:rect l="l" t="t" r="r" b="b"/>
                  <a:pathLst>
                    <a:path w="136" h="160">
                      <a:moveTo>
                        <a:pt x="18" y="105"/>
                      </a:moveTo>
                      <a:cubicBezTo>
                        <a:pt x="21" y="111"/>
                        <a:pt x="17" y="119"/>
                        <a:pt x="19" y="124"/>
                      </a:cubicBezTo>
                      <a:cubicBezTo>
                        <a:pt x="27" y="124"/>
                        <a:pt x="24" y="116"/>
                        <a:pt x="29" y="121"/>
                      </a:cubicBezTo>
                      <a:cubicBezTo>
                        <a:pt x="30" y="119"/>
                        <a:pt x="31" y="114"/>
                        <a:pt x="32" y="112"/>
                      </a:cubicBezTo>
                      <a:cubicBezTo>
                        <a:pt x="30" y="107"/>
                        <a:pt x="27" y="105"/>
                        <a:pt x="32" y="103"/>
                      </a:cubicBezTo>
                      <a:cubicBezTo>
                        <a:pt x="32" y="99"/>
                        <a:pt x="31" y="94"/>
                        <a:pt x="28" y="90"/>
                      </a:cubicBezTo>
                      <a:cubicBezTo>
                        <a:pt x="18" y="100"/>
                        <a:pt x="18" y="93"/>
                        <a:pt x="18" y="105"/>
                      </a:cubicBezTo>
                      <a:moveTo>
                        <a:pt x="98" y="142"/>
                      </a:moveTo>
                      <a:cubicBezTo>
                        <a:pt x="100" y="140"/>
                        <a:pt x="100" y="137"/>
                        <a:pt x="100" y="135"/>
                      </a:cubicBezTo>
                      <a:cubicBezTo>
                        <a:pt x="90" y="135"/>
                        <a:pt x="84" y="142"/>
                        <a:pt x="75" y="136"/>
                      </a:cubicBezTo>
                      <a:cubicBezTo>
                        <a:pt x="70" y="139"/>
                        <a:pt x="64" y="136"/>
                        <a:pt x="64" y="144"/>
                      </a:cubicBezTo>
                      <a:cubicBezTo>
                        <a:pt x="71" y="151"/>
                        <a:pt x="86" y="154"/>
                        <a:pt x="97" y="160"/>
                      </a:cubicBezTo>
                      <a:cubicBezTo>
                        <a:pt x="102" y="154"/>
                        <a:pt x="97" y="150"/>
                        <a:pt x="98" y="142"/>
                      </a:cubicBezTo>
                      <a:moveTo>
                        <a:pt x="10" y="48"/>
                      </a:moveTo>
                      <a:cubicBezTo>
                        <a:pt x="10" y="51"/>
                        <a:pt x="23" y="40"/>
                        <a:pt x="25" y="40"/>
                      </a:cubicBezTo>
                      <a:cubicBezTo>
                        <a:pt x="26" y="41"/>
                        <a:pt x="31" y="43"/>
                        <a:pt x="33" y="43"/>
                      </a:cubicBezTo>
                      <a:cubicBezTo>
                        <a:pt x="37" y="50"/>
                        <a:pt x="41" y="51"/>
                        <a:pt x="42" y="61"/>
                      </a:cubicBezTo>
                      <a:cubicBezTo>
                        <a:pt x="42" y="68"/>
                        <a:pt x="59" y="75"/>
                        <a:pt x="63" y="79"/>
                      </a:cubicBezTo>
                      <a:cubicBezTo>
                        <a:pt x="66" y="82"/>
                        <a:pt x="71" y="89"/>
                        <a:pt x="76" y="87"/>
                      </a:cubicBezTo>
                      <a:cubicBezTo>
                        <a:pt x="81" y="88"/>
                        <a:pt x="82" y="91"/>
                        <a:pt x="84" y="95"/>
                      </a:cubicBezTo>
                      <a:cubicBezTo>
                        <a:pt x="87" y="97"/>
                        <a:pt x="93" y="98"/>
                        <a:pt x="95" y="98"/>
                      </a:cubicBezTo>
                      <a:cubicBezTo>
                        <a:pt x="95" y="102"/>
                        <a:pt x="96" y="104"/>
                        <a:pt x="97" y="105"/>
                      </a:cubicBezTo>
                      <a:cubicBezTo>
                        <a:pt x="107" y="105"/>
                        <a:pt x="109" y="119"/>
                        <a:pt x="112" y="126"/>
                      </a:cubicBezTo>
                      <a:cubicBezTo>
                        <a:pt x="111" y="126"/>
                        <a:pt x="109" y="128"/>
                        <a:pt x="108" y="128"/>
                      </a:cubicBezTo>
                      <a:cubicBezTo>
                        <a:pt x="108" y="130"/>
                        <a:pt x="107" y="134"/>
                        <a:pt x="106" y="136"/>
                      </a:cubicBezTo>
                      <a:cubicBezTo>
                        <a:pt x="112" y="139"/>
                        <a:pt x="113" y="128"/>
                        <a:pt x="114" y="125"/>
                      </a:cubicBezTo>
                      <a:cubicBezTo>
                        <a:pt x="114" y="123"/>
                        <a:pt x="119" y="121"/>
                        <a:pt x="120" y="120"/>
                      </a:cubicBezTo>
                      <a:cubicBezTo>
                        <a:pt x="120" y="118"/>
                        <a:pt x="119" y="116"/>
                        <a:pt x="119" y="114"/>
                      </a:cubicBezTo>
                      <a:cubicBezTo>
                        <a:pt x="117" y="114"/>
                        <a:pt x="113" y="111"/>
                        <a:pt x="112" y="110"/>
                      </a:cubicBezTo>
                      <a:cubicBezTo>
                        <a:pt x="112" y="107"/>
                        <a:pt x="115" y="99"/>
                        <a:pt x="117" y="97"/>
                      </a:cubicBezTo>
                      <a:cubicBezTo>
                        <a:pt x="122" y="97"/>
                        <a:pt x="130" y="102"/>
                        <a:pt x="133" y="107"/>
                      </a:cubicBezTo>
                      <a:cubicBezTo>
                        <a:pt x="136" y="100"/>
                        <a:pt x="127" y="96"/>
                        <a:pt x="123" y="94"/>
                      </a:cubicBezTo>
                      <a:cubicBezTo>
                        <a:pt x="118" y="92"/>
                        <a:pt x="108" y="87"/>
                        <a:pt x="103" y="84"/>
                      </a:cubicBezTo>
                      <a:cubicBezTo>
                        <a:pt x="103" y="83"/>
                        <a:pt x="105" y="80"/>
                        <a:pt x="106" y="79"/>
                      </a:cubicBezTo>
                      <a:cubicBezTo>
                        <a:pt x="102" y="77"/>
                        <a:pt x="99" y="79"/>
                        <a:pt x="95" y="78"/>
                      </a:cubicBezTo>
                      <a:cubicBezTo>
                        <a:pt x="85" y="76"/>
                        <a:pt x="79" y="68"/>
                        <a:pt x="78" y="60"/>
                      </a:cubicBezTo>
                      <a:cubicBezTo>
                        <a:pt x="76" y="48"/>
                        <a:pt x="57" y="48"/>
                        <a:pt x="63" y="34"/>
                      </a:cubicBezTo>
                      <a:cubicBezTo>
                        <a:pt x="62" y="32"/>
                        <a:pt x="61" y="30"/>
                        <a:pt x="61" y="26"/>
                      </a:cubicBezTo>
                      <a:cubicBezTo>
                        <a:pt x="64" y="23"/>
                        <a:pt x="69" y="21"/>
                        <a:pt x="72" y="18"/>
                      </a:cubicBezTo>
                      <a:cubicBezTo>
                        <a:pt x="74" y="20"/>
                        <a:pt x="77" y="20"/>
                        <a:pt x="79" y="20"/>
                      </a:cubicBezTo>
                      <a:lnTo>
                        <a:pt x="75" y="10"/>
                      </a:lnTo>
                      <a:lnTo>
                        <a:pt x="58" y="0"/>
                      </a:lnTo>
                      <a:lnTo>
                        <a:pt x="48" y="6"/>
                      </a:lnTo>
                      <a:lnTo>
                        <a:pt x="42" y="5"/>
                      </a:lnTo>
                      <a:cubicBezTo>
                        <a:pt x="34" y="8"/>
                        <a:pt x="42" y="9"/>
                        <a:pt x="34" y="11"/>
                      </a:cubicBezTo>
                      <a:cubicBezTo>
                        <a:pt x="33" y="7"/>
                        <a:pt x="30" y="8"/>
                        <a:pt x="29" y="8"/>
                      </a:cubicBezTo>
                      <a:lnTo>
                        <a:pt x="26" y="16"/>
                      </a:lnTo>
                      <a:lnTo>
                        <a:pt x="21" y="8"/>
                      </a:lnTo>
                      <a:lnTo>
                        <a:pt x="18" y="10"/>
                      </a:lnTo>
                      <a:lnTo>
                        <a:pt x="18" y="14"/>
                      </a:lnTo>
                      <a:lnTo>
                        <a:pt x="2" y="17"/>
                      </a:lnTo>
                      <a:lnTo>
                        <a:pt x="9" y="27"/>
                      </a:lnTo>
                      <a:lnTo>
                        <a:pt x="3" y="30"/>
                      </a:lnTo>
                      <a:lnTo>
                        <a:pt x="7" y="34"/>
                      </a:lnTo>
                      <a:cubicBezTo>
                        <a:pt x="2" y="35"/>
                        <a:pt x="0" y="34"/>
                        <a:pt x="0" y="36"/>
                      </a:cubicBezTo>
                      <a:lnTo>
                        <a:pt x="1" y="43"/>
                      </a:lnTo>
                      <a:lnTo>
                        <a:pt x="6" y="48"/>
                      </a:lnTo>
                      <a:lnTo>
                        <a:pt x="10" y="48"/>
                      </a:ln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77800" y="4924080"/>
                  <a:ext cx="1523520" cy="1152720"/>
                </a:xfrm>
                <a:custGeom>
                  <a:avLst/>
                  <a:gdLst/>
                  <a:ahLst/>
                  <a:rect l="l" t="t" r="r" b="b"/>
                  <a:pathLst>
                    <a:path w="160" h="121">
                      <a:moveTo>
                        <a:pt x="116" y="92"/>
                      </a:moveTo>
                      <a:cubicBezTo>
                        <a:pt x="118" y="91"/>
                        <a:pt x="119" y="91"/>
                        <a:pt x="121" y="92"/>
                      </a:cubicBezTo>
                      <a:cubicBezTo>
                        <a:pt x="120" y="93"/>
                        <a:pt x="116" y="95"/>
                        <a:pt x="116" y="92"/>
                      </a:cubicBezTo>
                      <a:moveTo>
                        <a:pt x="148" y="76"/>
                      </a:moveTo>
                      <a:cubicBezTo>
                        <a:pt x="159" y="76"/>
                        <a:pt x="160" y="79"/>
                        <a:pt x="150" y="80"/>
                      </a:cubicBezTo>
                      <a:lnTo>
                        <a:pt x="148" y="76"/>
                      </a:lnTo>
                      <a:moveTo>
                        <a:pt x="129" y="83"/>
                      </a:moveTo>
                      <a:cubicBezTo>
                        <a:pt x="137" y="78"/>
                        <a:pt x="133" y="82"/>
                        <a:pt x="140" y="82"/>
                      </a:cubicBezTo>
                      <a:cubicBezTo>
                        <a:pt x="141" y="85"/>
                        <a:pt x="138" y="88"/>
                        <a:pt x="136" y="90"/>
                      </a:cubicBezTo>
                      <a:cubicBezTo>
                        <a:pt x="130" y="90"/>
                        <a:pt x="128" y="87"/>
                        <a:pt x="129" y="83"/>
                      </a:cubicBezTo>
                      <a:moveTo>
                        <a:pt x="111" y="61"/>
                      </a:moveTo>
                      <a:cubicBezTo>
                        <a:pt x="113" y="59"/>
                        <a:pt x="116" y="59"/>
                        <a:pt x="118" y="59"/>
                      </a:cubicBezTo>
                      <a:cubicBezTo>
                        <a:pt x="122" y="58"/>
                        <a:pt x="129" y="52"/>
                        <a:pt x="133" y="52"/>
                      </a:cubicBezTo>
                      <a:cubicBezTo>
                        <a:pt x="139" y="53"/>
                        <a:pt x="139" y="54"/>
                        <a:pt x="139" y="48"/>
                      </a:cubicBezTo>
                      <a:cubicBezTo>
                        <a:pt x="144" y="47"/>
                        <a:pt x="143" y="48"/>
                        <a:pt x="143" y="44"/>
                      </a:cubicBezTo>
                      <a:lnTo>
                        <a:pt x="128" y="42"/>
                      </a:lnTo>
                      <a:cubicBezTo>
                        <a:pt x="124" y="41"/>
                        <a:pt x="119" y="36"/>
                        <a:pt x="116" y="33"/>
                      </a:cubicBezTo>
                      <a:lnTo>
                        <a:pt x="109" y="36"/>
                      </a:lnTo>
                      <a:cubicBezTo>
                        <a:pt x="103" y="30"/>
                        <a:pt x="105" y="30"/>
                        <a:pt x="100" y="32"/>
                      </a:cubicBezTo>
                      <a:cubicBezTo>
                        <a:pt x="97" y="29"/>
                        <a:pt x="90" y="28"/>
                        <a:pt x="91" y="23"/>
                      </a:cubicBezTo>
                      <a:cubicBezTo>
                        <a:pt x="89" y="23"/>
                        <a:pt x="85" y="21"/>
                        <a:pt x="83" y="20"/>
                      </a:cubicBezTo>
                      <a:cubicBezTo>
                        <a:pt x="75" y="17"/>
                        <a:pt x="68" y="16"/>
                        <a:pt x="60" y="14"/>
                      </a:cubicBezTo>
                      <a:cubicBezTo>
                        <a:pt x="56" y="13"/>
                        <a:pt x="45" y="6"/>
                        <a:pt x="41" y="8"/>
                      </a:cubicBezTo>
                      <a:cubicBezTo>
                        <a:pt x="32" y="4"/>
                        <a:pt x="34" y="8"/>
                        <a:pt x="24" y="1"/>
                      </a:cubicBezTo>
                      <a:cubicBezTo>
                        <a:pt x="20" y="1"/>
                        <a:pt x="21" y="0"/>
                        <a:pt x="19" y="5"/>
                      </a:cubicBezTo>
                      <a:cubicBezTo>
                        <a:pt x="12" y="5"/>
                        <a:pt x="9" y="5"/>
                        <a:pt x="9" y="11"/>
                      </a:cubicBezTo>
                      <a:cubicBezTo>
                        <a:pt x="12" y="17"/>
                        <a:pt x="13" y="14"/>
                        <a:pt x="8" y="21"/>
                      </a:cubicBezTo>
                      <a:lnTo>
                        <a:pt x="17" y="23"/>
                      </a:lnTo>
                      <a:cubicBezTo>
                        <a:pt x="17" y="24"/>
                        <a:pt x="15" y="25"/>
                        <a:pt x="15" y="26"/>
                      </a:cubicBezTo>
                      <a:cubicBezTo>
                        <a:pt x="22" y="29"/>
                        <a:pt x="25" y="29"/>
                        <a:pt x="31" y="33"/>
                      </a:cubicBezTo>
                      <a:lnTo>
                        <a:pt x="32" y="38"/>
                      </a:lnTo>
                      <a:lnTo>
                        <a:pt x="24" y="43"/>
                      </a:lnTo>
                      <a:lnTo>
                        <a:pt x="21" y="63"/>
                      </a:lnTo>
                      <a:lnTo>
                        <a:pt x="14" y="66"/>
                      </a:lnTo>
                      <a:lnTo>
                        <a:pt x="12" y="62"/>
                      </a:lnTo>
                      <a:cubicBezTo>
                        <a:pt x="12" y="62"/>
                        <a:pt x="11" y="64"/>
                        <a:pt x="12" y="66"/>
                      </a:cubicBezTo>
                      <a:cubicBezTo>
                        <a:pt x="13" y="67"/>
                        <a:pt x="15" y="73"/>
                        <a:pt x="15" y="73"/>
                      </a:cubicBezTo>
                      <a:lnTo>
                        <a:pt x="10" y="84"/>
                      </a:lnTo>
                      <a:lnTo>
                        <a:pt x="16" y="86"/>
                      </a:lnTo>
                      <a:cubicBezTo>
                        <a:pt x="14" y="87"/>
                        <a:pt x="10" y="86"/>
                        <a:pt x="9" y="88"/>
                      </a:cubicBezTo>
                      <a:lnTo>
                        <a:pt x="0" y="99"/>
                      </a:lnTo>
                      <a:cubicBezTo>
                        <a:pt x="6" y="105"/>
                        <a:pt x="17" y="107"/>
                        <a:pt x="20" y="116"/>
                      </a:cubicBezTo>
                      <a:cubicBezTo>
                        <a:pt x="20" y="118"/>
                        <a:pt x="25" y="118"/>
                        <a:pt x="26" y="118"/>
                      </a:cubicBezTo>
                      <a:cubicBezTo>
                        <a:pt x="36" y="116"/>
                        <a:pt x="43" y="114"/>
                        <a:pt x="54" y="116"/>
                      </a:cubicBezTo>
                      <a:cubicBezTo>
                        <a:pt x="60" y="116"/>
                        <a:pt x="56" y="121"/>
                        <a:pt x="61" y="116"/>
                      </a:cubicBezTo>
                      <a:cubicBezTo>
                        <a:pt x="67" y="117"/>
                        <a:pt x="76" y="110"/>
                        <a:pt x="82" y="110"/>
                      </a:cubicBezTo>
                      <a:cubicBezTo>
                        <a:pt x="86" y="108"/>
                        <a:pt x="83" y="109"/>
                        <a:pt x="83" y="106"/>
                      </a:cubicBezTo>
                      <a:cubicBezTo>
                        <a:pt x="97" y="96"/>
                        <a:pt x="97" y="101"/>
                        <a:pt x="97" y="93"/>
                      </a:cubicBezTo>
                      <a:cubicBezTo>
                        <a:pt x="96" y="90"/>
                        <a:pt x="92" y="86"/>
                        <a:pt x="93" y="82"/>
                      </a:cubicBezTo>
                      <a:cubicBezTo>
                        <a:pt x="96" y="73"/>
                        <a:pt x="105" y="69"/>
                        <a:pt x="111" y="61"/>
                      </a:cubicBez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739760" y="2314440"/>
                  <a:ext cx="818640" cy="1895400"/>
                </a:xfrm>
                <a:custGeom>
                  <a:avLst/>
                  <a:gdLst/>
                  <a:ahLst/>
                  <a:rect l="l" t="t" r="r" b="b"/>
                  <a:pathLst>
                    <a:path w="86" h="199">
                      <a:moveTo>
                        <a:pt x="36" y="0"/>
                      </a:moveTo>
                      <a:cubicBezTo>
                        <a:pt x="41" y="0"/>
                        <a:pt x="40" y="3"/>
                        <a:pt x="40" y="6"/>
                      </a:cubicBezTo>
                      <a:cubicBezTo>
                        <a:pt x="38" y="6"/>
                        <a:pt x="34" y="3"/>
                        <a:pt x="36" y="0"/>
                      </a:cubicBezTo>
                      <a:moveTo>
                        <a:pt x="73" y="45"/>
                      </a:moveTo>
                      <a:cubicBezTo>
                        <a:pt x="73" y="42"/>
                        <a:pt x="72" y="42"/>
                        <a:pt x="70" y="41"/>
                      </a:cubicBezTo>
                      <a:cubicBezTo>
                        <a:pt x="73" y="37"/>
                        <a:pt x="73" y="38"/>
                        <a:pt x="70" y="36"/>
                      </a:cubicBezTo>
                      <a:cubicBezTo>
                        <a:pt x="72" y="35"/>
                        <a:pt x="74" y="34"/>
                        <a:pt x="76" y="32"/>
                      </a:cubicBezTo>
                      <a:cubicBezTo>
                        <a:pt x="77" y="33"/>
                        <a:pt x="76" y="45"/>
                        <a:pt x="73" y="45"/>
                      </a:cubicBezTo>
                      <a:moveTo>
                        <a:pt x="58" y="59"/>
                      </a:moveTo>
                      <a:cubicBezTo>
                        <a:pt x="55" y="59"/>
                        <a:pt x="54" y="54"/>
                        <a:pt x="57" y="53"/>
                      </a:cubicBezTo>
                      <a:cubicBezTo>
                        <a:pt x="57" y="54"/>
                        <a:pt x="59" y="57"/>
                        <a:pt x="58" y="59"/>
                      </a:cubicBezTo>
                      <a:moveTo>
                        <a:pt x="19" y="69"/>
                      </a:moveTo>
                      <a:cubicBezTo>
                        <a:pt x="16" y="68"/>
                        <a:pt x="13" y="69"/>
                        <a:pt x="12" y="66"/>
                      </a:cubicBezTo>
                      <a:cubicBezTo>
                        <a:pt x="14" y="62"/>
                        <a:pt x="19" y="65"/>
                        <a:pt x="19" y="69"/>
                      </a:cubicBezTo>
                      <a:moveTo>
                        <a:pt x="24" y="65"/>
                      </a:moveTo>
                      <a:cubicBezTo>
                        <a:pt x="25" y="59"/>
                        <a:pt x="25" y="57"/>
                        <a:pt x="33" y="57"/>
                      </a:cubicBezTo>
                      <a:cubicBezTo>
                        <a:pt x="36" y="63"/>
                        <a:pt x="29" y="65"/>
                        <a:pt x="24" y="65"/>
                      </a:cubicBezTo>
                      <a:moveTo>
                        <a:pt x="18" y="78"/>
                      </a:moveTo>
                      <a:cubicBezTo>
                        <a:pt x="16" y="77"/>
                        <a:pt x="14" y="77"/>
                        <a:pt x="16" y="75"/>
                      </a:cubicBezTo>
                      <a:cubicBezTo>
                        <a:pt x="17" y="75"/>
                        <a:pt x="17" y="74"/>
                        <a:pt x="18" y="78"/>
                      </a:cubicBezTo>
                      <a:moveTo>
                        <a:pt x="19" y="104"/>
                      </a:moveTo>
                      <a:cubicBezTo>
                        <a:pt x="19" y="103"/>
                        <a:pt x="22" y="100"/>
                        <a:pt x="22" y="99"/>
                      </a:cubicBezTo>
                      <a:lnTo>
                        <a:pt x="18" y="99"/>
                      </a:lnTo>
                      <a:cubicBezTo>
                        <a:pt x="18" y="100"/>
                        <a:pt x="17" y="102"/>
                        <a:pt x="19" y="104"/>
                      </a:cubicBezTo>
                      <a:moveTo>
                        <a:pt x="26" y="110"/>
                      </a:moveTo>
                      <a:cubicBezTo>
                        <a:pt x="28" y="114"/>
                        <a:pt x="27" y="114"/>
                        <a:pt x="29" y="111"/>
                      </a:cubicBezTo>
                      <a:cubicBezTo>
                        <a:pt x="28" y="110"/>
                        <a:pt x="27" y="110"/>
                        <a:pt x="26" y="110"/>
                      </a:cubicBezTo>
                      <a:moveTo>
                        <a:pt x="30" y="128"/>
                      </a:moveTo>
                      <a:cubicBezTo>
                        <a:pt x="30" y="127"/>
                        <a:pt x="31" y="125"/>
                        <a:pt x="31" y="123"/>
                      </a:cubicBezTo>
                      <a:cubicBezTo>
                        <a:pt x="32" y="123"/>
                        <a:pt x="33" y="124"/>
                        <a:pt x="35" y="124"/>
                      </a:cubicBezTo>
                      <a:cubicBezTo>
                        <a:pt x="33" y="127"/>
                        <a:pt x="33" y="129"/>
                        <a:pt x="30" y="128"/>
                      </a:cubicBezTo>
                      <a:moveTo>
                        <a:pt x="21" y="117"/>
                      </a:moveTo>
                      <a:cubicBezTo>
                        <a:pt x="21" y="114"/>
                        <a:pt x="19" y="112"/>
                        <a:pt x="18" y="110"/>
                      </a:cubicBezTo>
                      <a:cubicBezTo>
                        <a:pt x="16" y="109"/>
                        <a:pt x="16" y="111"/>
                        <a:pt x="14" y="110"/>
                      </a:cubicBezTo>
                      <a:cubicBezTo>
                        <a:pt x="13" y="109"/>
                        <a:pt x="11" y="109"/>
                        <a:pt x="10" y="109"/>
                      </a:cubicBezTo>
                      <a:lnTo>
                        <a:pt x="3" y="116"/>
                      </a:lnTo>
                      <a:cubicBezTo>
                        <a:pt x="3" y="116"/>
                        <a:pt x="6" y="116"/>
                        <a:pt x="5" y="116"/>
                      </a:cubicBezTo>
                      <a:cubicBezTo>
                        <a:pt x="5" y="116"/>
                        <a:pt x="6" y="119"/>
                        <a:pt x="3" y="117"/>
                      </a:cubicBezTo>
                      <a:cubicBezTo>
                        <a:pt x="0" y="116"/>
                        <a:pt x="3" y="120"/>
                        <a:pt x="3" y="120"/>
                      </a:cubicBezTo>
                      <a:cubicBezTo>
                        <a:pt x="2" y="121"/>
                        <a:pt x="7" y="123"/>
                        <a:pt x="7" y="123"/>
                      </a:cubicBezTo>
                      <a:cubicBezTo>
                        <a:pt x="8" y="123"/>
                        <a:pt x="7" y="123"/>
                        <a:pt x="9" y="122"/>
                      </a:cubicBezTo>
                      <a:cubicBezTo>
                        <a:pt x="12" y="125"/>
                        <a:pt x="13" y="128"/>
                        <a:pt x="15" y="131"/>
                      </a:cubicBezTo>
                      <a:lnTo>
                        <a:pt x="22" y="124"/>
                      </a:lnTo>
                      <a:cubicBezTo>
                        <a:pt x="22" y="121"/>
                        <a:pt x="20" y="120"/>
                        <a:pt x="21" y="117"/>
                      </a:cubicBezTo>
                      <a:moveTo>
                        <a:pt x="63" y="128"/>
                      </a:moveTo>
                      <a:cubicBezTo>
                        <a:pt x="64" y="118"/>
                        <a:pt x="63" y="128"/>
                        <a:pt x="58" y="123"/>
                      </a:cubicBezTo>
                      <a:cubicBezTo>
                        <a:pt x="58" y="119"/>
                        <a:pt x="64" y="106"/>
                        <a:pt x="55" y="106"/>
                      </a:cubicBezTo>
                      <a:cubicBezTo>
                        <a:pt x="55" y="105"/>
                        <a:pt x="51" y="103"/>
                        <a:pt x="50" y="103"/>
                      </a:cubicBezTo>
                      <a:cubicBezTo>
                        <a:pt x="50" y="88"/>
                        <a:pt x="83" y="72"/>
                        <a:pt x="43" y="79"/>
                      </a:cubicBezTo>
                      <a:cubicBezTo>
                        <a:pt x="46" y="73"/>
                        <a:pt x="52" y="68"/>
                        <a:pt x="57" y="63"/>
                      </a:cubicBezTo>
                      <a:cubicBezTo>
                        <a:pt x="56" y="61"/>
                        <a:pt x="44" y="62"/>
                        <a:pt x="40" y="62"/>
                      </a:cubicBezTo>
                      <a:cubicBezTo>
                        <a:pt x="37" y="66"/>
                        <a:pt x="32" y="71"/>
                        <a:pt x="29" y="76"/>
                      </a:cubicBezTo>
                      <a:cubicBezTo>
                        <a:pt x="28" y="76"/>
                        <a:pt x="25" y="70"/>
                        <a:pt x="21" y="73"/>
                      </a:cubicBezTo>
                      <a:lnTo>
                        <a:pt x="25" y="79"/>
                      </a:lnTo>
                      <a:lnTo>
                        <a:pt x="29" y="83"/>
                      </a:lnTo>
                      <a:cubicBezTo>
                        <a:pt x="25" y="86"/>
                        <a:pt x="17" y="88"/>
                        <a:pt x="18" y="96"/>
                      </a:cubicBezTo>
                      <a:cubicBezTo>
                        <a:pt x="31" y="96"/>
                        <a:pt x="29" y="96"/>
                        <a:pt x="23" y="110"/>
                      </a:cubicBezTo>
                      <a:cubicBezTo>
                        <a:pt x="32" y="105"/>
                        <a:pt x="32" y="111"/>
                        <a:pt x="26" y="116"/>
                      </a:cubicBezTo>
                      <a:cubicBezTo>
                        <a:pt x="31" y="122"/>
                        <a:pt x="34" y="117"/>
                        <a:pt x="40" y="117"/>
                      </a:cubicBezTo>
                      <a:cubicBezTo>
                        <a:pt x="44" y="120"/>
                        <a:pt x="43" y="123"/>
                        <a:pt x="40" y="127"/>
                      </a:cubicBezTo>
                      <a:cubicBezTo>
                        <a:pt x="44" y="135"/>
                        <a:pt x="48" y="139"/>
                        <a:pt x="42" y="145"/>
                      </a:cubicBezTo>
                      <a:cubicBezTo>
                        <a:pt x="38" y="146"/>
                        <a:pt x="27" y="135"/>
                        <a:pt x="30" y="147"/>
                      </a:cubicBezTo>
                      <a:cubicBezTo>
                        <a:pt x="23" y="147"/>
                        <a:pt x="26" y="149"/>
                        <a:pt x="31" y="152"/>
                      </a:cubicBezTo>
                      <a:cubicBezTo>
                        <a:pt x="31" y="160"/>
                        <a:pt x="24" y="159"/>
                        <a:pt x="19" y="161"/>
                      </a:cubicBezTo>
                      <a:cubicBezTo>
                        <a:pt x="19" y="162"/>
                        <a:pt x="18" y="165"/>
                        <a:pt x="18" y="166"/>
                      </a:cubicBezTo>
                      <a:cubicBezTo>
                        <a:pt x="27" y="166"/>
                        <a:pt x="21" y="169"/>
                        <a:pt x="28" y="169"/>
                      </a:cubicBezTo>
                      <a:cubicBezTo>
                        <a:pt x="28" y="173"/>
                        <a:pt x="32" y="171"/>
                        <a:pt x="34" y="171"/>
                      </a:cubicBezTo>
                      <a:cubicBezTo>
                        <a:pt x="33" y="174"/>
                        <a:pt x="35" y="175"/>
                        <a:pt x="32" y="175"/>
                      </a:cubicBezTo>
                      <a:cubicBezTo>
                        <a:pt x="30" y="175"/>
                        <a:pt x="28" y="174"/>
                        <a:pt x="26" y="174"/>
                      </a:cubicBezTo>
                      <a:cubicBezTo>
                        <a:pt x="18" y="183"/>
                        <a:pt x="30" y="177"/>
                        <a:pt x="7" y="186"/>
                      </a:cubicBezTo>
                      <a:cubicBezTo>
                        <a:pt x="14" y="193"/>
                        <a:pt x="26" y="181"/>
                        <a:pt x="28" y="189"/>
                      </a:cubicBezTo>
                      <a:cubicBezTo>
                        <a:pt x="32" y="184"/>
                        <a:pt x="35" y="182"/>
                        <a:pt x="40" y="187"/>
                      </a:cubicBezTo>
                      <a:cubicBezTo>
                        <a:pt x="43" y="187"/>
                        <a:pt x="47" y="184"/>
                        <a:pt x="50" y="184"/>
                      </a:cubicBezTo>
                      <a:cubicBezTo>
                        <a:pt x="49" y="184"/>
                        <a:pt x="60" y="199"/>
                        <a:pt x="57" y="184"/>
                      </a:cubicBezTo>
                      <a:cubicBezTo>
                        <a:pt x="63" y="187"/>
                        <a:pt x="73" y="187"/>
                        <a:pt x="78" y="181"/>
                      </a:cubicBezTo>
                      <a:cubicBezTo>
                        <a:pt x="78" y="178"/>
                        <a:pt x="72" y="178"/>
                        <a:pt x="70" y="176"/>
                      </a:cubicBezTo>
                      <a:cubicBezTo>
                        <a:pt x="71" y="175"/>
                        <a:pt x="74" y="173"/>
                        <a:pt x="75" y="171"/>
                      </a:cubicBezTo>
                      <a:cubicBezTo>
                        <a:pt x="80" y="171"/>
                        <a:pt x="85" y="166"/>
                        <a:pt x="86" y="163"/>
                      </a:cubicBezTo>
                      <a:cubicBezTo>
                        <a:pt x="82" y="154"/>
                        <a:pt x="76" y="158"/>
                        <a:pt x="69" y="157"/>
                      </a:cubicBezTo>
                      <a:cubicBezTo>
                        <a:pt x="70" y="146"/>
                        <a:pt x="77" y="137"/>
                        <a:pt x="63" y="128"/>
                      </a:cubicBez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330600" y="1380960"/>
                  <a:ext cx="799560" cy="2095560"/>
                </a:xfrm>
                <a:custGeom>
                  <a:avLst/>
                  <a:gdLst/>
                  <a:ahLst/>
                  <a:rect l="l" t="t" r="r" b="b"/>
                  <a:pathLst>
                    <a:path w="84" h="220">
                      <a:moveTo>
                        <a:pt x="50" y="201"/>
                      </a:moveTo>
                      <a:cubicBezTo>
                        <a:pt x="50" y="203"/>
                        <a:pt x="50" y="205"/>
                        <a:pt x="50" y="206"/>
                      </a:cubicBezTo>
                      <a:cubicBezTo>
                        <a:pt x="50" y="208"/>
                        <a:pt x="50" y="208"/>
                        <a:pt x="51" y="207"/>
                      </a:cubicBezTo>
                      <a:cubicBezTo>
                        <a:pt x="51" y="205"/>
                        <a:pt x="52" y="203"/>
                        <a:pt x="52" y="201"/>
                      </a:cubicBezTo>
                      <a:cubicBezTo>
                        <a:pt x="51" y="198"/>
                        <a:pt x="53" y="192"/>
                        <a:pt x="51" y="189"/>
                      </a:cubicBezTo>
                      <a:cubicBezTo>
                        <a:pt x="51" y="190"/>
                        <a:pt x="49" y="201"/>
                        <a:pt x="50" y="201"/>
                      </a:cubicBezTo>
                      <a:moveTo>
                        <a:pt x="67" y="177"/>
                      </a:moveTo>
                      <a:cubicBezTo>
                        <a:pt x="67" y="182"/>
                        <a:pt x="67" y="191"/>
                        <a:pt x="63" y="195"/>
                      </a:cubicBezTo>
                      <a:cubicBezTo>
                        <a:pt x="58" y="192"/>
                        <a:pt x="56" y="177"/>
                        <a:pt x="67" y="177"/>
                      </a:cubicBezTo>
                      <a:moveTo>
                        <a:pt x="73" y="74"/>
                      </a:moveTo>
                      <a:cubicBezTo>
                        <a:pt x="70" y="59"/>
                        <a:pt x="66" y="63"/>
                        <a:pt x="79" y="58"/>
                      </a:cubicBezTo>
                      <a:cubicBezTo>
                        <a:pt x="75" y="52"/>
                        <a:pt x="77" y="53"/>
                        <a:pt x="84" y="46"/>
                      </a:cubicBezTo>
                      <a:lnTo>
                        <a:pt x="84" y="35"/>
                      </a:lnTo>
                      <a:lnTo>
                        <a:pt x="80" y="20"/>
                      </a:lnTo>
                      <a:cubicBezTo>
                        <a:pt x="78" y="5"/>
                        <a:pt x="67" y="11"/>
                        <a:pt x="57" y="0"/>
                      </a:cubicBezTo>
                      <a:cubicBezTo>
                        <a:pt x="56" y="2"/>
                        <a:pt x="55" y="1"/>
                        <a:pt x="54" y="3"/>
                      </a:cubicBezTo>
                      <a:cubicBezTo>
                        <a:pt x="54" y="4"/>
                        <a:pt x="57" y="11"/>
                        <a:pt x="57" y="12"/>
                      </a:cubicBezTo>
                      <a:cubicBezTo>
                        <a:pt x="51" y="15"/>
                        <a:pt x="50" y="13"/>
                        <a:pt x="46" y="10"/>
                      </a:cubicBezTo>
                      <a:lnTo>
                        <a:pt x="40" y="20"/>
                      </a:lnTo>
                      <a:lnTo>
                        <a:pt x="36" y="20"/>
                      </a:lnTo>
                      <a:lnTo>
                        <a:pt x="32" y="26"/>
                      </a:lnTo>
                      <a:lnTo>
                        <a:pt x="35" y="37"/>
                      </a:lnTo>
                      <a:cubicBezTo>
                        <a:pt x="36" y="39"/>
                        <a:pt x="33" y="39"/>
                        <a:pt x="32" y="42"/>
                      </a:cubicBezTo>
                      <a:cubicBezTo>
                        <a:pt x="31" y="57"/>
                        <a:pt x="32" y="53"/>
                        <a:pt x="22" y="64"/>
                      </a:cubicBezTo>
                      <a:cubicBezTo>
                        <a:pt x="27" y="70"/>
                        <a:pt x="18" y="74"/>
                        <a:pt x="22" y="82"/>
                      </a:cubicBezTo>
                      <a:cubicBezTo>
                        <a:pt x="20" y="85"/>
                        <a:pt x="9" y="89"/>
                        <a:pt x="11" y="94"/>
                      </a:cubicBezTo>
                      <a:cubicBezTo>
                        <a:pt x="7" y="103"/>
                        <a:pt x="10" y="123"/>
                        <a:pt x="16" y="129"/>
                      </a:cubicBezTo>
                      <a:cubicBezTo>
                        <a:pt x="15" y="134"/>
                        <a:pt x="14" y="132"/>
                        <a:pt x="10" y="135"/>
                      </a:cubicBezTo>
                      <a:lnTo>
                        <a:pt x="11" y="148"/>
                      </a:lnTo>
                      <a:lnTo>
                        <a:pt x="6" y="151"/>
                      </a:lnTo>
                      <a:lnTo>
                        <a:pt x="6" y="162"/>
                      </a:lnTo>
                      <a:cubicBezTo>
                        <a:pt x="4" y="162"/>
                        <a:pt x="2" y="159"/>
                        <a:pt x="0" y="159"/>
                      </a:cubicBezTo>
                      <a:cubicBezTo>
                        <a:pt x="1" y="168"/>
                        <a:pt x="3" y="180"/>
                        <a:pt x="10" y="187"/>
                      </a:cubicBezTo>
                      <a:cubicBezTo>
                        <a:pt x="8" y="192"/>
                        <a:pt x="9" y="190"/>
                        <a:pt x="13" y="194"/>
                      </a:cubicBezTo>
                      <a:cubicBezTo>
                        <a:pt x="12" y="197"/>
                        <a:pt x="17" y="201"/>
                        <a:pt x="19" y="203"/>
                      </a:cubicBezTo>
                      <a:cubicBezTo>
                        <a:pt x="19" y="203"/>
                        <a:pt x="21" y="219"/>
                        <a:pt x="22" y="220"/>
                      </a:cubicBezTo>
                      <a:cubicBezTo>
                        <a:pt x="23" y="220"/>
                        <a:pt x="27" y="219"/>
                        <a:pt x="28" y="219"/>
                      </a:cubicBezTo>
                      <a:cubicBezTo>
                        <a:pt x="28" y="215"/>
                        <a:pt x="28" y="208"/>
                        <a:pt x="30" y="206"/>
                      </a:cubicBezTo>
                      <a:cubicBezTo>
                        <a:pt x="40" y="211"/>
                        <a:pt x="48" y="193"/>
                        <a:pt x="48" y="187"/>
                      </a:cubicBezTo>
                      <a:cubicBezTo>
                        <a:pt x="48" y="183"/>
                        <a:pt x="44" y="174"/>
                        <a:pt x="46" y="170"/>
                      </a:cubicBezTo>
                      <a:cubicBezTo>
                        <a:pt x="47" y="165"/>
                        <a:pt x="58" y="162"/>
                        <a:pt x="59" y="158"/>
                      </a:cubicBezTo>
                      <a:cubicBezTo>
                        <a:pt x="59" y="156"/>
                        <a:pt x="62" y="150"/>
                        <a:pt x="62" y="148"/>
                      </a:cubicBezTo>
                      <a:cubicBezTo>
                        <a:pt x="56" y="145"/>
                        <a:pt x="56" y="146"/>
                        <a:pt x="60" y="142"/>
                      </a:cubicBezTo>
                      <a:cubicBezTo>
                        <a:pt x="60" y="139"/>
                        <a:pt x="51" y="139"/>
                        <a:pt x="50" y="139"/>
                      </a:cubicBezTo>
                      <a:cubicBezTo>
                        <a:pt x="44" y="137"/>
                        <a:pt x="49" y="123"/>
                        <a:pt x="47" y="118"/>
                      </a:cubicBezTo>
                      <a:cubicBezTo>
                        <a:pt x="50" y="112"/>
                        <a:pt x="73" y="66"/>
                        <a:pt x="73" y="74"/>
                      </a:cubicBezTo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577840" y="4038480"/>
                  <a:ext cx="361800" cy="323640"/>
                </a:xfrm>
                <a:custGeom>
                  <a:avLst/>
                  <a:gdLst/>
                  <a:ahLst/>
                  <a:rect l="l" t="t" r="r" b="b"/>
                  <a:pathLst>
                    <a:path w="38" h="34">
                      <a:moveTo>
                        <a:pt x="0" y="4"/>
                      </a:moveTo>
                      <a:cubicBezTo>
                        <a:pt x="1" y="8"/>
                        <a:pt x="4" y="7"/>
                        <a:pt x="6" y="8"/>
                      </a:cubicBezTo>
                      <a:lnTo>
                        <a:pt x="8" y="12"/>
                      </a:lnTo>
                      <a:cubicBezTo>
                        <a:pt x="11" y="14"/>
                        <a:pt x="11" y="15"/>
                        <a:pt x="15" y="17"/>
                      </a:cubicBezTo>
                      <a:cubicBezTo>
                        <a:pt x="15" y="18"/>
                        <a:pt x="15" y="21"/>
                        <a:pt x="15" y="22"/>
                      </a:cubicBezTo>
                      <a:cubicBezTo>
                        <a:pt x="19" y="23"/>
                        <a:pt x="17" y="24"/>
                        <a:pt x="21" y="27"/>
                      </a:cubicBezTo>
                      <a:cubicBezTo>
                        <a:pt x="24" y="29"/>
                        <a:pt x="27" y="30"/>
                        <a:pt x="27" y="34"/>
                      </a:cubicBezTo>
                      <a:lnTo>
                        <a:pt x="37" y="22"/>
                      </a:lnTo>
                      <a:cubicBezTo>
                        <a:pt x="38" y="19"/>
                        <a:pt x="38" y="6"/>
                        <a:pt x="30" y="11"/>
                      </a:cubicBezTo>
                      <a:lnTo>
                        <a:pt x="31" y="5"/>
                      </a:lnTo>
                      <a:lnTo>
                        <a:pt x="20" y="0"/>
                      </a:ln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20960" y="5267160"/>
                  <a:ext cx="999720" cy="1038240"/>
                </a:xfrm>
                <a:custGeom>
                  <a:avLst/>
                  <a:gdLst/>
                  <a:ahLst/>
                  <a:rect l="l" t="t" r="r" b="b"/>
                  <a:pathLst>
                    <a:path w="105" h="109">
                      <a:moveTo>
                        <a:pt x="100" y="97"/>
                      </a:moveTo>
                      <a:cubicBezTo>
                        <a:pt x="101" y="98"/>
                        <a:pt x="103" y="98"/>
                        <a:pt x="103" y="98"/>
                      </a:cubicBezTo>
                      <a:cubicBezTo>
                        <a:pt x="105" y="97"/>
                        <a:pt x="103" y="95"/>
                        <a:pt x="101" y="94"/>
                      </a:cubicBezTo>
                      <a:cubicBezTo>
                        <a:pt x="99" y="92"/>
                        <a:pt x="99" y="90"/>
                        <a:pt x="100" y="97"/>
                      </a:cubicBezTo>
                      <a:moveTo>
                        <a:pt x="76" y="54"/>
                      </a:moveTo>
                      <a:cubicBezTo>
                        <a:pt x="77" y="52"/>
                        <a:pt x="80" y="49"/>
                        <a:pt x="79" y="54"/>
                      </a:cubicBezTo>
                      <a:cubicBezTo>
                        <a:pt x="79" y="58"/>
                        <a:pt x="77" y="59"/>
                        <a:pt x="76" y="54"/>
                      </a:cubicBezTo>
                      <a:moveTo>
                        <a:pt x="82" y="64"/>
                      </a:moveTo>
                      <a:cubicBezTo>
                        <a:pt x="81" y="64"/>
                        <a:pt x="81" y="64"/>
                        <a:pt x="81" y="66"/>
                      </a:cubicBezTo>
                      <a:lnTo>
                        <a:pt x="82" y="66"/>
                      </a:lnTo>
                      <a:cubicBezTo>
                        <a:pt x="86" y="65"/>
                        <a:pt x="85" y="64"/>
                        <a:pt x="82" y="64"/>
                      </a:cubicBezTo>
                      <a:moveTo>
                        <a:pt x="60" y="26"/>
                      </a:moveTo>
                      <a:cubicBezTo>
                        <a:pt x="60" y="26"/>
                        <a:pt x="61" y="26"/>
                        <a:pt x="62" y="25"/>
                      </a:cubicBezTo>
                      <a:cubicBezTo>
                        <a:pt x="64" y="29"/>
                        <a:pt x="60" y="29"/>
                        <a:pt x="60" y="26"/>
                      </a:cubicBezTo>
                      <a:moveTo>
                        <a:pt x="65" y="29"/>
                      </a:moveTo>
                      <a:cubicBezTo>
                        <a:pt x="66" y="29"/>
                        <a:pt x="66" y="30"/>
                        <a:pt x="66" y="30"/>
                      </a:cubicBezTo>
                      <a:cubicBezTo>
                        <a:pt x="66" y="31"/>
                        <a:pt x="67" y="32"/>
                        <a:pt x="66" y="33"/>
                      </a:cubicBezTo>
                      <a:cubicBezTo>
                        <a:pt x="64" y="40"/>
                        <a:pt x="65" y="30"/>
                        <a:pt x="65" y="29"/>
                      </a:cubicBezTo>
                      <a:moveTo>
                        <a:pt x="64" y="52"/>
                      </a:moveTo>
                      <a:cubicBezTo>
                        <a:pt x="68" y="52"/>
                        <a:pt x="63" y="50"/>
                        <a:pt x="63" y="49"/>
                      </a:cubicBezTo>
                      <a:cubicBezTo>
                        <a:pt x="58" y="48"/>
                        <a:pt x="57" y="49"/>
                        <a:pt x="62" y="51"/>
                      </a:cubicBezTo>
                      <a:cubicBezTo>
                        <a:pt x="62" y="50"/>
                        <a:pt x="64" y="53"/>
                        <a:pt x="64" y="52"/>
                      </a:cubicBezTo>
                      <a:moveTo>
                        <a:pt x="43" y="49"/>
                      </a:moveTo>
                      <a:lnTo>
                        <a:pt x="51" y="54"/>
                      </a:lnTo>
                      <a:cubicBezTo>
                        <a:pt x="53" y="54"/>
                        <a:pt x="54" y="54"/>
                        <a:pt x="56" y="54"/>
                      </a:cubicBezTo>
                      <a:cubicBezTo>
                        <a:pt x="57" y="54"/>
                        <a:pt x="59" y="59"/>
                        <a:pt x="59" y="59"/>
                      </a:cubicBezTo>
                      <a:cubicBezTo>
                        <a:pt x="65" y="68"/>
                        <a:pt x="58" y="64"/>
                        <a:pt x="57" y="60"/>
                      </a:cubicBezTo>
                      <a:cubicBezTo>
                        <a:pt x="56" y="59"/>
                        <a:pt x="55" y="57"/>
                        <a:pt x="54" y="57"/>
                      </a:cubicBezTo>
                      <a:cubicBezTo>
                        <a:pt x="52" y="57"/>
                        <a:pt x="44" y="52"/>
                        <a:pt x="45" y="53"/>
                      </a:cubicBezTo>
                      <a:cubicBezTo>
                        <a:pt x="44" y="53"/>
                        <a:pt x="40" y="49"/>
                        <a:pt x="43" y="49"/>
                      </a:cubicBezTo>
                      <a:moveTo>
                        <a:pt x="64" y="65"/>
                      </a:moveTo>
                      <a:lnTo>
                        <a:pt x="66" y="64"/>
                      </a:lnTo>
                      <a:cubicBezTo>
                        <a:pt x="67" y="68"/>
                        <a:pt x="64" y="71"/>
                        <a:pt x="64" y="65"/>
                      </a:cubicBezTo>
                      <a:moveTo>
                        <a:pt x="70" y="67"/>
                      </a:moveTo>
                      <a:lnTo>
                        <a:pt x="71" y="67"/>
                      </a:lnTo>
                      <a:cubicBezTo>
                        <a:pt x="71" y="67"/>
                        <a:pt x="71" y="67"/>
                        <a:pt x="71" y="68"/>
                      </a:cubicBezTo>
                      <a:lnTo>
                        <a:pt x="71" y="68"/>
                      </a:lnTo>
                      <a:cubicBezTo>
                        <a:pt x="71" y="68"/>
                        <a:pt x="71" y="69"/>
                        <a:pt x="71" y="69"/>
                      </a:cubicBezTo>
                      <a:lnTo>
                        <a:pt x="70" y="69"/>
                      </a:lnTo>
                      <a:cubicBezTo>
                        <a:pt x="70" y="69"/>
                        <a:pt x="69" y="68"/>
                        <a:pt x="69" y="68"/>
                      </a:cubicBezTo>
                      <a:lnTo>
                        <a:pt x="69" y="68"/>
                      </a:lnTo>
                      <a:cubicBezTo>
                        <a:pt x="69" y="67"/>
                        <a:pt x="70" y="67"/>
                        <a:pt x="70" y="67"/>
                      </a:cubicBezTo>
                      <a:moveTo>
                        <a:pt x="76" y="76"/>
                      </a:moveTo>
                      <a:cubicBezTo>
                        <a:pt x="76" y="75"/>
                        <a:pt x="76" y="74"/>
                        <a:pt x="77" y="74"/>
                      </a:cubicBezTo>
                      <a:lnTo>
                        <a:pt x="78" y="75"/>
                      </a:lnTo>
                      <a:cubicBezTo>
                        <a:pt x="77" y="78"/>
                        <a:pt x="78" y="79"/>
                        <a:pt x="76" y="76"/>
                      </a:cubicBezTo>
                      <a:moveTo>
                        <a:pt x="74" y="77"/>
                      </a:moveTo>
                      <a:cubicBezTo>
                        <a:pt x="71" y="81"/>
                        <a:pt x="71" y="69"/>
                        <a:pt x="74" y="77"/>
                      </a:cubicBezTo>
                      <a:moveTo>
                        <a:pt x="63" y="83"/>
                      </a:moveTo>
                      <a:cubicBezTo>
                        <a:pt x="67" y="81"/>
                        <a:pt x="66" y="81"/>
                        <a:pt x="67" y="83"/>
                      </a:cubicBezTo>
                      <a:cubicBezTo>
                        <a:pt x="66" y="85"/>
                        <a:pt x="64" y="84"/>
                        <a:pt x="63" y="83"/>
                      </a:cubicBezTo>
                      <a:moveTo>
                        <a:pt x="0" y="50"/>
                      </a:moveTo>
                      <a:cubicBezTo>
                        <a:pt x="0" y="51"/>
                        <a:pt x="0" y="46"/>
                        <a:pt x="0" y="45"/>
                      </a:cubicBezTo>
                      <a:cubicBezTo>
                        <a:pt x="0" y="44"/>
                        <a:pt x="2" y="45"/>
                        <a:pt x="2" y="46"/>
                      </a:cubicBezTo>
                      <a:lnTo>
                        <a:pt x="0" y="50"/>
                      </a:lnTo>
                      <a:moveTo>
                        <a:pt x="13" y="56"/>
                      </a:moveTo>
                      <a:lnTo>
                        <a:pt x="14" y="57"/>
                      </a:lnTo>
                      <a:lnTo>
                        <a:pt x="14" y="59"/>
                      </a:lnTo>
                      <a:cubicBezTo>
                        <a:pt x="9" y="61"/>
                        <a:pt x="13" y="59"/>
                        <a:pt x="13" y="56"/>
                      </a:cubicBezTo>
                      <a:moveTo>
                        <a:pt x="13" y="68"/>
                      </a:moveTo>
                      <a:lnTo>
                        <a:pt x="16" y="69"/>
                      </a:lnTo>
                      <a:lnTo>
                        <a:pt x="14" y="71"/>
                      </a:lnTo>
                      <a:cubicBezTo>
                        <a:pt x="13" y="71"/>
                        <a:pt x="12" y="71"/>
                        <a:pt x="12" y="71"/>
                      </a:cubicBezTo>
                      <a:cubicBezTo>
                        <a:pt x="12" y="70"/>
                        <a:pt x="14" y="68"/>
                        <a:pt x="13" y="68"/>
                      </a:cubicBezTo>
                      <a:moveTo>
                        <a:pt x="14" y="78"/>
                      </a:moveTo>
                      <a:cubicBezTo>
                        <a:pt x="22" y="77"/>
                        <a:pt x="21" y="84"/>
                        <a:pt x="14" y="78"/>
                      </a:cubicBezTo>
                      <a:moveTo>
                        <a:pt x="58" y="100"/>
                      </a:moveTo>
                      <a:cubicBezTo>
                        <a:pt x="61" y="100"/>
                        <a:pt x="66" y="100"/>
                        <a:pt x="65" y="103"/>
                      </a:cubicBezTo>
                      <a:cubicBezTo>
                        <a:pt x="69" y="103"/>
                        <a:pt x="79" y="101"/>
                        <a:pt x="84" y="99"/>
                      </a:cubicBezTo>
                      <a:lnTo>
                        <a:pt x="84" y="103"/>
                      </a:lnTo>
                      <a:cubicBezTo>
                        <a:pt x="85" y="102"/>
                        <a:pt x="90" y="99"/>
                        <a:pt x="92" y="99"/>
                      </a:cubicBezTo>
                      <a:cubicBezTo>
                        <a:pt x="95" y="105"/>
                        <a:pt x="75" y="107"/>
                        <a:pt x="70" y="109"/>
                      </a:cubicBezTo>
                      <a:cubicBezTo>
                        <a:pt x="67" y="105"/>
                        <a:pt x="59" y="107"/>
                        <a:pt x="55" y="105"/>
                      </a:cubicBezTo>
                      <a:lnTo>
                        <a:pt x="58" y="100"/>
                      </a:lnTo>
                      <a:moveTo>
                        <a:pt x="45" y="65"/>
                      </a:moveTo>
                      <a:lnTo>
                        <a:pt x="45" y="71"/>
                      </a:lnTo>
                      <a:cubicBezTo>
                        <a:pt x="45" y="72"/>
                        <a:pt x="55" y="73"/>
                        <a:pt x="52" y="76"/>
                      </a:cubicBezTo>
                      <a:cubicBezTo>
                        <a:pt x="51" y="78"/>
                        <a:pt x="48" y="76"/>
                        <a:pt x="45" y="75"/>
                      </a:cubicBezTo>
                      <a:cubicBezTo>
                        <a:pt x="42" y="73"/>
                        <a:pt x="41" y="73"/>
                        <a:pt x="41" y="73"/>
                      </a:cubicBezTo>
                      <a:cubicBezTo>
                        <a:pt x="42" y="76"/>
                        <a:pt x="41" y="76"/>
                        <a:pt x="41" y="78"/>
                      </a:cubicBezTo>
                      <a:cubicBezTo>
                        <a:pt x="42" y="79"/>
                        <a:pt x="46" y="81"/>
                        <a:pt x="47" y="83"/>
                      </a:cubicBezTo>
                      <a:cubicBezTo>
                        <a:pt x="49" y="86"/>
                        <a:pt x="48" y="88"/>
                        <a:pt x="49" y="89"/>
                      </a:cubicBezTo>
                      <a:cubicBezTo>
                        <a:pt x="47" y="90"/>
                        <a:pt x="45" y="86"/>
                        <a:pt x="43" y="85"/>
                      </a:cubicBezTo>
                      <a:cubicBezTo>
                        <a:pt x="41" y="83"/>
                        <a:pt x="42" y="89"/>
                        <a:pt x="41" y="90"/>
                      </a:cubicBezTo>
                      <a:lnTo>
                        <a:pt x="35" y="82"/>
                      </a:lnTo>
                      <a:cubicBezTo>
                        <a:pt x="34" y="82"/>
                        <a:pt x="36" y="92"/>
                        <a:pt x="28" y="86"/>
                      </a:cubicBezTo>
                      <a:cubicBezTo>
                        <a:pt x="27" y="84"/>
                        <a:pt x="28" y="79"/>
                        <a:pt x="27" y="76"/>
                      </a:cubicBezTo>
                      <a:cubicBezTo>
                        <a:pt x="26" y="74"/>
                        <a:pt x="21" y="75"/>
                        <a:pt x="19" y="71"/>
                      </a:cubicBezTo>
                      <a:cubicBezTo>
                        <a:pt x="19" y="55"/>
                        <a:pt x="41" y="74"/>
                        <a:pt x="41" y="61"/>
                      </a:cubicBezTo>
                      <a:cubicBezTo>
                        <a:pt x="34" y="59"/>
                        <a:pt x="19" y="66"/>
                        <a:pt x="16" y="57"/>
                      </a:cubicBezTo>
                      <a:cubicBezTo>
                        <a:pt x="17" y="54"/>
                        <a:pt x="19" y="55"/>
                        <a:pt x="20" y="54"/>
                      </a:cubicBezTo>
                      <a:cubicBezTo>
                        <a:pt x="16" y="53"/>
                        <a:pt x="11" y="53"/>
                        <a:pt x="7" y="49"/>
                      </a:cubicBezTo>
                      <a:lnTo>
                        <a:pt x="6" y="45"/>
                      </a:lnTo>
                      <a:lnTo>
                        <a:pt x="9" y="44"/>
                      </a:lnTo>
                      <a:cubicBezTo>
                        <a:pt x="9" y="43"/>
                        <a:pt x="8" y="42"/>
                        <a:pt x="8" y="41"/>
                      </a:cubicBezTo>
                      <a:lnTo>
                        <a:pt x="12" y="25"/>
                      </a:lnTo>
                      <a:cubicBezTo>
                        <a:pt x="13" y="25"/>
                        <a:pt x="19" y="25"/>
                        <a:pt x="22" y="23"/>
                      </a:cubicBezTo>
                      <a:lnTo>
                        <a:pt x="27" y="19"/>
                      </a:lnTo>
                      <a:lnTo>
                        <a:pt x="31" y="19"/>
                      </a:lnTo>
                      <a:lnTo>
                        <a:pt x="44" y="11"/>
                      </a:lnTo>
                      <a:lnTo>
                        <a:pt x="49" y="11"/>
                      </a:lnTo>
                      <a:lnTo>
                        <a:pt x="56" y="8"/>
                      </a:lnTo>
                      <a:lnTo>
                        <a:pt x="61" y="10"/>
                      </a:lnTo>
                      <a:lnTo>
                        <a:pt x="69" y="7"/>
                      </a:lnTo>
                      <a:lnTo>
                        <a:pt x="67" y="5"/>
                      </a:lnTo>
                      <a:lnTo>
                        <a:pt x="73" y="0"/>
                      </a:lnTo>
                      <a:lnTo>
                        <a:pt x="78" y="6"/>
                      </a:lnTo>
                      <a:lnTo>
                        <a:pt x="75" y="11"/>
                      </a:lnTo>
                      <a:cubicBezTo>
                        <a:pt x="75" y="13"/>
                        <a:pt x="74" y="13"/>
                        <a:pt x="74" y="16"/>
                      </a:cubicBezTo>
                      <a:cubicBezTo>
                        <a:pt x="72" y="15"/>
                        <a:pt x="66" y="16"/>
                        <a:pt x="63" y="17"/>
                      </a:cubicBezTo>
                      <a:cubicBezTo>
                        <a:pt x="62" y="17"/>
                        <a:pt x="59" y="18"/>
                        <a:pt x="58" y="18"/>
                      </a:cubicBezTo>
                      <a:cubicBezTo>
                        <a:pt x="56" y="19"/>
                        <a:pt x="55" y="20"/>
                        <a:pt x="54" y="24"/>
                      </a:cubicBezTo>
                      <a:cubicBezTo>
                        <a:pt x="53" y="29"/>
                        <a:pt x="51" y="23"/>
                        <a:pt x="50" y="25"/>
                      </a:cubicBezTo>
                      <a:cubicBezTo>
                        <a:pt x="48" y="26"/>
                        <a:pt x="56" y="30"/>
                        <a:pt x="54" y="32"/>
                      </a:cubicBezTo>
                      <a:lnTo>
                        <a:pt x="47" y="28"/>
                      </a:lnTo>
                      <a:lnTo>
                        <a:pt x="46" y="29"/>
                      </a:lnTo>
                      <a:lnTo>
                        <a:pt x="51" y="35"/>
                      </a:lnTo>
                      <a:cubicBezTo>
                        <a:pt x="49" y="38"/>
                        <a:pt x="46" y="30"/>
                        <a:pt x="42" y="31"/>
                      </a:cubicBezTo>
                      <a:cubicBezTo>
                        <a:pt x="43" y="34"/>
                        <a:pt x="48" y="35"/>
                        <a:pt x="45" y="38"/>
                      </a:cubicBezTo>
                      <a:cubicBezTo>
                        <a:pt x="41" y="38"/>
                        <a:pt x="39" y="29"/>
                        <a:pt x="35" y="25"/>
                      </a:cubicBezTo>
                      <a:lnTo>
                        <a:pt x="33" y="25"/>
                      </a:lnTo>
                      <a:cubicBezTo>
                        <a:pt x="32" y="25"/>
                        <a:pt x="31" y="33"/>
                        <a:pt x="31" y="34"/>
                      </a:cubicBezTo>
                      <a:cubicBezTo>
                        <a:pt x="33" y="41"/>
                        <a:pt x="46" y="43"/>
                        <a:pt x="43" y="46"/>
                      </a:cubicBezTo>
                      <a:cubicBezTo>
                        <a:pt x="42" y="46"/>
                        <a:pt x="36" y="44"/>
                        <a:pt x="36" y="44"/>
                      </a:cubicBezTo>
                      <a:cubicBezTo>
                        <a:pt x="36" y="47"/>
                        <a:pt x="38" y="52"/>
                        <a:pt x="40" y="54"/>
                      </a:cubicBezTo>
                      <a:cubicBezTo>
                        <a:pt x="44" y="58"/>
                        <a:pt x="52" y="60"/>
                        <a:pt x="54" y="64"/>
                      </a:cubicBezTo>
                      <a:cubicBezTo>
                        <a:pt x="53" y="65"/>
                        <a:pt x="61" y="69"/>
                        <a:pt x="58" y="71"/>
                      </a:cubicBezTo>
                      <a:cubicBezTo>
                        <a:pt x="56" y="71"/>
                        <a:pt x="55" y="69"/>
                        <a:pt x="52" y="68"/>
                      </a:cubicBezTo>
                      <a:cubicBezTo>
                        <a:pt x="49" y="66"/>
                        <a:pt x="47" y="66"/>
                        <a:pt x="47" y="65"/>
                      </a:cubicBezTo>
                      <a:lnTo>
                        <a:pt x="45" y="6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16080" y="3495600"/>
                  <a:ext cx="942840" cy="80928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89" y="44"/>
                      </a:moveTo>
                      <a:cubicBezTo>
                        <a:pt x="90" y="41"/>
                        <a:pt x="88" y="40"/>
                        <a:pt x="84" y="38"/>
                      </a:cubicBezTo>
                      <a:cubicBezTo>
                        <a:pt x="84" y="35"/>
                        <a:pt x="88" y="33"/>
                        <a:pt x="88" y="31"/>
                      </a:cubicBezTo>
                      <a:cubicBezTo>
                        <a:pt x="90" y="25"/>
                        <a:pt x="85" y="9"/>
                        <a:pt x="81" y="6"/>
                      </a:cubicBezTo>
                      <a:lnTo>
                        <a:pt x="64" y="12"/>
                      </a:lnTo>
                      <a:lnTo>
                        <a:pt x="63" y="8"/>
                      </a:lnTo>
                      <a:cubicBezTo>
                        <a:pt x="60" y="9"/>
                        <a:pt x="55" y="7"/>
                        <a:pt x="53" y="9"/>
                      </a:cubicBezTo>
                      <a:cubicBezTo>
                        <a:pt x="40" y="20"/>
                        <a:pt x="35" y="13"/>
                        <a:pt x="36" y="7"/>
                      </a:cubicBezTo>
                      <a:cubicBezTo>
                        <a:pt x="36" y="4"/>
                        <a:pt x="44" y="4"/>
                        <a:pt x="44" y="3"/>
                      </a:cubicBezTo>
                      <a:cubicBezTo>
                        <a:pt x="34" y="0"/>
                        <a:pt x="13" y="14"/>
                        <a:pt x="7" y="19"/>
                      </a:cubicBezTo>
                      <a:cubicBezTo>
                        <a:pt x="6" y="21"/>
                        <a:pt x="2" y="25"/>
                        <a:pt x="1" y="26"/>
                      </a:cubicBezTo>
                      <a:lnTo>
                        <a:pt x="2" y="32"/>
                      </a:lnTo>
                      <a:cubicBezTo>
                        <a:pt x="3" y="33"/>
                        <a:pt x="1" y="35"/>
                        <a:pt x="0" y="38"/>
                      </a:cubicBezTo>
                      <a:lnTo>
                        <a:pt x="6" y="47"/>
                      </a:lnTo>
                      <a:cubicBezTo>
                        <a:pt x="7" y="51"/>
                        <a:pt x="6" y="55"/>
                        <a:pt x="9" y="62"/>
                      </a:cubicBezTo>
                      <a:cubicBezTo>
                        <a:pt x="12" y="69"/>
                        <a:pt x="19" y="70"/>
                        <a:pt x="24" y="68"/>
                      </a:cubicBezTo>
                      <a:lnTo>
                        <a:pt x="27" y="72"/>
                      </a:lnTo>
                      <a:cubicBezTo>
                        <a:pt x="27" y="73"/>
                        <a:pt x="26" y="74"/>
                        <a:pt x="27" y="76"/>
                      </a:cubicBezTo>
                      <a:cubicBezTo>
                        <a:pt x="28" y="76"/>
                        <a:pt x="30" y="73"/>
                        <a:pt x="30" y="72"/>
                      </a:cubicBezTo>
                      <a:cubicBezTo>
                        <a:pt x="35" y="72"/>
                        <a:pt x="39" y="73"/>
                        <a:pt x="40" y="78"/>
                      </a:cubicBezTo>
                      <a:lnTo>
                        <a:pt x="45" y="79"/>
                      </a:lnTo>
                      <a:cubicBezTo>
                        <a:pt x="48" y="81"/>
                        <a:pt x="48" y="82"/>
                        <a:pt x="52" y="83"/>
                      </a:cubicBezTo>
                      <a:lnTo>
                        <a:pt x="58" y="82"/>
                      </a:lnTo>
                      <a:lnTo>
                        <a:pt x="63" y="85"/>
                      </a:lnTo>
                      <a:lnTo>
                        <a:pt x="67" y="82"/>
                      </a:lnTo>
                      <a:lnTo>
                        <a:pt x="72" y="81"/>
                      </a:lnTo>
                      <a:cubicBezTo>
                        <a:pt x="74" y="81"/>
                        <a:pt x="77" y="80"/>
                        <a:pt x="78" y="81"/>
                      </a:cubicBezTo>
                      <a:cubicBezTo>
                        <a:pt x="79" y="82"/>
                        <a:pt x="76" y="84"/>
                        <a:pt x="77" y="84"/>
                      </a:cubicBezTo>
                      <a:lnTo>
                        <a:pt x="88" y="84"/>
                      </a:lnTo>
                      <a:lnTo>
                        <a:pt x="87" y="79"/>
                      </a:lnTo>
                      <a:lnTo>
                        <a:pt x="99" y="60"/>
                      </a:lnTo>
                      <a:cubicBezTo>
                        <a:pt x="97" y="58"/>
                        <a:pt x="95" y="50"/>
                        <a:pt x="93" y="48"/>
                      </a:cubicBezTo>
                      <a:lnTo>
                        <a:pt x="89" y="44"/>
                      </a:ln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568480" y="4587480"/>
                  <a:ext cx="1368000" cy="73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4320" y="4086000"/>
                  <a:ext cx="1675800" cy="1222200"/>
                </a:xfrm>
                <a:custGeom>
                  <a:avLst/>
                  <a:gdLst/>
                  <a:ahLst/>
                  <a:rect l="l" t="t" r="r" b="b"/>
                  <a:pathLst>
                    <a:path w="168" h="135">
                      <a:moveTo>
                        <a:pt x="113" y="0"/>
                      </a:moveTo>
                      <a:cubicBezTo>
                        <a:pt x="150" y="0"/>
                        <a:pt x="168" y="30"/>
                        <a:pt x="152" y="67"/>
                      </a:cubicBezTo>
                      <a:cubicBezTo>
                        <a:pt x="135" y="104"/>
                        <a:pt x="92" y="135"/>
                        <a:pt x="55" y="135"/>
                      </a:cubicBezTo>
                      <a:cubicBezTo>
                        <a:pt x="18" y="135"/>
                        <a:pt x="0" y="104"/>
                        <a:pt x="16" y="67"/>
                      </a:cubicBezTo>
                      <a:cubicBezTo>
                        <a:pt x="33" y="30"/>
                        <a:pt x="76" y="0"/>
                        <a:pt x="113" y="0"/>
                      </a:cubicBezTo>
                    </a:path>
                  </a:pathLst>
                </a:custGeom>
                <a:noFill/>
                <a:ln w="9360">
                  <a:solidFill>
                    <a:srgbClr val="deded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00120" y="3436560"/>
                  <a:ext cx="2566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A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40520" y="4576680"/>
                  <a:ext cx="397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SZI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207760" y="4516200"/>
                  <a:ext cx="435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INR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5568480" y="3436200"/>
                  <a:ext cx="576000" cy="1150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143760" y="3931920"/>
                  <a:ext cx="277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JK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5568480" y="4084200"/>
                  <a:ext cx="718920" cy="502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936480" y="3858840"/>
                  <a:ext cx="435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IH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5568480" y="4011480"/>
                  <a:ext cx="1439640" cy="576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994640" y="3762000"/>
                  <a:ext cx="494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R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>
                  <a:off x="5279400" y="3939480"/>
                  <a:ext cx="288720" cy="647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300280" y="5057640"/>
                  <a:ext cx="563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CIR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424120" y="4587120"/>
                  <a:ext cx="144000" cy="505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16480" y="4947840"/>
                  <a:ext cx="38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CN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5568120" y="4587120"/>
                  <a:ext cx="718920" cy="360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604480" y="3686040"/>
                  <a:ext cx="424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WU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5568480" y="3939480"/>
                  <a:ext cx="215640" cy="647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79040" y="4660560"/>
                  <a:ext cx="159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966640" y="4651200"/>
                  <a:ext cx="9288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Agroscop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359760" y="5163840"/>
                  <a:ext cx="4852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SSU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33240" y="4295520"/>
                  <a:ext cx="453960" cy="212760"/>
                </a:xfrm>
                <a:prstGeom prst="rect">
                  <a:avLst/>
                </a:prstGeom>
                <a:solidFill>
                  <a:srgbClr val="235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IBM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16080" y="5371920"/>
                  <a:ext cx="345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Ud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071400" y="3219120"/>
                  <a:ext cx="503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DA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05200" y="4829040"/>
                  <a:ext cx="492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AC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c623"/>
                </a:solidFill>
                <a:latin typeface="Verdana"/>
              </a:rPr>
              <a:t>2005: a challeng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47440" y="1674720"/>
            <a:ext cx="7396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Basic knowledge on crop-pest systems has considerably increased, but with little impact at the field level as yet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Some farmers are experimenting practical solutions but often lack scientific support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Uncertainties (climate change, pest invasions, price volatility, policy changes) make things more complex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Devising innovative solutions require contributions from diverse research areas that need to be pool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How to overcome a certain lack of motivation?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2009 : a turning point and a sense of urgenc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85640" y="1868400"/>
            <a:ext cx="8283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Concerns on environmental and human health impacts of   pesticides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re restrictive policies : the pesticid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 goal to shift whole EU agriculture to 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Stronger demand to agriculture to ensure food security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ew approaches to crop protection should not impact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Need for new and more diversified solutions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going beyond technical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roposing new robust strategies and cropp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alling for increased engagement of research into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c0022b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4 major goals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105440" y="2476800"/>
            <a:ext cx="2372400" cy="2407680"/>
            <a:chOff x="4105440" y="2476800"/>
            <a:chExt cx="2372400" cy="2407680"/>
          </a:xfrm>
        </p:grpSpPr>
        <p:sp>
          <p:nvSpPr>
            <p:cNvPr id="226" name=""/>
            <p:cNvSpPr/>
            <p:nvPr/>
          </p:nvSpPr>
          <p:spPr>
            <a:xfrm rot="2530800">
              <a:off x="4571640" y="2708280"/>
              <a:ext cx="1439640" cy="194436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644360" y="2995560"/>
              <a:ext cx="1366920" cy="143964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14560" y="3211200"/>
              <a:ext cx="1079640" cy="100836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84200">
              <a:off x="5219280" y="277956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35120" y="2035080"/>
            <a:ext cx="218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46720" y="2095560"/>
            <a:ext cx="3594240" cy="110484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What do we have in store ?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105440" y="2476800"/>
            <a:ext cx="2372400" cy="2407680"/>
            <a:chOff x="4105440" y="2476800"/>
            <a:chExt cx="2372400" cy="2407680"/>
          </a:xfrm>
        </p:grpSpPr>
        <p:sp>
          <p:nvSpPr>
            <p:cNvPr id="239" name=""/>
            <p:cNvSpPr/>
            <p:nvPr/>
          </p:nvSpPr>
          <p:spPr>
            <a:xfrm rot="2530800">
              <a:off x="4571640" y="2708280"/>
              <a:ext cx="1439640" cy="194436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644360" y="2995560"/>
              <a:ext cx="1366920" cy="143964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14560" y="3211200"/>
              <a:ext cx="1079640" cy="100836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084200">
              <a:off x="5219280" y="277956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35120" y="2035080"/>
            <a:ext cx="21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4840" y="5938920"/>
            <a:ext cx="68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aking advantage of the transnational dimension of EN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Case studies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2080" y="1560240"/>
            <a:ext cx="3589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Compared analysis 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of specific problem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in several EU countrie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com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s, needs for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22b"/>
                </a:solidFill>
                <a:latin typeface="Arial"/>
              </a:rPr>
              <a:t>Messages to advisor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22b"/>
                </a:solidFill>
                <a:latin typeface="Arial"/>
              </a:rPr>
              <a:t>A basis for further investigation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See presentation 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by Per Kudsk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95200" y="1636200"/>
            <a:ext cx="5185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97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Case studies: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eat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otato b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grated wee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omefruit pests and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omato whiteflies and transmitted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eld 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an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rape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87720" y="1542960"/>
            <a:ext cx="4889520" cy="463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31920" y="4254480"/>
            <a:ext cx="3594240" cy="110484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How to promote IPM </a:t>
            </a:r>
            <a:br>
              <a:rPr sz="2600"/>
            </a:b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at EU and MS levels ?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35120" y="2035080"/>
            <a:ext cx="21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105800" y="2476800"/>
            <a:ext cx="2372760" cy="2408040"/>
            <a:chOff x="4105800" y="2476800"/>
            <a:chExt cx="2372760" cy="2408040"/>
          </a:xfrm>
        </p:grpSpPr>
        <p:sp>
          <p:nvSpPr>
            <p:cNvPr id="261" name=""/>
            <p:cNvSpPr/>
            <p:nvPr/>
          </p:nvSpPr>
          <p:spPr>
            <a:xfrm rot="2530800">
              <a:off x="4572000" y="2708280"/>
              <a:ext cx="1440000" cy="194472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644720" y="2995560"/>
              <a:ext cx="1366920" cy="1440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14920" y="3211560"/>
              <a:ext cx="1079280" cy="1008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3585200">
              <a:off x="4711320" y="361728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944720" y="5938920"/>
            <a:ext cx="69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ining recognition of ENDURE as a reference point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9:39:40Z</dcterms:created>
  <dc:creator>Vincent TROILLARD</dc:creator>
  <dc:description/>
  <dc:language>en-US</dc:language>
  <cp:lastModifiedBy>P Ricci</cp:lastModifiedBy>
  <dcterms:modified xsi:type="dcterms:W3CDTF">2009-11-26T07:41:18Z</dcterms:modified>
  <cp:revision>184</cp:revision>
  <dc:subject/>
  <dc:title>Reporting, Deliverables</dc:title>
</cp:coreProperties>
</file>