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c623"/>
                </a:solidFill>
                <a:latin typeface="Verdana"/>
              </a:rPr>
              <a:t>Click to move the slide</a:t>
            </a:r>
            <a:endParaRPr b="1" lang="en-US" sz="2600" spc="-1" strike="noStrike">
              <a:solidFill>
                <a:srgbClr val="7bc623"/>
              </a:solidFill>
              <a:latin typeface="Verdana"/>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54A0-90C7-41DF-BE84-68F6150698F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lcome Slide: free tal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the Policy theme: with the implementation of the Framework Directive there is no opportunities for debating with the stakeholders anymore. The choice of the IPM has been made by the Policy makers, ENDURE role is now to accompany the application of the directive by providing scientific solutions to the need of IPM in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hort descripotion of the State of progress of the Network after 17 months</a:t>
            </a:r>
            <a:r>
              <a:rPr b="1" lang="fr-FR" sz="1200" spc="-1" strike="noStrike">
                <a:solidFill>
                  <a:srgbClr val="000000"/>
                </a:solidFill>
                <a:latin typeface="Arial"/>
              </a:rPr>
              <a:t>: to use only if need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sults achieved by the Integration Activiti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sults achieved by the Research and Dissemination Activit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nounce of the International Conference to end up the presentation and to invite the persons to come to this event </a:t>
            </a:r>
            <a:r>
              <a:rPr b="1" lang="fr-FR" sz="1200" spc="-1" strike="noStrike">
                <a:solidFill>
                  <a:srgbClr val="000000"/>
                </a:solidFill>
                <a:latin typeface="Wingdings"/>
                <a:ea typeface="Wingdings"/>
              </a:rPr>
              <a:t></a:t>
            </a:r>
            <a:r>
              <a:rPr b="1" lang="fr-FR" sz="1200" spc="-1" strike="noStrike">
                <a:solidFill>
                  <a:srgbClr val="000000"/>
                </a:solidFill>
                <a:latin typeface="Arial"/>
              </a:rPr>
              <a:t> registration before 30 Jun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3440" cy="3430440"/>
          </a:xfrm>
          <a:prstGeom prst="rect">
            <a:avLst/>
          </a:prstGeom>
          <a:ln w="0">
            <a:noFill/>
          </a:ln>
        </p:spPr>
      </p:sp>
      <p:sp>
        <p:nvSpPr>
          <p:cNvPr id="333"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slide is to explain the origin of the ENDURE project. It is to remind the topic from which the call was issued, the question of fragmentation that the Network aims at solving and the relations with the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t is also the opportuniy yo present the EC funding amount and the start date and duration of the project: 1s January 2007 for 4 yea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3440" cy="3430440"/>
          </a:xfrm>
          <a:prstGeom prst="rect">
            <a:avLst/>
          </a:prstGeom>
          <a:ln w="0">
            <a:noFill/>
          </a:ln>
        </p:spPr>
      </p:sp>
      <p:sp>
        <p:nvSpPr>
          <p:cNvPr id="335"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of presentations of the 18 partners coming from 10 countries with different areas of expertise: Research, Education, Extension services, et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3440" cy="3430440"/>
          </a:xfrm>
          <a:prstGeom prst="rect">
            <a:avLst/>
          </a:prstGeom>
          <a:ln w="0">
            <a:noFill/>
          </a:ln>
        </p:spPr>
      </p:sp>
      <p:sp>
        <p:nvSpPr>
          <p:cNvPr id="337"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se are the main objectives of the Network. The project was selected on this commitment so they are all important for the success of the Networ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3440" cy="3430440"/>
          </a:xfrm>
          <a:prstGeom prst="rect">
            <a:avLst/>
          </a:prstGeom>
          <a:ln w="0">
            <a:noFill/>
          </a:ln>
        </p:spPr>
      </p:sp>
      <p:sp>
        <p:nvSpPr>
          <p:cNvPr id="339"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is the general organisation of the decisional and advisory bodies. This slide can be used to insist on the External Advisory Board and the Crop Protection Network roles. The EAB is to advise the Network. The CPN is to make other projects or permanent Network come together to gather the knowledge that is already available on crop protection in Europe and to take advantage of these collaborations not to do the same thing again but to develop new topi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3440" cy="3430440"/>
          </a:xfrm>
          <a:prstGeom prst="rect">
            <a:avLst/>
          </a:prstGeom>
          <a:ln w="0">
            <a:noFill/>
          </a:ln>
        </p:spPr>
      </p:sp>
      <p:sp>
        <p:nvSpPr>
          <p:cNvPr id="34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is the new structure of the project organise around 4 Integrating Themes. These Themes are a more easy way to explain the Network way of working than with the 13 Activit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tail of the Short Term theme : IWM = Integrated Weed Manage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tail of the System theme </a:t>
            </a:r>
            <a:r>
              <a:rPr b="0" lang="fr-FR" sz="1200" spc="-1" strike="noStrike">
                <a:solidFill>
                  <a:srgbClr val="000000"/>
                </a:solidFill>
                <a:latin typeface="Wingdings"/>
                <a:ea typeface="Wingdings"/>
              </a:rPr>
              <a:t></a:t>
            </a:r>
            <a:r>
              <a:rPr b="0" lang="fr-FR" sz="1200" spc="-1" strike="noStrike">
                <a:solidFill>
                  <a:srgbClr val="000000"/>
                </a:solidFill>
                <a:latin typeface="Arial"/>
              </a:rPr>
              <a:t> on the longer term, the simple approach only looking for alternative solutions to pesticide cannot be THE solution. We have to re-think the whole agronomic systems from scratch to be able to implement true I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tail of the Research Community theme: Several aspects of this Theme are related to Policy: the CPN, the Endure-Information Centre that will also provide expertise to the Policy makers, and the research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56"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58"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60"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6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endParaRPr b="0" lang="en-US" sz="28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6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69"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0"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1"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5"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5"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6"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9"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0"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endParaRPr b="0" lang="en-US" sz="28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ENDURE, February 2007</a:t>
            </a:r>
            <a:endParaRPr b="0" lang="en-US" sz="500" spc="-1" strike="noStrike">
              <a:solidFill>
                <a:srgbClr val="000000"/>
              </a:solidFill>
              <a:latin typeface="Arial"/>
            </a:endParaRPr>
          </a:p>
        </p:txBody>
      </p:sp>
      <p:pic>
        <p:nvPicPr>
          <p:cNvPr id="7" name="" descr=""/>
          <p:cNvPicPr/>
          <p:nvPr/>
        </p:nvPicPr>
        <p:blipFill>
          <a:blip r:embed="rId4"/>
          <a:stretch/>
        </p:blipFill>
        <p:spPr>
          <a:xfrm>
            <a:off x="8001000" y="6553080"/>
            <a:ext cx="826920" cy="238320"/>
          </a:xfrm>
          <a:prstGeom prst="rect">
            <a:avLst/>
          </a:prstGeom>
          <a:ln w="0">
            <a:noFill/>
          </a:ln>
        </p:spPr>
      </p:pic>
      <p:pic>
        <p:nvPicPr>
          <p:cNvPr id="8" name="" descr=""/>
          <p:cNvPicPr/>
          <p:nvPr/>
        </p:nvPicPr>
        <p:blipFill>
          <a:blip r:embed="rId5"/>
          <a:stretch/>
        </p:blipFill>
        <p:spPr>
          <a:xfrm>
            <a:off x="-1828800" y="2438280"/>
            <a:ext cx="7267680" cy="6145200"/>
          </a:xfrm>
          <a:prstGeom prst="rect">
            <a:avLst/>
          </a:prstGeom>
          <a:ln w="0">
            <a:noFill/>
          </a:ln>
        </p:spPr>
      </p:pic>
      <p:sp>
        <p:nvSpPr>
          <p:cNvPr id="9" name=""/>
          <p:cNvSpPr/>
          <p:nvPr/>
        </p:nvSpPr>
        <p:spPr>
          <a:xfrm>
            <a:off x="70311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5867280" y="5919840"/>
            <a:ext cx="3276720" cy="938160"/>
          </a:xfrm>
          <a:prstGeom prst="rect">
            <a:avLst/>
          </a:prstGeom>
          <a:ln w="0">
            <a:noFill/>
          </a:ln>
        </p:spPr>
      </p:pic>
      <p:pic>
        <p:nvPicPr>
          <p:cNvPr id="50" name="" descr=""/>
          <p:cNvPicPr/>
          <p:nvPr/>
        </p:nvPicPr>
        <p:blipFill>
          <a:blip r:embed="rId3"/>
          <a:stretch/>
        </p:blipFill>
        <p:spPr>
          <a:xfrm>
            <a:off x="152280" y="5486400"/>
            <a:ext cx="665280" cy="447840"/>
          </a:xfrm>
          <a:prstGeom prst="rect">
            <a:avLst/>
          </a:prstGeom>
          <a:ln w="0">
            <a:noFill/>
          </a:ln>
        </p:spPr>
      </p:pic>
      <p:pic>
        <p:nvPicPr>
          <p:cNvPr id="51" name="" descr=""/>
          <p:cNvPicPr/>
          <p:nvPr/>
        </p:nvPicPr>
        <p:blipFill>
          <a:blip r:embed="rId4"/>
          <a:stretch/>
        </p:blipFill>
        <p:spPr>
          <a:xfrm>
            <a:off x="152280" y="6116760"/>
            <a:ext cx="716040" cy="581040"/>
          </a:xfrm>
          <a:prstGeom prst="rect">
            <a:avLst/>
          </a:prstGeom>
          <a:ln w="0">
            <a:noFill/>
          </a:ln>
        </p:spPr>
      </p:pic>
      <p:sp>
        <p:nvSpPr>
          <p:cNvPr id="52"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0" lang="en-US" sz="1400" spc="-1" strike="noStrike">
              <a:solidFill>
                <a:srgbClr val="000000"/>
              </a:solidFill>
              <a:latin typeface="Arial"/>
            </a:endParaRPr>
          </a:p>
        </p:txBody>
      </p:sp>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c623"/>
                </a:solidFill>
                <a:latin typeface="Verdana"/>
              </a:rPr>
              <a:t>Click to edit the title text format</a:t>
            </a:r>
            <a:endParaRPr b="1" lang="en-US" sz="2600" spc="-1" strike="noStrike">
              <a:solidFill>
                <a:srgbClr val="7bc623"/>
              </a:solidFill>
              <a:latin typeface="Verdana"/>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22b"/>
                </a:solidFill>
                <a:latin typeface="Arial"/>
              </a:rPr>
              <a:t>Click to edit the outline text format</a:t>
            </a:r>
            <a:endParaRPr b="0" lang="en-US" sz="2800" spc="-1" strike="noStrike">
              <a:solidFill>
                <a:srgbClr val="c0022b"/>
              </a:solidFill>
              <a:latin typeface="Arial"/>
            </a:endParaRPr>
          </a:p>
          <a:p>
            <a:pPr lvl="1" marL="45720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ee820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33440" algn="ctr">
              <a:spcBef>
                <a:spcPts val="476"/>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1752480" algn="ctr">
              <a:spcBef>
                <a:spcPts val="476"/>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1752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1752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71720" y="1888920"/>
            <a:ext cx="7772400" cy="2152440"/>
          </a:xfrm>
          <a:prstGeom prst="rect">
            <a:avLst/>
          </a:prstGeom>
          <a:no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bc623"/>
                </a:solidFill>
                <a:latin typeface="Verdana"/>
              </a:rPr>
              <a:t>ENDURE-Network of Excellence</a:t>
            </a:r>
            <a:br>
              <a:rPr sz="3200"/>
            </a:br>
            <a:r>
              <a:rPr b="1" lang="fr-FR" sz="2600" spc="-1" strike="noStrike">
                <a:solidFill>
                  <a:srgbClr val="7bc623"/>
                </a:solidFill>
                <a:latin typeface="Verdana"/>
              </a:rPr>
              <a:t>-</a:t>
            </a:r>
            <a:br>
              <a:rPr sz="2600"/>
            </a:br>
            <a:r>
              <a:rPr b="1" lang="fr-FR" sz="2600" spc="-1" strike="noStrike">
                <a:solidFill>
                  <a:srgbClr val="7bc623"/>
                </a:solidFill>
                <a:latin typeface="Verdana"/>
              </a:rPr>
              <a:t>June 2008</a:t>
            </a:r>
            <a:endParaRPr b="1" lang="en-US" sz="2600" spc="-1" strike="noStrike">
              <a:solidFill>
                <a:srgbClr val="7bc623"/>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0920" y="88560"/>
            <a:ext cx="459756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4 – POLICY</a:t>
            </a:r>
            <a:endParaRPr b="1" lang="en-US" sz="3000" spc="-1" strike="noStrike">
              <a:solidFill>
                <a:srgbClr val="7bc623"/>
              </a:solidFill>
              <a:latin typeface="Verdana"/>
            </a:endParaRPr>
          </a:p>
        </p:txBody>
      </p:sp>
      <p:grpSp>
        <p:nvGrpSpPr>
          <p:cNvPr id="313" name=""/>
          <p:cNvGrpSpPr/>
          <p:nvPr/>
        </p:nvGrpSpPr>
        <p:grpSpPr>
          <a:xfrm>
            <a:off x="884160" y="2130480"/>
            <a:ext cx="8059680" cy="2989080"/>
            <a:chOff x="884160" y="2130480"/>
            <a:chExt cx="8059680" cy="2989080"/>
          </a:xfrm>
        </p:grpSpPr>
        <p:sp>
          <p:nvSpPr>
            <p:cNvPr id="314" name=""/>
            <p:cNvSpPr/>
            <p:nvPr/>
          </p:nvSpPr>
          <p:spPr>
            <a:xfrm>
              <a:off x="884160" y="2130480"/>
              <a:ext cx="8059680" cy="1423440"/>
            </a:xfrm>
            <a:prstGeom prst="rightArrow">
              <a:avLst>
                <a:gd name="adj1" fmla="val 50000"/>
                <a:gd name="adj2" fmla="val 14155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ater                framework              directive                  </a:t>
              </a:r>
              <a:endParaRPr b="0" lang="en-US" sz="1800" spc="-1" strike="noStrike">
                <a:solidFill>
                  <a:srgbClr val="000000"/>
                </a:solidFill>
                <a:latin typeface="Arial"/>
              </a:endParaRPr>
            </a:p>
          </p:txBody>
        </p:sp>
        <p:sp>
          <p:nvSpPr>
            <p:cNvPr id="315" name=""/>
            <p:cNvSpPr/>
            <p:nvPr/>
          </p:nvSpPr>
          <p:spPr>
            <a:xfrm>
              <a:off x="1392840" y="2804760"/>
              <a:ext cx="1878480" cy="2277720"/>
            </a:xfrm>
            <a:prstGeom prst="rightArrow">
              <a:avLst>
                <a:gd name="adj1" fmla="val 50000"/>
                <a:gd name="adj2"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sion of </a:t>
              </a:r>
              <a:br>
                <a:rPr sz="1800"/>
              </a:br>
              <a:r>
                <a:rPr b="1" lang="en-US" sz="1800" spc="-1" strike="noStrike">
                  <a:solidFill>
                    <a:srgbClr val="ffffff"/>
                  </a:solidFill>
                  <a:latin typeface="Arial"/>
                </a:rPr>
                <a:t>91/414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ration</a:t>
              </a:r>
              <a:endParaRPr b="0" lang="en-US" sz="1800" spc="-1" strike="noStrike">
                <a:solidFill>
                  <a:srgbClr val="000000"/>
                </a:solidFill>
                <a:latin typeface="Arial"/>
              </a:endParaRPr>
            </a:p>
          </p:txBody>
        </p:sp>
        <p:sp>
          <p:nvSpPr>
            <p:cNvPr id="316" name=""/>
            <p:cNvSpPr/>
            <p:nvPr/>
          </p:nvSpPr>
          <p:spPr>
            <a:xfrm>
              <a:off x="3271680" y="2804760"/>
              <a:ext cx="1878480" cy="2277720"/>
            </a:xfrm>
            <a:prstGeom prst="right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osed </a:t>
              </a:r>
              <a:br>
                <a:rPr sz="1800"/>
              </a:br>
              <a:r>
                <a:rPr b="1" lang="en-US" sz="1800" spc="-1" strike="noStrike">
                  <a:solidFill>
                    <a:srgbClr val="ffffff"/>
                  </a:solidFill>
                  <a:latin typeface="Arial"/>
                </a:rPr>
                <a:t>framework </a:t>
              </a:r>
              <a:br>
                <a:rPr sz="1800"/>
              </a:br>
              <a:r>
                <a:rPr b="1" lang="en-US" sz="1800" spc="-1" strike="noStrike">
                  <a:solidFill>
                    <a:srgbClr val="ffffff"/>
                  </a:solidFill>
                  <a:latin typeface="Arial"/>
                </a:rPr>
                <a:t>directive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phase</a:t>
              </a:r>
              <a:endParaRPr b="0" lang="en-US" sz="1800" spc="-1" strike="noStrike">
                <a:solidFill>
                  <a:srgbClr val="000000"/>
                </a:solidFill>
                <a:latin typeface="Arial"/>
              </a:endParaRPr>
            </a:p>
          </p:txBody>
        </p:sp>
        <p:sp>
          <p:nvSpPr>
            <p:cNvPr id="317" name=""/>
            <p:cNvSpPr/>
            <p:nvPr/>
          </p:nvSpPr>
          <p:spPr>
            <a:xfrm>
              <a:off x="5150160" y="2804760"/>
              <a:ext cx="1878480" cy="2277720"/>
            </a:xfrm>
            <a:prstGeom prst="right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ste </a:t>
              </a:r>
              <a:br>
                <a:rPr sz="1800"/>
              </a:br>
              <a:r>
                <a:rPr b="1" lang="en-US" sz="1800" spc="-1" strike="noStrike">
                  <a:solidFill>
                    <a:srgbClr val="ffffff"/>
                  </a:solidFill>
                  <a:latin typeface="Arial"/>
                </a:rPr>
                <a:t>framework </a:t>
              </a:r>
              <a:br>
                <a:rPr sz="1800"/>
              </a:br>
              <a:r>
                <a:rPr b="1" lang="en-US" sz="1800" spc="-1" strike="noStrike">
                  <a:solidFill>
                    <a:srgbClr val="ffffff"/>
                  </a:solidFill>
                  <a:latin typeface="Arial"/>
                </a:rPr>
                <a:t>directive</a:t>
              </a:r>
              <a:endParaRPr b="0" lang="en-US" sz="1800" spc="-1" strike="noStrike">
                <a:solidFill>
                  <a:srgbClr val="000000"/>
                </a:solidFill>
                <a:latin typeface="Arial"/>
              </a:endParaRPr>
            </a:p>
          </p:txBody>
        </p:sp>
        <p:sp>
          <p:nvSpPr>
            <p:cNvPr id="318" name=""/>
            <p:cNvSpPr/>
            <p:nvPr/>
          </p:nvSpPr>
          <p:spPr>
            <a:xfrm>
              <a:off x="7029000" y="2804760"/>
              <a:ext cx="1878480" cy="2277720"/>
            </a:xfrm>
            <a:prstGeom prst="rightArrow">
              <a:avLst>
                <a:gd name="adj1" fmla="val 50000"/>
                <a:gd name="adj2"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tion on</a:t>
              </a:r>
              <a:br>
                <a:rPr sz="1800"/>
              </a:br>
              <a:r>
                <a:rPr b="1" lang="en-US" sz="1800" spc="-1" strike="noStrike">
                  <a:solidFill>
                    <a:srgbClr val="000000"/>
                  </a:solidFill>
                  <a:latin typeface="Arial"/>
                </a:rPr>
                <a:t>Min. resid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evels</a:t>
              </a:r>
              <a:endParaRPr b="0" lang="en-US" sz="1800" spc="-1" strike="noStrike">
                <a:solidFill>
                  <a:srgbClr val="000000"/>
                </a:solidFill>
                <a:latin typeface="Arial"/>
              </a:endParaRPr>
            </a:p>
          </p:txBody>
        </p:sp>
        <p:sp>
          <p:nvSpPr>
            <p:cNvPr id="319" name=""/>
            <p:cNvSpPr/>
            <p:nvPr/>
          </p:nvSpPr>
          <p:spPr>
            <a:xfrm>
              <a:off x="3967560" y="4678560"/>
              <a:ext cx="277920" cy="44100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0" name=""/>
          <p:cNvSpPr/>
          <p:nvPr/>
        </p:nvSpPr>
        <p:spPr>
          <a:xfrm>
            <a:off x="579600" y="1268280"/>
            <a:ext cx="8107200" cy="35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22b"/>
                </a:solidFill>
                <a:latin typeface="Arial"/>
              </a:rPr>
              <a:t>Within a European policy environment conducive to change, ENDURE can contribute to national-level implementation of IPM called for by the proposed Framework Directive</a:t>
            </a:r>
            <a:endParaRPr b="0" lang="en-US" sz="2000" spc="-1" strike="noStrike">
              <a:solidFill>
                <a:srgbClr val="000000"/>
              </a:solidFill>
              <a:latin typeface="Arial"/>
            </a:endParaRPr>
          </a:p>
        </p:txBody>
      </p:sp>
      <p:sp>
        <p:nvSpPr>
          <p:cNvPr id="321" name=""/>
          <p:cNvSpPr/>
          <p:nvPr/>
        </p:nvSpPr>
        <p:spPr>
          <a:xfrm>
            <a:off x="571680" y="5138640"/>
            <a:ext cx="8107200" cy="1617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22b"/>
                </a:solidFill>
                <a:latin typeface="Arial"/>
              </a:rPr>
              <a:t>By Jan. 1, 2014, Member States will have to demonstrate that they have implemented the FD (including this article).</a:t>
            </a:r>
            <a:endParaRPr b="0" lang="en-US" sz="2000" spc="-1" strike="noStrike">
              <a:solidFill>
                <a:srgbClr val="000000"/>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22b"/>
                </a:solidFill>
                <a:latin typeface="Arial"/>
              </a:rPr>
              <a:t>In this context, ENDURE proposes to explore with policy makers the drivers and challenges to changing practices in conventional farming.</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720" y="1888920"/>
            <a:ext cx="7772400" cy="2152440"/>
          </a:xfrm>
          <a:prstGeom prst="rect">
            <a:avLst/>
          </a:prstGeom>
          <a:no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bc623"/>
                </a:solidFill>
                <a:latin typeface="Verdana"/>
              </a:rPr>
              <a:t>State-of-progress after 17 months </a:t>
            </a:r>
            <a:r>
              <a:rPr b="1" lang="fr-FR" sz="2600" spc="-1" strike="noStrike">
                <a:solidFill>
                  <a:srgbClr val="7bc623"/>
                </a:solidFill>
                <a:latin typeface="Verdana"/>
              </a:rPr>
              <a:t>-</a:t>
            </a:r>
            <a:br>
              <a:rPr sz="2600"/>
            </a:br>
            <a:r>
              <a:rPr b="1" lang="fr-FR" sz="2600" spc="-1" strike="noStrike">
                <a:solidFill>
                  <a:srgbClr val="7bc623"/>
                </a:solidFill>
                <a:latin typeface="Verdana"/>
              </a:rPr>
              <a:t>01/01/2007 to 31/05/2008</a:t>
            </a:r>
            <a:endParaRPr b="1" lang="en-US" sz="2600" spc="-1" strike="noStrike">
              <a:solidFill>
                <a:srgbClr val="7bc623"/>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Results achieved after 17 Months</a:t>
            </a:r>
            <a:endParaRPr b="1" lang="en-US" sz="3000" spc="-1" strike="noStrike">
              <a:solidFill>
                <a:srgbClr val="7bc623"/>
              </a:solidFill>
              <a:latin typeface="Verdana"/>
            </a:endParaRPr>
          </a:p>
        </p:txBody>
      </p:sp>
      <p:sp>
        <p:nvSpPr>
          <p:cNvPr id="324" name="PlaceHolder 2"/>
          <p:cNvSpPr>
            <a:spLocks noGrp="1"/>
          </p:cNvSpPr>
          <p:nvPr>
            <p:ph/>
          </p:nvPr>
        </p:nvSpPr>
        <p:spPr>
          <a:xfrm>
            <a:off x="463320" y="1052640"/>
            <a:ext cx="8507160" cy="545616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Integration of the Network</a:t>
            </a:r>
            <a:endParaRPr b="1" lang="en-US" sz="2000" spc="-1" strike="noStrike">
              <a:solidFill>
                <a:srgbClr val="c0022b"/>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ragmentation of European Research:</a:t>
            </a:r>
            <a:endParaRPr b="0" lang="en-US" sz="18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fragmentation analysis of partners’ research have been made and the </a:t>
            </a:r>
            <a:r>
              <a:rPr b="0" lang="en-GB" sz="1600" spc="-1" strike="noStrike">
                <a:solidFill>
                  <a:srgbClr val="cc3300"/>
                </a:solidFill>
                <a:latin typeface="Arial"/>
              </a:rPr>
              <a:t>foresight study</a:t>
            </a:r>
            <a:r>
              <a:rPr b="0" lang="en-GB" sz="1600" spc="-1" strike="noStrike">
                <a:solidFill>
                  <a:srgbClr val="000000"/>
                </a:solidFill>
                <a:latin typeface="Arial"/>
              </a:rPr>
              <a:t> has been launched and will soon produced scenarios for the future of crop protection;</a:t>
            </a:r>
            <a:endParaRPr b="0" lang="en-US" sz="16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oss-linking with networks and projects through the </a:t>
            </a:r>
            <a:r>
              <a:rPr b="0" lang="en-GB" sz="1600" spc="-1" strike="noStrike">
                <a:solidFill>
                  <a:srgbClr val="cc3300"/>
                </a:solidFill>
                <a:latin typeface="Arial"/>
              </a:rPr>
              <a:t>CPN</a:t>
            </a:r>
            <a:r>
              <a:rPr b="0" lang="en-GB" sz="1600" spc="-1" strike="noStrike">
                <a:solidFill>
                  <a:srgbClr val="000000"/>
                </a:solidFill>
                <a:latin typeface="Arial"/>
              </a:rPr>
              <a:t> has started;</a:t>
            </a:r>
            <a:endParaRPr b="0" lang="en-US" sz="16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Network durability</a:t>
            </a:r>
            <a:r>
              <a:rPr b="0" lang="en-GB" sz="1600" spc="-1" strike="noStrike">
                <a:solidFill>
                  <a:srgbClr val="000000"/>
                </a:solidFill>
                <a:latin typeface="Arial"/>
              </a:rPr>
              <a:t>: an inventory of possible funding sources and legal structures has been made;</a:t>
            </a:r>
            <a:endParaRPr b="0" lang="en-US" sz="1600" spc="-1" strike="noStrike">
              <a:solidFill>
                <a:srgbClr val="000000"/>
              </a:solidFill>
              <a:latin typeface="Arial"/>
            </a:endParaRPr>
          </a:p>
          <a:p>
            <a:pPr lvl="1" marL="743040" indent="-28584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Virtual Lab</a:t>
            </a:r>
            <a:r>
              <a:rPr b="0" lang="en-GB" sz="1800" spc="-1" strike="noStrike">
                <a:solidFill>
                  <a:srgbClr val="000000"/>
                </a:solidFill>
                <a:latin typeface="Arial"/>
              </a:rPr>
              <a:t> implementation:</a:t>
            </a:r>
            <a:endParaRPr b="0" lang="en-US" sz="18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nventory of facilities is finished and the inventory of resources is starting;</a:t>
            </a:r>
            <a:endParaRPr b="0" lang="en-US" sz="16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VL will take example from a finished project (EUROBLIGHT) to build up the same kind of services: starting with a EUROWHEAT platform.</a:t>
            </a:r>
            <a:endParaRPr b="0" lang="en-US" sz="1600" spc="-1" strike="noStrike">
              <a:solidFill>
                <a:srgbClr val="000000"/>
              </a:solidFill>
              <a:latin typeface="Arial"/>
            </a:endParaRPr>
          </a:p>
          <a:p>
            <a:pPr lvl="1" marL="743040" indent="-28584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Mobility</a:t>
            </a:r>
            <a:r>
              <a:rPr b="0" lang="en-GB"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formation and assistance framework to facilitate </a:t>
            </a:r>
            <a:r>
              <a:rPr b="0" lang="en-GB" sz="1600" spc="-1" strike="noStrike">
                <a:solidFill>
                  <a:srgbClr val="cc3300"/>
                </a:solidFill>
                <a:latin typeface="Arial"/>
              </a:rPr>
              <a:t>internal mobility</a:t>
            </a:r>
            <a:r>
              <a:rPr b="0" lang="en-GB" sz="1600" spc="-1" strike="noStrike">
                <a:solidFill>
                  <a:srgbClr val="000000"/>
                </a:solidFill>
                <a:latin typeface="Arial"/>
              </a:rPr>
              <a:t> has been set up;</a:t>
            </a:r>
            <a:endParaRPr b="0" lang="en-US" sz="16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irst call for </a:t>
            </a:r>
            <a:r>
              <a:rPr b="0" lang="en-GB" sz="1600" spc="-1" strike="noStrike">
                <a:solidFill>
                  <a:srgbClr val="cc3300"/>
                </a:solidFill>
                <a:latin typeface="Arial"/>
              </a:rPr>
              <a:t>external mobility</a:t>
            </a:r>
            <a:r>
              <a:rPr b="0" lang="en-GB" sz="1600" spc="-1" strike="noStrike">
                <a:solidFill>
                  <a:srgbClr val="000000"/>
                </a:solidFill>
                <a:latin typeface="Arial"/>
              </a:rPr>
              <a:t> for INCO countries has been launched.</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rated knowledge Management:</a:t>
            </a:r>
            <a:endParaRPr b="0" lang="en-US" sz="18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general structure for databases in ENDURE has been defined </a:t>
            </a:r>
            <a:r>
              <a:rPr b="0" lang="en-GB" sz="1600" spc="-1" strike="noStrike">
                <a:solidFill>
                  <a:srgbClr val="000000"/>
                </a:solidFill>
                <a:latin typeface="Wingdings"/>
                <a:ea typeface="Wingdings"/>
              </a:rPr>
              <a:t></a:t>
            </a:r>
            <a:r>
              <a:rPr b="0" lang="en-GB" sz="1600" spc="-1" strike="noStrike">
                <a:solidFill>
                  <a:srgbClr val="000000"/>
                </a:solidFill>
                <a:latin typeface="Arial"/>
              </a:rPr>
              <a:t> a </a:t>
            </a:r>
            <a:r>
              <a:rPr b="0" lang="en-GB" sz="1600" spc="-1" strike="noStrike">
                <a:solidFill>
                  <a:srgbClr val="cc3300"/>
                </a:solidFill>
                <a:latin typeface="Arial"/>
              </a:rPr>
              <a:t>Common server</a:t>
            </a:r>
            <a:r>
              <a:rPr b="0" lang="en-GB" sz="1600" spc="-1" strike="noStrike">
                <a:solidFill>
                  <a:srgbClr val="000000"/>
                </a:solidFill>
                <a:latin typeface="Arial"/>
              </a:rPr>
              <a:t> for all databases has been set up;</a:t>
            </a:r>
            <a:endParaRPr b="0" lang="en-US" sz="16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ternal communication system has been installed since 8</a:t>
            </a:r>
            <a:r>
              <a:rPr b="0" lang="en-GB" sz="1600" spc="-1" strike="noStrike" baseline="30000">
                <a:solidFill>
                  <a:srgbClr val="000000"/>
                </a:solidFill>
                <a:latin typeface="Arial"/>
              </a:rPr>
              <a:t>th</a:t>
            </a:r>
            <a:r>
              <a:rPr b="0" lang="en-GB" sz="1600" spc="-1" strike="noStrike">
                <a:solidFill>
                  <a:srgbClr val="000000"/>
                </a:solidFill>
                <a:latin typeface="Arial"/>
              </a:rPr>
              <a:t> March 2007 </a:t>
            </a:r>
            <a:r>
              <a:rPr b="0" lang="en-GB" sz="1600" spc="-1" strike="noStrike">
                <a:solidFill>
                  <a:srgbClr val="000000"/>
                </a:solidFill>
                <a:latin typeface="Wingdings"/>
                <a:ea typeface="Wingdings"/>
              </a:rPr>
              <a:t></a:t>
            </a:r>
            <a:r>
              <a:rPr b="0" lang="en-GB" sz="1600" spc="-1" strike="noStrike">
                <a:solidFill>
                  <a:srgbClr val="000000"/>
                </a:solidFill>
                <a:latin typeface="Arial"/>
              </a:rPr>
              <a:t> </a:t>
            </a:r>
            <a:r>
              <a:rPr b="0" lang="en-GB" sz="1600" spc="-1" strike="noStrike">
                <a:solidFill>
                  <a:srgbClr val="cc3300"/>
                </a:solidFill>
                <a:latin typeface="Arial"/>
              </a:rPr>
              <a:t>Collaborative workspac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Results achieved after 17 Months</a:t>
            </a:r>
            <a:endParaRPr b="1" lang="en-US" sz="3000" spc="-1" strike="noStrike">
              <a:solidFill>
                <a:srgbClr val="7bc623"/>
              </a:solidFill>
              <a:latin typeface="Verdana"/>
            </a:endParaRPr>
          </a:p>
        </p:txBody>
      </p:sp>
      <p:sp>
        <p:nvSpPr>
          <p:cNvPr id="326" name="PlaceHolder 2"/>
          <p:cNvSpPr>
            <a:spLocks noGrp="1"/>
          </p:cNvSpPr>
          <p:nvPr>
            <p:ph/>
          </p:nvPr>
        </p:nvSpPr>
        <p:spPr>
          <a:xfrm>
            <a:off x="463320" y="1241280"/>
            <a:ext cx="8507160" cy="5267520"/>
          </a:xfrm>
          <a:prstGeom prst="rect">
            <a:avLst/>
          </a:prstGeom>
          <a:noFill/>
          <a:ln w="0">
            <a:noFill/>
          </a:ln>
        </p:spPr>
        <p:txBody>
          <a:bodyPr lIns="90000" rIns="90000" tIns="46800" bIns="46800" anchor="t">
            <a:normAutofit/>
          </a:bodyPr>
          <a:p>
            <a:pPr marL="343080" indent="-343080">
              <a:lnSpc>
                <a:spcPct val="90000"/>
              </a:lnSpc>
              <a:spcBef>
                <a:spcPts val="451"/>
              </a:spcBef>
              <a:buSzPct val="1097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22b"/>
                </a:solidFill>
                <a:latin typeface="Arial"/>
              </a:rPr>
              <a:t>Research Activities</a:t>
            </a:r>
            <a:endParaRPr b="1" lang="en-US" sz="1800" spc="-1" strike="noStrike">
              <a:solidFill>
                <a:srgbClr val="c0022b"/>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dentification and assessment of ready-to-transfer strategies to optimise and reduce pesticide use has been made through </a:t>
            </a:r>
            <a:r>
              <a:rPr b="0" lang="en-GB" sz="1400" spc="-1" strike="noStrike">
                <a:solidFill>
                  <a:srgbClr val="cc3300"/>
                </a:solidFill>
                <a:latin typeface="Arial"/>
              </a:rPr>
              <a:t>Case Studies</a:t>
            </a:r>
            <a:r>
              <a:rPr b="0" lang="en-GB"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results of the ending Case Studies will be published to end-users through </a:t>
            </a:r>
            <a:r>
              <a:rPr b="0" lang="en-GB" sz="1400" spc="-1" strike="noStrike">
                <a:solidFill>
                  <a:srgbClr val="cc3300"/>
                </a:solidFill>
                <a:latin typeface="Arial"/>
              </a:rPr>
              <a:t>Leaflets</a:t>
            </a:r>
            <a:r>
              <a:rPr b="0" lang="en-GB" sz="1400" spc="-1" strike="noStrike">
                <a:solidFill>
                  <a:srgbClr val="000000"/>
                </a:solidFill>
                <a:latin typeface="Arial"/>
              </a:rPr>
              <a:t> of good practices;</a:t>
            </a:r>
            <a:endParaRPr b="0" lang="en-US" sz="14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ial care is taken to </a:t>
            </a:r>
            <a:r>
              <a:rPr b="0" lang="en-GB" sz="1400" spc="-1" strike="noStrike">
                <a:solidFill>
                  <a:srgbClr val="cc3300"/>
                </a:solidFill>
                <a:latin typeface="Arial"/>
              </a:rPr>
              <a:t>Integration in Research activities</a:t>
            </a:r>
            <a:r>
              <a:rPr b="0" lang="en-GB"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451"/>
              </a:spcBef>
              <a:buSzPct val="1097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22b"/>
                </a:solidFill>
                <a:latin typeface="Arial"/>
              </a:rPr>
              <a:t>Dissemination Activities</a:t>
            </a:r>
            <a:endParaRPr b="1" lang="en-US" sz="1800" spc="-1" strike="noStrike">
              <a:solidFill>
                <a:srgbClr val="c0022b"/>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ining and Education</a:t>
            </a:r>
            <a:endParaRPr b="0" lang="en-US" sz="16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y topics for a </a:t>
            </a:r>
            <a:r>
              <a:rPr b="0" lang="en-GB" sz="1400" spc="-1" strike="noStrike">
                <a:solidFill>
                  <a:srgbClr val="cc3300"/>
                </a:solidFill>
                <a:latin typeface="Arial"/>
              </a:rPr>
              <a:t>joint training programme</a:t>
            </a:r>
            <a:r>
              <a:rPr b="0" lang="en-GB" sz="1400" spc="-1" strike="noStrike">
                <a:solidFill>
                  <a:srgbClr val="000000"/>
                </a:solidFill>
                <a:latin typeface="Arial"/>
              </a:rPr>
              <a:t> for ENDURE research staff have been identified;</a:t>
            </a:r>
            <a:endParaRPr b="0" lang="en-US" sz="14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first </a:t>
            </a:r>
            <a:r>
              <a:rPr b="0" lang="en-GB" sz="1400" spc="-1" strike="noStrike">
                <a:solidFill>
                  <a:srgbClr val="cc3300"/>
                </a:solidFill>
                <a:latin typeface="Arial"/>
              </a:rPr>
              <a:t>Summer School</a:t>
            </a:r>
            <a:r>
              <a:rPr b="0" lang="en-GB" sz="1400" spc="-1" strike="noStrike">
                <a:solidFill>
                  <a:srgbClr val="000000"/>
                </a:solidFill>
                <a:latin typeface="Arial"/>
              </a:rPr>
              <a:t> has been made in 2007, (next one in 2009)</a:t>
            </a:r>
            <a:endParaRPr b="0" lang="en-US" sz="14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a:t>
            </a:r>
            <a:r>
              <a:rPr b="0" lang="en-GB" sz="1400" spc="-1" strike="noStrike">
                <a:solidFill>
                  <a:srgbClr val="cc3300"/>
                </a:solidFill>
                <a:latin typeface="Arial"/>
              </a:rPr>
              <a:t>PhD Network</a:t>
            </a:r>
            <a:r>
              <a:rPr b="0" lang="en-GB" sz="1400" spc="-1" strike="noStrike">
                <a:solidFill>
                  <a:srgbClr val="000000"/>
                </a:solidFill>
                <a:latin typeface="Arial"/>
              </a:rPr>
              <a:t> is being implemented to enhance integration of PhDs.</a:t>
            </a:r>
            <a:endParaRPr b="0" lang="en-US" sz="1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ternal communication</a:t>
            </a:r>
            <a:endParaRPr b="0" lang="en-US" sz="16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cc3300"/>
                </a:solidFill>
                <a:latin typeface="Arial"/>
              </a:rPr>
              <a:t>public web-site</a:t>
            </a:r>
            <a:r>
              <a:rPr b="0" lang="en-GB" sz="1400" spc="-1" strike="noStrike">
                <a:solidFill>
                  <a:srgbClr val="000000"/>
                </a:solidFill>
                <a:latin typeface="Arial"/>
              </a:rPr>
              <a:t> is online, the Communication Team has been gathered and a </a:t>
            </a:r>
            <a:r>
              <a:rPr b="0" lang="en-GB" sz="1400" spc="-1" strike="noStrike">
                <a:solidFill>
                  <a:srgbClr val="cc3300"/>
                </a:solidFill>
                <a:latin typeface="Arial"/>
              </a:rPr>
              <a:t>Web-Editor</a:t>
            </a:r>
            <a:r>
              <a:rPr b="0" lang="en-GB" sz="1400" spc="-1" strike="noStrike">
                <a:solidFill>
                  <a:srgbClr val="000000"/>
                </a:solidFill>
                <a:latin typeface="Arial"/>
              </a:rPr>
              <a:t> has been hired to enhanced Network Communication;</a:t>
            </a:r>
            <a:endParaRPr b="0" lang="en-US" sz="14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contacts with </a:t>
            </a:r>
            <a:r>
              <a:rPr b="0" lang="en-GB" sz="1400" spc="-1" strike="noStrike">
                <a:solidFill>
                  <a:srgbClr val="cc3300"/>
                </a:solidFill>
                <a:latin typeface="Arial"/>
              </a:rPr>
              <a:t>INCO countries</a:t>
            </a:r>
            <a:r>
              <a:rPr b="0" lang="en-GB" sz="1400" spc="-1" strike="noStrike">
                <a:solidFill>
                  <a:srgbClr val="000000"/>
                </a:solidFill>
                <a:latin typeface="Arial"/>
              </a:rPr>
              <a:t> have been made (1st meeting in June);</a:t>
            </a:r>
            <a:endParaRPr b="0" lang="en-US" sz="14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cc3300"/>
                </a:solidFill>
                <a:latin typeface="Arial"/>
              </a:rPr>
              <a:t>first ENDURE International Conference</a:t>
            </a:r>
            <a:r>
              <a:rPr b="0" lang="en-GB" sz="1400" spc="-1" strike="noStrike">
                <a:solidFill>
                  <a:srgbClr val="000000"/>
                </a:solidFill>
                <a:latin typeface="Arial"/>
              </a:rPr>
              <a:t> will take place in La Grande Motte on 13</a:t>
            </a:r>
            <a:r>
              <a:rPr b="0" lang="en-GB" sz="1400" spc="-1" strike="noStrike" baseline="30000">
                <a:solidFill>
                  <a:srgbClr val="000000"/>
                </a:solidFill>
                <a:latin typeface="Arial"/>
              </a:rPr>
              <a:t>th</a:t>
            </a:r>
            <a:r>
              <a:rPr b="0" lang="en-GB" sz="1400" spc="-1" strike="noStrike">
                <a:solidFill>
                  <a:srgbClr val="000000"/>
                </a:solidFill>
                <a:latin typeface="Arial"/>
              </a:rPr>
              <a:t>-17</a:t>
            </a:r>
            <a:r>
              <a:rPr b="0" lang="en-GB" sz="1400" spc="-1" strike="noStrike" baseline="30000">
                <a:solidFill>
                  <a:srgbClr val="000000"/>
                </a:solidFill>
                <a:latin typeface="Arial"/>
              </a:rPr>
              <a:t>th</a:t>
            </a:r>
            <a:r>
              <a:rPr b="0" lang="en-GB" sz="1400" spc="-1" strike="noStrike">
                <a:solidFill>
                  <a:srgbClr val="000000"/>
                </a:solidFill>
                <a:latin typeface="Arial"/>
              </a:rPr>
              <a:t> October 2008.</a:t>
            </a:r>
            <a:endParaRPr b="0" lang="en-US" sz="1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DURE Information Centre</a:t>
            </a:r>
            <a:endParaRPr b="0" lang="en-US" sz="16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prototype of </a:t>
            </a:r>
            <a:r>
              <a:rPr b="0" lang="en-GB" sz="1400" spc="-1" strike="noStrike">
                <a:solidFill>
                  <a:srgbClr val="cc3300"/>
                </a:solidFill>
                <a:latin typeface="Arial"/>
              </a:rPr>
              <a:t>ENDURE Information Centre</a:t>
            </a:r>
            <a:r>
              <a:rPr b="0" lang="en-GB" sz="1400" spc="-1" strike="noStrike">
                <a:solidFill>
                  <a:srgbClr val="000000"/>
                </a:solidFill>
                <a:latin typeface="Arial"/>
              </a:rPr>
              <a:t> has been created to provide end-users with experts validated knowledge (first public demonstration is planned in September).</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Next ENDURE Event</a:t>
            </a:r>
            <a:endParaRPr b="1" lang="en-US" sz="3000" spc="-1" strike="noStrike">
              <a:solidFill>
                <a:srgbClr val="7bc623"/>
              </a:solidFill>
              <a:latin typeface="Verdana"/>
            </a:endParaRPr>
          </a:p>
        </p:txBody>
      </p:sp>
      <p:sp>
        <p:nvSpPr>
          <p:cNvPr id="328" name="PlaceHolder 2"/>
          <p:cNvSpPr>
            <a:spLocks noGrp="1"/>
          </p:cNvSpPr>
          <p:nvPr>
            <p:ph/>
          </p:nvPr>
        </p:nvSpPr>
        <p:spPr>
          <a:xfrm>
            <a:off x="463320" y="1241280"/>
            <a:ext cx="8507160" cy="52675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October 2008: 1st International Conference</a:t>
            </a:r>
            <a:endParaRPr b="1" lang="en-US" sz="2400" spc="-1" strike="noStrike">
              <a:solidFill>
                <a:srgbClr val="c0022b"/>
              </a:solidFill>
              <a:latin typeface="Arial"/>
            </a:endParaRPr>
          </a:p>
        </p:txBody>
      </p:sp>
      <p:pic>
        <p:nvPicPr>
          <p:cNvPr id="329" name="" descr=""/>
          <p:cNvPicPr/>
          <p:nvPr/>
        </p:nvPicPr>
        <p:blipFill>
          <a:blip r:embed="rId2"/>
          <a:stretch/>
        </p:blipFill>
        <p:spPr>
          <a:xfrm>
            <a:off x="2562120" y="1700280"/>
            <a:ext cx="3559320" cy="5040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828800" y="1371600"/>
            <a:ext cx="4038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ocietal expectations for </a:t>
            </a:r>
            <a:br>
              <a:rPr sz="2000"/>
            </a:br>
            <a:r>
              <a:rPr b="1" i="1" lang="en-GB" sz="2000" spc="-1" strike="noStrike">
                <a:solidFill>
                  <a:srgbClr val="000000"/>
                </a:solidFill>
                <a:latin typeface="Arial"/>
              </a:rPr>
              <a:t>safe food and environmentally</a:t>
            </a:r>
            <a:br>
              <a:rPr sz="2000"/>
            </a:br>
            <a:r>
              <a:rPr b="1" i="1" lang="en-GB" sz="2000" spc="-1" strike="noStrike">
                <a:solidFill>
                  <a:srgbClr val="000000"/>
                </a:solidFill>
                <a:latin typeface="Arial"/>
              </a:rPr>
              <a:t>friendly agriculture</a:t>
            </a:r>
            <a:endParaRPr b="0" lang="en-US" sz="2000" spc="-1" strike="noStrike">
              <a:solidFill>
                <a:srgbClr val="000000"/>
              </a:solidFill>
              <a:latin typeface="Arial"/>
            </a:endParaRPr>
          </a:p>
        </p:txBody>
      </p:sp>
      <p:sp>
        <p:nvSpPr>
          <p:cNvPr id="100" name=""/>
          <p:cNvSpPr/>
          <p:nvPr/>
        </p:nvSpPr>
        <p:spPr>
          <a:xfrm>
            <a:off x="152280" y="2590920"/>
            <a:ext cx="5105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0022b"/>
                </a:solidFill>
                <a:latin typeface="Arial"/>
              </a:rPr>
              <a:t>Area 5.4.6 -</a:t>
            </a:r>
            <a:r>
              <a:rPr b="0" lang="en-GB" sz="1800" spc="-1" strike="noStrike">
                <a:solidFill>
                  <a:srgbClr val="c0022b"/>
                </a:solidFill>
                <a:latin typeface="Arial"/>
              </a:rPr>
              <a:t> Safer and environmentally friendly production methods </a:t>
            </a:r>
            <a:br>
              <a:rPr sz="1800"/>
            </a:br>
            <a:r>
              <a:rPr b="0" lang="en-GB" sz="1800" spc="-1" strike="noStrike">
                <a:solidFill>
                  <a:srgbClr val="c0022b"/>
                </a:solidFill>
                <a:latin typeface="Arial"/>
              </a:rPr>
              <a:t>and technologies and healthier food stuffs.</a:t>
            </a:r>
            <a:br>
              <a:rPr sz="1800"/>
            </a:br>
            <a:r>
              <a:rPr b="1" i="1" lang="en-GB" sz="1800" spc="-1" strike="noStrike">
                <a:solidFill>
                  <a:srgbClr val="c0022b"/>
                </a:solidFill>
                <a:latin typeface="Arial"/>
              </a:rPr>
              <a:t>Topic 1 - </a:t>
            </a:r>
            <a:r>
              <a:rPr b="0" lang="en-GB" sz="1800" spc="-1" strike="noStrike">
                <a:solidFill>
                  <a:srgbClr val="c0022b"/>
                </a:solidFill>
                <a:latin typeface="Arial"/>
              </a:rPr>
              <a:t>Reducing the use of plant protection products.</a:t>
            </a:r>
            <a:endParaRPr b="0" lang="en-US" sz="1800" spc="-1" strike="noStrike">
              <a:solidFill>
                <a:srgbClr val="000000"/>
              </a:solidFill>
              <a:latin typeface="Arial"/>
            </a:endParaRPr>
          </a:p>
        </p:txBody>
      </p:sp>
      <p:sp>
        <p:nvSpPr>
          <p:cNvPr id="101" name=""/>
          <p:cNvSpPr/>
          <p:nvPr/>
        </p:nvSpPr>
        <p:spPr>
          <a:xfrm>
            <a:off x="304920" y="4419720"/>
            <a:ext cx="3886200" cy="930240"/>
          </a:xfrm>
          <a:prstGeom prst="rect">
            <a:avLst/>
          </a:prstGeom>
          <a:solidFill>
            <a:srgbClr val="2358cf"/>
          </a:solidFill>
          <a:ln w="0">
            <a:noFill/>
          </a:ln>
        </p:spPr>
        <p:style>
          <a:lnRef idx="0"/>
          <a:fillRef idx="0"/>
          <a:effectRef idx="0"/>
          <a:fontRef idx="minor"/>
        </p:style>
        <p:txBody>
          <a:bodyPr wrap="none" lIns="90000" rIns="90000" tIns="154800" bIns="11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EC Contribution</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2 M €</a:t>
            </a:r>
            <a:endParaRPr b="0" lang="en-US" sz="2000" spc="-1" strike="noStrike">
              <a:solidFill>
                <a:srgbClr val="000000"/>
              </a:solidFill>
              <a:latin typeface="Arial"/>
            </a:endParaRPr>
          </a:p>
        </p:txBody>
      </p:sp>
      <p:sp>
        <p:nvSpPr>
          <p:cNvPr id="102" name=""/>
          <p:cNvSpPr/>
          <p:nvPr/>
        </p:nvSpPr>
        <p:spPr>
          <a:xfrm flipH="1">
            <a:off x="914400" y="1828800"/>
            <a:ext cx="1447920" cy="853920"/>
          </a:xfrm>
          <a:custGeom>
            <a:avLst/>
            <a:gdLst>
              <a:gd name="textAreaLeft" fmla="*/ 360 w 1447920"/>
              <a:gd name="textAreaRight" fmla="*/ 1448640 w 1447920"/>
              <a:gd name="textAreaTop" fmla="*/ 0 h 853920"/>
              <a:gd name="textAreaBottom" fmla="*/ 854280 h 853920"/>
            </a:gdLst>
            <a:ahLst/>
            <a:rect l="textAreaLeft" t="textAreaTop" r="textAreaRight" b="textAreaBottom"/>
            <a:pathLst>
              <a:path w="21600" h="21600">
                <a:moveTo>
                  <a:pt x="5300" y="10800"/>
                </a:moveTo>
                <a:arcTo wR="-5500" hR="-5500" stAng="-10800000" swAng="-5635396"/>
                <a:lnTo>
                  <a:pt x="10061" y="25"/>
                </a:lnTo>
                <a:arcTo wR="10800" hR="10800" stAng="-5635396" swAng="5635396"/>
                <a:lnTo>
                  <a:pt x="24300" y="10800"/>
                </a:lnTo>
                <a:lnTo>
                  <a:pt x="18950" y="16150"/>
                </a:lnTo>
                <a:lnTo>
                  <a:pt x="13600" y="10800"/>
                </a:lnTo>
                <a:close/>
              </a:path>
            </a:pathLst>
          </a:custGeom>
          <a:solidFill>
            <a:srgbClr val="c0022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 name=""/>
          <p:cNvGrpSpPr/>
          <p:nvPr/>
        </p:nvGrpSpPr>
        <p:grpSpPr>
          <a:xfrm>
            <a:off x="4131000" y="2657160"/>
            <a:ext cx="3125520" cy="2431080"/>
            <a:chOff x="4131000" y="2657160"/>
            <a:chExt cx="3125520" cy="2431080"/>
          </a:xfrm>
        </p:grpSpPr>
        <p:sp>
          <p:nvSpPr>
            <p:cNvPr id="104" name=""/>
            <p:cNvSpPr/>
            <p:nvPr/>
          </p:nvSpPr>
          <p:spPr>
            <a:xfrm flipH="1" rot="20613000">
              <a:off x="5717520" y="2844720"/>
              <a:ext cx="1447560" cy="853920"/>
            </a:xfrm>
            <a:custGeom>
              <a:avLst/>
              <a:gdLst>
                <a:gd name="textAreaLeft" fmla="*/ -360 w 1447560"/>
                <a:gd name="textAreaRight" fmla="*/ 1447560 w 1447560"/>
                <a:gd name="textAreaTop" fmla="*/ 0 h 853920"/>
                <a:gd name="textAreaBottom" fmla="*/ 854280 h 853920"/>
              </a:gdLst>
              <a:ahLst/>
              <a:rect l="textAreaLeft" t="textAreaTop" r="textAreaRight" b="textAreaBottom"/>
              <a:pathLst>
                <a:path w="21600" h="21600">
                  <a:moveTo>
                    <a:pt x="5300" y="10800"/>
                  </a:moveTo>
                  <a:arcTo wR="-5500" hR="-5500" stAng="-10800000" swAng="-5635396"/>
                  <a:lnTo>
                    <a:pt x="10061" y="25"/>
                  </a:lnTo>
                  <a:arcTo wR="10800" hR="10800" stAng="-5635396" swAng="5635396"/>
                  <a:lnTo>
                    <a:pt x="24300" y="10800"/>
                  </a:lnTo>
                  <a:lnTo>
                    <a:pt x="18950" y="16150"/>
                  </a:lnTo>
                  <a:lnTo>
                    <a:pt x="13600" y="10800"/>
                  </a:lnTo>
                  <a:close/>
                </a:path>
              </a:pathLst>
            </a:cu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18449400">
              <a:off x="4186440" y="3826800"/>
              <a:ext cx="1447560" cy="853920"/>
            </a:xfrm>
            <a:custGeom>
              <a:avLst/>
              <a:gdLst>
                <a:gd name="textAreaLeft" fmla="*/ 0 w 1447560"/>
                <a:gd name="textAreaRight" fmla="*/ 1447920 w 1447560"/>
                <a:gd name="textAreaTop" fmla="*/ 0 h 853920"/>
                <a:gd name="textAreaBottom" fmla="*/ 854280 h 853920"/>
              </a:gdLst>
              <a:ahLst/>
              <a:rect l="textAreaLeft" t="textAreaTop" r="textAreaRight" b="textAreaBottom"/>
              <a:pathLst>
                <a:path w="21600" h="21600">
                  <a:moveTo>
                    <a:pt x="5300" y="10800"/>
                  </a:moveTo>
                  <a:arcTo wR="-5500" hR="-5500" stAng="-10800000" swAng="-5635396"/>
                  <a:lnTo>
                    <a:pt x="10061" y="25"/>
                  </a:lnTo>
                  <a:arcTo wR="10800" hR="10800" stAng="-5635396" swAng="5635396"/>
                  <a:lnTo>
                    <a:pt x="24300" y="10800"/>
                  </a:lnTo>
                  <a:lnTo>
                    <a:pt x="18950" y="16150"/>
                  </a:lnTo>
                  <a:lnTo>
                    <a:pt x="13600" y="10800"/>
                  </a:lnTo>
                  <a:close/>
                </a:path>
              </a:pathLst>
            </a:cu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 name=""/>
          <p:cNvSpPr/>
          <p:nvPr/>
        </p:nvSpPr>
        <p:spPr>
          <a:xfrm rot="19483200">
            <a:off x="4038480" y="5105160"/>
            <a:ext cx="1540080" cy="685800"/>
          </a:xfrm>
          <a:prstGeom prst="leftRightArrow">
            <a:avLst>
              <a:gd name="adj1" fmla="val 50000"/>
              <a:gd name="adj2" fmla="val 44705"/>
            </a:avLst>
          </a:prstGeom>
          <a:solidFill>
            <a:srgbClr val="83b81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409840" y="5900760"/>
            <a:ext cx="5943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nd-users (</a:t>
            </a:r>
            <a:r>
              <a:rPr b="0" lang="fr-FR" sz="2000" spc="-1" strike="noStrike">
                <a:solidFill>
                  <a:srgbClr val="000000"/>
                </a:solidFill>
                <a:latin typeface="Arial"/>
              </a:rPr>
              <a:t>farmers &amp; advisers)</a:t>
            </a:r>
            <a:br>
              <a:rPr sz="2000"/>
            </a:br>
            <a:r>
              <a:rPr b="0" lang="fr-FR" sz="2000" spc="-1" strike="noStrike">
                <a:solidFill>
                  <a:srgbClr val="000000"/>
                </a:solidFill>
                <a:latin typeface="Arial"/>
              </a:rPr>
              <a:t>+ industry, policy-makers, society at large… </a:t>
            </a:r>
            <a:endParaRPr b="0" lang="en-US" sz="2000" spc="-1" strike="noStrike">
              <a:solidFill>
                <a:srgbClr val="000000"/>
              </a:solidFill>
              <a:latin typeface="Arial"/>
            </a:endParaRPr>
          </a:p>
        </p:txBody>
      </p:sp>
      <p:sp>
        <p:nvSpPr>
          <p:cNvPr id="108" name=""/>
          <p:cNvSpPr/>
          <p:nvPr/>
        </p:nvSpPr>
        <p:spPr>
          <a:xfrm>
            <a:off x="5429160" y="3365640"/>
            <a:ext cx="3571920" cy="2562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9" name="" descr=""/>
          <p:cNvPicPr/>
          <p:nvPr/>
        </p:nvPicPr>
        <p:blipFill>
          <a:blip r:embed="rId1"/>
          <a:stretch/>
        </p:blipFill>
        <p:spPr>
          <a:xfrm>
            <a:off x="5943600" y="3657600"/>
            <a:ext cx="2411280" cy="692280"/>
          </a:xfrm>
          <a:prstGeom prst="rect">
            <a:avLst/>
          </a:prstGeom>
          <a:ln w="0">
            <a:noFill/>
          </a:ln>
        </p:spPr>
      </p:pic>
      <p:sp>
        <p:nvSpPr>
          <p:cNvPr id="110" name=""/>
          <p:cNvSpPr/>
          <p:nvPr/>
        </p:nvSpPr>
        <p:spPr>
          <a:xfrm>
            <a:off x="5867280" y="4556160"/>
            <a:ext cx="2819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ＭＳ Ｐゴシック"/>
              </a:rPr>
              <a:t>E</a:t>
            </a:r>
            <a:r>
              <a:rPr b="0" lang="fr-FR" sz="1800" spc="-1" strike="noStrike">
                <a:solidFill>
                  <a:srgbClr val="000000"/>
                </a:solidFill>
                <a:latin typeface="Arial"/>
                <a:ea typeface="ＭＳ Ｐゴシック"/>
              </a:rPr>
              <a:t>uropean </a:t>
            </a:r>
            <a:r>
              <a:rPr b="1" lang="fr-FR" sz="1800" spc="-1" strike="noStrike">
                <a:solidFill>
                  <a:srgbClr val="000000"/>
                </a:solidFill>
                <a:latin typeface="Arial"/>
                <a:ea typeface="ＭＳ Ｐゴシック"/>
              </a:rPr>
              <a:t>N</a:t>
            </a:r>
            <a:r>
              <a:rPr b="0" lang="fr-FR" sz="1800" spc="-1" strike="noStrike">
                <a:solidFill>
                  <a:srgbClr val="000000"/>
                </a:solidFill>
                <a:latin typeface="Arial"/>
                <a:ea typeface="ＭＳ Ｐゴシック"/>
              </a:rPr>
              <a:t>etwork for </a:t>
            </a:r>
            <a:r>
              <a:rPr b="1" lang="fr-FR" sz="1800" spc="-1" strike="noStrike">
                <a:solidFill>
                  <a:srgbClr val="000000"/>
                </a:solidFill>
                <a:latin typeface="Arial"/>
                <a:ea typeface="ＭＳ Ｐゴシック"/>
              </a:rPr>
              <a:t>DUR</a:t>
            </a:r>
            <a:r>
              <a:rPr b="0" lang="fr-FR" sz="1800" spc="-1" strike="noStrike">
                <a:solidFill>
                  <a:srgbClr val="000000"/>
                </a:solidFill>
                <a:latin typeface="Arial"/>
                <a:ea typeface="ＭＳ Ｐゴシック"/>
              </a:rPr>
              <a:t>able </a:t>
            </a:r>
            <a:r>
              <a:rPr b="1" lang="fr-FR" sz="1800" spc="-1" strike="noStrike">
                <a:solidFill>
                  <a:srgbClr val="000000"/>
                </a:solidFill>
                <a:latin typeface="Arial"/>
                <a:ea typeface="ＭＳ Ｐゴシック"/>
              </a:rPr>
              <a:t>E</a:t>
            </a:r>
            <a:r>
              <a:rPr b="0" lang="fr-FR" sz="1800" spc="-1" strike="noStrike">
                <a:solidFill>
                  <a:srgbClr val="000000"/>
                </a:solidFill>
                <a:latin typeface="Arial"/>
                <a:ea typeface="ＭＳ Ｐゴシック"/>
              </a:rPr>
              <a:t>xploitation of crop protection strategies</a:t>
            </a:r>
            <a:endParaRPr b="0" lang="en-US" sz="1800" spc="-1" strike="noStrike">
              <a:solidFill>
                <a:srgbClr val="000000"/>
              </a:solidFill>
              <a:latin typeface="Arial"/>
            </a:endParaRPr>
          </a:p>
        </p:txBody>
      </p:sp>
      <p:pic>
        <p:nvPicPr>
          <p:cNvPr id="111" name="" descr=""/>
          <p:cNvPicPr/>
          <p:nvPr/>
        </p:nvPicPr>
        <p:blipFill>
          <a:blip r:embed="rId2"/>
          <a:stretch/>
        </p:blipFill>
        <p:spPr>
          <a:xfrm>
            <a:off x="380880" y="76320"/>
            <a:ext cx="2649600" cy="760320"/>
          </a:xfrm>
          <a:prstGeom prst="rect">
            <a:avLst/>
          </a:prstGeom>
          <a:ln w="0">
            <a:noFill/>
          </a:ln>
        </p:spPr>
      </p:pic>
      <p:pic>
        <p:nvPicPr>
          <p:cNvPr id="112" name="" descr=""/>
          <p:cNvPicPr/>
          <p:nvPr/>
        </p:nvPicPr>
        <p:blipFill>
          <a:blip r:embed="rId3"/>
          <a:stretch/>
        </p:blipFill>
        <p:spPr>
          <a:xfrm>
            <a:off x="4289400" y="257040"/>
            <a:ext cx="628560" cy="507960"/>
          </a:xfrm>
          <a:prstGeom prst="rect">
            <a:avLst/>
          </a:prstGeom>
          <a:ln w="0">
            <a:noFill/>
          </a:ln>
        </p:spPr>
      </p:pic>
      <p:pic>
        <p:nvPicPr>
          <p:cNvPr id="113" name="" descr=""/>
          <p:cNvPicPr/>
          <p:nvPr/>
        </p:nvPicPr>
        <p:blipFill>
          <a:blip r:embed="rId4"/>
          <a:stretch/>
        </p:blipFill>
        <p:spPr>
          <a:xfrm>
            <a:off x="3335400" y="250920"/>
            <a:ext cx="668160" cy="450720"/>
          </a:xfrm>
          <a:prstGeom prst="rect">
            <a:avLst/>
          </a:prstGeom>
          <a:ln w="0">
            <a:noFill/>
          </a:ln>
        </p:spPr>
      </p:pic>
      <p:sp>
        <p:nvSpPr>
          <p:cNvPr id="114" name=""/>
          <p:cNvSpPr/>
          <p:nvPr/>
        </p:nvSpPr>
        <p:spPr>
          <a:xfrm>
            <a:off x="6400800" y="198108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rop protection:</a:t>
            </a:r>
            <a:br>
              <a:rPr sz="1800"/>
            </a:br>
            <a:r>
              <a:rPr b="1" i="1" lang="en-GB" sz="1800" spc="-1" strike="noStrike">
                <a:solidFill>
                  <a:srgbClr val="000000"/>
                </a:solidFill>
                <a:latin typeface="Arial"/>
              </a:rPr>
              <a:t>fragmented scientific knowledge and R&amp;D community</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onsortium composition</a:t>
            </a:r>
            <a:br>
              <a:rPr sz="3000"/>
            </a:br>
            <a:endParaRPr b="1" lang="en-US" sz="3000" spc="-1" strike="noStrike">
              <a:solidFill>
                <a:srgbClr val="7bc623"/>
              </a:solidFill>
              <a:latin typeface="Verdana"/>
            </a:endParaRPr>
          </a:p>
        </p:txBody>
      </p:sp>
      <p:sp>
        <p:nvSpPr>
          <p:cNvPr id="116" name=""/>
          <p:cNvSpPr/>
          <p:nvPr/>
        </p:nvSpPr>
        <p:spPr>
          <a:xfrm>
            <a:off x="60480" y="1484280"/>
            <a:ext cx="2057400" cy="4991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Research</a:t>
            </a:r>
            <a:r>
              <a:rPr b="1" lang="en-GB" sz="1700" spc="-1" strike="noStrike">
                <a:solidFill>
                  <a:srgbClr val="c0022b"/>
                </a:solidFill>
                <a:latin typeface="Arial"/>
              </a:rPr>
              <a:t> </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u="sng">
                <a:solidFill>
                  <a:srgbClr val="ee820f"/>
                </a:solidFill>
                <a:uFillTx/>
                <a:latin typeface="Arial"/>
              </a:rPr>
              <a:t>INRA</a:t>
            </a:r>
            <a:r>
              <a:rPr b="1" lang="en-GB" sz="1700" spc="-1" strike="noStrike" u="sng">
                <a:solidFill>
                  <a:srgbClr val="ff9966"/>
                </a:solidFill>
                <a:uFillTx/>
                <a:latin typeface="Arial"/>
              </a:rPr>
              <a:t> </a:t>
            </a:r>
            <a:r>
              <a:rPr b="1" lang="en-GB" sz="1700" spc="-1" strike="noStrike" u="sng">
                <a:solidFill>
                  <a:srgbClr val="000000"/>
                </a:solidFill>
                <a:uFillTx/>
                <a:latin typeface="Arial"/>
              </a:rPr>
              <a:t>- FR</a:t>
            </a:r>
            <a:br>
              <a:rPr sz="1700"/>
            </a:br>
            <a:r>
              <a:rPr b="1" lang="en-GB" sz="1700" spc="-1" strike="noStrike">
                <a:solidFill>
                  <a:srgbClr val="000000"/>
                </a:solidFill>
                <a:latin typeface="Arial"/>
              </a:rPr>
              <a:t> </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ee820f"/>
                </a:solidFill>
                <a:latin typeface="Arial"/>
              </a:rPr>
              <a:t> </a:t>
            </a:r>
            <a:r>
              <a:rPr b="1" lang="de-DE" sz="1700" spc="-1" strike="noStrike">
                <a:solidFill>
                  <a:srgbClr val="ee820f"/>
                </a:solidFill>
                <a:latin typeface="Arial"/>
              </a:rPr>
              <a:t>JKI</a:t>
            </a:r>
            <a:r>
              <a:rPr b="1" lang="de-DE" sz="1700" spc="-1" strike="noStrike">
                <a:solidFill>
                  <a:srgbClr val="ff9966"/>
                </a:solidFill>
                <a:latin typeface="Arial"/>
              </a:rPr>
              <a:t> </a:t>
            </a:r>
            <a:r>
              <a:rPr b="1" lang="en-GB" sz="1700" spc="-1" strike="noStrike">
                <a:solidFill>
                  <a:srgbClr val="000000"/>
                </a:solidFill>
                <a:latin typeface="Arial"/>
              </a:rPr>
              <a:t>- </a:t>
            </a:r>
            <a:r>
              <a:rPr b="1" lang="de-DE" sz="1700" spc="-1" strike="noStrike">
                <a:solidFill>
                  <a:srgbClr val="000000"/>
                </a:solidFill>
                <a:latin typeface="Arial"/>
              </a:rPr>
              <a:t>DE</a:t>
            </a:r>
            <a:br>
              <a:rPr sz="1700"/>
            </a:br>
            <a:r>
              <a:rPr b="1" lang="de-DE" sz="1700" spc="-1" strike="noStrike">
                <a:solidFill>
                  <a:srgbClr val="000000"/>
                </a:solidFill>
                <a:latin typeface="Arial"/>
              </a:rPr>
              <a:t> </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RRES</a:t>
            </a:r>
            <a:r>
              <a:rPr b="1" lang="en-GB" sz="1700" spc="-1" strike="noStrike">
                <a:solidFill>
                  <a:srgbClr val="000000"/>
                </a:solidFill>
                <a:latin typeface="Arial"/>
              </a:rPr>
              <a:t> - UK</a:t>
            </a:r>
            <a:br>
              <a:rPr sz="1700"/>
            </a:br>
            <a:r>
              <a:rPr b="1" lang="en-GB" sz="1700" spc="-1" strike="noStrike">
                <a:solidFill>
                  <a:srgbClr val="000000"/>
                </a:solidFill>
                <a:latin typeface="Arial"/>
              </a:rPr>
              <a:t> </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ee820f"/>
                </a:solidFill>
                <a:latin typeface="Arial"/>
              </a:rPr>
              <a:t> </a:t>
            </a:r>
            <a:r>
              <a:rPr b="1" lang="de-DE" sz="1700" spc="-1" strike="noStrike">
                <a:solidFill>
                  <a:srgbClr val="ee820f"/>
                </a:solidFill>
                <a:latin typeface="Arial"/>
              </a:rPr>
              <a:t>CIRAD </a:t>
            </a:r>
            <a:r>
              <a:rPr b="1" lang="en-GB" sz="1700" spc="-1" strike="noStrike">
                <a:solidFill>
                  <a:srgbClr val="000000"/>
                </a:solidFill>
                <a:latin typeface="Arial"/>
              </a:rPr>
              <a:t>- F</a:t>
            </a:r>
            <a:r>
              <a:rPr b="1" lang="de-DE" sz="1700" spc="-1" strike="noStrike">
                <a:solidFill>
                  <a:srgbClr val="000000"/>
                </a:solidFill>
                <a:latin typeface="Arial"/>
              </a:rPr>
              <a:t>R</a:t>
            </a:r>
            <a:br>
              <a:rPr sz="1700"/>
            </a:br>
            <a:r>
              <a:rPr b="1" lang="de-DE" sz="1700" spc="-1" strike="noStrike">
                <a:solidFill>
                  <a:srgbClr val="000000"/>
                </a:solidFill>
                <a:latin typeface="Arial"/>
              </a:rPr>
              <a:t> </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ee820f"/>
                </a:solidFill>
                <a:latin typeface="Arial"/>
              </a:rPr>
              <a:t> </a:t>
            </a:r>
            <a:r>
              <a:rPr b="1" lang="de-DE" sz="1700" spc="-1" strike="noStrike">
                <a:solidFill>
                  <a:srgbClr val="ee820f"/>
                </a:solidFill>
                <a:latin typeface="Arial"/>
              </a:rPr>
              <a:t>CNR</a:t>
            </a:r>
            <a:r>
              <a:rPr b="1" lang="de-DE" sz="1700" spc="-1" strike="noStrike">
                <a:solidFill>
                  <a:srgbClr val="000000"/>
                </a:solidFill>
                <a:latin typeface="Arial"/>
              </a:rPr>
              <a:t> </a:t>
            </a:r>
            <a:r>
              <a:rPr b="1" lang="en-GB" sz="1700" spc="-1" strike="noStrike">
                <a:solidFill>
                  <a:srgbClr val="000000"/>
                </a:solidFill>
                <a:latin typeface="Arial"/>
              </a:rPr>
              <a:t>- </a:t>
            </a:r>
            <a:r>
              <a:rPr b="1" lang="de-DE" sz="1700" spc="-1" strike="noStrike">
                <a:solidFill>
                  <a:srgbClr val="000000"/>
                </a:solidFill>
                <a:latin typeface="Arial"/>
              </a:rPr>
              <a:t>IT</a:t>
            </a:r>
            <a:endParaRPr b="0" lang="en-US" sz="1700" spc="-1" strike="noStrike">
              <a:solidFill>
                <a:srgbClr val="000000"/>
              </a:solidFill>
              <a:latin typeface="Arial"/>
            </a:endParaRPr>
          </a:p>
          <a:p>
            <a:pPr>
              <a:lnSpc>
                <a:spcPct val="11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AGROS</a:t>
            </a:r>
            <a:r>
              <a:rPr b="1" lang="en-GB" sz="1700" spc="-1" strike="noStrike">
                <a:solidFill>
                  <a:srgbClr val="000000"/>
                </a:solidFill>
                <a:latin typeface="Arial"/>
              </a:rPr>
              <a:t> - CH</a:t>
            </a:r>
            <a:br>
              <a:rPr sz="1700"/>
            </a:br>
            <a:r>
              <a:rPr b="1" lang="en-GB" sz="1700" spc="-1" strike="noStrike">
                <a:solidFill>
                  <a:srgbClr val="000000"/>
                </a:solidFill>
                <a:latin typeface="Arial"/>
              </a:rPr>
              <a:t> </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WUR (PRI-PPO-LEI)</a:t>
            </a:r>
            <a:r>
              <a:rPr b="1" lang="en-GB" sz="1700" spc="-1" strike="noStrike">
                <a:solidFill>
                  <a:srgbClr val="a50021"/>
                </a:solidFill>
                <a:latin typeface="Arial"/>
              </a:rPr>
              <a:t> </a:t>
            </a:r>
            <a:r>
              <a:rPr b="1" lang="en-GB" sz="1700" spc="-1" strike="noStrike">
                <a:solidFill>
                  <a:srgbClr val="000000"/>
                </a:solidFill>
                <a:latin typeface="Arial"/>
              </a:rPr>
              <a:t>- NL</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IHAR</a:t>
            </a:r>
            <a:r>
              <a:rPr b="1" lang="en-GB" sz="1700" spc="-1" strike="noStrike">
                <a:solidFill>
                  <a:srgbClr val="ff9966"/>
                </a:solidFill>
                <a:latin typeface="Arial"/>
              </a:rPr>
              <a:t> </a:t>
            </a:r>
            <a:r>
              <a:rPr b="1" lang="en-GB" sz="1700" spc="-1" strike="noStrike">
                <a:solidFill>
                  <a:srgbClr val="000000"/>
                </a:solidFill>
                <a:latin typeface="Arial"/>
              </a:rPr>
              <a:t>- PL</a:t>
            </a:r>
            <a:endParaRPr b="0" lang="en-US" sz="1700" spc="-1" strike="noStrike">
              <a:solidFill>
                <a:srgbClr val="000000"/>
              </a:solidFill>
              <a:latin typeface="Arial"/>
            </a:endParaRPr>
          </a:p>
        </p:txBody>
      </p:sp>
      <p:sp>
        <p:nvSpPr>
          <p:cNvPr id="117" name=""/>
          <p:cNvSpPr/>
          <p:nvPr/>
        </p:nvSpPr>
        <p:spPr>
          <a:xfrm>
            <a:off x="2117880" y="3213000"/>
            <a:ext cx="1657080" cy="99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Extension</a:t>
            </a:r>
            <a:endParaRPr b="0" lang="en-US" sz="20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DAAS</a:t>
            </a:r>
            <a:r>
              <a:rPr b="1" lang="en-GB" sz="1700" spc="-1" strike="noStrike">
                <a:solidFill>
                  <a:srgbClr val="a50021"/>
                </a:solidFill>
                <a:latin typeface="Arial"/>
              </a:rPr>
              <a:t> </a:t>
            </a:r>
            <a:r>
              <a:rPr b="1" lang="en-GB" sz="1700" spc="-1" strike="noStrike">
                <a:solidFill>
                  <a:srgbClr val="000000"/>
                </a:solidFill>
                <a:latin typeface="Arial"/>
              </a:rPr>
              <a:t>- DK</a:t>
            </a:r>
            <a:r>
              <a:rPr b="1" lang="en-GB" sz="1700" spc="-1" strike="noStrike">
                <a:solidFill>
                  <a:srgbClr val="ee820f"/>
                </a:solidFill>
                <a:latin typeface="Arial"/>
              </a:rPr>
              <a:t> </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ACTA</a:t>
            </a:r>
            <a:r>
              <a:rPr b="1" lang="en-GB" sz="1700" spc="-1" strike="noStrike">
                <a:solidFill>
                  <a:srgbClr val="a50021"/>
                </a:solidFill>
                <a:latin typeface="Arial"/>
              </a:rPr>
              <a:t> </a:t>
            </a:r>
            <a:r>
              <a:rPr b="1" lang="en-GB" sz="1700" spc="-1" strike="noStrike">
                <a:solidFill>
                  <a:srgbClr val="000000"/>
                </a:solidFill>
                <a:latin typeface="Arial"/>
              </a:rPr>
              <a:t>- FR</a:t>
            </a:r>
            <a:r>
              <a:rPr b="1" lang="en-GB" sz="1700" spc="-1" strike="noStrike">
                <a:solidFill>
                  <a:srgbClr val="ff9966"/>
                </a:solidFill>
                <a:latin typeface="Arial"/>
              </a:rPr>
              <a:t> </a:t>
            </a:r>
            <a:endParaRPr b="0" lang="en-US" sz="1700" spc="-1" strike="noStrike">
              <a:solidFill>
                <a:srgbClr val="000000"/>
              </a:solidFill>
              <a:latin typeface="Arial"/>
            </a:endParaRPr>
          </a:p>
        </p:txBody>
      </p:sp>
      <p:sp>
        <p:nvSpPr>
          <p:cNvPr id="118" name=""/>
          <p:cNvSpPr/>
          <p:nvPr/>
        </p:nvSpPr>
        <p:spPr>
          <a:xfrm>
            <a:off x="2117880" y="5029200"/>
            <a:ext cx="1676160" cy="99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Industry</a:t>
            </a:r>
            <a:endParaRPr b="0" lang="en-US" sz="20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IBMA</a:t>
            </a:r>
            <a:r>
              <a:rPr b="1" lang="en-GB" sz="1700" spc="-1" strike="noStrike">
                <a:solidFill>
                  <a:srgbClr val="000000"/>
                </a:solidFill>
                <a:latin typeface="Arial"/>
              </a:rPr>
              <a:t> - Int.</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
          <p:cNvSpPr/>
          <p:nvPr/>
        </p:nvSpPr>
        <p:spPr>
          <a:xfrm>
            <a:off x="2117880" y="1484280"/>
            <a:ext cx="1969920" cy="1569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Education &amp; R</a:t>
            </a:r>
            <a:endParaRPr b="0" lang="en-US" sz="20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SSSUP </a:t>
            </a:r>
            <a:r>
              <a:rPr b="1" lang="en-GB" sz="1700" spc="-1" strike="noStrike">
                <a:solidFill>
                  <a:srgbClr val="000000"/>
                </a:solidFill>
                <a:latin typeface="Arial"/>
              </a:rPr>
              <a:t>- IT</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SZIE </a:t>
            </a:r>
            <a:r>
              <a:rPr b="1" lang="en-GB" sz="1700" spc="-1" strike="noStrike">
                <a:solidFill>
                  <a:srgbClr val="000000"/>
                </a:solidFill>
                <a:latin typeface="Arial"/>
              </a:rPr>
              <a:t>- HU</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UdL </a:t>
            </a:r>
            <a:r>
              <a:rPr b="1" lang="en-GB" sz="1700" spc="-1" strike="noStrike">
                <a:solidFill>
                  <a:srgbClr val="000000"/>
                </a:solidFill>
                <a:latin typeface="Arial"/>
              </a:rPr>
              <a:t>- SP</a:t>
            </a:r>
            <a:endParaRPr b="0" lang="en-US" sz="1700" spc="-1" strike="noStrike">
              <a:solidFill>
                <a:srgbClr val="000000"/>
              </a:solidFill>
              <a:latin typeface="Arial"/>
            </a:endParaRPr>
          </a:p>
          <a:p>
            <a:pPr>
              <a:lnSpc>
                <a:spcPct val="110000"/>
              </a:lnSpc>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bdf53"/>
                </a:solidFill>
                <a:latin typeface="Arial"/>
              </a:rPr>
              <a:t> </a:t>
            </a:r>
            <a:r>
              <a:rPr b="1" lang="en-GB" sz="1700" spc="-1" strike="noStrike">
                <a:solidFill>
                  <a:srgbClr val="ff9966"/>
                </a:solidFill>
                <a:latin typeface="Arial"/>
              </a:rPr>
              <a:t>AU</a:t>
            </a:r>
            <a:r>
              <a:rPr b="1" lang="en-GB" sz="1700" spc="-1" strike="noStrike">
                <a:solidFill>
                  <a:srgbClr val="ee820f"/>
                </a:solidFill>
                <a:latin typeface="Arial"/>
              </a:rPr>
              <a:t> </a:t>
            </a:r>
            <a:r>
              <a:rPr b="1" lang="en-GB" sz="1700" spc="-1" strike="noStrike">
                <a:solidFill>
                  <a:srgbClr val="000000"/>
                </a:solidFill>
                <a:latin typeface="Arial"/>
              </a:rPr>
              <a:t>- DK</a:t>
            </a:r>
            <a:endParaRPr b="0" lang="en-US" sz="1700" spc="-1" strike="noStrike">
              <a:solidFill>
                <a:srgbClr val="000000"/>
              </a:solidFill>
              <a:latin typeface="Arial"/>
            </a:endParaRPr>
          </a:p>
        </p:txBody>
      </p:sp>
      <p:sp>
        <p:nvSpPr>
          <p:cNvPr id="120" name=""/>
          <p:cNvSpPr/>
          <p:nvPr/>
        </p:nvSpPr>
        <p:spPr>
          <a:xfrm>
            <a:off x="2117880" y="4343400"/>
            <a:ext cx="1736640" cy="7142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Management</a:t>
            </a:r>
            <a:endParaRPr b="0" lang="en-US" sz="20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IT</a:t>
            </a:r>
            <a:r>
              <a:rPr b="1" lang="en-GB" sz="1700" spc="-1" strike="noStrike">
                <a:solidFill>
                  <a:srgbClr val="000000"/>
                </a:solidFill>
                <a:latin typeface="Arial"/>
              </a:rPr>
              <a:t> - FR</a:t>
            </a:r>
            <a:endParaRPr b="0" lang="en-US" sz="1700" spc="-1" strike="noStrike">
              <a:solidFill>
                <a:srgbClr val="000000"/>
              </a:solidFill>
              <a:latin typeface="Arial"/>
            </a:endParaRPr>
          </a:p>
        </p:txBody>
      </p:sp>
      <p:sp>
        <p:nvSpPr>
          <p:cNvPr id="121" name=""/>
          <p:cNvSpPr/>
          <p:nvPr/>
        </p:nvSpPr>
        <p:spPr>
          <a:xfrm>
            <a:off x="1684440" y="5918040"/>
            <a:ext cx="2652480" cy="7142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In collaboration with</a:t>
            </a:r>
            <a:endParaRPr b="0" lang="en-US" sz="20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INCO countries</a:t>
            </a:r>
            <a:endParaRPr b="0" lang="en-US" sz="1700" spc="-1" strike="noStrike">
              <a:solidFill>
                <a:srgbClr val="000000"/>
              </a:solidFill>
              <a:latin typeface="Arial"/>
            </a:endParaRPr>
          </a:p>
        </p:txBody>
      </p:sp>
      <p:grpSp>
        <p:nvGrpSpPr>
          <p:cNvPr id="122" name=""/>
          <p:cNvGrpSpPr/>
          <p:nvPr/>
        </p:nvGrpSpPr>
        <p:grpSpPr>
          <a:xfrm>
            <a:off x="3114720" y="942840"/>
            <a:ext cx="6291360" cy="5610240"/>
            <a:chOff x="3114720" y="942840"/>
            <a:chExt cx="6291360" cy="5610240"/>
          </a:xfrm>
        </p:grpSpPr>
        <p:sp>
          <p:nvSpPr>
            <p:cNvPr id="123" name=""/>
            <p:cNvSpPr/>
            <p:nvPr/>
          </p:nvSpPr>
          <p:spPr>
            <a:xfrm>
              <a:off x="6931080" y="1066680"/>
              <a:ext cx="133200" cy="19080"/>
            </a:xfrm>
            <a:custGeom>
              <a:avLst/>
              <a:gdLst/>
              <a:ahLst/>
              <a:rect l="l" t="t" r="r" b="b"/>
              <a:pathLst>
                <a:path w="14" h="2">
                  <a:moveTo>
                    <a:pt x="7" y="2"/>
                  </a:moveTo>
                  <a:cubicBezTo>
                    <a:pt x="2" y="2"/>
                    <a:pt x="0" y="0"/>
                    <a:pt x="7" y="0"/>
                  </a:cubicBezTo>
                  <a:cubicBezTo>
                    <a:pt x="10" y="0"/>
                    <a:pt x="14" y="2"/>
                    <a:pt x="7" y="2"/>
                  </a:cubicBezTo>
                </a:path>
              </a:pathLst>
            </a:custGeom>
            <a:solidFill>
              <a:srgbClr val="a9a8a7"/>
            </a:solidFill>
            <a:ln w="0">
              <a:solidFill>
                <a:srgbClr val="ece9ec"/>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4" name=""/>
            <p:cNvSpPr/>
            <p:nvPr/>
          </p:nvSpPr>
          <p:spPr>
            <a:xfrm>
              <a:off x="7083360" y="1000080"/>
              <a:ext cx="38160" cy="95400"/>
            </a:xfrm>
            <a:custGeom>
              <a:avLst/>
              <a:gdLst/>
              <a:ahLst/>
              <a:rect l="l" t="t" r="r" b="b"/>
              <a:pathLst>
                <a:path w="4" h="10">
                  <a:moveTo>
                    <a:pt x="1" y="3"/>
                  </a:moveTo>
                  <a:cubicBezTo>
                    <a:pt x="2" y="0"/>
                    <a:pt x="2" y="1"/>
                    <a:pt x="4" y="3"/>
                  </a:cubicBezTo>
                  <a:cubicBezTo>
                    <a:pt x="0" y="10"/>
                    <a:pt x="0" y="7"/>
                    <a:pt x="1" y="3"/>
                  </a:cubicBezTo>
                </a:path>
              </a:pathLst>
            </a:custGeom>
            <a:solidFill>
              <a:srgbClr val="a9a8a7"/>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110360" y="942840"/>
              <a:ext cx="2295720" cy="3924360"/>
            </a:xfrm>
            <a:custGeom>
              <a:avLst/>
              <a:gdLst/>
              <a:ahLst/>
              <a:rect l="l" t="t" r="r" b="b"/>
              <a:pathLst>
                <a:path w="241" h="412">
                  <a:moveTo>
                    <a:pt x="10" y="204"/>
                  </a:moveTo>
                  <a:cubicBezTo>
                    <a:pt x="11" y="204"/>
                    <a:pt x="16" y="206"/>
                    <a:pt x="16" y="207"/>
                  </a:cubicBezTo>
                  <a:cubicBezTo>
                    <a:pt x="16" y="207"/>
                    <a:pt x="10" y="208"/>
                    <a:pt x="10" y="208"/>
                  </a:cubicBezTo>
                  <a:cubicBezTo>
                    <a:pt x="7" y="206"/>
                    <a:pt x="7" y="206"/>
                    <a:pt x="10" y="204"/>
                  </a:cubicBezTo>
                  <a:moveTo>
                    <a:pt x="17" y="211"/>
                  </a:moveTo>
                  <a:cubicBezTo>
                    <a:pt x="14" y="214"/>
                    <a:pt x="13" y="219"/>
                    <a:pt x="10" y="220"/>
                  </a:cubicBezTo>
                  <a:cubicBezTo>
                    <a:pt x="9" y="220"/>
                    <a:pt x="5" y="218"/>
                    <a:pt x="7" y="217"/>
                  </a:cubicBezTo>
                  <a:cubicBezTo>
                    <a:pt x="7" y="212"/>
                    <a:pt x="13" y="212"/>
                    <a:pt x="17" y="211"/>
                  </a:cubicBezTo>
                  <a:moveTo>
                    <a:pt x="241" y="0"/>
                  </a:moveTo>
                  <a:cubicBezTo>
                    <a:pt x="194" y="14"/>
                    <a:pt x="125" y="34"/>
                    <a:pt x="122" y="29"/>
                  </a:cubicBezTo>
                  <a:cubicBezTo>
                    <a:pt x="124" y="25"/>
                    <a:pt x="129" y="21"/>
                    <a:pt x="133" y="19"/>
                  </a:cubicBezTo>
                  <a:cubicBezTo>
                    <a:pt x="118" y="12"/>
                    <a:pt x="120" y="14"/>
                    <a:pt x="104" y="16"/>
                  </a:cubicBezTo>
                  <a:cubicBezTo>
                    <a:pt x="106" y="20"/>
                    <a:pt x="116" y="19"/>
                    <a:pt x="117" y="23"/>
                  </a:cubicBezTo>
                  <a:cubicBezTo>
                    <a:pt x="118" y="26"/>
                    <a:pt x="113" y="34"/>
                    <a:pt x="117" y="37"/>
                  </a:cubicBezTo>
                  <a:cubicBezTo>
                    <a:pt x="127" y="34"/>
                    <a:pt x="125" y="49"/>
                    <a:pt x="132" y="54"/>
                  </a:cubicBezTo>
                  <a:cubicBezTo>
                    <a:pt x="130" y="54"/>
                    <a:pt x="120" y="52"/>
                    <a:pt x="117" y="50"/>
                  </a:cubicBezTo>
                  <a:cubicBezTo>
                    <a:pt x="116" y="52"/>
                    <a:pt x="115" y="57"/>
                    <a:pt x="113" y="62"/>
                  </a:cubicBezTo>
                  <a:cubicBezTo>
                    <a:pt x="111" y="67"/>
                    <a:pt x="111" y="61"/>
                    <a:pt x="109" y="68"/>
                  </a:cubicBezTo>
                  <a:cubicBezTo>
                    <a:pt x="107" y="75"/>
                    <a:pt x="115" y="75"/>
                    <a:pt x="115" y="84"/>
                  </a:cubicBezTo>
                  <a:cubicBezTo>
                    <a:pt x="109" y="90"/>
                    <a:pt x="96" y="82"/>
                    <a:pt x="91" y="87"/>
                  </a:cubicBezTo>
                  <a:cubicBezTo>
                    <a:pt x="92" y="93"/>
                    <a:pt x="94" y="94"/>
                    <a:pt x="102" y="94"/>
                  </a:cubicBezTo>
                  <a:cubicBezTo>
                    <a:pt x="102" y="96"/>
                    <a:pt x="104" y="104"/>
                    <a:pt x="100" y="104"/>
                  </a:cubicBezTo>
                  <a:cubicBezTo>
                    <a:pt x="95" y="105"/>
                    <a:pt x="92" y="102"/>
                    <a:pt x="88" y="101"/>
                  </a:cubicBezTo>
                  <a:cubicBezTo>
                    <a:pt x="86" y="101"/>
                    <a:pt x="78" y="104"/>
                    <a:pt x="77" y="100"/>
                  </a:cubicBezTo>
                  <a:cubicBezTo>
                    <a:pt x="77" y="96"/>
                    <a:pt x="76" y="91"/>
                    <a:pt x="74" y="87"/>
                  </a:cubicBezTo>
                  <a:cubicBezTo>
                    <a:pt x="77" y="73"/>
                    <a:pt x="60" y="75"/>
                    <a:pt x="51" y="65"/>
                  </a:cubicBezTo>
                  <a:cubicBezTo>
                    <a:pt x="65" y="65"/>
                    <a:pt x="101" y="77"/>
                    <a:pt x="103" y="55"/>
                  </a:cubicBezTo>
                  <a:lnTo>
                    <a:pt x="104" y="47"/>
                  </a:lnTo>
                  <a:cubicBezTo>
                    <a:pt x="105" y="42"/>
                    <a:pt x="98" y="33"/>
                    <a:pt x="91" y="34"/>
                  </a:cubicBezTo>
                  <a:cubicBezTo>
                    <a:pt x="82" y="35"/>
                    <a:pt x="73" y="27"/>
                    <a:pt x="67" y="26"/>
                  </a:cubicBezTo>
                  <a:cubicBezTo>
                    <a:pt x="58" y="24"/>
                    <a:pt x="47" y="29"/>
                    <a:pt x="40" y="26"/>
                  </a:cubicBezTo>
                  <a:cubicBezTo>
                    <a:pt x="43" y="20"/>
                    <a:pt x="50" y="27"/>
                    <a:pt x="37" y="18"/>
                  </a:cubicBezTo>
                  <a:cubicBezTo>
                    <a:pt x="35" y="20"/>
                    <a:pt x="38" y="20"/>
                    <a:pt x="36" y="23"/>
                  </a:cubicBezTo>
                  <a:lnTo>
                    <a:pt x="31" y="27"/>
                  </a:lnTo>
                  <a:lnTo>
                    <a:pt x="26" y="33"/>
                  </a:lnTo>
                  <a:lnTo>
                    <a:pt x="21" y="35"/>
                  </a:lnTo>
                  <a:lnTo>
                    <a:pt x="24" y="52"/>
                  </a:lnTo>
                  <a:cubicBezTo>
                    <a:pt x="25" y="53"/>
                    <a:pt x="25" y="52"/>
                    <a:pt x="29" y="54"/>
                  </a:cubicBezTo>
                  <a:cubicBezTo>
                    <a:pt x="38" y="60"/>
                    <a:pt x="32" y="66"/>
                    <a:pt x="35" y="74"/>
                  </a:cubicBezTo>
                  <a:lnTo>
                    <a:pt x="45" y="87"/>
                  </a:lnTo>
                  <a:lnTo>
                    <a:pt x="42" y="101"/>
                  </a:lnTo>
                  <a:cubicBezTo>
                    <a:pt x="44" y="105"/>
                    <a:pt x="43" y="103"/>
                    <a:pt x="47" y="106"/>
                  </a:cubicBezTo>
                  <a:lnTo>
                    <a:pt x="49" y="112"/>
                  </a:lnTo>
                  <a:lnTo>
                    <a:pt x="56" y="112"/>
                  </a:lnTo>
                  <a:lnTo>
                    <a:pt x="54" y="116"/>
                  </a:lnTo>
                  <a:lnTo>
                    <a:pt x="55" y="120"/>
                  </a:lnTo>
                  <a:lnTo>
                    <a:pt x="54" y="125"/>
                  </a:lnTo>
                  <a:cubicBezTo>
                    <a:pt x="61" y="126"/>
                    <a:pt x="61" y="128"/>
                    <a:pt x="64" y="133"/>
                  </a:cubicBezTo>
                  <a:cubicBezTo>
                    <a:pt x="70" y="142"/>
                    <a:pt x="54" y="163"/>
                    <a:pt x="46" y="170"/>
                  </a:cubicBezTo>
                  <a:cubicBezTo>
                    <a:pt x="48" y="171"/>
                    <a:pt x="52" y="172"/>
                    <a:pt x="54" y="171"/>
                  </a:cubicBezTo>
                  <a:cubicBezTo>
                    <a:pt x="54" y="179"/>
                    <a:pt x="59" y="175"/>
                    <a:pt x="65" y="175"/>
                  </a:cubicBezTo>
                  <a:cubicBezTo>
                    <a:pt x="65" y="181"/>
                    <a:pt x="51" y="183"/>
                    <a:pt x="51" y="192"/>
                  </a:cubicBezTo>
                  <a:cubicBezTo>
                    <a:pt x="49" y="196"/>
                    <a:pt x="50" y="196"/>
                    <a:pt x="49" y="197"/>
                  </a:cubicBezTo>
                  <a:cubicBezTo>
                    <a:pt x="51" y="201"/>
                    <a:pt x="52" y="202"/>
                    <a:pt x="53" y="207"/>
                  </a:cubicBezTo>
                  <a:cubicBezTo>
                    <a:pt x="50" y="212"/>
                    <a:pt x="49" y="215"/>
                    <a:pt x="48" y="215"/>
                  </a:cubicBezTo>
                  <a:cubicBezTo>
                    <a:pt x="54" y="219"/>
                    <a:pt x="55" y="215"/>
                    <a:pt x="62" y="220"/>
                  </a:cubicBezTo>
                  <a:cubicBezTo>
                    <a:pt x="68" y="225"/>
                    <a:pt x="60" y="245"/>
                    <a:pt x="53" y="248"/>
                  </a:cubicBezTo>
                  <a:cubicBezTo>
                    <a:pt x="54" y="248"/>
                    <a:pt x="51" y="248"/>
                    <a:pt x="49" y="246"/>
                  </a:cubicBezTo>
                  <a:cubicBezTo>
                    <a:pt x="47" y="244"/>
                    <a:pt x="44" y="242"/>
                    <a:pt x="43" y="240"/>
                  </a:cubicBezTo>
                  <a:cubicBezTo>
                    <a:pt x="41" y="239"/>
                    <a:pt x="36" y="238"/>
                    <a:pt x="34" y="238"/>
                  </a:cubicBezTo>
                  <a:cubicBezTo>
                    <a:pt x="31" y="238"/>
                    <a:pt x="32" y="240"/>
                    <a:pt x="30" y="241"/>
                  </a:cubicBezTo>
                  <a:cubicBezTo>
                    <a:pt x="31" y="241"/>
                    <a:pt x="25" y="239"/>
                    <a:pt x="17" y="240"/>
                  </a:cubicBezTo>
                  <a:cubicBezTo>
                    <a:pt x="16" y="240"/>
                    <a:pt x="16" y="240"/>
                    <a:pt x="15" y="240"/>
                  </a:cubicBezTo>
                  <a:cubicBezTo>
                    <a:pt x="15" y="239"/>
                    <a:pt x="14" y="239"/>
                    <a:pt x="14" y="239"/>
                  </a:cubicBezTo>
                  <a:cubicBezTo>
                    <a:pt x="14" y="239"/>
                    <a:pt x="13" y="239"/>
                    <a:pt x="13" y="239"/>
                  </a:cubicBezTo>
                  <a:cubicBezTo>
                    <a:pt x="12" y="240"/>
                    <a:pt x="12" y="240"/>
                    <a:pt x="11" y="241"/>
                  </a:cubicBezTo>
                  <a:cubicBezTo>
                    <a:pt x="10" y="242"/>
                    <a:pt x="8" y="243"/>
                    <a:pt x="3" y="244"/>
                  </a:cubicBezTo>
                  <a:cubicBezTo>
                    <a:pt x="3" y="247"/>
                    <a:pt x="6" y="250"/>
                    <a:pt x="6" y="253"/>
                  </a:cubicBezTo>
                  <a:cubicBezTo>
                    <a:pt x="7" y="257"/>
                    <a:pt x="6" y="263"/>
                    <a:pt x="9" y="266"/>
                  </a:cubicBezTo>
                  <a:cubicBezTo>
                    <a:pt x="8" y="268"/>
                    <a:pt x="3" y="270"/>
                    <a:pt x="0" y="270"/>
                  </a:cubicBezTo>
                  <a:cubicBezTo>
                    <a:pt x="1" y="272"/>
                    <a:pt x="3" y="273"/>
                    <a:pt x="5" y="274"/>
                  </a:cubicBezTo>
                  <a:cubicBezTo>
                    <a:pt x="4" y="274"/>
                    <a:pt x="2" y="277"/>
                    <a:pt x="2" y="277"/>
                  </a:cubicBezTo>
                  <a:cubicBezTo>
                    <a:pt x="3" y="277"/>
                    <a:pt x="4" y="276"/>
                    <a:pt x="5" y="276"/>
                  </a:cubicBezTo>
                  <a:cubicBezTo>
                    <a:pt x="8" y="276"/>
                    <a:pt x="11" y="276"/>
                    <a:pt x="11" y="276"/>
                  </a:cubicBezTo>
                  <a:lnTo>
                    <a:pt x="13" y="280"/>
                  </a:lnTo>
                  <a:lnTo>
                    <a:pt x="30" y="275"/>
                  </a:lnTo>
                  <a:cubicBezTo>
                    <a:pt x="34" y="276"/>
                    <a:pt x="38" y="292"/>
                    <a:pt x="37" y="298"/>
                  </a:cubicBezTo>
                  <a:cubicBezTo>
                    <a:pt x="36" y="301"/>
                    <a:pt x="33" y="303"/>
                    <a:pt x="32" y="306"/>
                  </a:cubicBezTo>
                  <a:cubicBezTo>
                    <a:pt x="35" y="308"/>
                    <a:pt x="39" y="308"/>
                    <a:pt x="37" y="313"/>
                  </a:cubicBezTo>
                  <a:lnTo>
                    <a:pt x="41" y="316"/>
                  </a:lnTo>
                  <a:cubicBezTo>
                    <a:pt x="43" y="319"/>
                    <a:pt x="46" y="327"/>
                    <a:pt x="47" y="328"/>
                  </a:cubicBezTo>
                  <a:lnTo>
                    <a:pt x="36" y="347"/>
                  </a:lnTo>
                  <a:cubicBezTo>
                    <a:pt x="36" y="348"/>
                    <a:pt x="36" y="350"/>
                    <a:pt x="36" y="352"/>
                  </a:cubicBezTo>
                  <a:lnTo>
                    <a:pt x="31" y="366"/>
                  </a:lnTo>
                  <a:lnTo>
                    <a:pt x="41" y="371"/>
                  </a:lnTo>
                  <a:cubicBezTo>
                    <a:pt x="48" y="375"/>
                    <a:pt x="55" y="368"/>
                    <a:pt x="57" y="366"/>
                  </a:cubicBezTo>
                  <a:cubicBezTo>
                    <a:pt x="60" y="368"/>
                    <a:pt x="61" y="370"/>
                    <a:pt x="65" y="371"/>
                  </a:cubicBezTo>
                  <a:cubicBezTo>
                    <a:pt x="71" y="363"/>
                    <a:pt x="73" y="364"/>
                    <a:pt x="77" y="360"/>
                  </a:cubicBezTo>
                  <a:cubicBezTo>
                    <a:pt x="81" y="366"/>
                    <a:pt x="89" y="370"/>
                    <a:pt x="93" y="373"/>
                  </a:cubicBezTo>
                  <a:cubicBezTo>
                    <a:pt x="96" y="375"/>
                    <a:pt x="99" y="376"/>
                    <a:pt x="100" y="379"/>
                  </a:cubicBezTo>
                  <a:cubicBezTo>
                    <a:pt x="102" y="380"/>
                    <a:pt x="101" y="384"/>
                    <a:pt x="102" y="389"/>
                  </a:cubicBezTo>
                  <a:cubicBezTo>
                    <a:pt x="104" y="396"/>
                    <a:pt x="104" y="399"/>
                    <a:pt x="112" y="398"/>
                  </a:cubicBezTo>
                  <a:lnTo>
                    <a:pt x="116" y="393"/>
                  </a:lnTo>
                  <a:lnTo>
                    <a:pt x="113" y="388"/>
                  </a:lnTo>
                  <a:lnTo>
                    <a:pt x="119" y="389"/>
                  </a:lnTo>
                  <a:cubicBezTo>
                    <a:pt x="119" y="380"/>
                    <a:pt x="119" y="381"/>
                    <a:pt x="125" y="374"/>
                  </a:cubicBezTo>
                  <a:cubicBezTo>
                    <a:pt x="133" y="366"/>
                    <a:pt x="143" y="371"/>
                    <a:pt x="150" y="377"/>
                  </a:cubicBezTo>
                  <a:cubicBezTo>
                    <a:pt x="151" y="378"/>
                    <a:pt x="146" y="386"/>
                    <a:pt x="147" y="385"/>
                  </a:cubicBezTo>
                  <a:cubicBezTo>
                    <a:pt x="148" y="385"/>
                    <a:pt x="150" y="392"/>
                    <a:pt x="151" y="390"/>
                  </a:cubicBezTo>
                  <a:cubicBezTo>
                    <a:pt x="153" y="387"/>
                    <a:pt x="152" y="390"/>
                    <a:pt x="154" y="386"/>
                  </a:cubicBezTo>
                  <a:cubicBezTo>
                    <a:pt x="155" y="384"/>
                    <a:pt x="160" y="390"/>
                    <a:pt x="161" y="388"/>
                  </a:cubicBezTo>
                  <a:cubicBezTo>
                    <a:pt x="162" y="385"/>
                    <a:pt x="164" y="385"/>
                    <a:pt x="165" y="381"/>
                  </a:cubicBezTo>
                  <a:cubicBezTo>
                    <a:pt x="166" y="379"/>
                    <a:pt x="154" y="380"/>
                    <a:pt x="155" y="378"/>
                  </a:cubicBezTo>
                  <a:cubicBezTo>
                    <a:pt x="155" y="377"/>
                    <a:pt x="155" y="377"/>
                    <a:pt x="155" y="377"/>
                  </a:cubicBezTo>
                  <a:cubicBezTo>
                    <a:pt x="155" y="377"/>
                    <a:pt x="155" y="377"/>
                    <a:pt x="156" y="375"/>
                  </a:cubicBezTo>
                  <a:cubicBezTo>
                    <a:pt x="157" y="372"/>
                    <a:pt x="170" y="366"/>
                    <a:pt x="171" y="361"/>
                  </a:cubicBezTo>
                  <a:cubicBezTo>
                    <a:pt x="174" y="351"/>
                    <a:pt x="167" y="344"/>
                    <a:pt x="170" y="345"/>
                  </a:cubicBezTo>
                  <a:cubicBezTo>
                    <a:pt x="171" y="346"/>
                    <a:pt x="175" y="351"/>
                    <a:pt x="176" y="351"/>
                  </a:cubicBezTo>
                  <a:cubicBezTo>
                    <a:pt x="180" y="352"/>
                    <a:pt x="177" y="363"/>
                    <a:pt x="172" y="371"/>
                  </a:cubicBezTo>
                  <a:cubicBezTo>
                    <a:pt x="170" y="374"/>
                    <a:pt x="172" y="377"/>
                    <a:pt x="173" y="378"/>
                  </a:cubicBezTo>
                  <a:cubicBezTo>
                    <a:pt x="173" y="380"/>
                    <a:pt x="169" y="380"/>
                    <a:pt x="169" y="382"/>
                  </a:cubicBezTo>
                  <a:cubicBezTo>
                    <a:pt x="170" y="384"/>
                    <a:pt x="178" y="384"/>
                    <a:pt x="184" y="386"/>
                  </a:cubicBezTo>
                  <a:cubicBezTo>
                    <a:pt x="187" y="386"/>
                    <a:pt x="209" y="402"/>
                    <a:pt x="210" y="399"/>
                  </a:cubicBezTo>
                  <a:lnTo>
                    <a:pt x="240" y="412"/>
                  </a:lnTo>
                  <a:moveTo>
                    <a:pt x="89" y="136"/>
                  </a:moveTo>
                  <a:cubicBezTo>
                    <a:pt x="93" y="132"/>
                    <a:pt x="90" y="135"/>
                    <a:pt x="94" y="135"/>
                  </a:cubicBezTo>
                  <a:cubicBezTo>
                    <a:pt x="96" y="130"/>
                    <a:pt x="87" y="128"/>
                    <a:pt x="85" y="126"/>
                  </a:cubicBezTo>
                  <a:cubicBezTo>
                    <a:pt x="88" y="125"/>
                    <a:pt x="98" y="126"/>
                    <a:pt x="99" y="130"/>
                  </a:cubicBezTo>
                  <a:cubicBezTo>
                    <a:pt x="101" y="134"/>
                    <a:pt x="114" y="152"/>
                    <a:pt x="100" y="152"/>
                  </a:cubicBezTo>
                  <a:cubicBezTo>
                    <a:pt x="101" y="150"/>
                    <a:pt x="99" y="146"/>
                    <a:pt x="98" y="144"/>
                  </a:cubicBezTo>
                  <a:cubicBezTo>
                    <a:pt x="93" y="144"/>
                    <a:pt x="90" y="143"/>
                    <a:pt x="89" y="136"/>
                  </a:cubicBezTo>
                  <a:moveTo>
                    <a:pt x="63" y="153"/>
                  </a:moveTo>
                  <a:cubicBezTo>
                    <a:pt x="63" y="156"/>
                    <a:pt x="63" y="158"/>
                    <a:pt x="61" y="158"/>
                  </a:cubicBezTo>
                  <a:cubicBezTo>
                    <a:pt x="64" y="163"/>
                    <a:pt x="72" y="167"/>
                    <a:pt x="75" y="174"/>
                  </a:cubicBezTo>
                  <a:cubicBezTo>
                    <a:pt x="78" y="170"/>
                    <a:pt x="76" y="169"/>
                    <a:pt x="82" y="171"/>
                  </a:cubicBezTo>
                  <a:cubicBezTo>
                    <a:pt x="85" y="163"/>
                    <a:pt x="75" y="142"/>
                    <a:pt x="63" y="153"/>
                  </a:cubicBezTo>
                </a:path>
              </a:pathLst>
            </a:custGeom>
            <a:solidFill>
              <a:srgbClr val="969696">
                <a:alpha val="85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64040" y="5124600"/>
              <a:ext cx="485640" cy="742680"/>
            </a:xfrm>
            <a:custGeom>
              <a:avLst/>
              <a:gdLst/>
              <a:ahLst/>
              <a:rect l="l" t="t" r="r" b="b"/>
              <a:pathLst>
                <a:path w="51" h="78">
                  <a:moveTo>
                    <a:pt x="40" y="42"/>
                  </a:moveTo>
                  <a:cubicBezTo>
                    <a:pt x="40" y="41"/>
                    <a:pt x="43" y="22"/>
                    <a:pt x="43" y="21"/>
                  </a:cubicBezTo>
                  <a:lnTo>
                    <a:pt x="51" y="16"/>
                  </a:lnTo>
                  <a:lnTo>
                    <a:pt x="50" y="12"/>
                  </a:lnTo>
                  <a:lnTo>
                    <a:pt x="34" y="5"/>
                  </a:lnTo>
                  <a:cubicBezTo>
                    <a:pt x="34" y="5"/>
                    <a:pt x="34" y="4"/>
                    <a:pt x="36" y="2"/>
                  </a:cubicBezTo>
                  <a:lnTo>
                    <a:pt x="27" y="0"/>
                  </a:lnTo>
                  <a:cubicBezTo>
                    <a:pt x="29" y="2"/>
                    <a:pt x="20" y="8"/>
                    <a:pt x="18" y="10"/>
                  </a:cubicBezTo>
                  <a:cubicBezTo>
                    <a:pt x="26" y="18"/>
                    <a:pt x="12" y="18"/>
                    <a:pt x="16" y="25"/>
                  </a:cubicBezTo>
                  <a:cubicBezTo>
                    <a:pt x="10" y="31"/>
                    <a:pt x="6" y="40"/>
                    <a:pt x="0" y="45"/>
                  </a:cubicBezTo>
                  <a:cubicBezTo>
                    <a:pt x="1" y="49"/>
                    <a:pt x="4" y="53"/>
                    <a:pt x="7" y="56"/>
                  </a:cubicBezTo>
                  <a:cubicBezTo>
                    <a:pt x="8" y="61"/>
                    <a:pt x="1" y="61"/>
                    <a:pt x="4" y="64"/>
                  </a:cubicBezTo>
                  <a:cubicBezTo>
                    <a:pt x="7" y="67"/>
                    <a:pt x="2" y="72"/>
                    <a:pt x="0" y="75"/>
                  </a:cubicBezTo>
                  <a:lnTo>
                    <a:pt x="19" y="78"/>
                  </a:lnTo>
                  <a:lnTo>
                    <a:pt x="28" y="66"/>
                  </a:lnTo>
                  <a:cubicBezTo>
                    <a:pt x="36" y="66"/>
                    <a:pt x="37" y="65"/>
                    <a:pt x="29" y="63"/>
                  </a:cubicBezTo>
                  <a:lnTo>
                    <a:pt x="34" y="53"/>
                  </a:lnTo>
                  <a:cubicBezTo>
                    <a:pt x="35" y="51"/>
                    <a:pt x="30" y="47"/>
                    <a:pt x="31" y="42"/>
                  </a:cubicBezTo>
                  <a:lnTo>
                    <a:pt x="34" y="45"/>
                  </a:lnTo>
                  <a:lnTo>
                    <a:pt x="40" y="42"/>
                  </a:ln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969160" y="1009800"/>
              <a:ext cx="1495440" cy="2076480"/>
            </a:xfrm>
            <a:custGeom>
              <a:avLst/>
              <a:gdLst/>
              <a:ahLst/>
              <a:rect l="l" t="t" r="r" b="b"/>
              <a:pathLst>
                <a:path w="157" h="218">
                  <a:moveTo>
                    <a:pt x="55" y="133"/>
                  </a:moveTo>
                  <a:cubicBezTo>
                    <a:pt x="55" y="130"/>
                    <a:pt x="56" y="129"/>
                    <a:pt x="57" y="128"/>
                  </a:cubicBezTo>
                  <a:cubicBezTo>
                    <a:pt x="58" y="127"/>
                    <a:pt x="60" y="126"/>
                    <a:pt x="62" y="125"/>
                  </a:cubicBezTo>
                  <a:cubicBezTo>
                    <a:pt x="63" y="124"/>
                    <a:pt x="65" y="124"/>
                    <a:pt x="67" y="121"/>
                  </a:cubicBezTo>
                  <a:cubicBezTo>
                    <a:pt x="64" y="116"/>
                    <a:pt x="67" y="111"/>
                    <a:pt x="69" y="105"/>
                  </a:cubicBezTo>
                  <a:lnTo>
                    <a:pt x="67" y="103"/>
                  </a:lnTo>
                  <a:cubicBezTo>
                    <a:pt x="68" y="101"/>
                    <a:pt x="76" y="96"/>
                    <a:pt x="76" y="93"/>
                  </a:cubicBezTo>
                  <a:lnTo>
                    <a:pt x="77" y="81"/>
                  </a:lnTo>
                  <a:cubicBezTo>
                    <a:pt x="77" y="78"/>
                    <a:pt x="80" y="78"/>
                    <a:pt x="80" y="76"/>
                  </a:cubicBezTo>
                  <a:lnTo>
                    <a:pt x="77" y="66"/>
                  </a:lnTo>
                  <a:lnTo>
                    <a:pt x="81" y="60"/>
                  </a:lnTo>
                  <a:lnTo>
                    <a:pt x="85" y="59"/>
                  </a:lnTo>
                  <a:lnTo>
                    <a:pt x="90" y="49"/>
                  </a:lnTo>
                  <a:cubicBezTo>
                    <a:pt x="94" y="52"/>
                    <a:pt x="97" y="54"/>
                    <a:pt x="102" y="51"/>
                  </a:cubicBezTo>
                  <a:cubicBezTo>
                    <a:pt x="102" y="50"/>
                    <a:pt x="99" y="42"/>
                    <a:pt x="99" y="42"/>
                  </a:cubicBezTo>
                  <a:cubicBezTo>
                    <a:pt x="101" y="40"/>
                    <a:pt x="105" y="36"/>
                    <a:pt x="107" y="35"/>
                  </a:cubicBezTo>
                  <a:cubicBezTo>
                    <a:pt x="110" y="38"/>
                    <a:pt x="111" y="36"/>
                    <a:pt x="117" y="43"/>
                  </a:cubicBezTo>
                  <a:lnTo>
                    <a:pt x="122" y="41"/>
                  </a:lnTo>
                  <a:lnTo>
                    <a:pt x="125" y="43"/>
                  </a:lnTo>
                  <a:lnTo>
                    <a:pt x="129" y="43"/>
                  </a:lnTo>
                  <a:lnTo>
                    <a:pt x="132" y="33"/>
                  </a:lnTo>
                  <a:lnTo>
                    <a:pt x="130" y="27"/>
                  </a:lnTo>
                  <a:lnTo>
                    <a:pt x="134" y="20"/>
                  </a:lnTo>
                  <a:lnTo>
                    <a:pt x="140" y="16"/>
                  </a:lnTo>
                  <a:lnTo>
                    <a:pt x="147" y="21"/>
                  </a:lnTo>
                  <a:lnTo>
                    <a:pt x="150" y="21"/>
                  </a:lnTo>
                  <a:lnTo>
                    <a:pt x="147" y="28"/>
                  </a:lnTo>
                  <a:lnTo>
                    <a:pt x="152" y="26"/>
                  </a:lnTo>
                  <a:lnTo>
                    <a:pt x="157" y="20"/>
                  </a:lnTo>
                  <a:cubicBezTo>
                    <a:pt x="153" y="16"/>
                    <a:pt x="152" y="21"/>
                    <a:pt x="149" y="16"/>
                  </a:cubicBezTo>
                  <a:cubicBezTo>
                    <a:pt x="150" y="14"/>
                    <a:pt x="154" y="15"/>
                    <a:pt x="151" y="9"/>
                  </a:cubicBezTo>
                  <a:lnTo>
                    <a:pt x="157" y="8"/>
                  </a:lnTo>
                  <a:cubicBezTo>
                    <a:pt x="149" y="0"/>
                    <a:pt x="143" y="0"/>
                    <a:pt x="140" y="11"/>
                  </a:cubicBezTo>
                  <a:lnTo>
                    <a:pt x="138" y="4"/>
                  </a:lnTo>
                  <a:cubicBezTo>
                    <a:pt x="131" y="1"/>
                    <a:pt x="136" y="8"/>
                    <a:pt x="134" y="11"/>
                  </a:cubicBezTo>
                  <a:cubicBezTo>
                    <a:pt x="131" y="11"/>
                    <a:pt x="131" y="12"/>
                    <a:pt x="128" y="13"/>
                  </a:cubicBezTo>
                  <a:cubicBezTo>
                    <a:pt x="127" y="11"/>
                    <a:pt x="130" y="4"/>
                    <a:pt x="125" y="5"/>
                  </a:cubicBezTo>
                  <a:cubicBezTo>
                    <a:pt x="119" y="10"/>
                    <a:pt x="121" y="11"/>
                    <a:pt x="115" y="11"/>
                  </a:cubicBezTo>
                  <a:cubicBezTo>
                    <a:pt x="110" y="13"/>
                    <a:pt x="107" y="20"/>
                    <a:pt x="107" y="24"/>
                  </a:cubicBezTo>
                  <a:cubicBezTo>
                    <a:pt x="103" y="28"/>
                    <a:pt x="104" y="27"/>
                    <a:pt x="100" y="26"/>
                  </a:cubicBezTo>
                  <a:cubicBezTo>
                    <a:pt x="94" y="32"/>
                    <a:pt x="92" y="31"/>
                    <a:pt x="92" y="38"/>
                  </a:cubicBezTo>
                  <a:cubicBezTo>
                    <a:pt x="81" y="49"/>
                    <a:pt x="81" y="57"/>
                    <a:pt x="72" y="64"/>
                  </a:cubicBezTo>
                  <a:cubicBezTo>
                    <a:pt x="72" y="72"/>
                    <a:pt x="57" y="81"/>
                    <a:pt x="63" y="90"/>
                  </a:cubicBezTo>
                  <a:cubicBezTo>
                    <a:pt x="57" y="92"/>
                    <a:pt x="53" y="96"/>
                    <a:pt x="59" y="104"/>
                  </a:cubicBezTo>
                  <a:cubicBezTo>
                    <a:pt x="55" y="108"/>
                    <a:pt x="50" y="110"/>
                    <a:pt x="54" y="113"/>
                  </a:cubicBezTo>
                  <a:cubicBezTo>
                    <a:pt x="48" y="118"/>
                    <a:pt x="36" y="125"/>
                    <a:pt x="38" y="133"/>
                  </a:cubicBezTo>
                  <a:cubicBezTo>
                    <a:pt x="41" y="131"/>
                    <a:pt x="51" y="119"/>
                    <a:pt x="51" y="129"/>
                  </a:cubicBezTo>
                  <a:cubicBezTo>
                    <a:pt x="47" y="135"/>
                    <a:pt x="44" y="138"/>
                    <a:pt x="36" y="135"/>
                  </a:cubicBezTo>
                  <a:cubicBezTo>
                    <a:pt x="26" y="138"/>
                    <a:pt x="14" y="148"/>
                    <a:pt x="3" y="157"/>
                  </a:cubicBezTo>
                  <a:cubicBezTo>
                    <a:pt x="5" y="162"/>
                    <a:pt x="5" y="166"/>
                    <a:pt x="1" y="171"/>
                  </a:cubicBezTo>
                  <a:cubicBezTo>
                    <a:pt x="2" y="175"/>
                    <a:pt x="0" y="181"/>
                    <a:pt x="1" y="184"/>
                  </a:cubicBezTo>
                  <a:cubicBezTo>
                    <a:pt x="14" y="184"/>
                    <a:pt x="4" y="190"/>
                    <a:pt x="1" y="196"/>
                  </a:cubicBezTo>
                  <a:cubicBezTo>
                    <a:pt x="4" y="199"/>
                    <a:pt x="3" y="198"/>
                    <a:pt x="8" y="196"/>
                  </a:cubicBezTo>
                  <a:cubicBezTo>
                    <a:pt x="10" y="202"/>
                    <a:pt x="7" y="203"/>
                    <a:pt x="4" y="206"/>
                  </a:cubicBezTo>
                  <a:cubicBezTo>
                    <a:pt x="4" y="218"/>
                    <a:pt x="10" y="214"/>
                    <a:pt x="15" y="218"/>
                  </a:cubicBezTo>
                  <a:cubicBezTo>
                    <a:pt x="23" y="218"/>
                    <a:pt x="34" y="206"/>
                    <a:pt x="39" y="201"/>
                  </a:cubicBezTo>
                  <a:lnTo>
                    <a:pt x="42" y="192"/>
                  </a:lnTo>
                  <a:lnTo>
                    <a:pt x="46" y="198"/>
                  </a:lnTo>
                  <a:lnTo>
                    <a:pt x="50" y="201"/>
                  </a:lnTo>
                  <a:cubicBezTo>
                    <a:pt x="53" y="183"/>
                    <a:pt x="51" y="198"/>
                    <a:pt x="51" y="190"/>
                  </a:cubicBezTo>
                  <a:cubicBezTo>
                    <a:pt x="52" y="190"/>
                    <a:pt x="56" y="187"/>
                    <a:pt x="57" y="187"/>
                  </a:cubicBezTo>
                  <a:lnTo>
                    <a:pt x="55" y="174"/>
                  </a:lnTo>
                  <a:cubicBezTo>
                    <a:pt x="58" y="170"/>
                    <a:pt x="60" y="173"/>
                    <a:pt x="60" y="168"/>
                  </a:cubicBezTo>
                  <a:cubicBezTo>
                    <a:pt x="52" y="157"/>
                    <a:pt x="53" y="146"/>
                    <a:pt x="55" y="133"/>
                  </a:cubicBezTo>
                </a:path>
              </a:pathLst>
            </a:custGeom>
            <a:solidFill>
              <a:srgbClr val="969696">
                <a:alpha val="85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906720" y="3443400"/>
              <a:ext cx="3333960" cy="2441520"/>
            </a:xfrm>
            <a:custGeom>
              <a:avLst/>
              <a:gdLst/>
              <a:ahLst/>
              <a:rect l="l" t="t" r="r" b="b"/>
              <a:pathLst>
                <a:path w="334" h="270">
                  <a:moveTo>
                    <a:pt x="226" y="0"/>
                  </a:moveTo>
                  <a:cubicBezTo>
                    <a:pt x="300" y="0"/>
                    <a:pt x="334" y="61"/>
                    <a:pt x="302" y="135"/>
                  </a:cubicBezTo>
                  <a:cubicBezTo>
                    <a:pt x="270" y="210"/>
                    <a:pt x="183" y="270"/>
                    <a:pt x="108" y="270"/>
                  </a:cubicBezTo>
                  <a:cubicBezTo>
                    <a:pt x="34" y="270"/>
                    <a:pt x="0" y="210"/>
                    <a:pt x="32" y="135"/>
                  </a:cubicBezTo>
                  <a:cubicBezTo>
                    <a:pt x="64" y="61"/>
                    <a:pt x="151" y="0"/>
                    <a:pt x="226" y="0"/>
                  </a:cubicBezTo>
                </a:path>
              </a:pathLst>
            </a:custGeom>
            <a:noFill/>
            <a:ln w="9360">
              <a:solidFill>
                <a:srgbClr val="deded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114720" y="2787480"/>
              <a:ext cx="5010120" cy="3673800"/>
            </a:xfrm>
            <a:custGeom>
              <a:avLst/>
              <a:gdLst/>
              <a:ahLst/>
              <a:rect l="l" t="t" r="r" b="b"/>
              <a:pathLst>
                <a:path w="502" h="406">
                  <a:moveTo>
                    <a:pt x="339" y="0"/>
                  </a:moveTo>
                  <a:cubicBezTo>
                    <a:pt x="450" y="0"/>
                    <a:pt x="502" y="91"/>
                    <a:pt x="454" y="203"/>
                  </a:cubicBezTo>
                  <a:cubicBezTo>
                    <a:pt x="405" y="315"/>
                    <a:pt x="275" y="406"/>
                    <a:pt x="163" y="406"/>
                  </a:cubicBezTo>
                  <a:cubicBezTo>
                    <a:pt x="52" y="406"/>
                    <a:pt x="0" y="315"/>
                    <a:pt x="48" y="203"/>
                  </a:cubicBezTo>
                  <a:cubicBezTo>
                    <a:pt x="97" y="91"/>
                    <a:pt x="227" y="0"/>
                    <a:pt x="339" y="0"/>
                  </a:cubicBezTo>
                </a:path>
              </a:pathLst>
            </a:custGeom>
            <a:noFill/>
            <a:ln w="9360">
              <a:solidFill>
                <a:srgbClr val="deded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97520" y="1181160"/>
              <a:ext cx="123840" cy="66600"/>
            </a:xfrm>
            <a:custGeom>
              <a:avLst/>
              <a:gdLst/>
              <a:ahLst/>
              <a:rect l="l" t="t" r="r" b="b"/>
              <a:pathLst>
                <a:path w="13" h="7">
                  <a:moveTo>
                    <a:pt x="2" y="5"/>
                  </a:moveTo>
                  <a:cubicBezTo>
                    <a:pt x="2" y="5"/>
                    <a:pt x="1" y="6"/>
                    <a:pt x="0" y="7"/>
                  </a:cubicBezTo>
                  <a:cubicBezTo>
                    <a:pt x="1" y="7"/>
                    <a:pt x="2" y="6"/>
                    <a:pt x="3" y="6"/>
                  </a:cubicBezTo>
                  <a:cubicBezTo>
                    <a:pt x="13" y="0"/>
                    <a:pt x="10" y="1"/>
                    <a:pt x="2" y="5"/>
                  </a:cubicBezTo>
                </a:path>
              </a:pathLst>
            </a:custGeom>
            <a:solidFill>
              <a:srgbClr val="a9a8a7"/>
            </a:solidFill>
            <a:ln w="0">
              <a:solidFill>
                <a:srgbClr val="ece9ec"/>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1" name=""/>
            <p:cNvSpPr/>
            <p:nvPr/>
          </p:nvSpPr>
          <p:spPr>
            <a:xfrm>
              <a:off x="6940440" y="1162080"/>
              <a:ext cx="866880" cy="1590480"/>
            </a:xfrm>
            <a:custGeom>
              <a:avLst/>
              <a:gdLst/>
              <a:ahLst/>
              <a:rect l="l" t="t" r="r" b="b"/>
              <a:pathLst>
                <a:path w="91" h="167">
                  <a:moveTo>
                    <a:pt x="78" y="92"/>
                  </a:moveTo>
                  <a:lnTo>
                    <a:pt x="81" y="89"/>
                  </a:lnTo>
                  <a:lnTo>
                    <a:pt x="73" y="88"/>
                  </a:lnTo>
                  <a:cubicBezTo>
                    <a:pt x="73" y="86"/>
                    <a:pt x="72" y="84"/>
                    <a:pt x="72" y="82"/>
                  </a:cubicBezTo>
                  <a:cubicBezTo>
                    <a:pt x="69" y="82"/>
                    <a:pt x="67" y="79"/>
                    <a:pt x="66" y="77"/>
                  </a:cubicBezTo>
                  <a:lnTo>
                    <a:pt x="70" y="64"/>
                  </a:lnTo>
                  <a:lnTo>
                    <a:pt x="60" y="51"/>
                  </a:lnTo>
                  <a:cubicBezTo>
                    <a:pt x="57" y="48"/>
                    <a:pt x="58" y="44"/>
                    <a:pt x="59" y="37"/>
                  </a:cubicBezTo>
                  <a:cubicBezTo>
                    <a:pt x="55" y="33"/>
                    <a:pt x="55" y="30"/>
                    <a:pt x="49" y="29"/>
                  </a:cubicBezTo>
                  <a:lnTo>
                    <a:pt x="45" y="12"/>
                  </a:lnTo>
                  <a:lnTo>
                    <a:pt x="48" y="5"/>
                  </a:lnTo>
                  <a:lnTo>
                    <a:pt x="44" y="5"/>
                  </a:lnTo>
                  <a:lnTo>
                    <a:pt x="38" y="0"/>
                  </a:lnTo>
                  <a:lnTo>
                    <a:pt x="32" y="4"/>
                  </a:lnTo>
                  <a:lnTo>
                    <a:pt x="29" y="11"/>
                  </a:lnTo>
                  <a:lnTo>
                    <a:pt x="30" y="18"/>
                  </a:lnTo>
                  <a:lnTo>
                    <a:pt x="30" y="21"/>
                  </a:lnTo>
                  <a:lnTo>
                    <a:pt x="26" y="27"/>
                  </a:lnTo>
                  <a:lnTo>
                    <a:pt x="24" y="27"/>
                  </a:lnTo>
                  <a:lnTo>
                    <a:pt x="20" y="25"/>
                  </a:lnTo>
                  <a:lnTo>
                    <a:pt x="15" y="27"/>
                  </a:lnTo>
                  <a:cubicBezTo>
                    <a:pt x="14" y="27"/>
                    <a:pt x="13" y="24"/>
                    <a:pt x="5" y="19"/>
                  </a:cubicBezTo>
                  <a:cubicBezTo>
                    <a:pt x="5" y="19"/>
                    <a:pt x="2" y="21"/>
                    <a:pt x="0" y="23"/>
                  </a:cubicBezTo>
                  <a:cubicBezTo>
                    <a:pt x="3" y="27"/>
                    <a:pt x="10" y="30"/>
                    <a:pt x="14" y="31"/>
                  </a:cubicBezTo>
                  <a:cubicBezTo>
                    <a:pt x="23" y="34"/>
                    <a:pt x="25" y="51"/>
                    <a:pt x="27" y="58"/>
                  </a:cubicBezTo>
                  <a:lnTo>
                    <a:pt x="27" y="69"/>
                  </a:lnTo>
                  <a:cubicBezTo>
                    <a:pt x="31" y="73"/>
                    <a:pt x="42" y="75"/>
                    <a:pt x="42" y="82"/>
                  </a:cubicBezTo>
                  <a:cubicBezTo>
                    <a:pt x="35" y="80"/>
                    <a:pt x="32" y="97"/>
                    <a:pt x="32" y="104"/>
                  </a:cubicBezTo>
                  <a:cubicBezTo>
                    <a:pt x="26" y="103"/>
                    <a:pt x="31" y="106"/>
                    <a:pt x="30" y="108"/>
                  </a:cubicBezTo>
                  <a:cubicBezTo>
                    <a:pt x="26" y="108"/>
                    <a:pt x="25" y="117"/>
                    <a:pt x="19" y="119"/>
                  </a:cubicBezTo>
                  <a:cubicBezTo>
                    <a:pt x="19" y="122"/>
                    <a:pt x="18" y="125"/>
                    <a:pt x="17" y="127"/>
                  </a:cubicBezTo>
                  <a:cubicBezTo>
                    <a:pt x="19" y="135"/>
                    <a:pt x="20" y="148"/>
                    <a:pt x="23" y="157"/>
                  </a:cubicBezTo>
                  <a:cubicBezTo>
                    <a:pt x="25" y="160"/>
                    <a:pt x="33" y="161"/>
                    <a:pt x="36" y="164"/>
                  </a:cubicBezTo>
                  <a:cubicBezTo>
                    <a:pt x="53" y="167"/>
                    <a:pt x="64" y="148"/>
                    <a:pt x="70" y="147"/>
                  </a:cubicBezTo>
                  <a:cubicBezTo>
                    <a:pt x="77" y="141"/>
                    <a:pt x="83" y="132"/>
                    <a:pt x="86" y="127"/>
                  </a:cubicBezTo>
                  <a:cubicBezTo>
                    <a:pt x="89" y="119"/>
                    <a:pt x="91" y="115"/>
                    <a:pt x="88" y="109"/>
                  </a:cubicBezTo>
                  <a:cubicBezTo>
                    <a:pt x="86" y="105"/>
                    <a:pt x="82" y="102"/>
                    <a:pt x="78" y="102"/>
                  </a:cubicBezTo>
                  <a:lnTo>
                    <a:pt x="79" y="97"/>
                  </a:lnTo>
                  <a:lnTo>
                    <a:pt x="78" y="92"/>
                  </a:lnTo>
                </a:path>
              </a:pathLst>
            </a:custGeom>
            <a:solidFill>
              <a:srgbClr val="c0c0c0"/>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54480" y="1028880"/>
              <a:ext cx="3781440" cy="5524200"/>
            </a:xfrm>
            <a:prstGeom prst="rect">
              <a:avLst/>
            </a:prstGeom>
            <a:solidFill>
              <a:srgbClr val="a9a8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807240" y="6276960"/>
              <a:ext cx="57240" cy="47520"/>
            </a:xfrm>
            <a:custGeom>
              <a:avLst/>
              <a:gdLst/>
              <a:ahLst/>
              <a:rect l="l" t="t" r="r" b="b"/>
              <a:pathLst>
                <a:path w="6" h="5">
                  <a:moveTo>
                    <a:pt x="4" y="4"/>
                  </a:moveTo>
                  <a:cubicBezTo>
                    <a:pt x="0" y="2"/>
                    <a:pt x="3" y="5"/>
                    <a:pt x="3" y="1"/>
                  </a:cubicBezTo>
                  <a:cubicBezTo>
                    <a:pt x="5" y="1"/>
                    <a:pt x="6" y="0"/>
                    <a:pt x="4" y="4"/>
                  </a:cubicBezTo>
                </a:path>
              </a:pathLst>
            </a:custGeom>
            <a:noFill/>
            <a:ln w="0">
              <a:solidFill>
                <a:srgbClr val="ece9ec"/>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 name=""/>
            <p:cNvSpPr/>
            <p:nvPr/>
          </p:nvSpPr>
          <p:spPr>
            <a:xfrm>
              <a:off x="5902200" y="4162320"/>
              <a:ext cx="133560" cy="200160"/>
            </a:xfrm>
            <a:custGeom>
              <a:avLst/>
              <a:gdLst/>
              <a:ahLst/>
              <a:rect l="l" t="t" r="r" b="b"/>
              <a:pathLst>
                <a:path w="14" h="21">
                  <a:moveTo>
                    <a:pt x="8" y="0"/>
                  </a:moveTo>
                  <a:lnTo>
                    <a:pt x="11" y="13"/>
                  </a:lnTo>
                  <a:cubicBezTo>
                    <a:pt x="11" y="14"/>
                    <a:pt x="13" y="14"/>
                    <a:pt x="14" y="17"/>
                  </a:cubicBezTo>
                  <a:lnTo>
                    <a:pt x="14" y="21"/>
                  </a:lnTo>
                  <a:cubicBezTo>
                    <a:pt x="13" y="20"/>
                    <a:pt x="7" y="19"/>
                    <a:pt x="7" y="19"/>
                  </a:cubicBezTo>
                  <a:lnTo>
                    <a:pt x="0" y="21"/>
                  </a:lnTo>
                  <a:lnTo>
                    <a:pt x="8" y="0"/>
                  </a:lnTo>
                </a:path>
              </a:pathLst>
            </a:custGeom>
            <a:solidFill>
              <a:srgbClr val="c0c0c0"/>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217000" y="5838840"/>
              <a:ext cx="47520" cy="76320"/>
            </a:xfrm>
            <a:custGeom>
              <a:avLst/>
              <a:gdLst/>
              <a:ahLst/>
              <a:rect l="l" t="t" r="r" b="b"/>
              <a:pathLst>
                <a:path w="5" h="8">
                  <a:moveTo>
                    <a:pt x="2" y="4"/>
                  </a:moveTo>
                  <a:cubicBezTo>
                    <a:pt x="3" y="2"/>
                    <a:pt x="1" y="3"/>
                    <a:pt x="1" y="2"/>
                  </a:cubicBezTo>
                  <a:cubicBezTo>
                    <a:pt x="2" y="1"/>
                    <a:pt x="2" y="0"/>
                    <a:pt x="2" y="1"/>
                  </a:cubicBezTo>
                  <a:cubicBezTo>
                    <a:pt x="2" y="3"/>
                    <a:pt x="5" y="3"/>
                    <a:pt x="4" y="4"/>
                  </a:cubicBezTo>
                  <a:cubicBezTo>
                    <a:pt x="3" y="7"/>
                    <a:pt x="0" y="8"/>
                    <a:pt x="2" y="4"/>
                  </a:cubicBezTo>
                </a:path>
              </a:pathLst>
            </a:custGeom>
            <a:noFill/>
            <a:ln w="0">
              <a:solidFill>
                <a:srgbClr val="ece9ec"/>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 name=""/>
            <p:cNvSpPr/>
            <p:nvPr/>
          </p:nvSpPr>
          <p:spPr>
            <a:xfrm>
              <a:off x="8416800" y="6000840"/>
              <a:ext cx="47880" cy="104760"/>
            </a:xfrm>
            <a:custGeom>
              <a:avLst/>
              <a:gdLst/>
              <a:ahLst/>
              <a:rect l="l" t="t" r="r" b="b"/>
              <a:pathLst>
                <a:path w="5" h="11">
                  <a:moveTo>
                    <a:pt x="1" y="4"/>
                  </a:moveTo>
                  <a:cubicBezTo>
                    <a:pt x="0" y="11"/>
                    <a:pt x="2" y="11"/>
                    <a:pt x="0" y="11"/>
                  </a:cubicBezTo>
                  <a:cubicBezTo>
                    <a:pt x="2" y="11"/>
                    <a:pt x="2" y="9"/>
                    <a:pt x="2" y="8"/>
                  </a:cubicBezTo>
                  <a:cubicBezTo>
                    <a:pt x="3" y="6"/>
                    <a:pt x="5" y="6"/>
                    <a:pt x="3" y="4"/>
                  </a:cubicBezTo>
                  <a:cubicBezTo>
                    <a:pt x="3" y="4"/>
                    <a:pt x="3" y="0"/>
                    <a:pt x="1" y="3"/>
                  </a:cubicBezTo>
                  <a:lnTo>
                    <a:pt x="1" y="4"/>
                  </a:lnTo>
                </a:path>
              </a:pathLst>
            </a:custGeom>
            <a:no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845480" y="6134040"/>
              <a:ext cx="28440" cy="66600"/>
            </a:xfrm>
            <a:custGeom>
              <a:avLst/>
              <a:gdLst/>
              <a:ahLst/>
              <a:rect l="l" t="t" r="r" b="b"/>
              <a:pathLst>
                <a:path w="3" h="7">
                  <a:moveTo>
                    <a:pt x="1" y="2"/>
                  </a:moveTo>
                  <a:cubicBezTo>
                    <a:pt x="2" y="2"/>
                    <a:pt x="1" y="0"/>
                    <a:pt x="2" y="0"/>
                  </a:cubicBezTo>
                  <a:cubicBezTo>
                    <a:pt x="2" y="0"/>
                    <a:pt x="2" y="0"/>
                    <a:pt x="3" y="0"/>
                  </a:cubicBezTo>
                  <a:cubicBezTo>
                    <a:pt x="3" y="1"/>
                    <a:pt x="3" y="2"/>
                    <a:pt x="3" y="3"/>
                  </a:cubicBezTo>
                  <a:cubicBezTo>
                    <a:pt x="0" y="7"/>
                    <a:pt x="1" y="2"/>
                    <a:pt x="1" y="2"/>
                  </a:cubicBezTo>
                </a:path>
              </a:pathLst>
            </a:custGeom>
            <a:noFill/>
            <a:ln w="0">
              <a:solidFill>
                <a:srgbClr val="ece9ec"/>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8" name=""/>
            <p:cNvSpPr/>
            <p:nvPr/>
          </p:nvSpPr>
          <p:spPr>
            <a:xfrm>
              <a:off x="6168960" y="2247840"/>
              <a:ext cx="85680" cy="57240"/>
            </a:xfrm>
            <a:custGeom>
              <a:avLst/>
              <a:gdLst/>
              <a:ahLst/>
              <a:rect l="l" t="t" r="r" b="b"/>
              <a:pathLst>
                <a:path w="9" h="6">
                  <a:moveTo>
                    <a:pt x="5" y="2"/>
                  </a:moveTo>
                  <a:cubicBezTo>
                    <a:pt x="2" y="3"/>
                    <a:pt x="2" y="0"/>
                    <a:pt x="0" y="5"/>
                  </a:cubicBezTo>
                  <a:cubicBezTo>
                    <a:pt x="1" y="6"/>
                    <a:pt x="7" y="5"/>
                    <a:pt x="9" y="4"/>
                  </a:cubicBezTo>
                  <a:cubicBezTo>
                    <a:pt x="6" y="4"/>
                    <a:pt x="9" y="2"/>
                    <a:pt x="7" y="0"/>
                  </a:cubicBezTo>
                  <a:cubicBezTo>
                    <a:pt x="6" y="0"/>
                    <a:pt x="6" y="1"/>
                    <a:pt x="5" y="2"/>
                  </a:cubicBezTo>
                </a:path>
              </a:pathLst>
            </a:custGeom>
            <a:solidFill>
              <a:srgbClr val="a9a8a7"/>
            </a:solidFill>
            <a:ln w="0">
              <a:solidFill>
                <a:srgbClr val="ece9ec"/>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9" name=""/>
            <p:cNvSpPr/>
            <p:nvPr/>
          </p:nvSpPr>
          <p:spPr>
            <a:xfrm>
              <a:off x="6264360" y="2209680"/>
              <a:ext cx="47520" cy="57240"/>
            </a:xfrm>
            <a:custGeom>
              <a:avLst/>
              <a:gdLst/>
              <a:ahLst/>
              <a:rect l="l" t="t" r="r" b="b"/>
              <a:pathLst>
                <a:path w="5" h="6">
                  <a:moveTo>
                    <a:pt x="0" y="2"/>
                  </a:moveTo>
                  <a:cubicBezTo>
                    <a:pt x="0" y="0"/>
                    <a:pt x="1" y="6"/>
                    <a:pt x="1" y="5"/>
                  </a:cubicBezTo>
                  <a:cubicBezTo>
                    <a:pt x="4" y="2"/>
                    <a:pt x="5" y="2"/>
                    <a:pt x="3" y="1"/>
                  </a:cubicBezTo>
                  <a:cubicBezTo>
                    <a:pt x="3" y="1"/>
                    <a:pt x="1" y="2"/>
                    <a:pt x="0" y="2"/>
                  </a:cubicBezTo>
                </a:path>
              </a:pathLst>
            </a:custGeom>
            <a:solidFill>
              <a:srgbClr val="a9a8a7"/>
            </a:solidFill>
            <a:ln w="0">
              <a:solidFill>
                <a:srgbClr val="ece9ec"/>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 name=""/>
            <p:cNvSpPr/>
            <p:nvPr/>
          </p:nvSpPr>
          <p:spPr>
            <a:xfrm>
              <a:off x="6369120" y="2028960"/>
              <a:ext cx="66600" cy="56880"/>
            </a:xfrm>
            <a:custGeom>
              <a:avLst/>
              <a:gdLst/>
              <a:ahLst/>
              <a:rect l="l" t="t" r="r" b="b"/>
              <a:pathLst>
                <a:path w="7" h="6">
                  <a:moveTo>
                    <a:pt x="4" y="6"/>
                  </a:moveTo>
                  <a:cubicBezTo>
                    <a:pt x="6" y="2"/>
                    <a:pt x="7" y="3"/>
                    <a:pt x="6" y="0"/>
                  </a:cubicBezTo>
                  <a:lnTo>
                    <a:pt x="4" y="0"/>
                  </a:lnTo>
                  <a:cubicBezTo>
                    <a:pt x="2" y="1"/>
                    <a:pt x="0" y="6"/>
                    <a:pt x="4" y="6"/>
                  </a:cubicBezTo>
                </a:path>
              </a:pathLst>
            </a:custGeom>
            <a:solidFill>
              <a:srgbClr val="a9a8a7"/>
            </a:solidFill>
            <a:ln w="0">
              <a:solidFill>
                <a:srgbClr val="ece9ec"/>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1" name=""/>
            <p:cNvSpPr/>
            <p:nvPr/>
          </p:nvSpPr>
          <p:spPr>
            <a:xfrm>
              <a:off x="6578640" y="1504800"/>
              <a:ext cx="76320" cy="76320"/>
            </a:xfrm>
            <a:custGeom>
              <a:avLst/>
              <a:gdLst/>
              <a:ahLst/>
              <a:rect l="l" t="t" r="r" b="b"/>
              <a:pathLst>
                <a:path w="8" h="8">
                  <a:moveTo>
                    <a:pt x="0" y="8"/>
                  </a:moveTo>
                  <a:cubicBezTo>
                    <a:pt x="4" y="6"/>
                    <a:pt x="7" y="6"/>
                    <a:pt x="8" y="0"/>
                  </a:cubicBezTo>
                  <a:cubicBezTo>
                    <a:pt x="8" y="0"/>
                    <a:pt x="6" y="0"/>
                    <a:pt x="5" y="0"/>
                  </a:cubicBezTo>
                  <a:cubicBezTo>
                    <a:pt x="1" y="5"/>
                    <a:pt x="5" y="3"/>
                    <a:pt x="0" y="8"/>
                  </a:cubicBezTo>
                </a:path>
              </a:pathLst>
            </a:custGeom>
            <a:solidFill>
              <a:srgbClr val="a9a8a7"/>
            </a:solidFill>
            <a:ln w="0">
              <a:solidFill>
                <a:srgbClr val="ece9ec"/>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 name=""/>
            <p:cNvSpPr/>
            <p:nvPr/>
          </p:nvSpPr>
          <p:spPr>
            <a:xfrm>
              <a:off x="6597720" y="1362240"/>
              <a:ext cx="152280" cy="133200"/>
            </a:xfrm>
            <a:custGeom>
              <a:avLst/>
              <a:gdLst/>
              <a:ahLst/>
              <a:rect l="l" t="t" r="r" b="b"/>
              <a:pathLst>
                <a:path w="16" h="14">
                  <a:moveTo>
                    <a:pt x="7" y="3"/>
                  </a:moveTo>
                  <a:cubicBezTo>
                    <a:pt x="7" y="9"/>
                    <a:pt x="0" y="6"/>
                    <a:pt x="6" y="14"/>
                  </a:cubicBezTo>
                  <a:cubicBezTo>
                    <a:pt x="16" y="8"/>
                    <a:pt x="11" y="8"/>
                    <a:pt x="11" y="0"/>
                  </a:cubicBezTo>
                  <a:cubicBezTo>
                    <a:pt x="9" y="0"/>
                    <a:pt x="9" y="2"/>
                    <a:pt x="7" y="3"/>
                  </a:cubicBezTo>
                </a:path>
              </a:pathLst>
            </a:custGeom>
            <a:solidFill>
              <a:srgbClr val="a9a8a7"/>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740640" y="1352520"/>
              <a:ext cx="66600" cy="57240"/>
            </a:xfrm>
            <a:custGeom>
              <a:avLst/>
              <a:gdLst/>
              <a:ahLst/>
              <a:rect l="l" t="t" r="r" b="b"/>
              <a:pathLst>
                <a:path w="7" h="6">
                  <a:moveTo>
                    <a:pt x="4" y="0"/>
                  </a:moveTo>
                  <a:cubicBezTo>
                    <a:pt x="3" y="0"/>
                    <a:pt x="0" y="3"/>
                    <a:pt x="0" y="6"/>
                  </a:cubicBezTo>
                  <a:cubicBezTo>
                    <a:pt x="1" y="6"/>
                    <a:pt x="3" y="6"/>
                    <a:pt x="4" y="6"/>
                  </a:cubicBezTo>
                  <a:cubicBezTo>
                    <a:pt x="4" y="5"/>
                    <a:pt x="7" y="1"/>
                    <a:pt x="4" y="0"/>
                  </a:cubicBezTo>
                </a:path>
              </a:pathLst>
            </a:custGeom>
            <a:solidFill>
              <a:srgbClr val="a9a8a7"/>
            </a:solidFill>
            <a:ln w="0">
              <a:solidFill>
                <a:srgbClr val="ece9ec"/>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 name=""/>
            <p:cNvSpPr/>
            <p:nvPr/>
          </p:nvSpPr>
          <p:spPr>
            <a:xfrm>
              <a:off x="6816600" y="1276200"/>
              <a:ext cx="38160" cy="38160"/>
            </a:xfrm>
            <a:custGeom>
              <a:avLst/>
              <a:gdLst/>
              <a:ahLst/>
              <a:rect l="l" t="t" r="r" b="b"/>
              <a:pathLst>
                <a:path w="4" h="4">
                  <a:moveTo>
                    <a:pt x="3" y="0"/>
                  </a:moveTo>
                  <a:lnTo>
                    <a:pt x="4" y="2"/>
                  </a:lnTo>
                  <a:cubicBezTo>
                    <a:pt x="3" y="2"/>
                    <a:pt x="0" y="4"/>
                    <a:pt x="0" y="3"/>
                  </a:cubicBezTo>
                  <a:cubicBezTo>
                    <a:pt x="0" y="1"/>
                    <a:pt x="4" y="2"/>
                    <a:pt x="3" y="0"/>
                  </a:cubicBezTo>
                </a:path>
              </a:pathLst>
            </a:custGeom>
            <a:solidFill>
              <a:srgbClr val="a9a8a7"/>
            </a:solidFill>
            <a:ln w="0">
              <a:solidFill>
                <a:srgbClr val="ece9ec"/>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5" name=""/>
            <p:cNvSpPr/>
            <p:nvPr/>
          </p:nvSpPr>
          <p:spPr>
            <a:xfrm>
              <a:off x="6149880" y="2314440"/>
              <a:ext cx="28800" cy="38160"/>
            </a:xfrm>
            <a:prstGeom prst="ellipse">
              <a:avLst/>
            </a:prstGeom>
            <a:solidFill>
              <a:srgbClr val="a9a8a7"/>
            </a:solidFill>
            <a:ln w="0">
              <a:solidFill>
                <a:srgbClr val="ece9ec"/>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6" name=""/>
            <p:cNvSpPr/>
            <p:nvPr/>
          </p:nvSpPr>
          <p:spPr>
            <a:xfrm>
              <a:off x="6950160" y="5210280"/>
              <a:ext cx="85680" cy="66600"/>
            </a:xfrm>
            <a:custGeom>
              <a:avLst/>
              <a:gdLst/>
              <a:ahLst/>
              <a:rect l="l" t="t" r="r" b="b"/>
              <a:pathLst>
                <a:path w="9" h="7">
                  <a:moveTo>
                    <a:pt x="9" y="3"/>
                  </a:moveTo>
                  <a:cubicBezTo>
                    <a:pt x="9" y="7"/>
                    <a:pt x="0" y="7"/>
                    <a:pt x="0" y="3"/>
                  </a:cubicBezTo>
                  <a:cubicBezTo>
                    <a:pt x="0" y="0"/>
                    <a:pt x="9" y="0"/>
                    <a:pt x="9" y="3"/>
                  </a:cubicBezTo>
                </a:path>
              </a:pathLst>
            </a:custGeom>
            <a:solidFill>
              <a:srgbClr val="9893a7"/>
            </a:solidFill>
            <a:ln w="0">
              <a:solidFill>
                <a:srgbClr val="ece9ec"/>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7" name=""/>
            <p:cNvSpPr/>
            <p:nvPr/>
          </p:nvSpPr>
          <p:spPr>
            <a:xfrm>
              <a:off x="5130720" y="3695760"/>
              <a:ext cx="66600" cy="257040"/>
            </a:xfrm>
            <a:custGeom>
              <a:avLst/>
              <a:gdLst/>
              <a:ahLst/>
              <a:rect l="l" t="t" r="r" b="b"/>
              <a:pathLst>
                <a:path w="7" h="27">
                  <a:moveTo>
                    <a:pt x="6" y="0"/>
                  </a:moveTo>
                  <a:lnTo>
                    <a:pt x="7" y="7"/>
                  </a:lnTo>
                  <a:lnTo>
                    <a:pt x="3" y="13"/>
                  </a:lnTo>
                  <a:lnTo>
                    <a:pt x="3" y="19"/>
                  </a:lnTo>
                  <a:cubicBezTo>
                    <a:pt x="3" y="23"/>
                    <a:pt x="0" y="24"/>
                    <a:pt x="0" y="27"/>
                  </a:cubicBezTo>
                </a:path>
              </a:pathLst>
            </a:custGeom>
            <a:no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197320" y="3333600"/>
              <a:ext cx="133560" cy="104760"/>
            </a:xfrm>
            <a:custGeom>
              <a:avLst/>
              <a:gdLst/>
              <a:ahLst/>
              <a:rect l="l" t="t" r="r" b="b"/>
              <a:pathLst>
                <a:path w="14" h="11">
                  <a:moveTo>
                    <a:pt x="14" y="0"/>
                  </a:moveTo>
                  <a:cubicBezTo>
                    <a:pt x="13" y="4"/>
                    <a:pt x="9" y="1"/>
                    <a:pt x="6" y="4"/>
                  </a:cubicBezTo>
                  <a:lnTo>
                    <a:pt x="0" y="11"/>
                  </a:lnTo>
                </a:path>
              </a:pathLst>
            </a:custGeom>
            <a:no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902200" y="3886200"/>
              <a:ext cx="19080" cy="19080"/>
            </a:xfrm>
            <a:prstGeom prst="ellipse">
              <a:avLst/>
            </a:prstGeom>
            <a:solidFill>
              <a:srgbClr val="ffffff"/>
            </a:solidFill>
            <a:ln w="0">
              <a:solidFill>
                <a:srgbClr val="ece9ec"/>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0" name=""/>
            <p:cNvSpPr/>
            <p:nvPr/>
          </p:nvSpPr>
          <p:spPr>
            <a:xfrm>
              <a:off x="7178760" y="3962520"/>
              <a:ext cx="19080" cy="19080"/>
            </a:xfrm>
            <a:prstGeom prst="ellipse">
              <a:avLst/>
            </a:prstGeom>
            <a:solidFill>
              <a:srgbClr val="ffffff"/>
            </a:solidFill>
            <a:ln w="0">
              <a:solidFill>
                <a:srgbClr val="f48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1" name=""/>
            <p:cNvSpPr/>
            <p:nvPr/>
          </p:nvSpPr>
          <p:spPr>
            <a:xfrm>
              <a:off x="8112240" y="5295960"/>
              <a:ext cx="914400" cy="762120"/>
            </a:xfrm>
            <a:custGeom>
              <a:avLst/>
              <a:gdLst/>
              <a:ahLst/>
              <a:rect l="l" t="t" r="r" b="b"/>
              <a:pathLst>
                <a:path w="96" h="80">
                  <a:moveTo>
                    <a:pt x="55" y="8"/>
                  </a:moveTo>
                  <a:cubicBezTo>
                    <a:pt x="41" y="4"/>
                    <a:pt x="29" y="0"/>
                    <a:pt x="28" y="1"/>
                  </a:cubicBezTo>
                  <a:cubicBezTo>
                    <a:pt x="31" y="3"/>
                    <a:pt x="34" y="5"/>
                    <a:pt x="34" y="9"/>
                  </a:cubicBezTo>
                  <a:cubicBezTo>
                    <a:pt x="31" y="22"/>
                    <a:pt x="4" y="10"/>
                    <a:pt x="0" y="24"/>
                  </a:cubicBezTo>
                  <a:cubicBezTo>
                    <a:pt x="0" y="26"/>
                    <a:pt x="0" y="30"/>
                    <a:pt x="2" y="32"/>
                  </a:cubicBezTo>
                  <a:cubicBezTo>
                    <a:pt x="4" y="31"/>
                    <a:pt x="8" y="31"/>
                    <a:pt x="10" y="32"/>
                  </a:cubicBezTo>
                  <a:cubicBezTo>
                    <a:pt x="10" y="33"/>
                    <a:pt x="8" y="35"/>
                    <a:pt x="7" y="35"/>
                  </a:cubicBezTo>
                  <a:cubicBezTo>
                    <a:pt x="8" y="35"/>
                    <a:pt x="9" y="37"/>
                    <a:pt x="10" y="37"/>
                  </a:cubicBezTo>
                  <a:cubicBezTo>
                    <a:pt x="10" y="39"/>
                    <a:pt x="10" y="43"/>
                    <a:pt x="15" y="45"/>
                  </a:cubicBezTo>
                  <a:cubicBezTo>
                    <a:pt x="15" y="45"/>
                    <a:pt x="19" y="48"/>
                    <a:pt x="15" y="46"/>
                  </a:cubicBezTo>
                  <a:cubicBezTo>
                    <a:pt x="10" y="45"/>
                    <a:pt x="8" y="47"/>
                    <a:pt x="14" y="51"/>
                  </a:cubicBezTo>
                  <a:cubicBezTo>
                    <a:pt x="19" y="54"/>
                    <a:pt x="11" y="51"/>
                    <a:pt x="11" y="52"/>
                  </a:cubicBezTo>
                  <a:cubicBezTo>
                    <a:pt x="10" y="52"/>
                    <a:pt x="11" y="54"/>
                    <a:pt x="11" y="54"/>
                  </a:cubicBezTo>
                  <a:lnTo>
                    <a:pt x="19" y="54"/>
                  </a:lnTo>
                  <a:cubicBezTo>
                    <a:pt x="19" y="56"/>
                    <a:pt x="18" y="62"/>
                    <a:pt x="19" y="63"/>
                  </a:cubicBezTo>
                  <a:cubicBezTo>
                    <a:pt x="21" y="65"/>
                    <a:pt x="23" y="62"/>
                    <a:pt x="24" y="64"/>
                  </a:cubicBezTo>
                  <a:cubicBezTo>
                    <a:pt x="24" y="63"/>
                    <a:pt x="19" y="67"/>
                    <a:pt x="22" y="68"/>
                  </a:cubicBezTo>
                  <a:cubicBezTo>
                    <a:pt x="24" y="70"/>
                    <a:pt x="28" y="64"/>
                    <a:pt x="29" y="65"/>
                  </a:cubicBezTo>
                  <a:cubicBezTo>
                    <a:pt x="30" y="65"/>
                    <a:pt x="34" y="65"/>
                    <a:pt x="34" y="66"/>
                  </a:cubicBezTo>
                  <a:lnTo>
                    <a:pt x="26" y="71"/>
                  </a:lnTo>
                  <a:cubicBezTo>
                    <a:pt x="26" y="72"/>
                    <a:pt x="27" y="73"/>
                    <a:pt x="28" y="73"/>
                  </a:cubicBezTo>
                  <a:cubicBezTo>
                    <a:pt x="29" y="73"/>
                    <a:pt x="29" y="74"/>
                    <a:pt x="31" y="72"/>
                  </a:cubicBezTo>
                  <a:cubicBezTo>
                    <a:pt x="33" y="69"/>
                    <a:pt x="33" y="72"/>
                    <a:pt x="35" y="72"/>
                  </a:cubicBezTo>
                  <a:cubicBezTo>
                    <a:pt x="35" y="72"/>
                    <a:pt x="42" y="76"/>
                    <a:pt x="49" y="78"/>
                  </a:cubicBezTo>
                  <a:cubicBezTo>
                    <a:pt x="58" y="80"/>
                    <a:pt x="63" y="72"/>
                    <a:pt x="73" y="74"/>
                  </a:cubicBezTo>
                  <a:cubicBezTo>
                    <a:pt x="76" y="74"/>
                    <a:pt x="78" y="75"/>
                    <a:pt x="80" y="75"/>
                  </a:cubicBezTo>
                  <a:cubicBezTo>
                    <a:pt x="79" y="73"/>
                    <a:pt x="81" y="69"/>
                    <a:pt x="83" y="69"/>
                  </a:cubicBezTo>
                  <a:cubicBezTo>
                    <a:pt x="84" y="67"/>
                    <a:pt x="86" y="65"/>
                    <a:pt x="88" y="66"/>
                  </a:cubicBezTo>
                  <a:cubicBezTo>
                    <a:pt x="90" y="65"/>
                    <a:pt x="91" y="64"/>
                    <a:pt x="91" y="62"/>
                  </a:cubicBezTo>
                  <a:cubicBezTo>
                    <a:pt x="89" y="58"/>
                    <a:pt x="90" y="52"/>
                    <a:pt x="92" y="48"/>
                  </a:cubicBezTo>
                  <a:cubicBezTo>
                    <a:pt x="92" y="47"/>
                    <a:pt x="91" y="45"/>
                    <a:pt x="91" y="44"/>
                  </a:cubicBezTo>
                  <a:cubicBezTo>
                    <a:pt x="90" y="41"/>
                    <a:pt x="93" y="39"/>
                    <a:pt x="91" y="36"/>
                  </a:cubicBezTo>
                  <a:cubicBezTo>
                    <a:pt x="91" y="35"/>
                    <a:pt x="91" y="34"/>
                    <a:pt x="91" y="33"/>
                  </a:cubicBezTo>
                  <a:cubicBezTo>
                    <a:pt x="90" y="28"/>
                    <a:pt x="90" y="23"/>
                    <a:pt x="89" y="19"/>
                  </a:cubicBezTo>
                  <a:cubicBezTo>
                    <a:pt x="86" y="19"/>
                    <a:pt x="82" y="18"/>
                    <a:pt x="79" y="18"/>
                  </a:cubicBezTo>
                  <a:lnTo>
                    <a:pt x="72" y="18"/>
                  </a:lnTo>
                  <a:cubicBezTo>
                    <a:pt x="71" y="19"/>
                    <a:pt x="68" y="20"/>
                    <a:pt x="67" y="20"/>
                  </a:cubicBezTo>
                  <a:lnTo>
                    <a:pt x="67" y="20"/>
                  </a:lnTo>
                  <a:cubicBezTo>
                    <a:pt x="64" y="20"/>
                    <a:pt x="56" y="18"/>
                    <a:pt x="57" y="15"/>
                  </a:cubicBezTo>
                  <a:cubicBezTo>
                    <a:pt x="56" y="14"/>
                    <a:pt x="54" y="13"/>
                    <a:pt x="54" y="12"/>
                  </a:cubicBezTo>
                  <a:cubicBezTo>
                    <a:pt x="54" y="10"/>
                    <a:pt x="54" y="9"/>
                    <a:pt x="55" y="8"/>
                  </a:cubicBezTo>
                  <a:moveTo>
                    <a:pt x="89" y="72"/>
                  </a:moveTo>
                  <a:lnTo>
                    <a:pt x="89" y="72"/>
                  </a:lnTo>
                  <a:moveTo>
                    <a:pt x="95" y="26"/>
                  </a:moveTo>
                  <a:cubicBezTo>
                    <a:pt x="96" y="25"/>
                    <a:pt x="95" y="23"/>
                    <a:pt x="95" y="22"/>
                  </a:cubicBezTo>
                  <a:cubicBezTo>
                    <a:pt x="95" y="23"/>
                    <a:pt x="95" y="25"/>
                    <a:pt x="95" y="26"/>
                  </a:cubicBezTo>
                </a:path>
              </a:pathLst>
            </a:custGeom>
            <a:solidFill>
              <a:srgbClr val="969696">
                <a:alpha val="85000"/>
              </a:srgbClr>
            </a:solidFill>
            <a:ln w="0">
              <a:solidFill>
                <a:srgbClr val="9893a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7240" y="1380960"/>
              <a:ext cx="723960" cy="552600"/>
            </a:xfrm>
            <a:custGeom>
              <a:avLst/>
              <a:gdLst/>
              <a:ahLst/>
              <a:rect l="l" t="t" r="r" b="b"/>
              <a:pathLst>
                <a:path w="76" h="58">
                  <a:moveTo>
                    <a:pt x="8" y="9"/>
                  </a:moveTo>
                  <a:cubicBezTo>
                    <a:pt x="10" y="7"/>
                    <a:pt x="14" y="3"/>
                    <a:pt x="17" y="2"/>
                  </a:cubicBezTo>
                  <a:cubicBezTo>
                    <a:pt x="21" y="6"/>
                    <a:pt x="20" y="6"/>
                    <a:pt x="21" y="0"/>
                  </a:cubicBezTo>
                  <a:cubicBezTo>
                    <a:pt x="26" y="0"/>
                    <a:pt x="28" y="8"/>
                    <a:pt x="28" y="12"/>
                  </a:cubicBezTo>
                  <a:cubicBezTo>
                    <a:pt x="26" y="18"/>
                    <a:pt x="24" y="19"/>
                    <a:pt x="30" y="18"/>
                  </a:cubicBezTo>
                  <a:cubicBezTo>
                    <a:pt x="32" y="18"/>
                    <a:pt x="32" y="12"/>
                    <a:pt x="33" y="12"/>
                  </a:cubicBezTo>
                  <a:cubicBezTo>
                    <a:pt x="39" y="12"/>
                    <a:pt x="37" y="10"/>
                    <a:pt x="37" y="18"/>
                  </a:cubicBezTo>
                  <a:cubicBezTo>
                    <a:pt x="37" y="18"/>
                    <a:pt x="39" y="20"/>
                    <a:pt x="39" y="15"/>
                  </a:cubicBezTo>
                  <a:cubicBezTo>
                    <a:pt x="44" y="13"/>
                    <a:pt x="51" y="14"/>
                    <a:pt x="51" y="20"/>
                  </a:cubicBezTo>
                  <a:cubicBezTo>
                    <a:pt x="55" y="15"/>
                    <a:pt x="56" y="15"/>
                    <a:pt x="58" y="21"/>
                  </a:cubicBezTo>
                  <a:cubicBezTo>
                    <a:pt x="59" y="20"/>
                    <a:pt x="58" y="16"/>
                    <a:pt x="59" y="14"/>
                  </a:cubicBezTo>
                  <a:cubicBezTo>
                    <a:pt x="64" y="14"/>
                    <a:pt x="65" y="20"/>
                    <a:pt x="65" y="22"/>
                  </a:cubicBezTo>
                  <a:cubicBezTo>
                    <a:pt x="68" y="19"/>
                    <a:pt x="67" y="19"/>
                    <a:pt x="69" y="21"/>
                  </a:cubicBezTo>
                  <a:cubicBezTo>
                    <a:pt x="71" y="24"/>
                    <a:pt x="68" y="25"/>
                    <a:pt x="68" y="26"/>
                  </a:cubicBezTo>
                  <a:cubicBezTo>
                    <a:pt x="68" y="29"/>
                    <a:pt x="71" y="32"/>
                    <a:pt x="72" y="35"/>
                  </a:cubicBezTo>
                  <a:cubicBezTo>
                    <a:pt x="76" y="51"/>
                    <a:pt x="55" y="49"/>
                    <a:pt x="49" y="55"/>
                  </a:cubicBezTo>
                  <a:cubicBezTo>
                    <a:pt x="43" y="51"/>
                    <a:pt x="34" y="58"/>
                    <a:pt x="29" y="57"/>
                  </a:cubicBezTo>
                  <a:cubicBezTo>
                    <a:pt x="19" y="54"/>
                    <a:pt x="16" y="40"/>
                    <a:pt x="5" y="40"/>
                  </a:cubicBezTo>
                  <a:cubicBezTo>
                    <a:pt x="5" y="33"/>
                    <a:pt x="4" y="36"/>
                    <a:pt x="10" y="36"/>
                  </a:cubicBezTo>
                  <a:cubicBezTo>
                    <a:pt x="16" y="30"/>
                    <a:pt x="11" y="23"/>
                    <a:pt x="4" y="24"/>
                  </a:cubicBezTo>
                  <a:cubicBezTo>
                    <a:pt x="0" y="17"/>
                    <a:pt x="10" y="19"/>
                    <a:pt x="13" y="20"/>
                  </a:cubicBezTo>
                  <a:lnTo>
                    <a:pt x="17" y="16"/>
                  </a:lnTo>
                  <a:cubicBezTo>
                    <a:pt x="14" y="13"/>
                    <a:pt x="8" y="14"/>
                    <a:pt x="8" y="9"/>
                  </a:cubicBezTo>
                </a:path>
              </a:pathLst>
            </a:custGeom>
            <a:solidFill>
              <a:srgbClr val="969696">
                <a:alpha val="85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69200" y="4371840"/>
              <a:ext cx="923760" cy="666720"/>
            </a:xfrm>
            <a:custGeom>
              <a:avLst/>
              <a:gdLst/>
              <a:ahLst/>
              <a:rect l="l" t="t" r="r" b="b"/>
              <a:pathLst>
                <a:path w="97" h="70">
                  <a:moveTo>
                    <a:pt x="97" y="38"/>
                  </a:moveTo>
                  <a:cubicBezTo>
                    <a:pt x="97" y="37"/>
                    <a:pt x="95" y="34"/>
                    <a:pt x="95" y="33"/>
                  </a:cubicBezTo>
                  <a:lnTo>
                    <a:pt x="92" y="38"/>
                  </a:lnTo>
                  <a:cubicBezTo>
                    <a:pt x="91" y="39"/>
                    <a:pt x="88" y="38"/>
                    <a:pt x="86" y="38"/>
                  </a:cubicBezTo>
                  <a:cubicBezTo>
                    <a:pt x="84" y="37"/>
                    <a:pt x="82" y="29"/>
                    <a:pt x="82" y="27"/>
                  </a:cubicBezTo>
                  <a:cubicBezTo>
                    <a:pt x="80" y="18"/>
                    <a:pt x="81" y="18"/>
                    <a:pt x="73" y="13"/>
                  </a:cubicBezTo>
                  <a:cubicBezTo>
                    <a:pt x="69" y="10"/>
                    <a:pt x="61" y="7"/>
                    <a:pt x="56" y="0"/>
                  </a:cubicBezTo>
                  <a:cubicBezTo>
                    <a:pt x="53" y="3"/>
                    <a:pt x="47" y="6"/>
                    <a:pt x="45" y="10"/>
                  </a:cubicBezTo>
                  <a:cubicBezTo>
                    <a:pt x="42" y="10"/>
                    <a:pt x="39" y="8"/>
                    <a:pt x="37" y="6"/>
                  </a:cubicBezTo>
                  <a:cubicBezTo>
                    <a:pt x="30" y="12"/>
                    <a:pt x="26" y="14"/>
                    <a:pt x="21" y="11"/>
                  </a:cubicBezTo>
                  <a:cubicBezTo>
                    <a:pt x="16" y="14"/>
                    <a:pt x="14" y="22"/>
                    <a:pt x="10" y="28"/>
                  </a:cubicBezTo>
                  <a:cubicBezTo>
                    <a:pt x="11" y="33"/>
                    <a:pt x="10" y="35"/>
                    <a:pt x="8" y="39"/>
                  </a:cubicBezTo>
                  <a:lnTo>
                    <a:pt x="0" y="43"/>
                  </a:lnTo>
                  <a:lnTo>
                    <a:pt x="4" y="51"/>
                  </a:lnTo>
                  <a:lnTo>
                    <a:pt x="10" y="54"/>
                  </a:lnTo>
                  <a:cubicBezTo>
                    <a:pt x="11" y="57"/>
                    <a:pt x="11" y="58"/>
                    <a:pt x="10" y="59"/>
                  </a:cubicBezTo>
                  <a:lnTo>
                    <a:pt x="20" y="64"/>
                  </a:lnTo>
                  <a:lnTo>
                    <a:pt x="25" y="60"/>
                  </a:lnTo>
                  <a:lnTo>
                    <a:pt x="28" y="67"/>
                  </a:lnTo>
                  <a:lnTo>
                    <a:pt x="34" y="70"/>
                  </a:lnTo>
                  <a:lnTo>
                    <a:pt x="47" y="70"/>
                  </a:lnTo>
                  <a:lnTo>
                    <a:pt x="62" y="65"/>
                  </a:lnTo>
                  <a:cubicBezTo>
                    <a:pt x="66" y="64"/>
                    <a:pt x="66" y="61"/>
                    <a:pt x="71" y="59"/>
                  </a:cubicBezTo>
                  <a:cubicBezTo>
                    <a:pt x="76" y="56"/>
                    <a:pt x="76" y="57"/>
                    <a:pt x="81" y="58"/>
                  </a:cubicBezTo>
                  <a:cubicBezTo>
                    <a:pt x="84" y="59"/>
                    <a:pt x="87" y="62"/>
                    <a:pt x="91" y="60"/>
                  </a:cubicBezTo>
                  <a:lnTo>
                    <a:pt x="89" y="47"/>
                  </a:lnTo>
                  <a:lnTo>
                    <a:pt x="97" y="38"/>
                  </a:lnTo>
                </a:path>
              </a:pathLst>
            </a:custGeom>
            <a:solidFill>
              <a:srgbClr val="969696">
                <a:alpha val="85000"/>
              </a:srgbClr>
            </a:solidFill>
            <a:ln w="0">
              <a:solidFill>
                <a:srgbClr val="e7e5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083440" y="5210280"/>
              <a:ext cx="295560" cy="276120"/>
            </a:xfrm>
            <a:custGeom>
              <a:avLst/>
              <a:gdLst/>
              <a:ahLst/>
              <a:rect l="l" t="t" r="r" b="b"/>
              <a:pathLst>
                <a:path w="31" h="29">
                  <a:moveTo>
                    <a:pt x="23" y="6"/>
                  </a:moveTo>
                  <a:cubicBezTo>
                    <a:pt x="21" y="4"/>
                    <a:pt x="19" y="2"/>
                    <a:pt x="16" y="0"/>
                  </a:cubicBezTo>
                  <a:lnTo>
                    <a:pt x="14" y="2"/>
                  </a:lnTo>
                  <a:lnTo>
                    <a:pt x="12" y="2"/>
                  </a:lnTo>
                  <a:lnTo>
                    <a:pt x="10" y="1"/>
                  </a:lnTo>
                  <a:lnTo>
                    <a:pt x="7" y="1"/>
                  </a:lnTo>
                  <a:lnTo>
                    <a:pt x="0" y="6"/>
                  </a:lnTo>
                  <a:cubicBezTo>
                    <a:pt x="1" y="7"/>
                    <a:pt x="4" y="11"/>
                    <a:pt x="5" y="12"/>
                  </a:cubicBezTo>
                  <a:cubicBezTo>
                    <a:pt x="3" y="14"/>
                    <a:pt x="1" y="19"/>
                    <a:pt x="1" y="22"/>
                  </a:cubicBezTo>
                  <a:cubicBezTo>
                    <a:pt x="2" y="22"/>
                    <a:pt x="3" y="21"/>
                    <a:pt x="5" y="21"/>
                  </a:cubicBezTo>
                  <a:cubicBezTo>
                    <a:pt x="6" y="21"/>
                    <a:pt x="2" y="28"/>
                    <a:pt x="2" y="29"/>
                  </a:cubicBezTo>
                  <a:cubicBezTo>
                    <a:pt x="3" y="29"/>
                    <a:pt x="8" y="26"/>
                    <a:pt x="10" y="23"/>
                  </a:cubicBezTo>
                  <a:cubicBezTo>
                    <a:pt x="11" y="21"/>
                    <a:pt x="10" y="20"/>
                    <a:pt x="11" y="20"/>
                  </a:cubicBezTo>
                  <a:cubicBezTo>
                    <a:pt x="13" y="19"/>
                    <a:pt x="15" y="17"/>
                    <a:pt x="16" y="17"/>
                  </a:cubicBezTo>
                  <a:cubicBezTo>
                    <a:pt x="20" y="14"/>
                    <a:pt x="26" y="14"/>
                    <a:pt x="30" y="12"/>
                  </a:cubicBezTo>
                  <a:cubicBezTo>
                    <a:pt x="30" y="11"/>
                    <a:pt x="31" y="10"/>
                    <a:pt x="31" y="10"/>
                  </a:cubicBezTo>
                  <a:cubicBezTo>
                    <a:pt x="28" y="9"/>
                    <a:pt x="27" y="7"/>
                    <a:pt x="23" y="6"/>
                  </a:cubicBezTo>
                </a:path>
              </a:pathLst>
            </a:custGeom>
            <a:solidFill>
              <a:srgbClr val="a9a8a7"/>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607160" y="4896000"/>
              <a:ext cx="628920" cy="523800"/>
            </a:xfrm>
            <a:custGeom>
              <a:avLst/>
              <a:gdLst/>
              <a:ahLst/>
              <a:rect l="l" t="t" r="r" b="b"/>
              <a:pathLst>
                <a:path w="66" h="55">
                  <a:moveTo>
                    <a:pt x="64" y="22"/>
                  </a:moveTo>
                  <a:cubicBezTo>
                    <a:pt x="63" y="16"/>
                    <a:pt x="64" y="11"/>
                    <a:pt x="66" y="6"/>
                  </a:cubicBezTo>
                  <a:cubicBezTo>
                    <a:pt x="66" y="5"/>
                    <a:pt x="64" y="6"/>
                    <a:pt x="64" y="6"/>
                  </a:cubicBezTo>
                  <a:cubicBezTo>
                    <a:pt x="60" y="6"/>
                    <a:pt x="60" y="4"/>
                    <a:pt x="57" y="3"/>
                  </a:cubicBezTo>
                  <a:cubicBezTo>
                    <a:pt x="48" y="0"/>
                    <a:pt x="44" y="5"/>
                    <a:pt x="38" y="10"/>
                  </a:cubicBezTo>
                  <a:lnTo>
                    <a:pt x="22" y="15"/>
                  </a:lnTo>
                  <a:lnTo>
                    <a:pt x="9" y="15"/>
                  </a:lnTo>
                  <a:lnTo>
                    <a:pt x="3" y="12"/>
                  </a:lnTo>
                  <a:lnTo>
                    <a:pt x="0" y="18"/>
                  </a:lnTo>
                  <a:lnTo>
                    <a:pt x="7" y="28"/>
                  </a:lnTo>
                  <a:lnTo>
                    <a:pt x="3" y="33"/>
                  </a:lnTo>
                  <a:lnTo>
                    <a:pt x="3" y="42"/>
                  </a:lnTo>
                  <a:cubicBezTo>
                    <a:pt x="4" y="42"/>
                    <a:pt x="8" y="43"/>
                    <a:pt x="9" y="43"/>
                  </a:cubicBezTo>
                  <a:lnTo>
                    <a:pt x="12" y="48"/>
                  </a:lnTo>
                  <a:lnTo>
                    <a:pt x="11" y="51"/>
                  </a:lnTo>
                  <a:lnTo>
                    <a:pt x="12" y="55"/>
                  </a:lnTo>
                  <a:lnTo>
                    <a:pt x="21" y="50"/>
                  </a:lnTo>
                  <a:cubicBezTo>
                    <a:pt x="22" y="50"/>
                    <a:pt x="25" y="50"/>
                    <a:pt x="26" y="50"/>
                  </a:cubicBezTo>
                  <a:lnTo>
                    <a:pt x="33" y="47"/>
                  </a:lnTo>
                  <a:lnTo>
                    <a:pt x="38" y="49"/>
                  </a:lnTo>
                  <a:lnTo>
                    <a:pt x="46" y="46"/>
                  </a:lnTo>
                  <a:lnTo>
                    <a:pt x="44" y="44"/>
                  </a:lnTo>
                  <a:lnTo>
                    <a:pt x="57" y="34"/>
                  </a:lnTo>
                  <a:lnTo>
                    <a:pt x="60" y="33"/>
                  </a:lnTo>
                  <a:lnTo>
                    <a:pt x="62" y="35"/>
                  </a:lnTo>
                  <a:lnTo>
                    <a:pt x="64" y="35"/>
                  </a:lnTo>
                  <a:lnTo>
                    <a:pt x="66" y="33"/>
                  </a:lnTo>
                  <a:lnTo>
                    <a:pt x="61" y="27"/>
                  </a:lnTo>
                  <a:lnTo>
                    <a:pt x="64" y="22"/>
                  </a:lnTo>
                </a:path>
              </a:pathLst>
            </a:custGeom>
            <a:solidFill>
              <a:srgbClr val="969696">
                <a:alpha val="85000"/>
              </a:srgbClr>
            </a:solidFill>
            <a:ln w="0">
              <a:solidFill>
                <a:srgbClr val="e7e5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02600" y="5295960"/>
              <a:ext cx="199800" cy="399960"/>
            </a:xfrm>
            <a:custGeom>
              <a:avLst/>
              <a:gdLst/>
              <a:ahLst/>
              <a:rect l="l" t="t" r="r" b="b"/>
              <a:pathLst>
                <a:path w="21" h="42">
                  <a:moveTo>
                    <a:pt x="21" y="22"/>
                  </a:moveTo>
                  <a:cubicBezTo>
                    <a:pt x="16" y="16"/>
                    <a:pt x="16" y="12"/>
                    <a:pt x="16" y="5"/>
                  </a:cubicBezTo>
                  <a:cubicBezTo>
                    <a:pt x="15" y="1"/>
                    <a:pt x="9" y="3"/>
                    <a:pt x="7" y="0"/>
                  </a:cubicBezTo>
                  <a:cubicBezTo>
                    <a:pt x="12" y="3"/>
                    <a:pt x="2" y="1"/>
                    <a:pt x="0" y="5"/>
                  </a:cubicBezTo>
                  <a:cubicBezTo>
                    <a:pt x="0" y="6"/>
                    <a:pt x="0" y="6"/>
                    <a:pt x="0" y="7"/>
                  </a:cubicBezTo>
                  <a:cubicBezTo>
                    <a:pt x="0" y="8"/>
                    <a:pt x="2" y="7"/>
                    <a:pt x="2" y="8"/>
                  </a:cubicBezTo>
                  <a:cubicBezTo>
                    <a:pt x="2" y="9"/>
                    <a:pt x="2" y="12"/>
                    <a:pt x="2" y="14"/>
                  </a:cubicBezTo>
                  <a:cubicBezTo>
                    <a:pt x="4" y="18"/>
                    <a:pt x="5" y="21"/>
                    <a:pt x="6" y="23"/>
                  </a:cubicBezTo>
                  <a:cubicBezTo>
                    <a:pt x="6" y="24"/>
                    <a:pt x="4" y="27"/>
                    <a:pt x="4" y="28"/>
                  </a:cubicBezTo>
                  <a:cubicBezTo>
                    <a:pt x="5" y="34"/>
                    <a:pt x="11" y="38"/>
                    <a:pt x="15" y="42"/>
                  </a:cubicBezTo>
                  <a:cubicBezTo>
                    <a:pt x="17" y="41"/>
                    <a:pt x="18" y="40"/>
                    <a:pt x="18" y="40"/>
                  </a:cubicBezTo>
                  <a:cubicBezTo>
                    <a:pt x="19" y="40"/>
                    <a:pt x="18" y="40"/>
                    <a:pt x="17" y="38"/>
                  </a:cubicBezTo>
                  <a:lnTo>
                    <a:pt x="18" y="35"/>
                  </a:lnTo>
                  <a:lnTo>
                    <a:pt x="21" y="22"/>
                  </a:lnTo>
                </a:path>
              </a:pathLst>
            </a:custGeom>
            <a:solidFill>
              <a:srgbClr val="969696">
                <a:alpha val="85000"/>
              </a:srgbClr>
            </a:solidFill>
            <a:ln w="0">
              <a:solidFill>
                <a:srgbClr val="9893a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483320" y="3181320"/>
              <a:ext cx="685800" cy="866880"/>
            </a:xfrm>
            <a:custGeom>
              <a:avLst/>
              <a:gdLst/>
              <a:ahLst/>
              <a:rect l="l" t="t" r="r" b="b"/>
              <a:pathLst>
                <a:path w="72" h="91">
                  <a:moveTo>
                    <a:pt x="30" y="0"/>
                  </a:moveTo>
                  <a:cubicBezTo>
                    <a:pt x="30" y="2"/>
                    <a:pt x="43" y="18"/>
                    <a:pt x="43" y="18"/>
                  </a:cubicBezTo>
                  <a:cubicBezTo>
                    <a:pt x="47" y="22"/>
                    <a:pt x="57" y="24"/>
                    <a:pt x="59" y="29"/>
                  </a:cubicBezTo>
                  <a:cubicBezTo>
                    <a:pt x="60" y="33"/>
                    <a:pt x="58" y="41"/>
                    <a:pt x="60" y="44"/>
                  </a:cubicBezTo>
                  <a:cubicBezTo>
                    <a:pt x="64" y="51"/>
                    <a:pt x="72" y="52"/>
                    <a:pt x="72" y="60"/>
                  </a:cubicBezTo>
                  <a:cubicBezTo>
                    <a:pt x="69" y="60"/>
                    <a:pt x="70" y="64"/>
                    <a:pt x="68" y="62"/>
                  </a:cubicBezTo>
                  <a:lnTo>
                    <a:pt x="62" y="58"/>
                  </a:lnTo>
                  <a:cubicBezTo>
                    <a:pt x="61" y="60"/>
                    <a:pt x="62" y="66"/>
                    <a:pt x="63" y="69"/>
                  </a:cubicBezTo>
                  <a:cubicBezTo>
                    <a:pt x="71" y="74"/>
                    <a:pt x="65" y="75"/>
                    <a:pt x="71" y="81"/>
                  </a:cubicBezTo>
                  <a:cubicBezTo>
                    <a:pt x="71" y="83"/>
                    <a:pt x="70" y="85"/>
                    <a:pt x="70" y="86"/>
                  </a:cubicBezTo>
                  <a:cubicBezTo>
                    <a:pt x="64" y="86"/>
                    <a:pt x="65" y="89"/>
                    <a:pt x="59" y="87"/>
                  </a:cubicBezTo>
                  <a:cubicBezTo>
                    <a:pt x="51" y="85"/>
                    <a:pt x="43" y="91"/>
                    <a:pt x="35" y="91"/>
                  </a:cubicBezTo>
                  <a:cubicBezTo>
                    <a:pt x="35" y="87"/>
                    <a:pt x="15" y="90"/>
                    <a:pt x="13" y="90"/>
                  </a:cubicBezTo>
                  <a:cubicBezTo>
                    <a:pt x="10" y="83"/>
                    <a:pt x="11" y="83"/>
                    <a:pt x="5" y="77"/>
                  </a:cubicBezTo>
                  <a:cubicBezTo>
                    <a:pt x="5" y="77"/>
                    <a:pt x="5" y="77"/>
                    <a:pt x="5" y="77"/>
                  </a:cubicBezTo>
                  <a:cubicBezTo>
                    <a:pt x="5" y="76"/>
                    <a:pt x="5" y="75"/>
                    <a:pt x="5" y="74"/>
                  </a:cubicBezTo>
                  <a:cubicBezTo>
                    <a:pt x="4" y="73"/>
                    <a:pt x="2" y="71"/>
                    <a:pt x="0" y="71"/>
                  </a:cubicBezTo>
                  <a:cubicBezTo>
                    <a:pt x="0" y="67"/>
                    <a:pt x="5" y="66"/>
                    <a:pt x="5" y="63"/>
                  </a:cubicBezTo>
                  <a:cubicBezTo>
                    <a:pt x="5" y="58"/>
                    <a:pt x="2" y="47"/>
                    <a:pt x="1" y="44"/>
                  </a:cubicBezTo>
                  <a:cubicBezTo>
                    <a:pt x="2" y="43"/>
                    <a:pt x="4" y="41"/>
                    <a:pt x="7" y="37"/>
                  </a:cubicBezTo>
                  <a:cubicBezTo>
                    <a:pt x="7" y="36"/>
                    <a:pt x="8" y="35"/>
                    <a:pt x="9" y="34"/>
                  </a:cubicBezTo>
                  <a:cubicBezTo>
                    <a:pt x="12" y="37"/>
                    <a:pt x="13" y="35"/>
                    <a:pt x="14" y="33"/>
                  </a:cubicBezTo>
                  <a:cubicBezTo>
                    <a:pt x="14" y="32"/>
                    <a:pt x="12" y="31"/>
                    <a:pt x="13" y="26"/>
                  </a:cubicBezTo>
                  <a:cubicBezTo>
                    <a:pt x="19" y="24"/>
                    <a:pt x="17" y="21"/>
                    <a:pt x="21" y="13"/>
                  </a:cubicBezTo>
                  <a:cubicBezTo>
                    <a:pt x="23" y="13"/>
                    <a:pt x="30" y="3"/>
                    <a:pt x="30" y="0"/>
                  </a:cubicBezTo>
                </a:path>
              </a:pathLst>
            </a:custGeom>
            <a:solidFill>
              <a:srgbClr val="969696"/>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491240" y="3952800"/>
              <a:ext cx="1343160" cy="771480"/>
            </a:xfrm>
            <a:custGeom>
              <a:avLst/>
              <a:gdLst/>
              <a:ahLst/>
              <a:rect l="l" t="t" r="r" b="b"/>
              <a:pathLst>
                <a:path w="141" h="81">
                  <a:moveTo>
                    <a:pt x="108" y="52"/>
                  </a:moveTo>
                  <a:lnTo>
                    <a:pt x="119" y="58"/>
                  </a:lnTo>
                  <a:lnTo>
                    <a:pt x="118" y="60"/>
                  </a:lnTo>
                  <a:lnTo>
                    <a:pt x="116" y="66"/>
                  </a:lnTo>
                  <a:lnTo>
                    <a:pt x="120" y="71"/>
                  </a:lnTo>
                  <a:lnTo>
                    <a:pt x="123" y="67"/>
                  </a:lnTo>
                  <a:lnTo>
                    <a:pt x="129" y="69"/>
                  </a:lnTo>
                  <a:lnTo>
                    <a:pt x="135" y="62"/>
                  </a:lnTo>
                  <a:lnTo>
                    <a:pt x="124" y="60"/>
                  </a:lnTo>
                  <a:lnTo>
                    <a:pt x="124" y="56"/>
                  </a:lnTo>
                  <a:lnTo>
                    <a:pt x="130" y="52"/>
                  </a:lnTo>
                  <a:lnTo>
                    <a:pt x="133" y="50"/>
                  </a:lnTo>
                  <a:lnTo>
                    <a:pt x="140" y="43"/>
                  </a:lnTo>
                  <a:lnTo>
                    <a:pt x="141" y="34"/>
                  </a:lnTo>
                  <a:lnTo>
                    <a:pt x="138" y="25"/>
                  </a:lnTo>
                  <a:lnTo>
                    <a:pt x="132" y="17"/>
                  </a:lnTo>
                  <a:lnTo>
                    <a:pt x="124" y="14"/>
                  </a:lnTo>
                  <a:lnTo>
                    <a:pt x="107" y="7"/>
                  </a:lnTo>
                  <a:cubicBezTo>
                    <a:pt x="107" y="9"/>
                    <a:pt x="102" y="8"/>
                    <a:pt x="99" y="7"/>
                  </a:cubicBezTo>
                  <a:cubicBezTo>
                    <a:pt x="85" y="3"/>
                    <a:pt x="87" y="4"/>
                    <a:pt x="81" y="6"/>
                  </a:cubicBezTo>
                  <a:cubicBezTo>
                    <a:pt x="78" y="5"/>
                    <a:pt x="75" y="0"/>
                    <a:pt x="64" y="4"/>
                  </a:cubicBezTo>
                  <a:cubicBezTo>
                    <a:pt x="58" y="2"/>
                    <a:pt x="53" y="3"/>
                    <a:pt x="45" y="6"/>
                  </a:cubicBezTo>
                  <a:cubicBezTo>
                    <a:pt x="45" y="6"/>
                    <a:pt x="38" y="7"/>
                    <a:pt x="37" y="8"/>
                  </a:cubicBezTo>
                  <a:cubicBezTo>
                    <a:pt x="36" y="2"/>
                    <a:pt x="20" y="6"/>
                    <a:pt x="15" y="6"/>
                  </a:cubicBezTo>
                  <a:cubicBezTo>
                    <a:pt x="15" y="7"/>
                    <a:pt x="16" y="8"/>
                    <a:pt x="17" y="10"/>
                  </a:cubicBezTo>
                  <a:cubicBezTo>
                    <a:pt x="13" y="16"/>
                    <a:pt x="8" y="21"/>
                    <a:pt x="5" y="28"/>
                  </a:cubicBezTo>
                  <a:cubicBezTo>
                    <a:pt x="5" y="30"/>
                    <a:pt x="6" y="30"/>
                    <a:pt x="6" y="33"/>
                  </a:cubicBezTo>
                  <a:cubicBezTo>
                    <a:pt x="6" y="33"/>
                    <a:pt x="0" y="47"/>
                    <a:pt x="1" y="47"/>
                  </a:cubicBezTo>
                  <a:cubicBezTo>
                    <a:pt x="4" y="49"/>
                    <a:pt x="12" y="54"/>
                    <a:pt x="16" y="53"/>
                  </a:cubicBezTo>
                  <a:cubicBezTo>
                    <a:pt x="20" y="53"/>
                    <a:pt x="24" y="50"/>
                    <a:pt x="27" y="47"/>
                  </a:cubicBezTo>
                  <a:cubicBezTo>
                    <a:pt x="27" y="47"/>
                    <a:pt x="35" y="53"/>
                    <a:pt x="35" y="51"/>
                  </a:cubicBezTo>
                  <a:cubicBezTo>
                    <a:pt x="35" y="49"/>
                    <a:pt x="46" y="42"/>
                    <a:pt x="46" y="41"/>
                  </a:cubicBezTo>
                  <a:cubicBezTo>
                    <a:pt x="46" y="41"/>
                    <a:pt x="53" y="49"/>
                    <a:pt x="59" y="51"/>
                  </a:cubicBezTo>
                  <a:cubicBezTo>
                    <a:pt x="61" y="54"/>
                    <a:pt x="66" y="55"/>
                    <a:pt x="70" y="60"/>
                  </a:cubicBezTo>
                  <a:cubicBezTo>
                    <a:pt x="72" y="63"/>
                    <a:pt x="71" y="67"/>
                    <a:pt x="72" y="70"/>
                  </a:cubicBezTo>
                  <a:cubicBezTo>
                    <a:pt x="72" y="76"/>
                    <a:pt x="76" y="81"/>
                    <a:pt x="82" y="79"/>
                  </a:cubicBezTo>
                  <a:cubicBezTo>
                    <a:pt x="83" y="77"/>
                    <a:pt x="85" y="74"/>
                    <a:pt x="85" y="74"/>
                  </a:cubicBezTo>
                  <a:lnTo>
                    <a:pt x="83" y="69"/>
                  </a:lnTo>
                  <a:cubicBezTo>
                    <a:pt x="85" y="69"/>
                    <a:pt x="87" y="70"/>
                    <a:pt x="89" y="70"/>
                  </a:cubicBezTo>
                  <a:cubicBezTo>
                    <a:pt x="89" y="59"/>
                    <a:pt x="95" y="50"/>
                    <a:pt x="108" y="52"/>
                  </a:cubicBezTo>
                </a:path>
              </a:pathLst>
            </a:custGeom>
            <a:solidFill>
              <a:srgbClr val="969696">
                <a:alpha val="85000"/>
              </a:srgbClr>
            </a:solidFill>
            <a:ln w="0">
              <a:solidFill>
                <a:srgbClr val="e7e5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902720" y="4371840"/>
              <a:ext cx="314280" cy="142920"/>
            </a:xfrm>
            <a:custGeom>
              <a:avLst/>
              <a:gdLst/>
              <a:ahLst/>
              <a:rect l="l" t="t" r="r" b="b"/>
              <a:pathLst>
                <a:path w="33" h="15">
                  <a:moveTo>
                    <a:pt x="10" y="0"/>
                  </a:moveTo>
                  <a:cubicBezTo>
                    <a:pt x="11" y="0"/>
                    <a:pt x="22" y="5"/>
                    <a:pt x="24" y="5"/>
                  </a:cubicBezTo>
                  <a:cubicBezTo>
                    <a:pt x="26" y="6"/>
                    <a:pt x="32" y="12"/>
                    <a:pt x="33" y="14"/>
                  </a:cubicBezTo>
                  <a:cubicBezTo>
                    <a:pt x="33" y="15"/>
                    <a:pt x="26" y="11"/>
                    <a:pt x="25" y="13"/>
                  </a:cubicBezTo>
                  <a:cubicBezTo>
                    <a:pt x="18" y="14"/>
                    <a:pt x="19" y="14"/>
                    <a:pt x="13" y="10"/>
                  </a:cubicBezTo>
                  <a:cubicBezTo>
                    <a:pt x="10" y="8"/>
                    <a:pt x="6" y="6"/>
                    <a:pt x="3" y="4"/>
                  </a:cubicBezTo>
                  <a:cubicBezTo>
                    <a:pt x="3" y="4"/>
                    <a:pt x="0" y="0"/>
                    <a:pt x="0" y="0"/>
                  </a:cubicBezTo>
                  <a:cubicBezTo>
                    <a:pt x="3" y="0"/>
                    <a:pt x="7" y="0"/>
                    <a:pt x="10" y="0"/>
                  </a:cubicBezTo>
                </a:path>
              </a:pathLst>
            </a:custGeom>
            <a:solidFill>
              <a:srgbClr val="a9a8a7"/>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445520" y="5295960"/>
              <a:ext cx="276120" cy="209520"/>
            </a:xfrm>
            <a:custGeom>
              <a:avLst/>
              <a:gdLst/>
              <a:ahLst/>
              <a:rect l="l" t="t" r="r" b="b"/>
              <a:pathLst>
                <a:path w="29" h="22">
                  <a:moveTo>
                    <a:pt x="20" y="0"/>
                  </a:moveTo>
                  <a:lnTo>
                    <a:pt x="8" y="6"/>
                  </a:lnTo>
                  <a:lnTo>
                    <a:pt x="1" y="7"/>
                  </a:lnTo>
                  <a:cubicBezTo>
                    <a:pt x="0" y="11"/>
                    <a:pt x="3" y="19"/>
                    <a:pt x="6" y="22"/>
                  </a:cubicBezTo>
                  <a:cubicBezTo>
                    <a:pt x="14" y="22"/>
                    <a:pt x="15" y="21"/>
                    <a:pt x="21" y="16"/>
                  </a:cubicBezTo>
                  <a:lnTo>
                    <a:pt x="25" y="16"/>
                  </a:lnTo>
                  <a:lnTo>
                    <a:pt x="29" y="13"/>
                  </a:lnTo>
                  <a:lnTo>
                    <a:pt x="28" y="9"/>
                  </a:lnTo>
                  <a:lnTo>
                    <a:pt x="29" y="6"/>
                  </a:lnTo>
                  <a:lnTo>
                    <a:pt x="27" y="1"/>
                  </a:lnTo>
                  <a:lnTo>
                    <a:pt x="20" y="0"/>
                  </a:lnTo>
                </a:path>
              </a:pathLst>
            </a:custGeom>
            <a:solidFill>
              <a:srgbClr val="969696">
                <a:alpha val="85000"/>
              </a:srgbClr>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673680" y="4714920"/>
              <a:ext cx="1000440" cy="647640"/>
            </a:xfrm>
            <a:custGeom>
              <a:avLst/>
              <a:gdLst/>
              <a:ahLst/>
              <a:rect l="l" t="t" r="r" b="b"/>
              <a:pathLst>
                <a:path w="105" h="68">
                  <a:moveTo>
                    <a:pt x="101" y="61"/>
                  </a:moveTo>
                  <a:lnTo>
                    <a:pt x="101" y="52"/>
                  </a:lnTo>
                  <a:lnTo>
                    <a:pt x="105" y="47"/>
                  </a:lnTo>
                  <a:lnTo>
                    <a:pt x="98" y="37"/>
                  </a:lnTo>
                  <a:lnTo>
                    <a:pt x="101" y="31"/>
                  </a:lnTo>
                  <a:lnTo>
                    <a:pt x="98" y="24"/>
                  </a:lnTo>
                  <a:lnTo>
                    <a:pt x="93" y="28"/>
                  </a:lnTo>
                  <a:lnTo>
                    <a:pt x="83" y="23"/>
                  </a:lnTo>
                  <a:cubicBezTo>
                    <a:pt x="85" y="18"/>
                    <a:pt x="81" y="18"/>
                    <a:pt x="77" y="15"/>
                  </a:cubicBezTo>
                  <a:lnTo>
                    <a:pt x="74" y="7"/>
                  </a:lnTo>
                  <a:lnTo>
                    <a:pt x="56" y="9"/>
                  </a:lnTo>
                  <a:lnTo>
                    <a:pt x="40" y="14"/>
                  </a:lnTo>
                  <a:lnTo>
                    <a:pt x="28" y="0"/>
                  </a:lnTo>
                  <a:cubicBezTo>
                    <a:pt x="23" y="3"/>
                    <a:pt x="15" y="2"/>
                    <a:pt x="13" y="7"/>
                  </a:cubicBezTo>
                  <a:lnTo>
                    <a:pt x="0" y="7"/>
                  </a:lnTo>
                  <a:lnTo>
                    <a:pt x="4" y="18"/>
                  </a:lnTo>
                  <a:cubicBezTo>
                    <a:pt x="3" y="18"/>
                    <a:pt x="2" y="22"/>
                    <a:pt x="1" y="23"/>
                  </a:cubicBezTo>
                  <a:cubicBezTo>
                    <a:pt x="2" y="24"/>
                    <a:pt x="4" y="28"/>
                    <a:pt x="4" y="30"/>
                  </a:cubicBezTo>
                  <a:cubicBezTo>
                    <a:pt x="8" y="26"/>
                    <a:pt x="4" y="25"/>
                    <a:pt x="9" y="22"/>
                  </a:cubicBezTo>
                  <a:cubicBezTo>
                    <a:pt x="12" y="24"/>
                    <a:pt x="13" y="27"/>
                    <a:pt x="15" y="28"/>
                  </a:cubicBezTo>
                  <a:cubicBezTo>
                    <a:pt x="17" y="29"/>
                    <a:pt x="17" y="33"/>
                    <a:pt x="17" y="36"/>
                  </a:cubicBezTo>
                  <a:cubicBezTo>
                    <a:pt x="16" y="38"/>
                    <a:pt x="21" y="39"/>
                    <a:pt x="22" y="42"/>
                  </a:cubicBezTo>
                  <a:cubicBezTo>
                    <a:pt x="22" y="44"/>
                    <a:pt x="25" y="45"/>
                    <a:pt x="28" y="46"/>
                  </a:cubicBezTo>
                  <a:cubicBezTo>
                    <a:pt x="29" y="46"/>
                    <a:pt x="30" y="48"/>
                    <a:pt x="30" y="50"/>
                  </a:cubicBezTo>
                  <a:cubicBezTo>
                    <a:pt x="37" y="48"/>
                    <a:pt x="42" y="54"/>
                    <a:pt x="47" y="59"/>
                  </a:cubicBezTo>
                  <a:cubicBezTo>
                    <a:pt x="50" y="58"/>
                    <a:pt x="61" y="65"/>
                    <a:pt x="62" y="67"/>
                  </a:cubicBezTo>
                  <a:cubicBezTo>
                    <a:pt x="64" y="68"/>
                    <a:pt x="66" y="67"/>
                    <a:pt x="66" y="66"/>
                  </a:cubicBezTo>
                  <a:cubicBezTo>
                    <a:pt x="69" y="66"/>
                    <a:pt x="68" y="63"/>
                    <a:pt x="74" y="63"/>
                  </a:cubicBezTo>
                  <a:cubicBezTo>
                    <a:pt x="76" y="62"/>
                    <a:pt x="77" y="63"/>
                    <a:pt x="79" y="63"/>
                  </a:cubicBezTo>
                  <a:cubicBezTo>
                    <a:pt x="82" y="64"/>
                    <a:pt x="83" y="66"/>
                    <a:pt x="83" y="68"/>
                  </a:cubicBezTo>
                  <a:lnTo>
                    <a:pt x="90" y="67"/>
                  </a:lnTo>
                  <a:lnTo>
                    <a:pt x="101" y="61"/>
                  </a:lnTo>
                </a:path>
              </a:pathLst>
            </a:custGeom>
            <a:solidFill>
              <a:srgbClr val="969696">
                <a:alpha val="85000"/>
              </a:srgbClr>
            </a:solidFill>
            <a:ln w="0">
              <a:solidFill>
                <a:srgbClr val="9893a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350120" y="2752560"/>
              <a:ext cx="352440" cy="238320"/>
            </a:xfrm>
            <a:custGeom>
              <a:avLst/>
              <a:gdLst/>
              <a:ahLst/>
              <a:rect l="l" t="t" r="r" b="b"/>
              <a:pathLst>
                <a:path w="37" h="25">
                  <a:moveTo>
                    <a:pt x="26" y="0"/>
                  </a:moveTo>
                  <a:cubicBezTo>
                    <a:pt x="36" y="1"/>
                    <a:pt x="31" y="3"/>
                    <a:pt x="31" y="8"/>
                  </a:cubicBezTo>
                  <a:cubicBezTo>
                    <a:pt x="30" y="8"/>
                    <a:pt x="31" y="12"/>
                    <a:pt x="32" y="12"/>
                  </a:cubicBezTo>
                  <a:lnTo>
                    <a:pt x="33" y="15"/>
                  </a:lnTo>
                  <a:cubicBezTo>
                    <a:pt x="37" y="17"/>
                    <a:pt x="28" y="25"/>
                    <a:pt x="28" y="24"/>
                  </a:cubicBezTo>
                  <a:cubicBezTo>
                    <a:pt x="27" y="24"/>
                    <a:pt x="26" y="17"/>
                    <a:pt x="19" y="20"/>
                  </a:cubicBezTo>
                  <a:cubicBezTo>
                    <a:pt x="16" y="20"/>
                    <a:pt x="15" y="23"/>
                    <a:pt x="11" y="23"/>
                  </a:cubicBezTo>
                  <a:cubicBezTo>
                    <a:pt x="11" y="23"/>
                    <a:pt x="11" y="21"/>
                    <a:pt x="10" y="20"/>
                  </a:cubicBezTo>
                  <a:cubicBezTo>
                    <a:pt x="9" y="20"/>
                    <a:pt x="4" y="24"/>
                    <a:pt x="4" y="22"/>
                  </a:cubicBezTo>
                  <a:cubicBezTo>
                    <a:pt x="3" y="22"/>
                    <a:pt x="3" y="17"/>
                    <a:pt x="3" y="16"/>
                  </a:cubicBezTo>
                  <a:cubicBezTo>
                    <a:pt x="1" y="14"/>
                    <a:pt x="0" y="13"/>
                    <a:pt x="0" y="10"/>
                  </a:cubicBezTo>
                  <a:cubicBezTo>
                    <a:pt x="4" y="7"/>
                    <a:pt x="3" y="2"/>
                    <a:pt x="14" y="2"/>
                  </a:cubicBezTo>
                  <a:cubicBezTo>
                    <a:pt x="16" y="2"/>
                    <a:pt x="23" y="0"/>
                    <a:pt x="26" y="0"/>
                  </a:cubicBez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511520" y="3324240"/>
              <a:ext cx="438480" cy="514440"/>
            </a:xfrm>
            <a:custGeom>
              <a:avLst/>
              <a:gdLst/>
              <a:ahLst/>
              <a:rect l="l" t="t" r="r" b="b"/>
              <a:pathLst>
                <a:path w="46" h="54">
                  <a:moveTo>
                    <a:pt x="33" y="11"/>
                  </a:moveTo>
                  <a:cubicBezTo>
                    <a:pt x="32" y="13"/>
                    <a:pt x="36" y="18"/>
                    <a:pt x="40" y="16"/>
                  </a:cubicBezTo>
                  <a:cubicBezTo>
                    <a:pt x="42" y="18"/>
                    <a:pt x="46" y="24"/>
                    <a:pt x="46" y="27"/>
                  </a:cubicBezTo>
                  <a:cubicBezTo>
                    <a:pt x="45" y="29"/>
                    <a:pt x="39" y="33"/>
                    <a:pt x="40" y="36"/>
                  </a:cubicBezTo>
                  <a:cubicBezTo>
                    <a:pt x="41" y="48"/>
                    <a:pt x="33" y="50"/>
                    <a:pt x="23" y="49"/>
                  </a:cubicBezTo>
                  <a:cubicBezTo>
                    <a:pt x="20" y="48"/>
                    <a:pt x="18" y="53"/>
                    <a:pt x="13" y="54"/>
                  </a:cubicBezTo>
                  <a:cubicBezTo>
                    <a:pt x="1" y="47"/>
                    <a:pt x="0" y="51"/>
                    <a:pt x="1" y="47"/>
                  </a:cubicBezTo>
                  <a:cubicBezTo>
                    <a:pt x="3" y="43"/>
                    <a:pt x="1" y="39"/>
                    <a:pt x="1" y="38"/>
                  </a:cubicBezTo>
                  <a:cubicBezTo>
                    <a:pt x="2" y="37"/>
                    <a:pt x="7" y="37"/>
                    <a:pt x="7" y="36"/>
                  </a:cubicBezTo>
                  <a:cubicBezTo>
                    <a:pt x="7" y="35"/>
                    <a:pt x="3" y="35"/>
                    <a:pt x="3" y="33"/>
                  </a:cubicBezTo>
                  <a:cubicBezTo>
                    <a:pt x="2" y="27"/>
                    <a:pt x="10" y="33"/>
                    <a:pt x="10" y="32"/>
                  </a:cubicBezTo>
                  <a:cubicBezTo>
                    <a:pt x="12" y="31"/>
                    <a:pt x="10" y="24"/>
                    <a:pt x="12" y="28"/>
                  </a:cubicBezTo>
                  <a:cubicBezTo>
                    <a:pt x="14" y="32"/>
                    <a:pt x="20" y="28"/>
                    <a:pt x="21" y="26"/>
                  </a:cubicBezTo>
                  <a:cubicBezTo>
                    <a:pt x="15" y="26"/>
                    <a:pt x="11" y="26"/>
                    <a:pt x="9" y="22"/>
                  </a:cubicBezTo>
                  <a:cubicBezTo>
                    <a:pt x="14" y="20"/>
                    <a:pt x="17" y="20"/>
                    <a:pt x="13" y="15"/>
                  </a:cubicBezTo>
                  <a:lnTo>
                    <a:pt x="11" y="14"/>
                  </a:lnTo>
                  <a:cubicBezTo>
                    <a:pt x="14" y="7"/>
                    <a:pt x="24" y="10"/>
                    <a:pt x="26" y="13"/>
                  </a:cubicBezTo>
                  <a:cubicBezTo>
                    <a:pt x="28" y="13"/>
                    <a:pt x="30" y="12"/>
                    <a:pt x="31" y="11"/>
                  </a:cubicBezTo>
                  <a:lnTo>
                    <a:pt x="30" y="7"/>
                  </a:lnTo>
                  <a:cubicBezTo>
                    <a:pt x="29" y="7"/>
                    <a:pt x="28" y="8"/>
                    <a:pt x="26" y="6"/>
                  </a:cubicBezTo>
                  <a:cubicBezTo>
                    <a:pt x="27" y="4"/>
                    <a:pt x="29" y="6"/>
                    <a:pt x="30" y="5"/>
                  </a:cubicBezTo>
                  <a:cubicBezTo>
                    <a:pt x="31" y="1"/>
                    <a:pt x="37" y="0"/>
                    <a:pt x="40" y="0"/>
                  </a:cubicBezTo>
                  <a:lnTo>
                    <a:pt x="40" y="3"/>
                  </a:lnTo>
                  <a:lnTo>
                    <a:pt x="35" y="9"/>
                  </a:lnTo>
                  <a:cubicBezTo>
                    <a:pt x="33" y="11"/>
                    <a:pt x="37" y="9"/>
                    <a:pt x="36" y="11"/>
                  </a:cubicBezTo>
                  <a:cubicBezTo>
                    <a:pt x="35" y="13"/>
                    <a:pt x="34" y="11"/>
                    <a:pt x="33" y="11"/>
                  </a:cubicBez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502320" y="4076640"/>
              <a:ext cx="1019160" cy="486000"/>
            </a:xfrm>
            <a:custGeom>
              <a:avLst/>
              <a:gdLst/>
              <a:ahLst/>
              <a:rect l="l" t="t" r="r" b="b"/>
              <a:pathLst>
                <a:path w="107" h="51">
                  <a:moveTo>
                    <a:pt x="77" y="21"/>
                  </a:moveTo>
                  <a:lnTo>
                    <a:pt x="71" y="22"/>
                  </a:lnTo>
                  <a:cubicBezTo>
                    <a:pt x="69" y="22"/>
                    <a:pt x="67" y="20"/>
                    <a:pt x="64" y="18"/>
                  </a:cubicBezTo>
                  <a:lnTo>
                    <a:pt x="59" y="17"/>
                  </a:lnTo>
                  <a:cubicBezTo>
                    <a:pt x="58" y="17"/>
                    <a:pt x="59" y="15"/>
                    <a:pt x="57" y="13"/>
                  </a:cubicBezTo>
                  <a:lnTo>
                    <a:pt x="55" y="12"/>
                  </a:lnTo>
                  <a:cubicBezTo>
                    <a:pt x="52" y="11"/>
                    <a:pt x="52" y="12"/>
                    <a:pt x="49" y="11"/>
                  </a:cubicBezTo>
                  <a:cubicBezTo>
                    <a:pt x="49" y="12"/>
                    <a:pt x="47" y="14"/>
                    <a:pt x="47" y="15"/>
                  </a:cubicBezTo>
                  <a:cubicBezTo>
                    <a:pt x="45" y="14"/>
                    <a:pt x="46" y="11"/>
                    <a:pt x="45" y="11"/>
                  </a:cubicBezTo>
                  <a:lnTo>
                    <a:pt x="43" y="7"/>
                  </a:lnTo>
                  <a:cubicBezTo>
                    <a:pt x="39" y="9"/>
                    <a:pt x="36" y="8"/>
                    <a:pt x="32" y="7"/>
                  </a:cubicBezTo>
                  <a:cubicBezTo>
                    <a:pt x="29" y="5"/>
                    <a:pt x="28" y="0"/>
                    <a:pt x="28" y="1"/>
                  </a:cubicBezTo>
                  <a:lnTo>
                    <a:pt x="28" y="3"/>
                  </a:lnTo>
                  <a:lnTo>
                    <a:pt x="22" y="1"/>
                  </a:lnTo>
                  <a:cubicBezTo>
                    <a:pt x="20" y="4"/>
                    <a:pt x="19" y="9"/>
                    <a:pt x="13" y="11"/>
                  </a:cubicBezTo>
                  <a:cubicBezTo>
                    <a:pt x="7" y="14"/>
                    <a:pt x="3" y="14"/>
                    <a:pt x="0" y="16"/>
                  </a:cubicBezTo>
                  <a:lnTo>
                    <a:pt x="7" y="20"/>
                  </a:lnTo>
                  <a:cubicBezTo>
                    <a:pt x="10" y="25"/>
                    <a:pt x="16" y="36"/>
                    <a:pt x="22" y="37"/>
                  </a:cubicBezTo>
                  <a:lnTo>
                    <a:pt x="24" y="40"/>
                  </a:lnTo>
                  <a:lnTo>
                    <a:pt x="26" y="40"/>
                  </a:lnTo>
                  <a:cubicBezTo>
                    <a:pt x="31" y="39"/>
                    <a:pt x="31" y="32"/>
                    <a:pt x="39" y="35"/>
                  </a:cubicBezTo>
                  <a:cubicBezTo>
                    <a:pt x="45" y="37"/>
                    <a:pt x="49" y="36"/>
                    <a:pt x="54" y="41"/>
                  </a:cubicBezTo>
                  <a:lnTo>
                    <a:pt x="56" y="41"/>
                  </a:lnTo>
                  <a:cubicBezTo>
                    <a:pt x="56" y="43"/>
                    <a:pt x="55" y="45"/>
                    <a:pt x="54" y="47"/>
                  </a:cubicBezTo>
                  <a:cubicBezTo>
                    <a:pt x="58" y="51"/>
                    <a:pt x="64" y="51"/>
                    <a:pt x="70" y="48"/>
                  </a:cubicBezTo>
                  <a:cubicBezTo>
                    <a:pt x="70" y="41"/>
                    <a:pt x="87" y="46"/>
                    <a:pt x="88" y="36"/>
                  </a:cubicBezTo>
                  <a:cubicBezTo>
                    <a:pt x="93" y="34"/>
                    <a:pt x="96" y="34"/>
                    <a:pt x="101" y="37"/>
                  </a:cubicBezTo>
                  <a:lnTo>
                    <a:pt x="107" y="23"/>
                  </a:lnTo>
                  <a:lnTo>
                    <a:pt x="96" y="23"/>
                  </a:lnTo>
                  <a:cubicBezTo>
                    <a:pt x="100" y="19"/>
                    <a:pt x="92" y="20"/>
                    <a:pt x="91" y="20"/>
                  </a:cubicBezTo>
                  <a:lnTo>
                    <a:pt x="86" y="21"/>
                  </a:lnTo>
                  <a:lnTo>
                    <a:pt x="82" y="24"/>
                  </a:lnTo>
                  <a:lnTo>
                    <a:pt x="77" y="21"/>
                  </a:ln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502320" y="4076640"/>
              <a:ext cx="609840" cy="381240"/>
            </a:xfrm>
            <a:custGeom>
              <a:avLst/>
              <a:gdLst/>
              <a:ahLst/>
              <a:rect l="l" t="t" r="r" b="b"/>
              <a:pathLst>
                <a:path w="64" h="40">
                  <a:moveTo>
                    <a:pt x="64" y="19"/>
                  </a:moveTo>
                  <a:lnTo>
                    <a:pt x="58" y="17"/>
                  </a:lnTo>
                  <a:cubicBezTo>
                    <a:pt x="56" y="10"/>
                    <a:pt x="52" y="12"/>
                    <a:pt x="49" y="11"/>
                  </a:cubicBezTo>
                  <a:cubicBezTo>
                    <a:pt x="49" y="12"/>
                    <a:pt x="47" y="14"/>
                    <a:pt x="47" y="15"/>
                  </a:cubicBezTo>
                  <a:cubicBezTo>
                    <a:pt x="45" y="14"/>
                    <a:pt x="46" y="11"/>
                    <a:pt x="45" y="11"/>
                  </a:cubicBezTo>
                  <a:lnTo>
                    <a:pt x="43" y="7"/>
                  </a:lnTo>
                  <a:cubicBezTo>
                    <a:pt x="39" y="9"/>
                    <a:pt x="36" y="8"/>
                    <a:pt x="32" y="7"/>
                  </a:cubicBezTo>
                  <a:cubicBezTo>
                    <a:pt x="29" y="5"/>
                    <a:pt x="28" y="0"/>
                    <a:pt x="28" y="1"/>
                  </a:cubicBezTo>
                  <a:lnTo>
                    <a:pt x="28" y="3"/>
                  </a:lnTo>
                  <a:lnTo>
                    <a:pt x="22" y="1"/>
                  </a:lnTo>
                  <a:cubicBezTo>
                    <a:pt x="20" y="4"/>
                    <a:pt x="19" y="9"/>
                    <a:pt x="13" y="11"/>
                  </a:cubicBezTo>
                  <a:cubicBezTo>
                    <a:pt x="7" y="14"/>
                    <a:pt x="3" y="14"/>
                    <a:pt x="0" y="16"/>
                  </a:cubicBezTo>
                  <a:lnTo>
                    <a:pt x="7" y="20"/>
                  </a:lnTo>
                  <a:cubicBezTo>
                    <a:pt x="10" y="25"/>
                    <a:pt x="16" y="36"/>
                    <a:pt x="22" y="37"/>
                  </a:cubicBezTo>
                  <a:lnTo>
                    <a:pt x="24" y="40"/>
                  </a:lnTo>
                  <a:lnTo>
                    <a:pt x="26" y="40"/>
                  </a:lnTo>
                  <a:cubicBezTo>
                    <a:pt x="27" y="39"/>
                    <a:pt x="28" y="39"/>
                    <a:pt x="29" y="38"/>
                  </a:cubicBezTo>
                  <a:cubicBezTo>
                    <a:pt x="37" y="31"/>
                    <a:pt x="40" y="37"/>
                    <a:pt x="42" y="36"/>
                  </a:cubicBezTo>
                  <a:lnTo>
                    <a:pt x="64" y="19"/>
                  </a:ln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64360" y="4400640"/>
              <a:ext cx="771480" cy="380880"/>
            </a:xfrm>
            <a:custGeom>
              <a:avLst/>
              <a:gdLst/>
              <a:ahLst/>
              <a:rect l="l" t="t" r="r" b="b"/>
              <a:pathLst>
                <a:path w="81" h="40">
                  <a:moveTo>
                    <a:pt x="75" y="23"/>
                  </a:moveTo>
                  <a:lnTo>
                    <a:pt x="71" y="19"/>
                  </a:lnTo>
                  <a:cubicBezTo>
                    <a:pt x="73" y="18"/>
                    <a:pt x="74" y="16"/>
                    <a:pt x="78" y="16"/>
                  </a:cubicBezTo>
                  <a:cubicBezTo>
                    <a:pt x="78" y="14"/>
                    <a:pt x="81" y="9"/>
                    <a:pt x="81" y="7"/>
                  </a:cubicBezTo>
                  <a:cubicBezTo>
                    <a:pt x="80" y="7"/>
                    <a:pt x="80" y="7"/>
                    <a:pt x="79" y="7"/>
                  </a:cubicBezTo>
                  <a:cubicBezTo>
                    <a:pt x="78" y="5"/>
                    <a:pt x="75" y="5"/>
                    <a:pt x="74" y="3"/>
                  </a:cubicBezTo>
                  <a:cubicBezTo>
                    <a:pt x="68" y="2"/>
                    <a:pt x="66" y="1"/>
                    <a:pt x="61" y="0"/>
                  </a:cubicBezTo>
                  <a:cubicBezTo>
                    <a:pt x="59" y="0"/>
                    <a:pt x="58" y="0"/>
                    <a:pt x="56" y="2"/>
                  </a:cubicBezTo>
                  <a:cubicBezTo>
                    <a:pt x="54" y="5"/>
                    <a:pt x="52" y="6"/>
                    <a:pt x="49" y="6"/>
                  </a:cubicBezTo>
                  <a:cubicBezTo>
                    <a:pt x="46" y="6"/>
                    <a:pt x="37" y="11"/>
                    <a:pt x="33" y="16"/>
                  </a:cubicBezTo>
                  <a:cubicBezTo>
                    <a:pt x="35" y="18"/>
                    <a:pt x="34" y="16"/>
                    <a:pt x="36" y="19"/>
                  </a:cubicBezTo>
                  <a:lnTo>
                    <a:pt x="28" y="20"/>
                  </a:lnTo>
                  <a:cubicBezTo>
                    <a:pt x="21" y="20"/>
                    <a:pt x="15" y="22"/>
                    <a:pt x="10" y="27"/>
                  </a:cubicBezTo>
                  <a:lnTo>
                    <a:pt x="4" y="21"/>
                  </a:lnTo>
                  <a:lnTo>
                    <a:pt x="0" y="22"/>
                  </a:lnTo>
                  <a:lnTo>
                    <a:pt x="3" y="26"/>
                  </a:lnTo>
                  <a:lnTo>
                    <a:pt x="1" y="29"/>
                  </a:lnTo>
                  <a:lnTo>
                    <a:pt x="8" y="32"/>
                  </a:lnTo>
                  <a:lnTo>
                    <a:pt x="10" y="35"/>
                  </a:lnTo>
                  <a:lnTo>
                    <a:pt x="16" y="35"/>
                  </a:lnTo>
                  <a:lnTo>
                    <a:pt x="26" y="30"/>
                  </a:lnTo>
                  <a:lnTo>
                    <a:pt x="43" y="40"/>
                  </a:lnTo>
                  <a:lnTo>
                    <a:pt x="55" y="40"/>
                  </a:lnTo>
                  <a:cubicBezTo>
                    <a:pt x="57" y="38"/>
                    <a:pt x="58" y="37"/>
                    <a:pt x="60" y="36"/>
                  </a:cubicBezTo>
                  <a:cubicBezTo>
                    <a:pt x="62" y="35"/>
                    <a:pt x="65" y="35"/>
                    <a:pt x="67" y="34"/>
                  </a:cubicBezTo>
                  <a:lnTo>
                    <a:pt x="71" y="33"/>
                  </a:lnTo>
                  <a:cubicBezTo>
                    <a:pt x="74" y="32"/>
                    <a:pt x="75" y="27"/>
                    <a:pt x="75" y="23"/>
                  </a:cubicBez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892840" y="4552920"/>
              <a:ext cx="466560" cy="295200"/>
            </a:xfrm>
            <a:custGeom>
              <a:avLst/>
              <a:gdLst/>
              <a:ahLst/>
              <a:rect l="l" t="t" r="r" b="b"/>
              <a:pathLst>
                <a:path w="49" h="31">
                  <a:moveTo>
                    <a:pt x="40" y="13"/>
                  </a:moveTo>
                  <a:lnTo>
                    <a:pt x="42" y="10"/>
                  </a:lnTo>
                  <a:cubicBezTo>
                    <a:pt x="40" y="6"/>
                    <a:pt x="32" y="0"/>
                    <a:pt x="28" y="3"/>
                  </a:cubicBezTo>
                  <a:cubicBezTo>
                    <a:pt x="28" y="3"/>
                    <a:pt x="29" y="5"/>
                    <a:pt x="29" y="6"/>
                  </a:cubicBezTo>
                  <a:lnTo>
                    <a:pt x="22" y="7"/>
                  </a:lnTo>
                  <a:lnTo>
                    <a:pt x="21" y="2"/>
                  </a:lnTo>
                  <a:lnTo>
                    <a:pt x="15" y="3"/>
                  </a:lnTo>
                  <a:cubicBezTo>
                    <a:pt x="14" y="3"/>
                    <a:pt x="16" y="6"/>
                    <a:pt x="15" y="6"/>
                  </a:cubicBezTo>
                  <a:cubicBezTo>
                    <a:pt x="14" y="7"/>
                    <a:pt x="4" y="8"/>
                    <a:pt x="2" y="10"/>
                  </a:cubicBezTo>
                  <a:cubicBezTo>
                    <a:pt x="0" y="12"/>
                    <a:pt x="0" y="12"/>
                    <a:pt x="1" y="13"/>
                  </a:cubicBezTo>
                  <a:cubicBezTo>
                    <a:pt x="2" y="14"/>
                    <a:pt x="8" y="11"/>
                    <a:pt x="7" y="12"/>
                  </a:cubicBezTo>
                  <a:lnTo>
                    <a:pt x="3" y="18"/>
                  </a:lnTo>
                  <a:cubicBezTo>
                    <a:pt x="3" y="20"/>
                    <a:pt x="3" y="27"/>
                    <a:pt x="9" y="31"/>
                  </a:cubicBezTo>
                  <a:lnTo>
                    <a:pt x="25" y="28"/>
                  </a:lnTo>
                  <a:lnTo>
                    <a:pt x="25" y="24"/>
                  </a:lnTo>
                  <a:lnTo>
                    <a:pt x="28" y="22"/>
                  </a:lnTo>
                  <a:lnTo>
                    <a:pt x="33" y="30"/>
                  </a:lnTo>
                  <a:lnTo>
                    <a:pt x="36" y="22"/>
                  </a:lnTo>
                  <a:cubicBezTo>
                    <a:pt x="39" y="22"/>
                    <a:pt x="40" y="23"/>
                    <a:pt x="41" y="25"/>
                  </a:cubicBezTo>
                  <a:cubicBezTo>
                    <a:pt x="42" y="25"/>
                    <a:pt x="44" y="24"/>
                    <a:pt x="45" y="24"/>
                  </a:cubicBezTo>
                  <a:cubicBezTo>
                    <a:pt x="44" y="21"/>
                    <a:pt x="47" y="20"/>
                    <a:pt x="49" y="19"/>
                  </a:cubicBezTo>
                  <a:lnTo>
                    <a:pt x="47" y="17"/>
                  </a:lnTo>
                  <a:lnTo>
                    <a:pt x="40" y="13"/>
                  </a:lnTo>
                </a:path>
              </a:pathLst>
            </a:custGeom>
            <a:solidFill>
              <a:srgbClr val="2358cf"/>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902120" y="4067280"/>
              <a:ext cx="1285920" cy="1276200"/>
            </a:xfrm>
            <a:custGeom>
              <a:avLst/>
              <a:gdLst/>
              <a:ahLst/>
              <a:rect l="l" t="t" r="r" b="b"/>
              <a:pathLst>
                <a:path w="135" h="134">
                  <a:moveTo>
                    <a:pt x="14" y="111"/>
                  </a:moveTo>
                  <a:cubicBezTo>
                    <a:pt x="18" y="107"/>
                    <a:pt x="24" y="102"/>
                    <a:pt x="26" y="98"/>
                  </a:cubicBezTo>
                  <a:cubicBezTo>
                    <a:pt x="26" y="97"/>
                    <a:pt x="30" y="80"/>
                    <a:pt x="32" y="78"/>
                  </a:cubicBezTo>
                  <a:cubicBezTo>
                    <a:pt x="27" y="69"/>
                    <a:pt x="29" y="65"/>
                    <a:pt x="24" y="58"/>
                  </a:cubicBezTo>
                  <a:cubicBezTo>
                    <a:pt x="27" y="52"/>
                    <a:pt x="26" y="54"/>
                    <a:pt x="22" y="51"/>
                  </a:cubicBezTo>
                  <a:cubicBezTo>
                    <a:pt x="20" y="47"/>
                    <a:pt x="12" y="36"/>
                    <a:pt x="5" y="39"/>
                  </a:cubicBezTo>
                  <a:cubicBezTo>
                    <a:pt x="3" y="38"/>
                    <a:pt x="1" y="36"/>
                    <a:pt x="0" y="34"/>
                  </a:cubicBezTo>
                  <a:cubicBezTo>
                    <a:pt x="1" y="34"/>
                    <a:pt x="4" y="32"/>
                    <a:pt x="5" y="32"/>
                  </a:cubicBezTo>
                  <a:cubicBezTo>
                    <a:pt x="4" y="30"/>
                    <a:pt x="3" y="30"/>
                    <a:pt x="1" y="29"/>
                  </a:cubicBezTo>
                  <a:cubicBezTo>
                    <a:pt x="1" y="28"/>
                    <a:pt x="3" y="26"/>
                    <a:pt x="3" y="26"/>
                  </a:cubicBezTo>
                  <a:cubicBezTo>
                    <a:pt x="6" y="27"/>
                    <a:pt x="15" y="26"/>
                    <a:pt x="21" y="26"/>
                  </a:cubicBezTo>
                  <a:cubicBezTo>
                    <a:pt x="22" y="27"/>
                    <a:pt x="23" y="29"/>
                    <a:pt x="24" y="30"/>
                  </a:cubicBezTo>
                  <a:cubicBezTo>
                    <a:pt x="27" y="30"/>
                    <a:pt x="31" y="31"/>
                    <a:pt x="33" y="31"/>
                  </a:cubicBezTo>
                  <a:cubicBezTo>
                    <a:pt x="36" y="28"/>
                    <a:pt x="34" y="27"/>
                    <a:pt x="35" y="24"/>
                  </a:cubicBezTo>
                  <a:cubicBezTo>
                    <a:pt x="32" y="21"/>
                    <a:pt x="31" y="17"/>
                    <a:pt x="34" y="14"/>
                  </a:cubicBezTo>
                  <a:cubicBezTo>
                    <a:pt x="38" y="16"/>
                    <a:pt x="36" y="16"/>
                    <a:pt x="41" y="15"/>
                  </a:cubicBezTo>
                  <a:cubicBezTo>
                    <a:pt x="41" y="20"/>
                    <a:pt x="44" y="23"/>
                    <a:pt x="49" y="23"/>
                  </a:cubicBezTo>
                  <a:cubicBezTo>
                    <a:pt x="52" y="19"/>
                    <a:pt x="52" y="15"/>
                    <a:pt x="55" y="18"/>
                  </a:cubicBezTo>
                  <a:cubicBezTo>
                    <a:pt x="65" y="16"/>
                    <a:pt x="64" y="12"/>
                    <a:pt x="66" y="4"/>
                  </a:cubicBezTo>
                  <a:cubicBezTo>
                    <a:pt x="67" y="1"/>
                    <a:pt x="71" y="2"/>
                    <a:pt x="73" y="2"/>
                  </a:cubicBezTo>
                  <a:cubicBezTo>
                    <a:pt x="79" y="0"/>
                    <a:pt x="72" y="6"/>
                    <a:pt x="78" y="1"/>
                  </a:cubicBezTo>
                  <a:cubicBezTo>
                    <a:pt x="78" y="3"/>
                    <a:pt x="83" y="5"/>
                    <a:pt x="84" y="5"/>
                  </a:cubicBezTo>
                  <a:cubicBezTo>
                    <a:pt x="84" y="5"/>
                    <a:pt x="86" y="8"/>
                    <a:pt x="86" y="9"/>
                  </a:cubicBezTo>
                  <a:cubicBezTo>
                    <a:pt x="89" y="12"/>
                    <a:pt x="89" y="13"/>
                    <a:pt x="93" y="14"/>
                  </a:cubicBezTo>
                  <a:cubicBezTo>
                    <a:pt x="94" y="14"/>
                    <a:pt x="93" y="18"/>
                    <a:pt x="94" y="18"/>
                  </a:cubicBezTo>
                  <a:cubicBezTo>
                    <a:pt x="96" y="19"/>
                    <a:pt x="97" y="23"/>
                    <a:pt x="99" y="24"/>
                  </a:cubicBezTo>
                  <a:cubicBezTo>
                    <a:pt x="112" y="30"/>
                    <a:pt x="98" y="33"/>
                    <a:pt x="112" y="30"/>
                  </a:cubicBezTo>
                  <a:cubicBezTo>
                    <a:pt x="113" y="29"/>
                    <a:pt x="117" y="31"/>
                    <a:pt x="118" y="30"/>
                  </a:cubicBezTo>
                  <a:cubicBezTo>
                    <a:pt x="124" y="32"/>
                    <a:pt x="129" y="31"/>
                    <a:pt x="132" y="35"/>
                  </a:cubicBezTo>
                  <a:cubicBezTo>
                    <a:pt x="135" y="39"/>
                    <a:pt x="128" y="42"/>
                    <a:pt x="125" y="53"/>
                  </a:cubicBezTo>
                  <a:cubicBezTo>
                    <a:pt x="125" y="53"/>
                    <a:pt x="120" y="53"/>
                    <a:pt x="119" y="54"/>
                  </a:cubicBezTo>
                  <a:cubicBezTo>
                    <a:pt x="118" y="54"/>
                    <a:pt x="120" y="57"/>
                    <a:pt x="119" y="57"/>
                  </a:cubicBezTo>
                  <a:cubicBezTo>
                    <a:pt x="117" y="58"/>
                    <a:pt x="106" y="59"/>
                    <a:pt x="105" y="63"/>
                  </a:cubicBezTo>
                  <a:cubicBezTo>
                    <a:pt x="104" y="66"/>
                    <a:pt x="113" y="62"/>
                    <a:pt x="111" y="64"/>
                  </a:cubicBezTo>
                  <a:lnTo>
                    <a:pt x="107" y="69"/>
                  </a:lnTo>
                  <a:cubicBezTo>
                    <a:pt x="106" y="69"/>
                    <a:pt x="107" y="72"/>
                    <a:pt x="107" y="73"/>
                  </a:cubicBezTo>
                  <a:cubicBezTo>
                    <a:pt x="107" y="77"/>
                    <a:pt x="111" y="80"/>
                    <a:pt x="113" y="82"/>
                  </a:cubicBezTo>
                  <a:lnTo>
                    <a:pt x="120" y="92"/>
                  </a:lnTo>
                  <a:lnTo>
                    <a:pt x="114" y="95"/>
                  </a:lnTo>
                  <a:cubicBezTo>
                    <a:pt x="113" y="95"/>
                    <a:pt x="117" y="99"/>
                    <a:pt x="118" y="99"/>
                  </a:cubicBezTo>
                  <a:cubicBezTo>
                    <a:pt x="117" y="99"/>
                    <a:pt x="111" y="100"/>
                    <a:pt x="111" y="101"/>
                  </a:cubicBezTo>
                  <a:lnTo>
                    <a:pt x="111" y="107"/>
                  </a:lnTo>
                  <a:lnTo>
                    <a:pt x="117" y="113"/>
                  </a:lnTo>
                  <a:lnTo>
                    <a:pt x="121" y="113"/>
                  </a:lnTo>
                  <a:cubicBezTo>
                    <a:pt x="119" y="113"/>
                    <a:pt x="111" y="126"/>
                    <a:pt x="109" y="126"/>
                  </a:cubicBezTo>
                  <a:cubicBezTo>
                    <a:pt x="100" y="127"/>
                    <a:pt x="100" y="125"/>
                    <a:pt x="94" y="121"/>
                  </a:cubicBezTo>
                  <a:lnTo>
                    <a:pt x="89" y="122"/>
                  </a:lnTo>
                  <a:cubicBezTo>
                    <a:pt x="89" y="122"/>
                    <a:pt x="77" y="117"/>
                    <a:pt x="77" y="117"/>
                  </a:cubicBezTo>
                  <a:cubicBezTo>
                    <a:pt x="69" y="120"/>
                    <a:pt x="70" y="129"/>
                    <a:pt x="72" y="134"/>
                  </a:cubicBezTo>
                  <a:cubicBezTo>
                    <a:pt x="72" y="134"/>
                    <a:pt x="64" y="133"/>
                    <a:pt x="60" y="132"/>
                  </a:cubicBezTo>
                  <a:cubicBezTo>
                    <a:pt x="57" y="132"/>
                    <a:pt x="49" y="125"/>
                    <a:pt x="47" y="123"/>
                  </a:cubicBezTo>
                  <a:cubicBezTo>
                    <a:pt x="47" y="122"/>
                    <a:pt x="41" y="127"/>
                    <a:pt x="40" y="126"/>
                  </a:cubicBezTo>
                  <a:lnTo>
                    <a:pt x="34" y="121"/>
                  </a:lnTo>
                  <a:lnTo>
                    <a:pt x="31" y="122"/>
                  </a:lnTo>
                  <a:cubicBezTo>
                    <a:pt x="27" y="118"/>
                    <a:pt x="23" y="118"/>
                    <a:pt x="22" y="114"/>
                  </a:cubicBezTo>
                  <a:cubicBezTo>
                    <a:pt x="22" y="113"/>
                    <a:pt x="14" y="110"/>
                    <a:pt x="14" y="111"/>
                  </a:cubicBezTo>
                </a:path>
              </a:pathLst>
            </a:custGeom>
            <a:solidFill>
              <a:srgbClr val="2358cf">
                <a:alpha val="99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140520" y="5286240"/>
              <a:ext cx="142920" cy="228600"/>
            </a:xfrm>
            <a:custGeom>
              <a:avLst/>
              <a:gdLst/>
              <a:ahLst/>
              <a:rect l="l" t="t" r="r" b="b"/>
              <a:pathLst>
                <a:path w="15" h="24">
                  <a:moveTo>
                    <a:pt x="2" y="8"/>
                  </a:moveTo>
                  <a:cubicBezTo>
                    <a:pt x="3" y="6"/>
                    <a:pt x="8" y="2"/>
                    <a:pt x="10" y="0"/>
                  </a:cubicBezTo>
                  <a:cubicBezTo>
                    <a:pt x="15" y="5"/>
                    <a:pt x="13" y="21"/>
                    <a:pt x="8" y="24"/>
                  </a:cubicBezTo>
                  <a:cubicBezTo>
                    <a:pt x="1" y="22"/>
                    <a:pt x="0" y="17"/>
                    <a:pt x="2" y="8"/>
                  </a:cubicBezTo>
                </a:path>
              </a:pathLst>
            </a:custGeom>
            <a:solidFill>
              <a:srgbClr val="2358cf"/>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197840" y="3209760"/>
              <a:ext cx="485640" cy="390600"/>
            </a:xfrm>
            <a:custGeom>
              <a:avLst/>
              <a:gdLst/>
              <a:ahLst/>
              <a:rect l="l" t="t" r="r" b="b"/>
              <a:pathLst>
                <a:path w="51" h="41">
                  <a:moveTo>
                    <a:pt x="50" y="10"/>
                  </a:moveTo>
                  <a:cubicBezTo>
                    <a:pt x="51" y="14"/>
                    <a:pt x="47" y="16"/>
                    <a:pt x="47" y="20"/>
                  </a:cubicBezTo>
                  <a:cubicBezTo>
                    <a:pt x="46" y="21"/>
                    <a:pt x="46" y="22"/>
                    <a:pt x="46" y="22"/>
                  </a:cubicBezTo>
                  <a:cubicBezTo>
                    <a:pt x="45" y="22"/>
                    <a:pt x="43" y="22"/>
                    <a:pt x="43" y="23"/>
                  </a:cubicBezTo>
                  <a:lnTo>
                    <a:pt x="43" y="26"/>
                  </a:lnTo>
                  <a:lnTo>
                    <a:pt x="44" y="30"/>
                  </a:lnTo>
                  <a:cubicBezTo>
                    <a:pt x="44" y="30"/>
                    <a:pt x="44" y="30"/>
                    <a:pt x="44" y="31"/>
                  </a:cubicBezTo>
                  <a:cubicBezTo>
                    <a:pt x="43" y="32"/>
                    <a:pt x="42" y="33"/>
                    <a:pt x="41" y="32"/>
                  </a:cubicBezTo>
                  <a:cubicBezTo>
                    <a:pt x="40" y="32"/>
                    <a:pt x="40" y="31"/>
                    <a:pt x="39" y="31"/>
                  </a:cubicBezTo>
                  <a:cubicBezTo>
                    <a:pt x="38" y="32"/>
                    <a:pt x="37" y="33"/>
                    <a:pt x="37" y="34"/>
                  </a:cubicBezTo>
                  <a:cubicBezTo>
                    <a:pt x="34" y="36"/>
                    <a:pt x="33" y="40"/>
                    <a:pt x="31" y="41"/>
                  </a:cubicBezTo>
                  <a:cubicBezTo>
                    <a:pt x="30" y="39"/>
                    <a:pt x="29" y="37"/>
                    <a:pt x="27" y="36"/>
                  </a:cubicBezTo>
                  <a:lnTo>
                    <a:pt x="14" y="41"/>
                  </a:lnTo>
                  <a:cubicBezTo>
                    <a:pt x="14" y="41"/>
                    <a:pt x="14" y="36"/>
                    <a:pt x="13" y="34"/>
                  </a:cubicBezTo>
                  <a:lnTo>
                    <a:pt x="15" y="30"/>
                  </a:lnTo>
                  <a:cubicBezTo>
                    <a:pt x="15" y="27"/>
                    <a:pt x="15" y="24"/>
                    <a:pt x="14" y="23"/>
                  </a:cubicBezTo>
                  <a:cubicBezTo>
                    <a:pt x="10" y="22"/>
                    <a:pt x="7" y="26"/>
                    <a:pt x="4" y="21"/>
                  </a:cubicBezTo>
                  <a:cubicBezTo>
                    <a:pt x="4" y="18"/>
                    <a:pt x="2" y="9"/>
                    <a:pt x="0" y="7"/>
                  </a:cubicBezTo>
                  <a:cubicBezTo>
                    <a:pt x="6" y="5"/>
                    <a:pt x="6" y="4"/>
                    <a:pt x="6" y="3"/>
                  </a:cubicBezTo>
                  <a:cubicBezTo>
                    <a:pt x="11" y="0"/>
                    <a:pt x="16" y="1"/>
                    <a:pt x="20" y="2"/>
                  </a:cubicBezTo>
                  <a:cubicBezTo>
                    <a:pt x="22" y="2"/>
                    <a:pt x="24" y="1"/>
                    <a:pt x="26" y="2"/>
                  </a:cubicBezTo>
                  <a:cubicBezTo>
                    <a:pt x="27" y="3"/>
                    <a:pt x="29" y="1"/>
                    <a:pt x="30" y="0"/>
                  </a:cubicBezTo>
                  <a:cubicBezTo>
                    <a:pt x="31" y="0"/>
                    <a:pt x="34" y="1"/>
                    <a:pt x="35" y="1"/>
                  </a:cubicBezTo>
                  <a:cubicBezTo>
                    <a:pt x="36" y="1"/>
                    <a:pt x="37" y="1"/>
                    <a:pt x="38" y="1"/>
                  </a:cubicBezTo>
                  <a:cubicBezTo>
                    <a:pt x="40" y="2"/>
                    <a:pt x="41" y="4"/>
                    <a:pt x="43" y="6"/>
                  </a:cubicBezTo>
                  <a:cubicBezTo>
                    <a:pt x="44" y="8"/>
                    <a:pt x="48" y="10"/>
                    <a:pt x="50" y="10"/>
                  </a:cubicBez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197840" y="2914560"/>
              <a:ext cx="618840" cy="390600"/>
            </a:xfrm>
            <a:custGeom>
              <a:avLst/>
              <a:gdLst/>
              <a:ahLst/>
              <a:rect l="l" t="t" r="r" b="b"/>
              <a:pathLst>
                <a:path w="65" h="41">
                  <a:moveTo>
                    <a:pt x="1" y="38"/>
                  </a:moveTo>
                  <a:cubicBezTo>
                    <a:pt x="6" y="35"/>
                    <a:pt x="6" y="35"/>
                    <a:pt x="7" y="34"/>
                  </a:cubicBezTo>
                  <a:cubicBezTo>
                    <a:pt x="11" y="32"/>
                    <a:pt x="16" y="32"/>
                    <a:pt x="21" y="33"/>
                  </a:cubicBezTo>
                  <a:cubicBezTo>
                    <a:pt x="22" y="33"/>
                    <a:pt x="24" y="32"/>
                    <a:pt x="26" y="33"/>
                  </a:cubicBezTo>
                  <a:cubicBezTo>
                    <a:pt x="28" y="34"/>
                    <a:pt x="29" y="32"/>
                    <a:pt x="30" y="31"/>
                  </a:cubicBezTo>
                  <a:cubicBezTo>
                    <a:pt x="31" y="31"/>
                    <a:pt x="34" y="32"/>
                    <a:pt x="35" y="32"/>
                  </a:cubicBezTo>
                  <a:cubicBezTo>
                    <a:pt x="36" y="32"/>
                    <a:pt x="37" y="32"/>
                    <a:pt x="38" y="32"/>
                  </a:cubicBezTo>
                  <a:cubicBezTo>
                    <a:pt x="40" y="33"/>
                    <a:pt x="42" y="35"/>
                    <a:pt x="43" y="37"/>
                  </a:cubicBezTo>
                  <a:cubicBezTo>
                    <a:pt x="44" y="39"/>
                    <a:pt x="48" y="41"/>
                    <a:pt x="51" y="41"/>
                  </a:cubicBezTo>
                  <a:cubicBezTo>
                    <a:pt x="54" y="39"/>
                    <a:pt x="56" y="35"/>
                    <a:pt x="58" y="32"/>
                  </a:cubicBezTo>
                  <a:cubicBezTo>
                    <a:pt x="62" y="18"/>
                    <a:pt x="65" y="11"/>
                    <a:pt x="48" y="10"/>
                  </a:cubicBezTo>
                  <a:cubicBezTo>
                    <a:pt x="42" y="6"/>
                    <a:pt x="44" y="0"/>
                    <a:pt x="35" y="3"/>
                  </a:cubicBezTo>
                  <a:cubicBezTo>
                    <a:pt x="35" y="2"/>
                    <a:pt x="29" y="6"/>
                    <a:pt x="28" y="6"/>
                  </a:cubicBezTo>
                  <a:cubicBezTo>
                    <a:pt x="23" y="14"/>
                    <a:pt x="32" y="24"/>
                    <a:pt x="25" y="26"/>
                  </a:cubicBezTo>
                  <a:cubicBezTo>
                    <a:pt x="20" y="27"/>
                    <a:pt x="17" y="22"/>
                    <a:pt x="15" y="18"/>
                  </a:cubicBezTo>
                  <a:cubicBezTo>
                    <a:pt x="13" y="18"/>
                    <a:pt x="9" y="18"/>
                    <a:pt x="8" y="17"/>
                  </a:cubicBezTo>
                  <a:cubicBezTo>
                    <a:pt x="3" y="24"/>
                    <a:pt x="3" y="26"/>
                    <a:pt x="1" y="33"/>
                  </a:cubicBezTo>
                  <a:cubicBezTo>
                    <a:pt x="1" y="34"/>
                    <a:pt x="0" y="36"/>
                    <a:pt x="1" y="38"/>
                  </a:cubicBez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673680" y="4714920"/>
              <a:ext cx="352440" cy="285840"/>
            </a:xfrm>
            <a:custGeom>
              <a:avLst/>
              <a:gdLst/>
              <a:ahLst/>
              <a:rect l="l" t="t" r="r" b="b"/>
              <a:pathLst>
                <a:path w="37" h="30">
                  <a:moveTo>
                    <a:pt x="37" y="9"/>
                  </a:moveTo>
                  <a:lnTo>
                    <a:pt x="28" y="0"/>
                  </a:lnTo>
                  <a:cubicBezTo>
                    <a:pt x="23" y="3"/>
                    <a:pt x="15" y="2"/>
                    <a:pt x="13" y="7"/>
                  </a:cubicBezTo>
                  <a:lnTo>
                    <a:pt x="0" y="7"/>
                  </a:lnTo>
                  <a:lnTo>
                    <a:pt x="4" y="18"/>
                  </a:lnTo>
                  <a:cubicBezTo>
                    <a:pt x="3" y="18"/>
                    <a:pt x="2" y="22"/>
                    <a:pt x="1" y="23"/>
                  </a:cubicBezTo>
                  <a:cubicBezTo>
                    <a:pt x="2" y="24"/>
                    <a:pt x="4" y="28"/>
                    <a:pt x="4" y="30"/>
                  </a:cubicBezTo>
                  <a:cubicBezTo>
                    <a:pt x="8" y="26"/>
                    <a:pt x="4" y="25"/>
                    <a:pt x="9" y="22"/>
                  </a:cubicBezTo>
                  <a:cubicBezTo>
                    <a:pt x="12" y="25"/>
                    <a:pt x="13" y="27"/>
                    <a:pt x="14" y="26"/>
                  </a:cubicBezTo>
                  <a:lnTo>
                    <a:pt x="37" y="9"/>
                  </a:ln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064280" y="4905360"/>
              <a:ext cx="276480" cy="419040"/>
            </a:xfrm>
            <a:custGeom>
              <a:avLst/>
              <a:gdLst/>
              <a:ahLst/>
              <a:rect l="l" t="t" r="r" b="b"/>
              <a:pathLst>
                <a:path w="29" h="44">
                  <a:moveTo>
                    <a:pt x="24" y="8"/>
                  </a:moveTo>
                  <a:lnTo>
                    <a:pt x="12" y="0"/>
                  </a:lnTo>
                  <a:cubicBezTo>
                    <a:pt x="12" y="0"/>
                    <a:pt x="0" y="8"/>
                    <a:pt x="0" y="18"/>
                  </a:cubicBezTo>
                  <a:cubicBezTo>
                    <a:pt x="5" y="20"/>
                    <a:pt x="3" y="29"/>
                    <a:pt x="10" y="30"/>
                  </a:cubicBezTo>
                  <a:cubicBezTo>
                    <a:pt x="9" y="33"/>
                    <a:pt x="10" y="37"/>
                    <a:pt x="11" y="40"/>
                  </a:cubicBezTo>
                  <a:cubicBezTo>
                    <a:pt x="12" y="41"/>
                    <a:pt x="13" y="41"/>
                    <a:pt x="13" y="41"/>
                  </a:cubicBezTo>
                  <a:cubicBezTo>
                    <a:pt x="14" y="42"/>
                    <a:pt x="16" y="44"/>
                    <a:pt x="17" y="43"/>
                  </a:cubicBezTo>
                  <a:cubicBezTo>
                    <a:pt x="20" y="41"/>
                    <a:pt x="24" y="36"/>
                    <a:pt x="24" y="34"/>
                  </a:cubicBezTo>
                  <a:cubicBezTo>
                    <a:pt x="25" y="32"/>
                    <a:pt x="26" y="31"/>
                    <a:pt x="26" y="28"/>
                  </a:cubicBezTo>
                  <a:cubicBezTo>
                    <a:pt x="27" y="26"/>
                    <a:pt x="28" y="23"/>
                    <a:pt x="28" y="21"/>
                  </a:cubicBezTo>
                  <a:cubicBezTo>
                    <a:pt x="29" y="18"/>
                    <a:pt x="29" y="14"/>
                    <a:pt x="29" y="12"/>
                  </a:cubicBezTo>
                  <a:cubicBezTo>
                    <a:pt x="28" y="10"/>
                    <a:pt x="26" y="10"/>
                    <a:pt x="24" y="8"/>
                  </a:cubicBezTo>
                </a:path>
              </a:pathLst>
            </a:custGeom>
            <a:solidFill>
              <a:srgbClr val="969696">
                <a:alpha val="85000"/>
              </a:srgbClr>
            </a:solidFill>
            <a:ln w="0">
              <a:solidFill>
                <a:srgbClr val="e7e5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178760" y="4781520"/>
              <a:ext cx="495360" cy="590760"/>
            </a:xfrm>
            <a:custGeom>
              <a:avLst/>
              <a:gdLst/>
              <a:ahLst/>
              <a:rect l="l" t="t" r="r" b="b"/>
              <a:pathLst>
                <a:path w="52" h="62">
                  <a:moveTo>
                    <a:pt x="4" y="56"/>
                  </a:moveTo>
                  <a:cubicBezTo>
                    <a:pt x="5" y="57"/>
                    <a:pt x="10" y="62"/>
                    <a:pt x="12" y="60"/>
                  </a:cubicBezTo>
                  <a:cubicBezTo>
                    <a:pt x="17" y="56"/>
                    <a:pt x="25" y="53"/>
                    <a:pt x="29" y="59"/>
                  </a:cubicBezTo>
                  <a:cubicBezTo>
                    <a:pt x="29" y="62"/>
                    <a:pt x="32" y="60"/>
                    <a:pt x="34" y="61"/>
                  </a:cubicBezTo>
                  <a:cubicBezTo>
                    <a:pt x="39" y="60"/>
                    <a:pt x="42" y="57"/>
                    <a:pt x="47" y="55"/>
                  </a:cubicBezTo>
                  <a:cubicBezTo>
                    <a:pt x="46" y="56"/>
                    <a:pt x="50" y="53"/>
                    <a:pt x="47" y="53"/>
                  </a:cubicBezTo>
                  <a:cubicBezTo>
                    <a:pt x="49" y="51"/>
                    <a:pt x="47" y="46"/>
                    <a:pt x="47" y="46"/>
                  </a:cubicBezTo>
                  <a:lnTo>
                    <a:pt x="52" y="40"/>
                  </a:lnTo>
                  <a:lnTo>
                    <a:pt x="45" y="31"/>
                  </a:lnTo>
                  <a:lnTo>
                    <a:pt x="48" y="24"/>
                  </a:lnTo>
                  <a:lnTo>
                    <a:pt x="45" y="17"/>
                  </a:lnTo>
                  <a:lnTo>
                    <a:pt x="40" y="21"/>
                  </a:lnTo>
                  <a:lnTo>
                    <a:pt x="30" y="16"/>
                  </a:lnTo>
                  <a:cubicBezTo>
                    <a:pt x="33" y="10"/>
                    <a:pt x="28" y="10"/>
                    <a:pt x="24" y="8"/>
                  </a:cubicBezTo>
                  <a:lnTo>
                    <a:pt x="21" y="0"/>
                  </a:lnTo>
                  <a:lnTo>
                    <a:pt x="3" y="1"/>
                  </a:lnTo>
                  <a:lnTo>
                    <a:pt x="0" y="13"/>
                  </a:lnTo>
                  <a:cubicBezTo>
                    <a:pt x="9" y="19"/>
                    <a:pt x="7" y="18"/>
                    <a:pt x="17" y="24"/>
                  </a:cubicBezTo>
                  <a:cubicBezTo>
                    <a:pt x="18" y="23"/>
                    <a:pt x="16" y="49"/>
                    <a:pt x="4" y="56"/>
                  </a:cubicBezTo>
                </a:path>
              </a:pathLst>
            </a:custGeom>
            <a:solidFill>
              <a:srgbClr val="969696">
                <a:alpha val="85000"/>
              </a:srgbClr>
            </a:solidFill>
            <a:ln w="0">
              <a:solidFill>
                <a:srgbClr val="e7e5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835760" y="5877000"/>
              <a:ext cx="28800" cy="19080"/>
            </a:xfrm>
            <a:prstGeom prst="ellipse">
              <a:avLst/>
            </a:prstGeom>
            <a:solidFill>
              <a:srgbClr val="ffffff"/>
            </a:solidFill>
            <a:ln w="0">
              <a:solidFill>
                <a:srgbClr val="ece9ec"/>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6" name=""/>
            <p:cNvSpPr/>
            <p:nvPr/>
          </p:nvSpPr>
          <p:spPr>
            <a:xfrm>
              <a:off x="6702480" y="3552840"/>
              <a:ext cx="942840" cy="809640"/>
            </a:xfrm>
            <a:custGeom>
              <a:avLst/>
              <a:gdLst/>
              <a:ahLst/>
              <a:rect l="l" t="t" r="r" b="b"/>
              <a:pathLst>
                <a:path w="99" h="85">
                  <a:moveTo>
                    <a:pt x="89" y="44"/>
                  </a:moveTo>
                  <a:cubicBezTo>
                    <a:pt x="90" y="41"/>
                    <a:pt x="88" y="40"/>
                    <a:pt x="84" y="38"/>
                  </a:cubicBezTo>
                  <a:cubicBezTo>
                    <a:pt x="84" y="35"/>
                    <a:pt x="88" y="33"/>
                    <a:pt x="88" y="31"/>
                  </a:cubicBezTo>
                  <a:cubicBezTo>
                    <a:pt x="90" y="25"/>
                    <a:pt x="85" y="9"/>
                    <a:pt x="81" y="6"/>
                  </a:cubicBezTo>
                  <a:lnTo>
                    <a:pt x="64" y="12"/>
                  </a:lnTo>
                  <a:lnTo>
                    <a:pt x="63" y="8"/>
                  </a:lnTo>
                  <a:cubicBezTo>
                    <a:pt x="60" y="9"/>
                    <a:pt x="55" y="7"/>
                    <a:pt x="53" y="9"/>
                  </a:cubicBezTo>
                  <a:cubicBezTo>
                    <a:pt x="40" y="20"/>
                    <a:pt x="35" y="13"/>
                    <a:pt x="36" y="7"/>
                  </a:cubicBezTo>
                  <a:cubicBezTo>
                    <a:pt x="36" y="4"/>
                    <a:pt x="44" y="4"/>
                    <a:pt x="44" y="3"/>
                  </a:cubicBezTo>
                  <a:cubicBezTo>
                    <a:pt x="34" y="0"/>
                    <a:pt x="13" y="14"/>
                    <a:pt x="7" y="19"/>
                  </a:cubicBezTo>
                  <a:cubicBezTo>
                    <a:pt x="6" y="21"/>
                    <a:pt x="2" y="25"/>
                    <a:pt x="1" y="26"/>
                  </a:cubicBezTo>
                  <a:lnTo>
                    <a:pt x="2" y="32"/>
                  </a:lnTo>
                  <a:cubicBezTo>
                    <a:pt x="3" y="33"/>
                    <a:pt x="1" y="35"/>
                    <a:pt x="0" y="38"/>
                  </a:cubicBezTo>
                  <a:lnTo>
                    <a:pt x="6" y="47"/>
                  </a:lnTo>
                  <a:cubicBezTo>
                    <a:pt x="7" y="51"/>
                    <a:pt x="6" y="55"/>
                    <a:pt x="9" y="62"/>
                  </a:cubicBezTo>
                  <a:cubicBezTo>
                    <a:pt x="11" y="69"/>
                    <a:pt x="19" y="70"/>
                    <a:pt x="24" y="68"/>
                  </a:cubicBezTo>
                  <a:lnTo>
                    <a:pt x="27" y="72"/>
                  </a:lnTo>
                  <a:cubicBezTo>
                    <a:pt x="27" y="73"/>
                    <a:pt x="26" y="74"/>
                    <a:pt x="27" y="75"/>
                  </a:cubicBezTo>
                  <a:cubicBezTo>
                    <a:pt x="28" y="75"/>
                    <a:pt x="30" y="73"/>
                    <a:pt x="30" y="72"/>
                  </a:cubicBezTo>
                  <a:cubicBezTo>
                    <a:pt x="35" y="72"/>
                    <a:pt x="39" y="73"/>
                    <a:pt x="40" y="78"/>
                  </a:cubicBezTo>
                  <a:lnTo>
                    <a:pt x="45" y="79"/>
                  </a:lnTo>
                  <a:cubicBezTo>
                    <a:pt x="48" y="81"/>
                    <a:pt x="48" y="82"/>
                    <a:pt x="52" y="83"/>
                  </a:cubicBezTo>
                  <a:lnTo>
                    <a:pt x="58" y="82"/>
                  </a:lnTo>
                  <a:lnTo>
                    <a:pt x="63" y="85"/>
                  </a:lnTo>
                  <a:lnTo>
                    <a:pt x="67" y="82"/>
                  </a:lnTo>
                  <a:lnTo>
                    <a:pt x="72" y="81"/>
                  </a:lnTo>
                  <a:cubicBezTo>
                    <a:pt x="74" y="81"/>
                    <a:pt x="77" y="80"/>
                    <a:pt x="78" y="81"/>
                  </a:cubicBezTo>
                  <a:cubicBezTo>
                    <a:pt x="79" y="82"/>
                    <a:pt x="76" y="84"/>
                    <a:pt x="77" y="84"/>
                  </a:cubicBezTo>
                  <a:lnTo>
                    <a:pt x="88" y="84"/>
                  </a:lnTo>
                  <a:lnTo>
                    <a:pt x="87" y="79"/>
                  </a:lnTo>
                  <a:lnTo>
                    <a:pt x="99" y="60"/>
                  </a:lnTo>
                  <a:cubicBezTo>
                    <a:pt x="97" y="58"/>
                    <a:pt x="95" y="50"/>
                    <a:pt x="93" y="48"/>
                  </a:cubicBezTo>
                  <a:lnTo>
                    <a:pt x="89" y="44"/>
                  </a:lnTo>
                </a:path>
              </a:pathLst>
            </a:custGeom>
            <a:solidFill>
              <a:srgbClr val="7270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49880" y="3171960"/>
              <a:ext cx="676440" cy="438120"/>
            </a:xfrm>
            <a:custGeom>
              <a:avLst/>
              <a:gdLst/>
              <a:ahLst/>
              <a:rect l="l" t="t" r="r" b="b"/>
              <a:pathLst>
                <a:path w="71" h="46">
                  <a:moveTo>
                    <a:pt x="65" y="38"/>
                  </a:moveTo>
                  <a:cubicBezTo>
                    <a:pt x="71" y="40"/>
                    <a:pt x="66" y="33"/>
                    <a:pt x="63" y="37"/>
                  </a:cubicBezTo>
                  <a:cubicBezTo>
                    <a:pt x="61" y="40"/>
                    <a:pt x="63" y="40"/>
                    <a:pt x="65" y="38"/>
                  </a:cubicBezTo>
                  <a:moveTo>
                    <a:pt x="30" y="36"/>
                  </a:moveTo>
                  <a:cubicBezTo>
                    <a:pt x="30" y="24"/>
                    <a:pt x="30" y="28"/>
                    <a:pt x="35" y="26"/>
                  </a:cubicBezTo>
                  <a:cubicBezTo>
                    <a:pt x="36" y="26"/>
                    <a:pt x="37" y="18"/>
                    <a:pt x="41" y="20"/>
                  </a:cubicBezTo>
                  <a:cubicBezTo>
                    <a:pt x="39" y="21"/>
                    <a:pt x="41" y="28"/>
                    <a:pt x="39" y="30"/>
                  </a:cubicBezTo>
                  <a:cubicBezTo>
                    <a:pt x="39" y="32"/>
                    <a:pt x="42" y="33"/>
                    <a:pt x="42" y="35"/>
                  </a:cubicBezTo>
                  <a:cubicBezTo>
                    <a:pt x="34" y="40"/>
                    <a:pt x="42" y="36"/>
                    <a:pt x="30" y="36"/>
                  </a:cubicBezTo>
                  <a:moveTo>
                    <a:pt x="41" y="40"/>
                  </a:moveTo>
                  <a:cubicBezTo>
                    <a:pt x="39" y="42"/>
                    <a:pt x="38" y="44"/>
                    <a:pt x="38" y="46"/>
                  </a:cubicBezTo>
                  <a:cubicBezTo>
                    <a:pt x="35" y="46"/>
                    <a:pt x="40" y="44"/>
                    <a:pt x="37" y="43"/>
                  </a:cubicBezTo>
                  <a:cubicBezTo>
                    <a:pt x="37" y="42"/>
                    <a:pt x="28" y="41"/>
                    <a:pt x="41" y="40"/>
                  </a:cubicBezTo>
                  <a:moveTo>
                    <a:pt x="29" y="40"/>
                  </a:moveTo>
                  <a:cubicBezTo>
                    <a:pt x="29" y="40"/>
                    <a:pt x="27" y="42"/>
                    <a:pt x="27" y="42"/>
                  </a:cubicBezTo>
                  <a:cubicBezTo>
                    <a:pt x="30" y="44"/>
                    <a:pt x="27" y="46"/>
                    <a:pt x="30" y="46"/>
                  </a:cubicBezTo>
                  <a:cubicBezTo>
                    <a:pt x="30" y="44"/>
                    <a:pt x="31" y="45"/>
                    <a:pt x="33" y="43"/>
                  </a:cubicBezTo>
                  <a:cubicBezTo>
                    <a:pt x="32" y="43"/>
                    <a:pt x="27" y="39"/>
                    <a:pt x="29" y="40"/>
                  </a:cubicBezTo>
                  <a:moveTo>
                    <a:pt x="20" y="38"/>
                  </a:moveTo>
                  <a:lnTo>
                    <a:pt x="26" y="39"/>
                  </a:lnTo>
                  <a:cubicBezTo>
                    <a:pt x="26" y="37"/>
                    <a:pt x="26" y="31"/>
                    <a:pt x="25" y="29"/>
                  </a:cubicBezTo>
                  <a:cubicBezTo>
                    <a:pt x="22" y="29"/>
                    <a:pt x="17" y="35"/>
                    <a:pt x="20" y="38"/>
                  </a:cubicBezTo>
                  <a:moveTo>
                    <a:pt x="18" y="42"/>
                  </a:moveTo>
                  <a:lnTo>
                    <a:pt x="12" y="43"/>
                  </a:lnTo>
                  <a:lnTo>
                    <a:pt x="6" y="42"/>
                  </a:lnTo>
                  <a:cubicBezTo>
                    <a:pt x="6" y="39"/>
                    <a:pt x="5" y="37"/>
                    <a:pt x="5" y="35"/>
                  </a:cubicBezTo>
                  <a:cubicBezTo>
                    <a:pt x="1" y="32"/>
                    <a:pt x="2" y="19"/>
                    <a:pt x="1" y="14"/>
                  </a:cubicBezTo>
                  <a:cubicBezTo>
                    <a:pt x="8" y="17"/>
                    <a:pt x="12" y="15"/>
                    <a:pt x="15" y="12"/>
                  </a:cubicBezTo>
                  <a:cubicBezTo>
                    <a:pt x="15" y="11"/>
                    <a:pt x="9" y="8"/>
                    <a:pt x="5" y="11"/>
                  </a:cubicBezTo>
                  <a:cubicBezTo>
                    <a:pt x="0" y="14"/>
                    <a:pt x="7" y="5"/>
                    <a:pt x="6" y="5"/>
                  </a:cubicBezTo>
                  <a:cubicBezTo>
                    <a:pt x="8" y="5"/>
                    <a:pt x="14" y="5"/>
                    <a:pt x="16" y="5"/>
                  </a:cubicBezTo>
                  <a:cubicBezTo>
                    <a:pt x="16" y="2"/>
                    <a:pt x="18" y="1"/>
                    <a:pt x="20" y="0"/>
                  </a:cubicBezTo>
                  <a:cubicBezTo>
                    <a:pt x="21" y="3"/>
                    <a:pt x="19" y="10"/>
                    <a:pt x="18" y="13"/>
                  </a:cubicBezTo>
                  <a:cubicBezTo>
                    <a:pt x="19" y="15"/>
                    <a:pt x="26" y="15"/>
                    <a:pt x="27" y="17"/>
                  </a:cubicBezTo>
                  <a:cubicBezTo>
                    <a:pt x="26" y="17"/>
                    <a:pt x="21" y="20"/>
                    <a:pt x="20" y="20"/>
                  </a:cubicBezTo>
                  <a:cubicBezTo>
                    <a:pt x="21" y="23"/>
                    <a:pt x="16" y="34"/>
                    <a:pt x="12" y="37"/>
                  </a:cubicBezTo>
                  <a:cubicBezTo>
                    <a:pt x="9" y="40"/>
                    <a:pt x="12" y="37"/>
                    <a:pt x="12" y="39"/>
                  </a:cubicBezTo>
                  <a:cubicBezTo>
                    <a:pt x="13" y="39"/>
                    <a:pt x="15" y="40"/>
                    <a:pt x="18" y="42"/>
                  </a:cubicBezTo>
                </a:path>
              </a:pathLst>
            </a:custGeom>
            <a:solidFill>
              <a:srgbClr val="2358cf"/>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69160" y="3552840"/>
              <a:ext cx="799920" cy="1104840"/>
            </a:xfrm>
            <a:custGeom>
              <a:avLst/>
              <a:gdLst/>
              <a:ahLst/>
              <a:rect l="l" t="t" r="r" b="b"/>
              <a:pathLst>
                <a:path w="84" h="116">
                  <a:moveTo>
                    <a:pt x="56" y="71"/>
                  </a:moveTo>
                  <a:cubicBezTo>
                    <a:pt x="64" y="67"/>
                    <a:pt x="73" y="67"/>
                    <a:pt x="78" y="56"/>
                  </a:cubicBezTo>
                  <a:lnTo>
                    <a:pt x="83" y="58"/>
                  </a:lnTo>
                  <a:cubicBezTo>
                    <a:pt x="84" y="56"/>
                    <a:pt x="83" y="55"/>
                    <a:pt x="82" y="51"/>
                  </a:cubicBezTo>
                  <a:lnTo>
                    <a:pt x="81" y="41"/>
                  </a:lnTo>
                  <a:lnTo>
                    <a:pt x="75" y="32"/>
                  </a:lnTo>
                  <a:cubicBezTo>
                    <a:pt x="75" y="30"/>
                    <a:pt x="76" y="28"/>
                    <a:pt x="77" y="26"/>
                  </a:cubicBezTo>
                  <a:lnTo>
                    <a:pt x="75" y="16"/>
                  </a:lnTo>
                  <a:cubicBezTo>
                    <a:pt x="75" y="14"/>
                    <a:pt x="67" y="12"/>
                    <a:pt x="70" y="11"/>
                  </a:cubicBezTo>
                  <a:cubicBezTo>
                    <a:pt x="73" y="9"/>
                    <a:pt x="69" y="4"/>
                    <a:pt x="68" y="3"/>
                  </a:cubicBezTo>
                  <a:cubicBezTo>
                    <a:pt x="67" y="2"/>
                    <a:pt x="66" y="0"/>
                    <a:pt x="64" y="3"/>
                  </a:cubicBezTo>
                  <a:cubicBezTo>
                    <a:pt x="62" y="6"/>
                    <a:pt x="70" y="4"/>
                    <a:pt x="65" y="9"/>
                  </a:cubicBezTo>
                  <a:cubicBezTo>
                    <a:pt x="60" y="13"/>
                    <a:pt x="55" y="12"/>
                    <a:pt x="53" y="11"/>
                  </a:cubicBezTo>
                  <a:cubicBezTo>
                    <a:pt x="53" y="11"/>
                    <a:pt x="52" y="15"/>
                    <a:pt x="52" y="16"/>
                  </a:cubicBezTo>
                  <a:lnTo>
                    <a:pt x="47" y="15"/>
                  </a:lnTo>
                  <a:lnTo>
                    <a:pt x="47" y="12"/>
                  </a:lnTo>
                  <a:cubicBezTo>
                    <a:pt x="44" y="11"/>
                    <a:pt x="39" y="9"/>
                    <a:pt x="36" y="9"/>
                  </a:cubicBezTo>
                  <a:cubicBezTo>
                    <a:pt x="36" y="6"/>
                    <a:pt x="38" y="5"/>
                    <a:pt x="37" y="2"/>
                  </a:cubicBezTo>
                  <a:lnTo>
                    <a:pt x="30" y="3"/>
                  </a:lnTo>
                  <a:lnTo>
                    <a:pt x="25" y="2"/>
                  </a:lnTo>
                  <a:cubicBezTo>
                    <a:pt x="25" y="5"/>
                    <a:pt x="28" y="11"/>
                    <a:pt x="29" y="12"/>
                  </a:cubicBezTo>
                  <a:cubicBezTo>
                    <a:pt x="29" y="13"/>
                    <a:pt x="28" y="15"/>
                    <a:pt x="28" y="16"/>
                  </a:cubicBezTo>
                  <a:cubicBezTo>
                    <a:pt x="28" y="16"/>
                    <a:pt x="26" y="18"/>
                    <a:pt x="26" y="18"/>
                  </a:cubicBezTo>
                  <a:lnTo>
                    <a:pt x="25" y="16"/>
                  </a:lnTo>
                  <a:cubicBezTo>
                    <a:pt x="25" y="17"/>
                    <a:pt x="25" y="23"/>
                    <a:pt x="23" y="23"/>
                  </a:cubicBezTo>
                  <a:lnTo>
                    <a:pt x="21" y="23"/>
                  </a:lnTo>
                  <a:cubicBezTo>
                    <a:pt x="20" y="23"/>
                    <a:pt x="17" y="19"/>
                    <a:pt x="16" y="18"/>
                  </a:cubicBezTo>
                  <a:lnTo>
                    <a:pt x="12" y="22"/>
                  </a:lnTo>
                  <a:lnTo>
                    <a:pt x="14" y="30"/>
                  </a:lnTo>
                  <a:lnTo>
                    <a:pt x="9" y="36"/>
                  </a:lnTo>
                  <a:lnTo>
                    <a:pt x="11" y="39"/>
                  </a:lnTo>
                  <a:lnTo>
                    <a:pt x="1" y="47"/>
                  </a:lnTo>
                  <a:cubicBezTo>
                    <a:pt x="1" y="47"/>
                    <a:pt x="0" y="63"/>
                    <a:pt x="0" y="64"/>
                  </a:cubicBezTo>
                  <a:lnTo>
                    <a:pt x="4" y="77"/>
                  </a:lnTo>
                  <a:cubicBezTo>
                    <a:pt x="5" y="78"/>
                    <a:pt x="7" y="80"/>
                    <a:pt x="7" y="81"/>
                  </a:cubicBezTo>
                  <a:cubicBezTo>
                    <a:pt x="7" y="83"/>
                    <a:pt x="7" y="83"/>
                    <a:pt x="6" y="84"/>
                  </a:cubicBezTo>
                  <a:cubicBezTo>
                    <a:pt x="11" y="87"/>
                    <a:pt x="16" y="84"/>
                    <a:pt x="20" y="90"/>
                  </a:cubicBezTo>
                  <a:lnTo>
                    <a:pt x="20" y="92"/>
                  </a:lnTo>
                  <a:cubicBezTo>
                    <a:pt x="18" y="100"/>
                    <a:pt x="12" y="102"/>
                    <a:pt x="14" y="112"/>
                  </a:cubicBezTo>
                  <a:cubicBezTo>
                    <a:pt x="15" y="112"/>
                    <a:pt x="21" y="111"/>
                    <a:pt x="21" y="110"/>
                  </a:cubicBezTo>
                  <a:lnTo>
                    <a:pt x="20" y="108"/>
                  </a:lnTo>
                  <a:cubicBezTo>
                    <a:pt x="21" y="104"/>
                    <a:pt x="28" y="110"/>
                    <a:pt x="30" y="111"/>
                  </a:cubicBezTo>
                  <a:cubicBezTo>
                    <a:pt x="31" y="111"/>
                    <a:pt x="33" y="110"/>
                    <a:pt x="35" y="110"/>
                  </a:cubicBezTo>
                  <a:lnTo>
                    <a:pt x="41" y="116"/>
                  </a:lnTo>
                  <a:cubicBezTo>
                    <a:pt x="44" y="113"/>
                    <a:pt x="47" y="111"/>
                    <a:pt x="49" y="111"/>
                  </a:cubicBezTo>
                  <a:cubicBezTo>
                    <a:pt x="55" y="109"/>
                    <a:pt x="62" y="109"/>
                    <a:pt x="67" y="108"/>
                  </a:cubicBezTo>
                  <a:cubicBezTo>
                    <a:pt x="67" y="107"/>
                    <a:pt x="65" y="105"/>
                    <a:pt x="64" y="105"/>
                  </a:cubicBezTo>
                  <a:cubicBezTo>
                    <a:pt x="67" y="101"/>
                    <a:pt x="76" y="95"/>
                    <a:pt x="80" y="95"/>
                  </a:cubicBezTo>
                  <a:lnTo>
                    <a:pt x="78" y="92"/>
                  </a:lnTo>
                  <a:cubicBezTo>
                    <a:pt x="77" y="91"/>
                    <a:pt x="75" y="92"/>
                    <a:pt x="71" y="87"/>
                  </a:cubicBezTo>
                  <a:cubicBezTo>
                    <a:pt x="66" y="81"/>
                    <a:pt x="63" y="75"/>
                    <a:pt x="63" y="75"/>
                  </a:cubicBezTo>
                  <a:lnTo>
                    <a:pt x="56" y="71"/>
                  </a:lnTo>
                </a:path>
              </a:pathLst>
            </a:custGeom>
            <a:solidFill>
              <a:srgbClr val="2358cf">
                <a:alpha val="99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740560" y="3753000"/>
              <a:ext cx="361800" cy="409320"/>
            </a:xfrm>
            <a:custGeom>
              <a:avLst/>
              <a:gdLst/>
              <a:ahLst/>
              <a:rect l="l" t="t" r="r" b="b"/>
              <a:pathLst>
                <a:path w="38" h="43">
                  <a:moveTo>
                    <a:pt x="24" y="26"/>
                  </a:moveTo>
                  <a:lnTo>
                    <a:pt x="35" y="18"/>
                  </a:lnTo>
                  <a:lnTo>
                    <a:pt x="33" y="15"/>
                  </a:lnTo>
                  <a:lnTo>
                    <a:pt x="38" y="9"/>
                  </a:lnTo>
                  <a:lnTo>
                    <a:pt x="36" y="3"/>
                  </a:lnTo>
                  <a:cubicBezTo>
                    <a:pt x="36" y="0"/>
                    <a:pt x="25" y="1"/>
                    <a:pt x="20" y="5"/>
                  </a:cubicBezTo>
                  <a:cubicBezTo>
                    <a:pt x="20" y="8"/>
                    <a:pt x="24" y="9"/>
                    <a:pt x="20" y="15"/>
                  </a:cubicBezTo>
                  <a:lnTo>
                    <a:pt x="17" y="15"/>
                  </a:lnTo>
                  <a:lnTo>
                    <a:pt x="16" y="14"/>
                  </a:lnTo>
                  <a:cubicBezTo>
                    <a:pt x="16" y="14"/>
                    <a:pt x="19" y="11"/>
                    <a:pt x="18" y="10"/>
                  </a:cubicBezTo>
                  <a:cubicBezTo>
                    <a:pt x="18" y="10"/>
                    <a:pt x="17" y="9"/>
                    <a:pt x="16" y="8"/>
                  </a:cubicBezTo>
                  <a:cubicBezTo>
                    <a:pt x="14" y="8"/>
                    <a:pt x="12" y="8"/>
                    <a:pt x="12" y="8"/>
                  </a:cubicBezTo>
                  <a:cubicBezTo>
                    <a:pt x="10" y="12"/>
                    <a:pt x="11" y="18"/>
                    <a:pt x="7" y="22"/>
                  </a:cubicBezTo>
                  <a:cubicBezTo>
                    <a:pt x="5" y="24"/>
                    <a:pt x="0" y="27"/>
                    <a:pt x="0" y="30"/>
                  </a:cubicBezTo>
                  <a:lnTo>
                    <a:pt x="4" y="32"/>
                  </a:lnTo>
                  <a:lnTo>
                    <a:pt x="10" y="30"/>
                  </a:lnTo>
                  <a:lnTo>
                    <a:pt x="21" y="36"/>
                  </a:lnTo>
                  <a:lnTo>
                    <a:pt x="20" y="41"/>
                  </a:lnTo>
                  <a:cubicBezTo>
                    <a:pt x="22" y="41"/>
                    <a:pt x="23" y="41"/>
                    <a:pt x="24" y="43"/>
                  </a:cubicBezTo>
                  <a:lnTo>
                    <a:pt x="24" y="26"/>
                  </a:lnTo>
                </a:path>
              </a:pathLst>
            </a:custGeom>
            <a:solidFill>
              <a:srgbClr val="2358cf"/>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940440" y="4400640"/>
              <a:ext cx="619200" cy="447480"/>
            </a:xfrm>
            <a:custGeom>
              <a:avLst/>
              <a:gdLst/>
              <a:ahLst/>
              <a:rect l="l" t="t" r="r" b="b"/>
              <a:pathLst>
                <a:path w="65" h="47">
                  <a:moveTo>
                    <a:pt x="55" y="25"/>
                  </a:moveTo>
                  <a:cubicBezTo>
                    <a:pt x="59" y="19"/>
                    <a:pt x="61" y="12"/>
                    <a:pt x="65" y="8"/>
                  </a:cubicBezTo>
                  <a:lnTo>
                    <a:pt x="55" y="3"/>
                  </a:lnTo>
                  <a:cubicBezTo>
                    <a:pt x="49" y="0"/>
                    <a:pt x="47" y="0"/>
                    <a:pt x="42" y="2"/>
                  </a:cubicBezTo>
                  <a:cubicBezTo>
                    <a:pt x="42" y="12"/>
                    <a:pt x="24" y="7"/>
                    <a:pt x="24" y="14"/>
                  </a:cubicBezTo>
                  <a:cubicBezTo>
                    <a:pt x="19" y="16"/>
                    <a:pt x="13" y="18"/>
                    <a:pt x="8" y="13"/>
                  </a:cubicBezTo>
                  <a:cubicBezTo>
                    <a:pt x="8" y="14"/>
                    <a:pt x="7" y="14"/>
                    <a:pt x="7" y="16"/>
                  </a:cubicBezTo>
                  <a:cubicBezTo>
                    <a:pt x="4" y="16"/>
                    <a:pt x="2" y="17"/>
                    <a:pt x="0" y="19"/>
                  </a:cubicBezTo>
                  <a:lnTo>
                    <a:pt x="4" y="22"/>
                  </a:lnTo>
                  <a:cubicBezTo>
                    <a:pt x="4" y="26"/>
                    <a:pt x="3" y="30"/>
                    <a:pt x="0" y="33"/>
                  </a:cubicBezTo>
                  <a:lnTo>
                    <a:pt x="12" y="47"/>
                  </a:lnTo>
                  <a:lnTo>
                    <a:pt x="28" y="42"/>
                  </a:lnTo>
                  <a:lnTo>
                    <a:pt x="46" y="40"/>
                  </a:lnTo>
                  <a:cubicBezTo>
                    <a:pt x="45" y="40"/>
                    <a:pt x="54" y="36"/>
                    <a:pt x="53" y="36"/>
                  </a:cubicBezTo>
                  <a:cubicBezTo>
                    <a:pt x="55" y="32"/>
                    <a:pt x="56" y="31"/>
                    <a:pt x="55" y="25"/>
                  </a:cubicBezTo>
                </a:path>
              </a:pathLst>
            </a:custGeom>
            <a:solidFill>
              <a:srgbClr val="2358cf">
                <a:alpha val="99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959440" y="4686480"/>
              <a:ext cx="1295280" cy="1523880"/>
            </a:xfrm>
            <a:custGeom>
              <a:avLst/>
              <a:gdLst/>
              <a:ahLst/>
              <a:rect l="l" t="t" r="r" b="b"/>
              <a:pathLst>
                <a:path w="136" h="160">
                  <a:moveTo>
                    <a:pt x="18" y="105"/>
                  </a:moveTo>
                  <a:cubicBezTo>
                    <a:pt x="21" y="111"/>
                    <a:pt x="17" y="119"/>
                    <a:pt x="19" y="124"/>
                  </a:cubicBezTo>
                  <a:cubicBezTo>
                    <a:pt x="27" y="124"/>
                    <a:pt x="24" y="116"/>
                    <a:pt x="29" y="121"/>
                  </a:cubicBezTo>
                  <a:cubicBezTo>
                    <a:pt x="30" y="119"/>
                    <a:pt x="31" y="114"/>
                    <a:pt x="32" y="112"/>
                  </a:cubicBezTo>
                  <a:cubicBezTo>
                    <a:pt x="30" y="107"/>
                    <a:pt x="27" y="105"/>
                    <a:pt x="32" y="103"/>
                  </a:cubicBezTo>
                  <a:cubicBezTo>
                    <a:pt x="32" y="99"/>
                    <a:pt x="31" y="94"/>
                    <a:pt x="28" y="90"/>
                  </a:cubicBezTo>
                  <a:cubicBezTo>
                    <a:pt x="18" y="100"/>
                    <a:pt x="18" y="93"/>
                    <a:pt x="18" y="105"/>
                  </a:cubicBezTo>
                  <a:moveTo>
                    <a:pt x="98" y="142"/>
                  </a:moveTo>
                  <a:cubicBezTo>
                    <a:pt x="100" y="140"/>
                    <a:pt x="100" y="137"/>
                    <a:pt x="100" y="135"/>
                  </a:cubicBezTo>
                  <a:cubicBezTo>
                    <a:pt x="90" y="135"/>
                    <a:pt x="84" y="142"/>
                    <a:pt x="75" y="136"/>
                  </a:cubicBezTo>
                  <a:cubicBezTo>
                    <a:pt x="70" y="139"/>
                    <a:pt x="64" y="136"/>
                    <a:pt x="64" y="144"/>
                  </a:cubicBezTo>
                  <a:cubicBezTo>
                    <a:pt x="71" y="151"/>
                    <a:pt x="86" y="154"/>
                    <a:pt x="97" y="160"/>
                  </a:cubicBezTo>
                  <a:cubicBezTo>
                    <a:pt x="102" y="154"/>
                    <a:pt x="97" y="150"/>
                    <a:pt x="98" y="142"/>
                  </a:cubicBezTo>
                  <a:moveTo>
                    <a:pt x="10" y="48"/>
                  </a:moveTo>
                  <a:cubicBezTo>
                    <a:pt x="10" y="51"/>
                    <a:pt x="23" y="40"/>
                    <a:pt x="25" y="40"/>
                  </a:cubicBezTo>
                  <a:cubicBezTo>
                    <a:pt x="26" y="41"/>
                    <a:pt x="31" y="43"/>
                    <a:pt x="33" y="43"/>
                  </a:cubicBezTo>
                  <a:cubicBezTo>
                    <a:pt x="37" y="50"/>
                    <a:pt x="41" y="51"/>
                    <a:pt x="42" y="61"/>
                  </a:cubicBezTo>
                  <a:cubicBezTo>
                    <a:pt x="42" y="68"/>
                    <a:pt x="59" y="75"/>
                    <a:pt x="63" y="79"/>
                  </a:cubicBezTo>
                  <a:cubicBezTo>
                    <a:pt x="66" y="82"/>
                    <a:pt x="71" y="89"/>
                    <a:pt x="76" y="87"/>
                  </a:cubicBezTo>
                  <a:cubicBezTo>
                    <a:pt x="81" y="88"/>
                    <a:pt x="82" y="91"/>
                    <a:pt x="84" y="95"/>
                  </a:cubicBezTo>
                  <a:cubicBezTo>
                    <a:pt x="87" y="97"/>
                    <a:pt x="93" y="98"/>
                    <a:pt x="95" y="98"/>
                  </a:cubicBezTo>
                  <a:cubicBezTo>
                    <a:pt x="95" y="102"/>
                    <a:pt x="96" y="104"/>
                    <a:pt x="97" y="105"/>
                  </a:cubicBezTo>
                  <a:cubicBezTo>
                    <a:pt x="107" y="105"/>
                    <a:pt x="109" y="119"/>
                    <a:pt x="112" y="126"/>
                  </a:cubicBezTo>
                  <a:cubicBezTo>
                    <a:pt x="111" y="126"/>
                    <a:pt x="109" y="128"/>
                    <a:pt x="108" y="128"/>
                  </a:cubicBezTo>
                  <a:cubicBezTo>
                    <a:pt x="108" y="130"/>
                    <a:pt x="107" y="134"/>
                    <a:pt x="106" y="136"/>
                  </a:cubicBezTo>
                  <a:cubicBezTo>
                    <a:pt x="112" y="139"/>
                    <a:pt x="113" y="128"/>
                    <a:pt x="114" y="125"/>
                  </a:cubicBezTo>
                  <a:cubicBezTo>
                    <a:pt x="114" y="123"/>
                    <a:pt x="119" y="121"/>
                    <a:pt x="120" y="120"/>
                  </a:cubicBezTo>
                  <a:cubicBezTo>
                    <a:pt x="120" y="118"/>
                    <a:pt x="119" y="116"/>
                    <a:pt x="119" y="114"/>
                  </a:cubicBezTo>
                  <a:cubicBezTo>
                    <a:pt x="117" y="114"/>
                    <a:pt x="113" y="111"/>
                    <a:pt x="112" y="110"/>
                  </a:cubicBezTo>
                  <a:cubicBezTo>
                    <a:pt x="112" y="107"/>
                    <a:pt x="115" y="99"/>
                    <a:pt x="117" y="97"/>
                  </a:cubicBezTo>
                  <a:cubicBezTo>
                    <a:pt x="122" y="97"/>
                    <a:pt x="130" y="102"/>
                    <a:pt x="133" y="107"/>
                  </a:cubicBezTo>
                  <a:cubicBezTo>
                    <a:pt x="136" y="100"/>
                    <a:pt x="127" y="96"/>
                    <a:pt x="123" y="94"/>
                  </a:cubicBezTo>
                  <a:cubicBezTo>
                    <a:pt x="118" y="92"/>
                    <a:pt x="108" y="87"/>
                    <a:pt x="103" y="84"/>
                  </a:cubicBezTo>
                  <a:cubicBezTo>
                    <a:pt x="103" y="83"/>
                    <a:pt x="105" y="80"/>
                    <a:pt x="106" y="79"/>
                  </a:cubicBezTo>
                  <a:cubicBezTo>
                    <a:pt x="102" y="77"/>
                    <a:pt x="99" y="79"/>
                    <a:pt x="95" y="78"/>
                  </a:cubicBezTo>
                  <a:cubicBezTo>
                    <a:pt x="85" y="76"/>
                    <a:pt x="79" y="68"/>
                    <a:pt x="78" y="60"/>
                  </a:cubicBezTo>
                  <a:cubicBezTo>
                    <a:pt x="76" y="48"/>
                    <a:pt x="57" y="48"/>
                    <a:pt x="63" y="34"/>
                  </a:cubicBezTo>
                  <a:cubicBezTo>
                    <a:pt x="62" y="32"/>
                    <a:pt x="61" y="30"/>
                    <a:pt x="61" y="26"/>
                  </a:cubicBezTo>
                  <a:cubicBezTo>
                    <a:pt x="64" y="23"/>
                    <a:pt x="69" y="21"/>
                    <a:pt x="72" y="18"/>
                  </a:cubicBezTo>
                  <a:cubicBezTo>
                    <a:pt x="74" y="20"/>
                    <a:pt x="77" y="20"/>
                    <a:pt x="79" y="20"/>
                  </a:cubicBezTo>
                  <a:lnTo>
                    <a:pt x="75" y="10"/>
                  </a:lnTo>
                  <a:lnTo>
                    <a:pt x="58" y="0"/>
                  </a:lnTo>
                  <a:lnTo>
                    <a:pt x="48" y="6"/>
                  </a:lnTo>
                  <a:lnTo>
                    <a:pt x="42" y="5"/>
                  </a:lnTo>
                  <a:cubicBezTo>
                    <a:pt x="34" y="8"/>
                    <a:pt x="42" y="9"/>
                    <a:pt x="34" y="11"/>
                  </a:cubicBezTo>
                  <a:cubicBezTo>
                    <a:pt x="33" y="7"/>
                    <a:pt x="30" y="8"/>
                    <a:pt x="29" y="8"/>
                  </a:cubicBezTo>
                  <a:lnTo>
                    <a:pt x="26" y="16"/>
                  </a:lnTo>
                  <a:lnTo>
                    <a:pt x="21" y="8"/>
                  </a:lnTo>
                  <a:lnTo>
                    <a:pt x="18" y="10"/>
                  </a:lnTo>
                  <a:lnTo>
                    <a:pt x="18" y="14"/>
                  </a:lnTo>
                  <a:lnTo>
                    <a:pt x="2" y="17"/>
                  </a:lnTo>
                  <a:lnTo>
                    <a:pt x="9" y="27"/>
                  </a:lnTo>
                  <a:lnTo>
                    <a:pt x="3" y="30"/>
                  </a:lnTo>
                  <a:lnTo>
                    <a:pt x="7" y="34"/>
                  </a:lnTo>
                  <a:cubicBezTo>
                    <a:pt x="2" y="35"/>
                    <a:pt x="0" y="34"/>
                    <a:pt x="0" y="36"/>
                  </a:cubicBezTo>
                  <a:lnTo>
                    <a:pt x="1" y="43"/>
                  </a:lnTo>
                  <a:lnTo>
                    <a:pt x="6" y="48"/>
                  </a:lnTo>
                  <a:lnTo>
                    <a:pt x="10" y="48"/>
                  </a:lnTo>
                </a:path>
              </a:pathLst>
            </a:custGeom>
            <a:solidFill>
              <a:srgbClr val="2358cf">
                <a:alpha val="99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245120" y="4924440"/>
              <a:ext cx="1523880" cy="1152360"/>
            </a:xfrm>
            <a:custGeom>
              <a:avLst/>
              <a:gdLst/>
              <a:ahLst/>
              <a:rect l="l" t="t" r="r" b="b"/>
              <a:pathLst>
                <a:path w="160" h="121">
                  <a:moveTo>
                    <a:pt x="116" y="92"/>
                  </a:moveTo>
                  <a:cubicBezTo>
                    <a:pt x="118" y="91"/>
                    <a:pt x="119" y="91"/>
                    <a:pt x="121" y="92"/>
                  </a:cubicBezTo>
                  <a:cubicBezTo>
                    <a:pt x="120" y="93"/>
                    <a:pt x="116" y="95"/>
                    <a:pt x="116" y="92"/>
                  </a:cubicBezTo>
                  <a:moveTo>
                    <a:pt x="148" y="76"/>
                  </a:moveTo>
                  <a:cubicBezTo>
                    <a:pt x="159" y="76"/>
                    <a:pt x="160" y="79"/>
                    <a:pt x="150" y="80"/>
                  </a:cubicBezTo>
                  <a:lnTo>
                    <a:pt x="148" y="76"/>
                  </a:lnTo>
                  <a:moveTo>
                    <a:pt x="129" y="83"/>
                  </a:moveTo>
                  <a:cubicBezTo>
                    <a:pt x="137" y="78"/>
                    <a:pt x="133" y="82"/>
                    <a:pt x="140" y="82"/>
                  </a:cubicBezTo>
                  <a:cubicBezTo>
                    <a:pt x="141" y="85"/>
                    <a:pt x="138" y="88"/>
                    <a:pt x="136" y="90"/>
                  </a:cubicBezTo>
                  <a:cubicBezTo>
                    <a:pt x="130" y="90"/>
                    <a:pt x="128" y="87"/>
                    <a:pt x="129" y="83"/>
                  </a:cubicBezTo>
                  <a:moveTo>
                    <a:pt x="111" y="61"/>
                  </a:moveTo>
                  <a:cubicBezTo>
                    <a:pt x="113" y="59"/>
                    <a:pt x="116" y="59"/>
                    <a:pt x="118" y="59"/>
                  </a:cubicBezTo>
                  <a:cubicBezTo>
                    <a:pt x="122" y="58"/>
                    <a:pt x="129" y="52"/>
                    <a:pt x="133" y="52"/>
                  </a:cubicBezTo>
                  <a:cubicBezTo>
                    <a:pt x="139" y="53"/>
                    <a:pt x="139" y="54"/>
                    <a:pt x="139" y="48"/>
                  </a:cubicBezTo>
                  <a:cubicBezTo>
                    <a:pt x="144" y="47"/>
                    <a:pt x="143" y="48"/>
                    <a:pt x="143" y="44"/>
                  </a:cubicBezTo>
                  <a:lnTo>
                    <a:pt x="128" y="42"/>
                  </a:lnTo>
                  <a:cubicBezTo>
                    <a:pt x="124" y="41"/>
                    <a:pt x="119" y="36"/>
                    <a:pt x="116" y="33"/>
                  </a:cubicBezTo>
                  <a:lnTo>
                    <a:pt x="109" y="36"/>
                  </a:lnTo>
                  <a:cubicBezTo>
                    <a:pt x="103" y="30"/>
                    <a:pt x="105" y="30"/>
                    <a:pt x="100" y="32"/>
                  </a:cubicBezTo>
                  <a:cubicBezTo>
                    <a:pt x="97" y="29"/>
                    <a:pt x="90" y="28"/>
                    <a:pt x="91" y="23"/>
                  </a:cubicBezTo>
                  <a:cubicBezTo>
                    <a:pt x="89" y="23"/>
                    <a:pt x="85" y="21"/>
                    <a:pt x="83" y="20"/>
                  </a:cubicBezTo>
                  <a:cubicBezTo>
                    <a:pt x="75" y="17"/>
                    <a:pt x="68" y="16"/>
                    <a:pt x="60" y="14"/>
                  </a:cubicBezTo>
                  <a:cubicBezTo>
                    <a:pt x="56" y="13"/>
                    <a:pt x="45" y="6"/>
                    <a:pt x="41" y="8"/>
                  </a:cubicBezTo>
                  <a:cubicBezTo>
                    <a:pt x="32" y="4"/>
                    <a:pt x="34" y="8"/>
                    <a:pt x="24" y="1"/>
                  </a:cubicBezTo>
                  <a:cubicBezTo>
                    <a:pt x="20" y="1"/>
                    <a:pt x="21" y="0"/>
                    <a:pt x="19" y="5"/>
                  </a:cubicBezTo>
                  <a:cubicBezTo>
                    <a:pt x="12" y="5"/>
                    <a:pt x="9" y="5"/>
                    <a:pt x="9" y="11"/>
                  </a:cubicBezTo>
                  <a:cubicBezTo>
                    <a:pt x="12" y="17"/>
                    <a:pt x="13" y="14"/>
                    <a:pt x="8" y="21"/>
                  </a:cubicBezTo>
                  <a:lnTo>
                    <a:pt x="17" y="23"/>
                  </a:lnTo>
                  <a:cubicBezTo>
                    <a:pt x="17" y="24"/>
                    <a:pt x="15" y="25"/>
                    <a:pt x="15" y="26"/>
                  </a:cubicBezTo>
                  <a:cubicBezTo>
                    <a:pt x="22" y="29"/>
                    <a:pt x="25" y="29"/>
                    <a:pt x="31" y="33"/>
                  </a:cubicBezTo>
                  <a:lnTo>
                    <a:pt x="32" y="38"/>
                  </a:lnTo>
                  <a:lnTo>
                    <a:pt x="24" y="43"/>
                  </a:lnTo>
                  <a:lnTo>
                    <a:pt x="21" y="63"/>
                  </a:lnTo>
                  <a:lnTo>
                    <a:pt x="14" y="66"/>
                  </a:lnTo>
                  <a:lnTo>
                    <a:pt x="12" y="62"/>
                  </a:lnTo>
                  <a:cubicBezTo>
                    <a:pt x="12" y="62"/>
                    <a:pt x="11" y="64"/>
                    <a:pt x="12" y="66"/>
                  </a:cubicBezTo>
                  <a:cubicBezTo>
                    <a:pt x="13" y="67"/>
                    <a:pt x="15" y="73"/>
                    <a:pt x="15" y="73"/>
                  </a:cubicBezTo>
                  <a:lnTo>
                    <a:pt x="10" y="84"/>
                  </a:lnTo>
                  <a:lnTo>
                    <a:pt x="16" y="86"/>
                  </a:lnTo>
                  <a:cubicBezTo>
                    <a:pt x="14" y="87"/>
                    <a:pt x="10" y="86"/>
                    <a:pt x="9" y="88"/>
                  </a:cubicBezTo>
                  <a:lnTo>
                    <a:pt x="0" y="99"/>
                  </a:lnTo>
                  <a:cubicBezTo>
                    <a:pt x="6" y="105"/>
                    <a:pt x="17" y="107"/>
                    <a:pt x="20" y="116"/>
                  </a:cubicBezTo>
                  <a:cubicBezTo>
                    <a:pt x="20" y="118"/>
                    <a:pt x="25" y="118"/>
                    <a:pt x="26" y="118"/>
                  </a:cubicBezTo>
                  <a:cubicBezTo>
                    <a:pt x="36" y="116"/>
                    <a:pt x="43" y="114"/>
                    <a:pt x="54" y="116"/>
                  </a:cubicBezTo>
                  <a:cubicBezTo>
                    <a:pt x="60" y="116"/>
                    <a:pt x="56" y="121"/>
                    <a:pt x="61" y="116"/>
                  </a:cubicBezTo>
                  <a:cubicBezTo>
                    <a:pt x="67" y="117"/>
                    <a:pt x="76" y="110"/>
                    <a:pt x="82" y="110"/>
                  </a:cubicBezTo>
                  <a:cubicBezTo>
                    <a:pt x="86" y="108"/>
                    <a:pt x="83" y="109"/>
                    <a:pt x="83" y="106"/>
                  </a:cubicBezTo>
                  <a:cubicBezTo>
                    <a:pt x="97" y="96"/>
                    <a:pt x="97" y="101"/>
                    <a:pt x="97" y="93"/>
                  </a:cubicBezTo>
                  <a:cubicBezTo>
                    <a:pt x="96" y="90"/>
                    <a:pt x="92" y="86"/>
                    <a:pt x="93" y="82"/>
                  </a:cubicBezTo>
                  <a:cubicBezTo>
                    <a:pt x="96" y="73"/>
                    <a:pt x="105" y="69"/>
                    <a:pt x="111" y="61"/>
                  </a:cubicBezTo>
                </a:path>
              </a:pathLst>
            </a:custGeom>
            <a:solidFill>
              <a:srgbClr val="2358cf">
                <a:alpha val="99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07080" y="2314440"/>
              <a:ext cx="819000" cy="1895760"/>
            </a:xfrm>
            <a:custGeom>
              <a:avLst/>
              <a:gdLst/>
              <a:ahLst/>
              <a:rect l="l" t="t" r="r" b="b"/>
              <a:pathLst>
                <a:path w="86" h="199">
                  <a:moveTo>
                    <a:pt x="36" y="0"/>
                  </a:moveTo>
                  <a:cubicBezTo>
                    <a:pt x="41" y="0"/>
                    <a:pt x="40" y="3"/>
                    <a:pt x="40" y="6"/>
                  </a:cubicBezTo>
                  <a:cubicBezTo>
                    <a:pt x="38" y="6"/>
                    <a:pt x="34" y="3"/>
                    <a:pt x="36" y="0"/>
                  </a:cubicBezTo>
                  <a:moveTo>
                    <a:pt x="73" y="45"/>
                  </a:moveTo>
                  <a:cubicBezTo>
                    <a:pt x="73" y="42"/>
                    <a:pt x="72" y="42"/>
                    <a:pt x="70" y="41"/>
                  </a:cubicBezTo>
                  <a:cubicBezTo>
                    <a:pt x="73" y="37"/>
                    <a:pt x="73" y="38"/>
                    <a:pt x="70" y="36"/>
                  </a:cubicBezTo>
                  <a:cubicBezTo>
                    <a:pt x="72" y="35"/>
                    <a:pt x="74" y="34"/>
                    <a:pt x="76" y="32"/>
                  </a:cubicBezTo>
                  <a:cubicBezTo>
                    <a:pt x="77" y="33"/>
                    <a:pt x="76" y="45"/>
                    <a:pt x="73" y="45"/>
                  </a:cubicBezTo>
                  <a:moveTo>
                    <a:pt x="58" y="59"/>
                  </a:moveTo>
                  <a:cubicBezTo>
                    <a:pt x="55" y="59"/>
                    <a:pt x="54" y="54"/>
                    <a:pt x="57" y="53"/>
                  </a:cubicBezTo>
                  <a:cubicBezTo>
                    <a:pt x="57" y="54"/>
                    <a:pt x="59" y="57"/>
                    <a:pt x="58" y="59"/>
                  </a:cubicBezTo>
                  <a:moveTo>
                    <a:pt x="19" y="69"/>
                  </a:moveTo>
                  <a:cubicBezTo>
                    <a:pt x="16" y="68"/>
                    <a:pt x="13" y="69"/>
                    <a:pt x="12" y="66"/>
                  </a:cubicBezTo>
                  <a:cubicBezTo>
                    <a:pt x="14" y="62"/>
                    <a:pt x="19" y="65"/>
                    <a:pt x="19" y="69"/>
                  </a:cubicBezTo>
                  <a:moveTo>
                    <a:pt x="24" y="65"/>
                  </a:moveTo>
                  <a:cubicBezTo>
                    <a:pt x="25" y="59"/>
                    <a:pt x="25" y="57"/>
                    <a:pt x="33" y="57"/>
                  </a:cubicBezTo>
                  <a:cubicBezTo>
                    <a:pt x="36" y="63"/>
                    <a:pt x="29" y="65"/>
                    <a:pt x="24" y="65"/>
                  </a:cubicBezTo>
                  <a:moveTo>
                    <a:pt x="18" y="78"/>
                  </a:moveTo>
                  <a:cubicBezTo>
                    <a:pt x="16" y="77"/>
                    <a:pt x="14" y="77"/>
                    <a:pt x="16" y="75"/>
                  </a:cubicBezTo>
                  <a:cubicBezTo>
                    <a:pt x="17" y="75"/>
                    <a:pt x="17" y="74"/>
                    <a:pt x="18" y="78"/>
                  </a:cubicBezTo>
                  <a:moveTo>
                    <a:pt x="19" y="104"/>
                  </a:moveTo>
                  <a:cubicBezTo>
                    <a:pt x="19" y="103"/>
                    <a:pt x="22" y="100"/>
                    <a:pt x="22" y="99"/>
                  </a:cubicBezTo>
                  <a:lnTo>
                    <a:pt x="18" y="99"/>
                  </a:lnTo>
                  <a:cubicBezTo>
                    <a:pt x="18" y="100"/>
                    <a:pt x="17" y="102"/>
                    <a:pt x="19" y="104"/>
                  </a:cubicBezTo>
                  <a:moveTo>
                    <a:pt x="26" y="110"/>
                  </a:moveTo>
                  <a:cubicBezTo>
                    <a:pt x="28" y="114"/>
                    <a:pt x="27" y="114"/>
                    <a:pt x="29" y="111"/>
                  </a:cubicBezTo>
                  <a:cubicBezTo>
                    <a:pt x="28" y="110"/>
                    <a:pt x="27" y="110"/>
                    <a:pt x="26" y="110"/>
                  </a:cubicBezTo>
                  <a:moveTo>
                    <a:pt x="30" y="128"/>
                  </a:moveTo>
                  <a:cubicBezTo>
                    <a:pt x="30" y="127"/>
                    <a:pt x="31" y="125"/>
                    <a:pt x="31" y="123"/>
                  </a:cubicBezTo>
                  <a:cubicBezTo>
                    <a:pt x="32" y="123"/>
                    <a:pt x="33" y="124"/>
                    <a:pt x="35" y="124"/>
                  </a:cubicBezTo>
                  <a:cubicBezTo>
                    <a:pt x="33" y="127"/>
                    <a:pt x="33" y="129"/>
                    <a:pt x="30" y="128"/>
                  </a:cubicBezTo>
                  <a:moveTo>
                    <a:pt x="21" y="117"/>
                  </a:moveTo>
                  <a:cubicBezTo>
                    <a:pt x="21" y="114"/>
                    <a:pt x="19" y="112"/>
                    <a:pt x="18" y="110"/>
                  </a:cubicBezTo>
                  <a:cubicBezTo>
                    <a:pt x="16" y="109"/>
                    <a:pt x="16" y="111"/>
                    <a:pt x="14" y="110"/>
                  </a:cubicBezTo>
                  <a:cubicBezTo>
                    <a:pt x="13" y="109"/>
                    <a:pt x="11" y="109"/>
                    <a:pt x="10" y="109"/>
                  </a:cubicBezTo>
                  <a:lnTo>
                    <a:pt x="3" y="116"/>
                  </a:lnTo>
                  <a:cubicBezTo>
                    <a:pt x="3" y="116"/>
                    <a:pt x="6" y="116"/>
                    <a:pt x="5" y="116"/>
                  </a:cubicBezTo>
                  <a:cubicBezTo>
                    <a:pt x="5" y="116"/>
                    <a:pt x="6" y="119"/>
                    <a:pt x="3" y="117"/>
                  </a:cubicBezTo>
                  <a:cubicBezTo>
                    <a:pt x="0" y="116"/>
                    <a:pt x="3" y="120"/>
                    <a:pt x="3" y="120"/>
                  </a:cubicBezTo>
                  <a:cubicBezTo>
                    <a:pt x="2" y="121"/>
                    <a:pt x="7" y="123"/>
                    <a:pt x="7" y="123"/>
                  </a:cubicBezTo>
                  <a:cubicBezTo>
                    <a:pt x="8" y="123"/>
                    <a:pt x="7" y="123"/>
                    <a:pt x="9" y="122"/>
                  </a:cubicBezTo>
                  <a:cubicBezTo>
                    <a:pt x="12" y="125"/>
                    <a:pt x="13" y="128"/>
                    <a:pt x="15" y="131"/>
                  </a:cubicBezTo>
                  <a:lnTo>
                    <a:pt x="22" y="124"/>
                  </a:lnTo>
                  <a:cubicBezTo>
                    <a:pt x="22" y="121"/>
                    <a:pt x="20" y="120"/>
                    <a:pt x="21" y="117"/>
                  </a:cubicBezTo>
                  <a:moveTo>
                    <a:pt x="63" y="128"/>
                  </a:moveTo>
                  <a:cubicBezTo>
                    <a:pt x="64" y="118"/>
                    <a:pt x="63" y="128"/>
                    <a:pt x="58" y="123"/>
                  </a:cubicBezTo>
                  <a:cubicBezTo>
                    <a:pt x="58" y="119"/>
                    <a:pt x="64" y="106"/>
                    <a:pt x="55" y="106"/>
                  </a:cubicBezTo>
                  <a:cubicBezTo>
                    <a:pt x="55" y="105"/>
                    <a:pt x="51" y="103"/>
                    <a:pt x="50" y="103"/>
                  </a:cubicBezTo>
                  <a:cubicBezTo>
                    <a:pt x="50" y="88"/>
                    <a:pt x="83" y="72"/>
                    <a:pt x="43" y="79"/>
                  </a:cubicBezTo>
                  <a:cubicBezTo>
                    <a:pt x="46" y="73"/>
                    <a:pt x="52" y="68"/>
                    <a:pt x="57" y="63"/>
                  </a:cubicBezTo>
                  <a:cubicBezTo>
                    <a:pt x="56" y="61"/>
                    <a:pt x="44" y="62"/>
                    <a:pt x="40" y="62"/>
                  </a:cubicBezTo>
                  <a:cubicBezTo>
                    <a:pt x="37" y="66"/>
                    <a:pt x="32" y="71"/>
                    <a:pt x="29" y="76"/>
                  </a:cubicBezTo>
                  <a:cubicBezTo>
                    <a:pt x="28" y="76"/>
                    <a:pt x="25" y="70"/>
                    <a:pt x="21" y="73"/>
                  </a:cubicBezTo>
                  <a:lnTo>
                    <a:pt x="25" y="79"/>
                  </a:lnTo>
                  <a:lnTo>
                    <a:pt x="29" y="83"/>
                  </a:lnTo>
                  <a:cubicBezTo>
                    <a:pt x="25" y="86"/>
                    <a:pt x="17" y="88"/>
                    <a:pt x="18" y="96"/>
                  </a:cubicBezTo>
                  <a:cubicBezTo>
                    <a:pt x="31" y="96"/>
                    <a:pt x="29" y="96"/>
                    <a:pt x="23" y="110"/>
                  </a:cubicBezTo>
                  <a:cubicBezTo>
                    <a:pt x="32" y="105"/>
                    <a:pt x="32" y="111"/>
                    <a:pt x="26" y="116"/>
                  </a:cubicBezTo>
                  <a:cubicBezTo>
                    <a:pt x="31" y="122"/>
                    <a:pt x="34" y="117"/>
                    <a:pt x="40" y="117"/>
                  </a:cubicBezTo>
                  <a:cubicBezTo>
                    <a:pt x="44" y="120"/>
                    <a:pt x="43" y="123"/>
                    <a:pt x="40" y="127"/>
                  </a:cubicBezTo>
                  <a:cubicBezTo>
                    <a:pt x="44" y="135"/>
                    <a:pt x="48" y="139"/>
                    <a:pt x="42" y="145"/>
                  </a:cubicBezTo>
                  <a:cubicBezTo>
                    <a:pt x="38" y="146"/>
                    <a:pt x="27" y="135"/>
                    <a:pt x="30" y="147"/>
                  </a:cubicBezTo>
                  <a:cubicBezTo>
                    <a:pt x="23" y="147"/>
                    <a:pt x="26" y="149"/>
                    <a:pt x="31" y="152"/>
                  </a:cubicBezTo>
                  <a:cubicBezTo>
                    <a:pt x="31" y="160"/>
                    <a:pt x="24" y="159"/>
                    <a:pt x="19" y="161"/>
                  </a:cubicBezTo>
                  <a:cubicBezTo>
                    <a:pt x="19" y="162"/>
                    <a:pt x="18" y="165"/>
                    <a:pt x="18" y="166"/>
                  </a:cubicBezTo>
                  <a:cubicBezTo>
                    <a:pt x="27" y="166"/>
                    <a:pt x="21" y="169"/>
                    <a:pt x="28" y="169"/>
                  </a:cubicBezTo>
                  <a:cubicBezTo>
                    <a:pt x="28" y="173"/>
                    <a:pt x="32" y="171"/>
                    <a:pt x="34" y="171"/>
                  </a:cubicBezTo>
                  <a:cubicBezTo>
                    <a:pt x="33" y="174"/>
                    <a:pt x="35" y="175"/>
                    <a:pt x="32" y="175"/>
                  </a:cubicBezTo>
                  <a:cubicBezTo>
                    <a:pt x="30" y="175"/>
                    <a:pt x="28" y="174"/>
                    <a:pt x="26" y="174"/>
                  </a:cubicBezTo>
                  <a:cubicBezTo>
                    <a:pt x="18" y="183"/>
                    <a:pt x="30" y="177"/>
                    <a:pt x="7" y="186"/>
                  </a:cubicBezTo>
                  <a:cubicBezTo>
                    <a:pt x="14" y="193"/>
                    <a:pt x="26" y="181"/>
                    <a:pt x="28" y="189"/>
                  </a:cubicBezTo>
                  <a:cubicBezTo>
                    <a:pt x="32" y="184"/>
                    <a:pt x="35" y="182"/>
                    <a:pt x="40" y="187"/>
                  </a:cubicBezTo>
                  <a:cubicBezTo>
                    <a:pt x="43" y="187"/>
                    <a:pt x="47" y="184"/>
                    <a:pt x="50" y="184"/>
                  </a:cubicBezTo>
                  <a:cubicBezTo>
                    <a:pt x="49" y="184"/>
                    <a:pt x="60" y="199"/>
                    <a:pt x="57" y="184"/>
                  </a:cubicBezTo>
                  <a:cubicBezTo>
                    <a:pt x="63" y="187"/>
                    <a:pt x="73" y="187"/>
                    <a:pt x="78" y="181"/>
                  </a:cubicBezTo>
                  <a:cubicBezTo>
                    <a:pt x="78" y="178"/>
                    <a:pt x="72" y="178"/>
                    <a:pt x="70" y="176"/>
                  </a:cubicBezTo>
                  <a:cubicBezTo>
                    <a:pt x="71" y="175"/>
                    <a:pt x="74" y="173"/>
                    <a:pt x="75" y="171"/>
                  </a:cubicBezTo>
                  <a:cubicBezTo>
                    <a:pt x="80" y="171"/>
                    <a:pt x="85" y="166"/>
                    <a:pt x="86" y="163"/>
                  </a:cubicBezTo>
                  <a:cubicBezTo>
                    <a:pt x="82" y="154"/>
                    <a:pt x="76" y="158"/>
                    <a:pt x="69" y="157"/>
                  </a:cubicBezTo>
                  <a:cubicBezTo>
                    <a:pt x="70" y="146"/>
                    <a:pt x="77" y="137"/>
                    <a:pt x="63" y="128"/>
                  </a:cubicBezTo>
                </a:path>
              </a:pathLst>
            </a:custGeom>
            <a:solidFill>
              <a:srgbClr val="2358cf"/>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397560" y="1380960"/>
              <a:ext cx="800280" cy="2095560"/>
            </a:xfrm>
            <a:custGeom>
              <a:avLst/>
              <a:gdLst/>
              <a:ahLst/>
              <a:rect l="l" t="t" r="r" b="b"/>
              <a:pathLst>
                <a:path w="84" h="220">
                  <a:moveTo>
                    <a:pt x="50" y="201"/>
                  </a:moveTo>
                  <a:cubicBezTo>
                    <a:pt x="50" y="203"/>
                    <a:pt x="50" y="205"/>
                    <a:pt x="50" y="206"/>
                  </a:cubicBezTo>
                  <a:cubicBezTo>
                    <a:pt x="50" y="208"/>
                    <a:pt x="50" y="208"/>
                    <a:pt x="51" y="207"/>
                  </a:cubicBezTo>
                  <a:cubicBezTo>
                    <a:pt x="51" y="205"/>
                    <a:pt x="52" y="203"/>
                    <a:pt x="52" y="201"/>
                  </a:cubicBezTo>
                  <a:cubicBezTo>
                    <a:pt x="51" y="198"/>
                    <a:pt x="53" y="192"/>
                    <a:pt x="51" y="189"/>
                  </a:cubicBezTo>
                  <a:cubicBezTo>
                    <a:pt x="51" y="190"/>
                    <a:pt x="49" y="201"/>
                    <a:pt x="50" y="201"/>
                  </a:cubicBezTo>
                  <a:moveTo>
                    <a:pt x="67" y="177"/>
                  </a:moveTo>
                  <a:cubicBezTo>
                    <a:pt x="67" y="182"/>
                    <a:pt x="67" y="191"/>
                    <a:pt x="63" y="195"/>
                  </a:cubicBezTo>
                  <a:cubicBezTo>
                    <a:pt x="58" y="192"/>
                    <a:pt x="56" y="177"/>
                    <a:pt x="67" y="177"/>
                  </a:cubicBezTo>
                  <a:moveTo>
                    <a:pt x="73" y="74"/>
                  </a:moveTo>
                  <a:cubicBezTo>
                    <a:pt x="70" y="59"/>
                    <a:pt x="66" y="63"/>
                    <a:pt x="79" y="58"/>
                  </a:cubicBezTo>
                  <a:cubicBezTo>
                    <a:pt x="75" y="52"/>
                    <a:pt x="77" y="53"/>
                    <a:pt x="84" y="46"/>
                  </a:cubicBezTo>
                  <a:lnTo>
                    <a:pt x="84" y="35"/>
                  </a:lnTo>
                  <a:lnTo>
                    <a:pt x="80" y="20"/>
                  </a:lnTo>
                  <a:cubicBezTo>
                    <a:pt x="78" y="5"/>
                    <a:pt x="67" y="11"/>
                    <a:pt x="57" y="0"/>
                  </a:cubicBezTo>
                  <a:cubicBezTo>
                    <a:pt x="56" y="2"/>
                    <a:pt x="55" y="1"/>
                    <a:pt x="54" y="3"/>
                  </a:cubicBezTo>
                  <a:cubicBezTo>
                    <a:pt x="54" y="4"/>
                    <a:pt x="57" y="11"/>
                    <a:pt x="57" y="12"/>
                  </a:cubicBezTo>
                  <a:cubicBezTo>
                    <a:pt x="51" y="15"/>
                    <a:pt x="50" y="13"/>
                    <a:pt x="46" y="10"/>
                  </a:cubicBezTo>
                  <a:lnTo>
                    <a:pt x="40" y="20"/>
                  </a:lnTo>
                  <a:lnTo>
                    <a:pt x="36" y="20"/>
                  </a:lnTo>
                  <a:lnTo>
                    <a:pt x="32" y="26"/>
                  </a:lnTo>
                  <a:lnTo>
                    <a:pt x="35" y="37"/>
                  </a:lnTo>
                  <a:cubicBezTo>
                    <a:pt x="36" y="39"/>
                    <a:pt x="33" y="39"/>
                    <a:pt x="32" y="42"/>
                  </a:cubicBezTo>
                  <a:cubicBezTo>
                    <a:pt x="31" y="57"/>
                    <a:pt x="32" y="53"/>
                    <a:pt x="22" y="64"/>
                  </a:cubicBezTo>
                  <a:cubicBezTo>
                    <a:pt x="27" y="70"/>
                    <a:pt x="18" y="74"/>
                    <a:pt x="22" y="82"/>
                  </a:cubicBezTo>
                  <a:cubicBezTo>
                    <a:pt x="20" y="85"/>
                    <a:pt x="9" y="89"/>
                    <a:pt x="11" y="94"/>
                  </a:cubicBezTo>
                  <a:cubicBezTo>
                    <a:pt x="7" y="103"/>
                    <a:pt x="10" y="123"/>
                    <a:pt x="16" y="129"/>
                  </a:cubicBezTo>
                  <a:cubicBezTo>
                    <a:pt x="15" y="134"/>
                    <a:pt x="14" y="132"/>
                    <a:pt x="10" y="135"/>
                  </a:cubicBezTo>
                  <a:lnTo>
                    <a:pt x="11" y="148"/>
                  </a:lnTo>
                  <a:lnTo>
                    <a:pt x="6" y="151"/>
                  </a:lnTo>
                  <a:lnTo>
                    <a:pt x="6" y="162"/>
                  </a:lnTo>
                  <a:cubicBezTo>
                    <a:pt x="4" y="162"/>
                    <a:pt x="2" y="159"/>
                    <a:pt x="0" y="159"/>
                  </a:cubicBezTo>
                  <a:cubicBezTo>
                    <a:pt x="1" y="168"/>
                    <a:pt x="3" y="180"/>
                    <a:pt x="10" y="187"/>
                  </a:cubicBezTo>
                  <a:cubicBezTo>
                    <a:pt x="8" y="192"/>
                    <a:pt x="9" y="190"/>
                    <a:pt x="13" y="194"/>
                  </a:cubicBezTo>
                  <a:cubicBezTo>
                    <a:pt x="12" y="197"/>
                    <a:pt x="17" y="201"/>
                    <a:pt x="19" y="203"/>
                  </a:cubicBezTo>
                  <a:cubicBezTo>
                    <a:pt x="19" y="203"/>
                    <a:pt x="21" y="219"/>
                    <a:pt x="22" y="220"/>
                  </a:cubicBezTo>
                  <a:cubicBezTo>
                    <a:pt x="23" y="220"/>
                    <a:pt x="27" y="219"/>
                    <a:pt x="28" y="219"/>
                  </a:cubicBezTo>
                  <a:cubicBezTo>
                    <a:pt x="28" y="215"/>
                    <a:pt x="28" y="208"/>
                    <a:pt x="30" y="206"/>
                  </a:cubicBezTo>
                  <a:cubicBezTo>
                    <a:pt x="40" y="211"/>
                    <a:pt x="48" y="193"/>
                    <a:pt x="48" y="187"/>
                  </a:cubicBezTo>
                  <a:cubicBezTo>
                    <a:pt x="48" y="183"/>
                    <a:pt x="44" y="174"/>
                    <a:pt x="46" y="170"/>
                  </a:cubicBezTo>
                  <a:cubicBezTo>
                    <a:pt x="47" y="165"/>
                    <a:pt x="58" y="162"/>
                    <a:pt x="59" y="158"/>
                  </a:cubicBezTo>
                  <a:cubicBezTo>
                    <a:pt x="59" y="156"/>
                    <a:pt x="62" y="150"/>
                    <a:pt x="62" y="148"/>
                  </a:cubicBezTo>
                  <a:cubicBezTo>
                    <a:pt x="56" y="145"/>
                    <a:pt x="56" y="146"/>
                    <a:pt x="60" y="142"/>
                  </a:cubicBezTo>
                  <a:cubicBezTo>
                    <a:pt x="60" y="139"/>
                    <a:pt x="51" y="139"/>
                    <a:pt x="50" y="139"/>
                  </a:cubicBezTo>
                  <a:cubicBezTo>
                    <a:pt x="44" y="137"/>
                    <a:pt x="49" y="123"/>
                    <a:pt x="47" y="118"/>
                  </a:cubicBezTo>
                  <a:cubicBezTo>
                    <a:pt x="50" y="112"/>
                    <a:pt x="73" y="66"/>
                    <a:pt x="73" y="74"/>
                  </a:cubicBezTo>
                </a:path>
              </a:pathLst>
            </a:custGeom>
            <a:solidFill>
              <a:srgbClr val="c0c0c0"/>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645160" y="4038480"/>
              <a:ext cx="361800" cy="324000"/>
            </a:xfrm>
            <a:custGeom>
              <a:avLst/>
              <a:gdLst/>
              <a:ahLst/>
              <a:rect l="l" t="t" r="r" b="b"/>
              <a:pathLst>
                <a:path w="38" h="34">
                  <a:moveTo>
                    <a:pt x="0" y="4"/>
                  </a:moveTo>
                  <a:cubicBezTo>
                    <a:pt x="1" y="8"/>
                    <a:pt x="4" y="7"/>
                    <a:pt x="6" y="8"/>
                  </a:cubicBezTo>
                  <a:lnTo>
                    <a:pt x="8" y="12"/>
                  </a:lnTo>
                  <a:cubicBezTo>
                    <a:pt x="11" y="14"/>
                    <a:pt x="11" y="15"/>
                    <a:pt x="15" y="17"/>
                  </a:cubicBezTo>
                  <a:cubicBezTo>
                    <a:pt x="15" y="18"/>
                    <a:pt x="15" y="21"/>
                    <a:pt x="15" y="22"/>
                  </a:cubicBezTo>
                  <a:cubicBezTo>
                    <a:pt x="19" y="23"/>
                    <a:pt x="17" y="24"/>
                    <a:pt x="21" y="27"/>
                  </a:cubicBezTo>
                  <a:cubicBezTo>
                    <a:pt x="24" y="29"/>
                    <a:pt x="27" y="30"/>
                    <a:pt x="27" y="34"/>
                  </a:cubicBezTo>
                  <a:lnTo>
                    <a:pt x="37" y="22"/>
                  </a:lnTo>
                  <a:cubicBezTo>
                    <a:pt x="38" y="19"/>
                    <a:pt x="38" y="6"/>
                    <a:pt x="30" y="11"/>
                  </a:cubicBezTo>
                  <a:lnTo>
                    <a:pt x="31" y="5"/>
                  </a:lnTo>
                  <a:lnTo>
                    <a:pt x="20" y="0"/>
                  </a:lnTo>
                  <a:lnTo>
                    <a:pt x="14" y="2"/>
                  </a:lnTo>
                  <a:lnTo>
                    <a:pt x="8" y="0"/>
                  </a:lnTo>
                  <a:lnTo>
                    <a:pt x="0" y="4"/>
                  </a:lnTo>
                </a:path>
              </a:pathLst>
            </a:custGeom>
            <a:solidFill>
              <a:srgbClr val="2358cf"/>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388280" y="5267160"/>
              <a:ext cx="1000080" cy="1038240"/>
            </a:xfrm>
            <a:custGeom>
              <a:avLst/>
              <a:gdLst/>
              <a:ahLst/>
              <a:rect l="l" t="t" r="r" b="b"/>
              <a:pathLst>
                <a:path w="105" h="109">
                  <a:moveTo>
                    <a:pt x="100" y="97"/>
                  </a:moveTo>
                  <a:cubicBezTo>
                    <a:pt x="101" y="98"/>
                    <a:pt x="103" y="98"/>
                    <a:pt x="103" y="98"/>
                  </a:cubicBezTo>
                  <a:cubicBezTo>
                    <a:pt x="105" y="97"/>
                    <a:pt x="103" y="95"/>
                    <a:pt x="101" y="94"/>
                  </a:cubicBezTo>
                  <a:cubicBezTo>
                    <a:pt x="99" y="92"/>
                    <a:pt x="99" y="90"/>
                    <a:pt x="100" y="97"/>
                  </a:cubicBezTo>
                  <a:moveTo>
                    <a:pt x="76" y="54"/>
                  </a:moveTo>
                  <a:cubicBezTo>
                    <a:pt x="77" y="52"/>
                    <a:pt x="80" y="49"/>
                    <a:pt x="79" y="54"/>
                  </a:cubicBezTo>
                  <a:cubicBezTo>
                    <a:pt x="79" y="58"/>
                    <a:pt x="77" y="59"/>
                    <a:pt x="76" y="54"/>
                  </a:cubicBezTo>
                  <a:moveTo>
                    <a:pt x="82" y="64"/>
                  </a:moveTo>
                  <a:cubicBezTo>
                    <a:pt x="81" y="64"/>
                    <a:pt x="81" y="64"/>
                    <a:pt x="81" y="66"/>
                  </a:cubicBezTo>
                  <a:lnTo>
                    <a:pt x="82" y="66"/>
                  </a:lnTo>
                  <a:cubicBezTo>
                    <a:pt x="86" y="65"/>
                    <a:pt x="85" y="64"/>
                    <a:pt x="82" y="64"/>
                  </a:cubicBezTo>
                  <a:moveTo>
                    <a:pt x="60" y="26"/>
                  </a:moveTo>
                  <a:cubicBezTo>
                    <a:pt x="60" y="26"/>
                    <a:pt x="61" y="26"/>
                    <a:pt x="62" y="25"/>
                  </a:cubicBezTo>
                  <a:cubicBezTo>
                    <a:pt x="64" y="29"/>
                    <a:pt x="60" y="29"/>
                    <a:pt x="60" y="26"/>
                  </a:cubicBezTo>
                  <a:moveTo>
                    <a:pt x="65" y="29"/>
                  </a:moveTo>
                  <a:cubicBezTo>
                    <a:pt x="66" y="29"/>
                    <a:pt x="66" y="30"/>
                    <a:pt x="66" y="30"/>
                  </a:cubicBezTo>
                  <a:cubicBezTo>
                    <a:pt x="66" y="31"/>
                    <a:pt x="67" y="32"/>
                    <a:pt x="66" y="33"/>
                  </a:cubicBezTo>
                  <a:cubicBezTo>
                    <a:pt x="64" y="40"/>
                    <a:pt x="65" y="30"/>
                    <a:pt x="65" y="29"/>
                  </a:cubicBezTo>
                  <a:moveTo>
                    <a:pt x="64" y="52"/>
                  </a:moveTo>
                  <a:cubicBezTo>
                    <a:pt x="68" y="52"/>
                    <a:pt x="63" y="50"/>
                    <a:pt x="63" y="49"/>
                  </a:cubicBezTo>
                  <a:cubicBezTo>
                    <a:pt x="58" y="48"/>
                    <a:pt x="57" y="49"/>
                    <a:pt x="62" y="51"/>
                  </a:cubicBezTo>
                  <a:cubicBezTo>
                    <a:pt x="62" y="50"/>
                    <a:pt x="64" y="53"/>
                    <a:pt x="64" y="52"/>
                  </a:cubicBezTo>
                  <a:moveTo>
                    <a:pt x="43" y="49"/>
                  </a:moveTo>
                  <a:lnTo>
                    <a:pt x="51" y="54"/>
                  </a:lnTo>
                  <a:cubicBezTo>
                    <a:pt x="53" y="54"/>
                    <a:pt x="54" y="54"/>
                    <a:pt x="56" y="54"/>
                  </a:cubicBezTo>
                  <a:cubicBezTo>
                    <a:pt x="57" y="54"/>
                    <a:pt x="59" y="59"/>
                    <a:pt x="59" y="59"/>
                  </a:cubicBezTo>
                  <a:cubicBezTo>
                    <a:pt x="65" y="68"/>
                    <a:pt x="58" y="64"/>
                    <a:pt x="57" y="60"/>
                  </a:cubicBezTo>
                  <a:cubicBezTo>
                    <a:pt x="56" y="59"/>
                    <a:pt x="55" y="57"/>
                    <a:pt x="54" y="57"/>
                  </a:cubicBezTo>
                  <a:cubicBezTo>
                    <a:pt x="52" y="57"/>
                    <a:pt x="44" y="52"/>
                    <a:pt x="45" y="53"/>
                  </a:cubicBezTo>
                  <a:cubicBezTo>
                    <a:pt x="44" y="53"/>
                    <a:pt x="40" y="49"/>
                    <a:pt x="43" y="49"/>
                  </a:cubicBezTo>
                  <a:moveTo>
                    <a:pt x="64" y="65"/>
                  </a:moveTo>
                  <a:lnTo>
                    <a:pt x="66" y="64"/>
                  </a:lnTo>
                  <a:cubicBezTo>
                    <a:pt x="67" y="68"/>
                    <a:pt x="64" y="71"/>
                    <a:pt x="64" y="65"/>
                  </a:cubicBezTo>
                  <a:moveTo>
                    <a:pt x="70" y="67"/>
                  </a:moveTo>
                  <a:lnTo>
                    <a:pt x="71" y="67"/>
                  </a:lnTo>
                  <a:cubicBezTo>
                    <a:pt x="71" y="67"/>
                    <a:pt x="71" y="67"/>
                    <a:pt x="71" y="68"/>
                  </a:cubicBezTo>
                  <a:lnTo>
                    <a:pt x="71" y="68"/>
                  </a:lnTo>
                  <a:cubicBezTo>
                    <a:pt x="71" y="68"/>
                    <a:pt x="71" y="69"/>
                    <a:pt x="71" y="69"/>
                  </a:cubicBezTo>
                  <a:lnTo>
                    <a:pt x="70" y="69"/>
                  </a:lnTo>
                  <a:cubicBezTo>
                    <a:pt x="70" y="69"/>
                    <a:pt x="69" y="68"/>
                    <a:pt x="69" y="68"/>
                  </a:cubicBezTo>
                  <a:lnTo>
                    <a:pt x="69" y="68"/>
                  </a:lnTo>
                  <a:cubicBezTo>
                    <a:pt x="69" y="67"/>
                    <a:pt x="70" y="67"/>
                    <a:pt x="70" y="67"/>
                  </a:cubicBezTo>
                  <a:moveTo>
                    <a:pt x="76" y="76"/>
                  </a:moveTo>
                  <a:cubicBezTo>
                    <a:pt x="76" y="75"/>
                    <a:pt x="76" y="74"/>
                    <a:pt x="77" y="74"/>
                  </a:cubicBezTo>
                  <a:lnTo>
                    <a:pt x="78" y="75"/>
                  </a:lnTo>
                  <a:cubicBezTo>
                    <a:pt x="77" y="78"/>
                    <a:pt x="78" y="79"/>
                    <a:pt x="76" y="76"/>
                  </a:cubicBezTo>
                  <a:moveTo>
                    <a:pt x="74" y="77"/>
                  </a:moveTo>
                  <a:cubicBezTo>
                    <a:pt x="71" y="81"/>
                    <a:pt x="71" y="69"/>
                    <a:pt x="74" y="77"/>
                  </a:cubicBezTo>
                  <a:moveTo>
                    <a:pt x="63" y="83"/>
                  </a:moveTo>
                  <a:cubicBezTo>
                    <a:pt x="67" y="81"/>
                    <a:pt x="66" y="81"/>
                    <a:pt x="67" y="83"/>
                  </a:cubicBezTo>
                  <a:cubicBezTo>
                    <a:pt x="66" y="85"/>
                    <a:pt x="64" y="84"/>
                    <a:pt x="63" y="83"/>
                  </a:cubicBezTo>
                  <a:moveTo>
                    <a:pt x="0" y="50"/>
                  </a:moveTo>
                  <a:cubicBezTo>
                    <a:pt x="0" y="51"/>
                    <a:pt x="0" y="46"/>
                    <a:pt x="0" y="45"/>
                  </a:cubicBezTo>
                  <a:cubicBezTo>
                    <a:pt x="0" y="44"/>
                    <a:pt x="2" y="45"/>
                    <a:pt x="2" y="46"/>
                  </a:cubicBezTo>
                  <a:lnTo>
                    <a:pt x="0" y="50"/>
                  </a:lnTo>
                  <a:moveTo>
                    <a:pt x="13" y="56"/>
                  </a:moveTo>
                  <a:lnTo>
                    <a:pt x="14" y="57"/>
                  </a:lnTo>
                  <a:lnTo>
                    <a:pt x="14" y="59"/>
                  </a:lnTo>
                  <a:cubicBezTo>
                    <a:pt x="9" y="61"/>
                    <a:pt x="13" y="59"/>
                    <a:pt x="13" y="56"/>
                  </a:cubicBezTo>
                  <a:moveTo>
                    <a:pt x="13" y="68"/>
                  </a:moveTo>
                  <a:lnTo>
                    <a:pt x="16" y="69"/>
                  </a:lnTo>
                  <a:lnTo>
                    <a:pt x="14" y="71"/>
                  </a:lnTo>
                  <a:cubicBezTo>
                    <a:pt x="13" y="71"/>
                    <a:pt x="12" y="71"/>
                    <a:pt x="12" y="71"/>
                  </a:cubicBezTo>
                  <a:cubicBezTo>
                    <a:pt x="12" y="70"/>
                    <a:pt x="14" y="68"/>
                    <a:pt x="13" y="68"/>
                  </a:cubicBezTo>
                  <a:moveTo>
                    <a:pt x="14" y="78"/>
                  </a:moveTo>
                  <a:cubicBezTo>
                    <a:pt x="22" y="77"/>
                    <a:pt x="21" y="84"/>
                    <a:pt x="14" y="78"/>
                  </a:cubicBezTo>
                  <a:moveTo>
                    <a:pt x="58" y="100"/>
                  </a:moveTo>
                  <a:cubicBezTo>
                    <a:pt x="61" y="100"/>
                    <a:pt x="66" y="100"/>
                    <a:pt x="65" y="103"/>
                  </a:cubicBezTo>
                  <a:cubicBezTo>
                    <a:pt x="69" y="103"/>
                    <a:pt x="79" y="101"/>
                    <a:pt x="84" y="99"/>
                  </a:cubicBezTo>
                  <a:lnTo>
                    <a:pt x="84" y="103"/>
                  </a:lnTo>
                  <a:cubicBezTo>
                    <a:pt x="85" y="102"/>
                    <a:pt x="90" y="99"/>
                    <a:pt x="92" y="99"/>
                  </a:cubicBezTo>
                  <a:cubicBezTo>
                    <a:pt x="95" y="105"/>
                    <a:pt x="75" y="107"/>
                    <a:pt x="70" y="109"/>
                  </a:cubicBezTo>
                  <a:cubicBezTo>
                    <a:pt x="67" y="105"/>
                    <a:pt x="59" y="107"/>
                    <a:pt x="55" y="105"/>
                  </a:cubicBezTo>
                  <a:lnTo>
                    <a:pt x="58" y="100"/>
                  </a:lnTo>
                  <a:moveTo>
                    <a:pt x="45" y="65"/>
                  </a:moveTo>
                  <a:lnTo>
                    <a:pt x="45" y="71"/>
                  </a:lnTo>
                  <a:cubicBezTo>
                    <a:pt x="45" y="72"/>
                    <a:pt x="55" y="73"/>
                    <a:pt x="52" y="76"/>
                  </a:cubicBezTo>
                  <a:cubicBezTo>
                    <a:pt x="51" y="78"/>
                    <a:pt x="48" y="76"/>
                    <a:pt x="45" y="75"/>
                  </a:cubicBezTo>
                  <a:cubicBezTo>
                    <a:pt x="42" y="73"/>
                    <a:pt x="41" y="73"/>
                    <a:pt x="41" y="73"/>
                  </a:cubicBezTo>
                  <a:cubicBezTo>
                    <a:pt x="42" y="76"/>
                    <a:pt x="41" y="76"/>
                    <a:pt x="41" y="78"/>
                  </a:cubicBezTo>
                  <a:cubicBezTo>
                    <a:pt x="42" y="79"/>
                    <a:pt x="46" y="81"/>
                    <a:pt x="47" y="83"/>
                  </a:cubicBezTo>
                  <a:cubicBezTo>
                    <a:pt x="49" y="86"/>
                    <a:pt x="48" y="88"/>
                    <a:pt x="49" y="89"/>
                  </a:cubicBezTo>
                  <a:cubicBezTo>
                    <a:pt x="47" y="90"/>
                    <a:pt x="45" y="86"/>
                    <a:pt x="43" y="85"/>
                  </a:cubicBezTo>
                  <a:cubicBezTo>
                    <a:pt x="41" y="83"/>
                    <a:pt x="42" y="89"/>
                    <a:pt x="41" y="90"/>
                  </a:cubicBezTo>
                  <a:lnTo>
                    <a:pt x="35" y="82"/>
                  </a:lnTo>
                  <a:cubicBezTo>
                    <a:pt x="34" y="82"/>
                    <a:pt x="36" y="92"/>
                    <a:pt x="28" y="86"/>
                  </a:cubicBezTo>
                  <a:cubicBezTo>
                    <a:pt x="27" y="84"/>
                    <a:pt x="28" y="79"/>
                    <a:pt x="27" y="76"/>
                  </a:cubicBezTo>
                  <a:cubicBezTo>
                    <a:pt x="26" y="74"/>
                    <a:pt x="21" y="75"/>
                    <a:pt x="19" y="71"/>
                  </a:cubicBezTo>
                  <a:cubicBezTo>
                    <a:pt x="19" y="55"/>
                    <a:pt x="41" y="74"/>
                    <a:pt x="41" y="61"/>
                  </a:cubicBezTo>
                  <a:cubicBezTo>
                    <a:pt x="34" y="59"/>
                    <a:pt x="19" y="66"/>
                    <a:pt x="16" y="57"/>
                  </a:cubicBezTo>
                  <a:cubicBezTo>
                    <a:pt x="17" y="54"/>
                    <a:pt x="19" y="55"/>
                    <a:pt x="20" y="54"/>
                  </a:cubicBezTo>
                  <a:cubicBezTo>
                    <a:pt x="16" y="53"/>
                    <a:pt x="11" y="53"/>
                    <a:pt x="7" y="49"/>
                  </a:cubicBezTo>
                  <a:lnTo>
                    <a:pt x="6" y="45"/>
                  </a:lnTo>
                  <a:lnTo>
                    <a:pt x="9" y="44"/>
                  </a:lnTo>
                  <a:cubicBezTo>
                    <a:pt x="9" y="43"/>
                    <a:pt x="8" y="42"/>
                    <a:pt x="8" y="41"/>
                  </a:cubicBezTo>
                  <a:lnTo>
                    <a:pt x="12" y="25"/>
                  </a:lnTo>
                  <a:cubicBezTo>
                    <a:pt x="13" y="25"/>
                    <a:pt x="19" y="25"/>
                    <a:pt x="22" y="23"/>
                  </a:cubicBezTo>
                  <a:lnTo>
                    <a:pt x="27" y="19"/>
                  </a:lnTo>
                  <a:lnTo>
                    <a:pt x="31" y="19"/>
                  </a:lnTo>
                  <a:lnTo>
                    <a:pt x="44" y="11"/>
                  </a:lnTo>
                  <a:lnTo>
                    <a:pt x="49" y="11"/>
                  </a:lnTo>
                  <a:lnTo>
                    <a:pt x="56" y="8"/>
                  </a:lnTo>
                  <a:lnTo>
                    <a:pt x="61" y="10"/>
                  </a:lnTo>
                  <a:lnTo>
                    <a:pt x="69" y="7"/>
                  </a:lnTo>
                  <a:lnTo>
                    <a:pt x="67" y="5"/>
                  </a:lnTo>
                  <a:lnTo>
                    <a:pt x="73" y="0"/>
                  </a:lnTo>
                  <a:lnTo>
                    <a:pt x="78" y="6"/>
                  </a:lnTo>
                  <a:lnTo>
                    <a:pt x="75" y="11"/>
                  </a:lnTo>
                  <a:cubicBezTo>
                    <a:pt x="75" y="13"/>
                    <a:pt x="74" y="13"/>
                    <a:pt x="74" y="16"/>
                  </a:cubicBezTo>
                  <a:cubicBezTo>
                    <a:pt x="72" y="15"/>
                    <a:pt x="66" y="16"/>
                    <a:pt x="63" y="17"/>
                  </a:cubicBezTo>
                  <a:cubicBezTo>
                    <a:pt x="62" y="17"/>
                    <a:pt x="59" y="18"/>
                    <a:pt x="58" y="18"/>
                  </a:cubicBezTo>
                  <a:cubicBezTo>
                    <a:pt x="56" y="19"/>
                    <a:pt x="55" y="20"/>
                    <a:pt x="54" y="24"/>
                  </a:cubicBezTo>
                  <a:cubicBezTo>
                    <a:pt x="53" y="29"/>
                    <a:pt x="51" y="23"/>
                    <a:pt x="50" y="25"/>
                  </a:cubicBezTo>
                  <a:cubicBezTo>
                    <a:pt x="48" y="26"/>
                    <a:pt x="56" y="30"/>
                    <a:pt x="54" y="32"/>
                  </a:cubicBezTo>
                  <a:lnTo>
                    <a:pt x="47" y="28"/>
                  </a:lnTo>
                  <a:lnTo>
                    <a:pt x="46" y="29"/>
                  </a:lnTo>
                  <a:lnTo>
                    <a:pt x="51" y="35"/>
                  </a:lnTo>
                  <a:cubicBezTo>
                    <a:pt x="49" y="38"/>
                    <a:pt x="46" y="30"/>
                    <a:pt x="42" y="31"/>
                  </a:cubicBezTo>
                  <a:cubicBezTo>
                    <a:pt x="43" y="34"/>
                    <a:pt x="48" y="35"/>
                    <a:pt x="45" y="38"/>
                  </a:cubicBezTo>
                  <a:cubicBezTo>
                    <a:pt x="41" y="38"/>
                    <a:pt x="39" y="29"/>
                    <a:pt x="35" y="25"/>
                  </a:cubicBezTo>
                  <a:lnTo>
                    <a:pt x="33" y="25"/>
                  </a:lnTo>
                  <a:cubicBezTo>
                    <a:pt x="32" y="25"/>
                    <a:pt x="31" y="33"/>
                    <a:pt x="31" y="34"/>
                  </a:cubicBezTo>
                  <a:cubicBezTo>
                    <a:pt x="33" y="41"/>
                    <a:pt x="46" y="43"/>
                    <a:pt x="43" y="46"/>
                  </a:cubicBezTo>
                  <a:cubicBezTo>
                    <a:pt x="42" y="46"/>
                    <a:pt x="36" y="44"/>
                    <a:pt x="36" y="44"/>
                  </a:cubicBezTo>
                  <a:cubicBezTo>
                    <a:pt x="36" y="47"/>
                    <a:pt x="38" y="52"/>
                    <a:pt x="40" y="54"/>
                  </a:cubicBezTo>
                  <a:cubicBezTo>
                    <a:pt x="44" y="58"/>
                    <a:pt x="52" y="60"/>
                    <a:pt x="54" y="64"/>
                  </a:cubicBezTo>
                  <a:cubicBezTo>
                    <a:pt x="53" y="65"/>
                    <a:pt x="61" y="69"/>
                    <a:pt x="58" y="71"/>
                  </a:cubicBezTo>
                  <a:cubicBezTo>
                    <a:pt x="56" y="71"/>
                    <a:pt x="55" y="69"/>
                    <a:pt x="52" y="68"/>
                  </a:cubicBezTo>
                  <a:cubicBezTo>
                    <a:pt x="49" y="66"/>
                    <a:pt x="47" y="66"/>
                    <a:pt x="47" y="65"/>
                  </a:cubicBezTo>
                  <a:lnTo>
                    <a:pt x="45" y="65"/>
                  </a:lnTo>
                </a:path>
              </a:pathLst>
            </a:custGeom>
            <a:solidFill>
              <a:srgbClr val="c0c0c0"/>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683400" y="3495600"/>
              <a:ext cx="942840" cy="809640"/>
            </a:xfrm>
            <a:custGeom>
              <a:avLst/>
              <a:gdLst/>
              <a:ahLst/>
              <a:rect l="l" t="t" r="r" b="b"/>
              <a:pathLst>
                <a:path w="99" h="85">
                  <a:moveTo>
                    <a:pt x="89" y="44"/>
                  </a:moveTo>
                  <a:cubicBezTo>
                    <a:pt x="90" y="41"/>
                    <a:pt x="88" y="40"/>
                    <a:pt x="84" y="38"/>
                  </a:cubicBezTo>
                  <a:cubicBezTo>
                    <a:pt x="84" y="35"/>
                    <a:pt x="88" y="33"/>
                    <a:pt x="88" y="31"/>
                  </a:cubicBezTo>
                  <a:cubicBezTo>
                    <a:pt x="90" y="25"/>
                    <a:pt x="85" y="9"/>
                    <a:pt x="81" y="6"/>
                  </a:cubicBezTo>
                  <a:lnTo>
                    <a:pt x="64" y="12"/>
                  </a:lnTo>
                  <a:lnTo>
                    <a:pt x="63" y="8"/>
                  </a:lnTo>
                  <a:cubicBezTo>
                    <a:pt x="60" y="9"/>
                    <a:pt x="55" y="7"/>
                    <a:pt x="53" y="9"/>
                  </a:cubicBezTo>
                  <a:cubicBezTo>
                    <a:pt x="40" y="20"/>
                    <a:pt x="35" y="13"/>
                    <a:pt x="36" y="7"/>
                  </a:cubicBezTo>
                  <a:cubicBezTo>
                    <a:pt x="36" y="4"/>
                    <a:pt x="44" y="4"/>
                    <a:pt x="44" y="3"/>
                  </a:cubicBezTo>
                  <a:cubicBezTo>
                    <a:pt x="34" y="0"/>
                    <a:pt x="13" y="14"/>
                    <a:pt x="7" y="19"/>
                  </a:cubicBezTo>
                  <a:cubicBezTo>
                    <a:pt x="6" y="21"/>
                    <a:pt x="2" y="25"/>
                    <a:pt x="1" y="26"/>
                  </a:cubicBezTo>
                  <a:lnTo>
                    <a:pt x="2" y="32"/>
                  </a:lnTo>
                  <a:cubicBezTo>
                    <a:pt x="3" y="33"/>
                    <a:pt x="1" y="35"/>
                    <a:pt x="0" y="38"/>
                  </a:cubicBezTo>
                  <a:lnTo>
                    <a:pt x="6" y="47"/>
                  </a:lnTo>
                  <a:cubicBezTo>
                    <a:pt x="7" y="51"/>
                    <a:pt x="6" y="55"/>
                    <a:pt x="9" y="62"/>
                  </a:cubicBezTo>
                  <a:cubicBezTo>
                    <a:pt x="12" y="69"/>
                    <a:pt x="19" y="70"/>
                    <a:pt x="24" y="68"/>
                  </a:cubicBezTo>
                  <a:lnTo>
                    <a:pt x="27" y="72"/>
                  </a:lnTo>
                  <a:cubicBezTo>
                    <a:pt x="27" y="73"/>
                    <a:pt x="26" y="74"/>
                    <a:pt x="27" y="76"/>
                  </a:cubicBezTo>
                  <a:cubicBezTo>
                    <a:pt x="28" y="76"/>
                    <a:pt x="30" y="73"/>
                    <a:pt x="30" y="72"/>
                  </a:cubicBezTo>
                  <a:cubicBezTo>
                    <a:pt x="35" y="72"/>
                    <a:pt x="39" y="73"/>
                    <a:pt x="40" y="78"/>
                  </a:cubicBezTo>
                  <a:lnTo>
                    <a:pt x="45" y="79"/>
                  </a:lnTo>
                  <a:cubicBezTo>
                    <a:pt x="48" y="81"/>
                    <a:pt x="48" y="82"/>
                    <a:pt x="52" y="83"/>
                  </a:cubicBezTo>
                  <a:lnTo>
                    <a:pt x="58" y="82"/>
                  </a:lnTo>
                  <a:lnTo>
                    <a:pt x="63" y="85"/>
                  </a:lnTo>
                  <a:lnTo>
                    <a:pt x="67" y="82"/>
                  </a:lnTo>
                  <a:lnTo>
                    <a:pt x="72" y="81"/>
                  </a:lnTo>
                  <a:cubicBezTo>
                    <a:pt x="74" y="81"/>
                    <a:pt x="77" y="80"/>
                    <a:pt x="78" y="81"/>
                  </a:cubicBezTo>
                  <a:cubicBezTo>
                    <a:pt x="79" y="82"/>
                    <a:pt x="76" y="84"/>
                    <a:pt x="77" y="84"/>
                  </a:cubicBezTo>
                  <a:lnTo>
                    <a:pt x="88" y="84"/>
                  </a:lnTo>
                  <a:lnTo>
                    <a:pt x="87" y="79"/>
                  </a:lnTo>
                  <a:lnTo>
                    <a:pt x="99" y="60"/>
                  </a:lnTo>
                  <a:cubicBezTo>
                    <a:pt x="97" y="58"/>
                    <a:pt x="95" y="50"/>
                    <a:pt x="93" y="48"/>
                  </a:cubicBezTo>
                  <a:lnTo>
                    <a:pt x="89" y="44"/>
                  </a:lnTo>
                </a:path>
              </a:pathLst>
            </a:custGeom>
            <a:solidFill>
              <a:srgbClr val="2358cf"/>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635800" y="4587840"/>
              <a:ext cx="1368360" cy="73080"/>
            </a:xfrm>
            <a:prstGeom prst="line">
              <a:avLst/>
            </a:prstGeom>
            <a:ln w="936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9" name=""/>
            <p:cNvSpPr/>
            <p:nvPr/>
          </p:nvSpPr>
          <p:spPr>
            <a:xfrm>
              <a:off x="4751280" y="4086360"/>
              <a:ext cx="1676520" cy="1222200"/>
            </a:xfrm>
            <a:custGeom>
              <a:avLst/>
              <a:gdLst/>
              <a:ahLst/>
              <a:rect l="l" t="t" r="r" b="b"/>
              <a:pathLst>
                <a:path w="168" h="135">
                  <a:moveTo>
                    <a:pt x="113" y="0"/>
                  </a:moveTo>
                  <a:cubicBezTo>
                    <a:pt x="150" y="0"/>
                    <a:pt x="168" y="30"/>
                    <a:pt x="152" y="67"/>
                  </a:cubicBezTo>
                  <a:cubicBezTo>
                    <a:pt x="135" y="104"/>
                    <a:pt x="92" y="135"/>
                    <a:pt x="55" y="135"/>
                  </a:cubicBezTo>
                  <a:cubicBezTo>
                    <a:pt x="18" y="135"/>
                    <a:pt x="0" y="104"/>
                    <a:pt x="16" y="67"/>
                  </a:cubicBezTo>
                  <a:cubicBezTo>
                    <a:pt x="33" y="30"/>
                    <a:pt x="76" y="0"/>
                    <a:pt x="113" y="0"/>
                  </a:cubicBezTo>
                </a:path>
              </a:pathLst>
            </a:custGeom>
            <a:noFill/>
            <a:ln w="9360">
              <a:solidFill>
                <a:srgbClr val="deded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067440" y="3436920"/>
              <a:ext cx="25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AU</a:t>
              </a:r>
              <a:endParaRPr b="0" lang="en-US" sz="1400" spc="-1" strike="noStrike">
                <a:solidFill>
                  <a:srgbClr val="000000"/>
                </a:solidFill>
                <a:latin typeface="Arial"/>
              </a:endParaRPr>
            </a:p>
          </p:txBody>
        </p:sp>
        <p:sp>
          <p:nvSpPr>
            <p:cNvPr id="191" name=""/>
            <p:cNvSpPr/>
            <p:nvPr/>
          </p:nvSpPr>
          <p:spPr>
            <a:xfrm>
              <a:off x="7012800" y="45766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SZIE</a:t>
              </a:r>
              <a:endParaRPr b="0" lang="en-US" sz="1400" spc="-1" strike="noStrike">
                <a:solidFill>
                  <a:srgbClr val="000000"/>
                </a:solidFill>
                <a:latin typeface="Arial"/>
              </a:endParaRPr>
            </a:p>
          </p:txBody>
        </p:sp>
        <p:sp>
          <p:nvSpPr>
            <p:cNvPr id="192" name=""/>
            <p:cNvSpPr/>
            <p:nvPr/>
          </p:nvSpPr>
          <p:spPr>
            <a:xfrm>
              <a:off x="5275440" y="4516560"/>
              <a:ext cx="43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INRA</a:t>
              </a:r>
              <a:endParaRPr b="0" lang="en-US" sz="1400" spc="-1" strike="noStrike">
                <a:solidFill>
                  <a:srgbClr val="000000"/>
                </a:solidFill>
                <a:latin typeface="Arial"/>
              </a:endParaRPr>
            </a:p>
          </p:txBody>
        </p:sp>
        <p:sp>
          <p:nvSpPr>
            <p:cNvPr id="193" name=""/>
            <p:cNvSpPr/>
            <p:nvPr/>
          </p:nvSpPr>
          <p:spPr>
            <a:xfrm flipV="1">
              <a:off x="5635800" y="3436560"/>
              <a:ext cx="576000" cy="115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211080" y="3932280"/>
              <a:ext cx="27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JKI</a:t>
              </a:r>
              <a:endParaRPr b="0" lang="en-US" sz="1400" spc="-1" strike="noStrike">
                <a:solidFill>
                  <a:srgbClr val="000000"/>
                </a:solidFill>
                <a:latin typeface="Arial"/>
              </a:endParaRPr>
            </a:p>
          </p:txBody>
        </p:sp>
        <p:sp>
          <p:nvSpPr>
            <p:cNvPr id="195" name=""/>
            <p:cNvSpPr/>
            <p:nvPr/>
          </p:nvSpPr>
          <p:spPr>
            <a:xfrm flipV="1">
              <a:off x="5635800" y="4084560"/>
              <a:ext cx="71892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946920" y="3859200"/>
              <a:ext cx="43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IHAR</a:t>
              </a:r>
              <a:endParaRPr b="0" lang="en-US" sz="1400" spc="-1" strike="noStrike">
                <a:solidFill>
                  <a:srgbClr val="000000"/>
                </a:solidFill>
                <a:latin typeface="Arial"/>
              </a:endParaRPr>
            </a:p>
          </p:txBody>
        </p:sp>
        <p:sp>
          <p:nvSpPr>
            <p:cNvPr id="197" name=""/>
            <p:cNvSpPr/>
            <p:nvPr/>
          </p:nvSpPr>
          <p:spPr>
            <a:xfrm flipV="1">
              <a:off x="5635800" y="4011120"/>
              <a:ext cx="143964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062320" y="3762360"/>
              <a:ext cx="49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RRES</a:t>
              </a:r>
              <a:endParaRPr b="0" lang="en-US" sz="1400" spc="-1" strike="noStrike">
                <a:solidFill>
                  <a:srgbClr val="000000"/>
                </a:solidFill>
                <a:latin typeface="Arial"/>
              </a:endParaRPr>
            </a:p>
          </p:txBody>
        </p:sp>
        <p:sp>
          <p:nvSpPr>
            <p:cNvPr id="199" name=""/>
            <p:cNvSpPr/>
            <p:nvPr/>
          </p:nvSpPr>
          <p:spPr>
            <a:xfrm flipH="1" flipV="1">
              <a:off x="5346360" y="3939840"/>
              <a:ext cx="28908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357880" y="5029200"/>
              <a:ext cx="563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CIRAD</a:t>
              </a:r>
              <a:endParaRPr b="0" lang="en-US" sz="1400" spc="-1" strike="noStrike">
                <a:solidFill>
                  <a:srgbClr val="000000"/>
                </a:solidFill>
                <a:latin typeface="Arial"/>
              </a:endParaRPr>
            </a:p>
          </p:txBody>
        </p:sp>
        <p:sp>
          <p:nvSpPr>
            <p:cNvPr id="201" name=""/>
            <p:cNvSpPr/>
            <p:nvPr/>
          </p:nvSpPr>
          <p:spPr>
            <a:xfrm flipV="1">
              <a:off x="5491080" y="4587840"/>
              <a:ext cx="14472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216840" y="4948200"/>
              <a:ext cx="384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CNR</a:t>
              </a:r>
              <a:endParaRPr b="0" lang="en-US" sz="1400" spc="-1" strike="noStrike">
                <a:solidFill>
                  <a:srgbClr val="000000"/>
                </a:solidFill>
                <a:latin typeface="Arial"/>
              </a:endParaRPr>
            </a:p>
          </p:txBody>
        </p:sp>
        <p:sp>
          <p:nvSpPr>
            <p:cNvPr id="203" name=""/>
            <p:cNvSpPr/>
            <p:nvPr/>
          </p:nvSpPr>
          <p:spPr>
            <a:xfrm flipH="1" flipV="1">
              <a:off x="5635440" y="4587480"/>
              <a:ext cx="71892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681520" y="3838680"/>
              <a:ext cx="424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WUR</a:t>
              </a:r>
              <a:endParaRPr b="0" lang="en-US" sz="1400" spc="-1" strike="noStrike">
                <a:solidFill>
                  <a:srgbClr val="000000"/>
                </a:solidFill>
                <a:latin typeface="Arial"/>
              </a:endParaRPr>
            </a:p>
          </p:txBody>
        </p:sp>
        <p:sp>
          <p:nvSpPr>
            <p:cNvPr id="205" name=""/>
            <p:cNvSpPr/>
            <p:nvPr/>
          </p:nvSpPr>
          <p:spPr>
            <a:xfrm flipV="1">
              <a:off x="5635800" y="3939840"/>
              <a:ext cx="21564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346720" y="466092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IT</a:t>
              </a:r>
              <a:endParaRPr b="0" lang="en-US" sz="1400" spc="-1" strike="noStrike">
                <a:solidFill>
                  <a:srgbClr val="000000"/>
                </a:solidFill>
                <a:latin typeface="Arial"/>
              </a:endParaRPr>
            </a:p>
          </p:txBody>
        </p:sp>
        <p:sp>
          <p:nvSpPr>
            <p:cNvPr id="207" name=""/>
            <p:cNvSpPr/>
            <p:nvPr/>
          </p:nvSpPr>
          <p:spPr>
            <a:xfrm>
              <a:off x="5883120" y="4651200"/>
              <a:ext cx="653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AGROS</a:t>
              </a:r>
              <a:endParaRPr b="0" lang="en-US" sz="1400" spc="-1" strike="noStrike">
                <a:solidFill>
                  <a:srgbClr val="000000"/>
                </a:solidFill>
                <a:latin typeface="Arial"/>
              </a:endParaRPr>
            </a:p>
          </p:txBody>
        </p:sp>
        <p:sp>
          <p:nvSpPr>
            <p:cNvPr id="208" name=""/>
            <p:cNvSpPr/>
            <p:nvPr/>
          </p:nvSpPr>
          <p:spPr>
            <a:xfrm>
              <a:off x="6304320" y="5164200"/>
              <a:ext cx="60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SSSUP</a:t>
              </a:r>
              <a:endParaRPr b="0" lang="en-US" sz="1400" spc="-1" strike="noStrike">
                <a:solidFill>
                  <a:srgbClr val="000000"/>
                </a:solidFill>
                <a:latin typeface="Arial"/>
              </a:endParaRPr>
            </a:p>
          </p:txBody>
        </p:sp>
        <p:sp>
          <p:nvSpPr>
            <p:cNvPr id="209" name=""/>
            <p:cNvSpPr/>
            <p:nvPr/>
          </p:nvSpPr>
          <p:spPr>
            <a:xfrm>
              <a:off x="4300560" y="4295880"/>
              <a:ext cx="453960" cy="212760"/>
            </a:xfrm>
            <a:prstGeom prst="rect">
              <a:avLst/>
            </a:prstGeom>
            <a:solidFill>
              <a:srgbClr val="2358cf"/>
            </a:solid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IBMA</a:t>
              </a:r>
              <a:endParaRPr b="0" lang="en-US" sz="1400" spc="-1" strike="noStrike">
                <a:solidFill>
                  <a:srgbClr val="000000"/>
                </a:solidFill>
                <a:latin typeface="Arial"/>
              </a:endParaRPr>
            </a:p>
          </p:txBody>
        </p:sp>
        <p:sp>
          <p:nvSpPr>
            <p:cNvPr id="210" name=""/>
            <p:cNvSpPr/>
            <p:nvPr/>
          </p:nvSpPr>
          <p:spPr>
            <a:xfrm>
              <a:off x="4883400" y="5372280"/>
              <a:ext cx="34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UdL</a:t>
              </a:r>
              <a:endParaRPr b="0" lang="en-US" sz="1400" spc="-1" strike="noStrike">
                <a:solidFill>
                  <a:srgbClr val="000000"/>
                </a:solidFill>
                <a:latin typeface="Arial"/>
              </a:endParaRPr>
            </a:p>
          </p:txBody>
        </p:sp>
        <p:sp>
          <p:nvSpPr>
            <p:cNvPr id="211" name=""/>
            <p:cNvSpPr/>
            <p:nvPr/>
          </p:nvSpPr>
          <p:spPr>
            <a:xfrm>
              <a:off x="6138720" y="3219480"/>
              <a:ext cx="503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DAAS</a:t>
              </a:r>
              <a:endParaRPr b="0" lang="en-US" sz="1400" spc="-1" strike="noStrike">
                <a:solidFill>
                  <a:srgbClr val="000000"/>
                </a:solidFill>
                <a:latin typeface="Arial"/>
              </a:endParaRPr>
            </a:p>
          </p:txBody>
        </p:sp>
        <p:sp>
          <p:nvSpPr>
            <p:cNvPr id="212" name=""/>
            <p:cNvSpPr/>
            <p:nvPr/>
          </p:nvSpPr>
          <p:spPr>
            <a:xfrm>
              <a:off x="5672520" y="4829040"/>
              <a:ext cx="492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ACTA</a:t>
              </a:r>
              <a:endParaRPr b="0" lang="en-US" sz="1400" spc="-1" strike="noStrike">
                <a:solidFill>
                  <a:srgbClr val="000000"/>
                </a:solidFill>
                <a:latin typeface="Arial"/>
              </a:endParaRPr>
            </a:p>
          </p:txBody>
        </p:sp>
      </p:grpSp>
      <p:sp>
        <p:nvSpPr>
          <p:cNvPr id="213" name=""/>
          <p:cNvSpPr/>
          <p:nvPr/>
        </p:nvSpPr>
        <p:spPr>
          <a:xfrm>
            <a:off x="150840" y="1012680"/>
            <a:ext cx="3987720" cy="462600"/>
          </a:xfrm>
          <a:prstGeom prst="rect">
            <a:avLst/>
          </a:prstGeom>
          <a:noFill/>
          <a:ln w="28440">
            <a:solidFill>
              <a:srgbClr val="c60223"/>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022b"/>
                </a:solidFill>
                <a:latin typeface="Arial"/>
              </a:rPr>
              <a:t>18 Partners – 10 countries</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Main objectives of the Network</a:t>
            </a:r>
            <a:endParaRPr b="1" lang="en-US" sz="3000" spc="-1" strike="noStrike">
              <a:solidFill>
                <a:srgbClr val="7bc623"/>
              </a:solidFill>
              <a:latin typeface="Verdana"/>
            </a:endParaRPr>
          </a:p>
        </p:txBody>
      </p:sp>
      <p:sp>
        <p:nvSpPr>
          <p:cNvPr id="215" name=""/>
          <p:cNvSpPr/>
          <p:nvPr/>
        </p:nvSpPr>
        <p:spPr>
          <a:xfrm>
            <a:off x="2889720" y="1600200"/>
            <a:ext cx="5869800" cy="764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ailable research capacity and resource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e820f"/>
                </a:solidFill>
                <a:latin typeface="Arial"/>
              </a:rPr>
              <a:t>Programme, facilities, mobility</a:t>
            </a:r>
            <a:endParaRPr b="0" lang="en-US" sz="2000" spc="-1" strike="noStrike">
              <a:solidFill>
                <a:srgbClr val="000000"/>
              </a:solidFill>
              <a:latin typeface="Arial"/>
            </a:endParaRPr>
          </a:p>
        </p:txBody>
      </p:sp>
      <p:sp>
        <p:nvSpPr>
          <p:cNvPr id="216" name=""/>
          <p:cNvSpPr/>
          <p:nvPr/>
        </p:nvSpPr>
        <p:spPr>
          <a:xfrm>
            <a:off x="3150360" y="2514600"/>
            <a:ext cx="5600160" cy="764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earch-to-R&amp;D innovation proces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e820f"/>
                </a:solidFill>
                <a:latin typeface="Arial"/>
              </a:rPr>
              <a:t>Researchers     extension, practitioners</a:t>
            </a:r>
            <a:endParaRPr b="0" lang="en-US" sz="2000" spc="-1" strike="noStrike">
              <a:solidFill>
                <a:srgbClr val="000000"/>
              </a:solidFill>
              <a:latin typeface="Arial"/>
            </a:endParaRPr>
          </a:p>
        </p:txBody>
      </p:sp>
      <p:sp>
        <p:nvSpPr>
          <p:cNvPr id="217" name=""/>
          <p:cNvSpPr/>
          <p:nvPr/>
        </p:nvSpPr>
        <p:spPr>
          <a:xfrm>
            <a:off x="2716920" y="3573360"/>
            <a:ext cx="604368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stakeholders: industry, policy maker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vil society</a:t>
            </a:r>
            <a:endParaRPr b="0" lang="en-US" sz="2400" spc="-1" strike="noStrike">
              <a:solidFill>
                <a:srgbClr val="000000"/>
              </a:solidFill>
              <a:latin typeface="Arial"/>
            </a:endParaRPr>
          </a:p>
        </p:txBody>
      </p:sp>
      <p:sp>
        <p:nvSpPr>
          <p:cNvPr id="218" name=""/>
          <p:cNvSpPr/>
          <p:nvPr/>
        </p:nvSpPr>
        <p:spPr>
          <a:xfrm>
            <a:off x="2792520" y="4564080"/>
            <a:ext cx="59706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ledge, know-how and resources through training and education</a:t>
            </a:r>
            <a:endParaRPr b="0" lang="en-US" sz="2400" spc="-1" strike="noStrike">
              <a:solidFill>
                <a:srgbClr val="000000"/>
              </a:solidFill>
              <a:latin typeface="Arial"/>
            </a:endParaRPr>
          </a:p>
        </p:txBody>
      </p:sp>
      <p:sp>
        <p:nvSpPr>
          <p:cNvPr id="219" name=""/>
          <p:cNvSpPr/>
          <p:nvPr/>
        </p:nvSpPr>
        <p:spPr>
          <a:xfrm>
            <a:off x="1676520" y="5630760"/>
            <a:ext cx="70866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building a sustainable and trans-national institution </a:t>
            </a:r>
            <a:r>
              <a:rPr b="0" lang="en-GB" sz="2000" spc="-1" strike="noStrike">
                <a:solidFill>
                  <a:srgbClr val="ee820f"/>
                </a:solidFill>
                <a:latin typeface="Wingdings"/>
                <a:ea typeface="Wingdings"/>
              </a:rPr>
              <a:t></a:t>
            </a:r>
            <a:r>
              <a:rPr b="0" lang="en-GB" sz="2000" spc="-1" strike="noStrike">
                <a:solidFill>
                  <a:srgbClr val="ee820f"/>
                </a:solidFill>
                <a:latin typeface="Arial"/>
              </a:rPr>
              <a:t> become an International reference </a:t>
            </a:r>
            <a:endParaRPr b="0" lang="en-US" sz="2000" spc="-1" strike="noStrike">
              <a:solidFill>
                <a:srgbClr val="000000"/>
              </a:solidFill>
              <a:latin typeface="Arial"/>
            </a:endParaRPr>
          </a:p>
        </p:txBody>
      </p:sp>
      <p:sp>
        <p:nvSpPr>
          <p:cNvPr id="220" name=""/>
          <p:cNvSpPr/>
          <p:nvPr/>
        </p:nvSpPr>
        <p:spPr>
          <a:xfrm>
            <a:off x="5738760" y="3100320"/>
            <a:ext cx="228600" cy="0"/>
          </a:xfrm>
          <a:prstGeom prst="line">
            <a:avLst/>
          </a:prstGeom>
          <a:ln w="9360">
            <a:solidFill>
              <a:srgbClr val="ee820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04920" y="2414520"/>
            <a:ext cx="2209680" cy="67968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04920" y="3481560"/>
            <a:ext cx="2209680" cy="67932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04920" y="4548240"/>
            <a:ext cx="2209680" cy="67932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04920" y="5614920"/>
            <a:ext cx="2209680" cy="67968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80880" y="251316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e </a:t>
            </a:r>
            <a:endParaRPr b="0" lang="en-US" sz="2400" spc="-1" strike="noStrike">
              <a:solidFill>
                <a:srgbClr val="000000"/>
              </a:solidFill>
              <a:latin typeface="Arial"/>
            </a:endParaRPr>
          </a:p>
        </p:txBody>
      </p:sp>
      <p:sp>
        <p:nvSpPr>
          <p:cNvPr id="226" name=""/>
          <p:cNvSpPr/>
          <p:nvPr/>
        </p:nvSpPr>
        <p:spPr>
          <a:xfrm>
            <a:off x="380880" y="355752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ng in </a:t>
            </a:r>
            <a:endParaRPr b="0" lang="en-US" sz="2400" spc="-1" strike="noStrike">
              <a:solidFill>
                <a:srgbClr val="000000"/>
              </a:solidFill>
              <a:latin typeface="Arial"/>
            </a:endParaRPr>
          </a:p>
        </p:txBody>
      </p:sp>
      <p:sp>
        <p:nvSpPr>
          <p:cNvPr id="227" name=""/>
          <p:cNvSpPr/>
          <p:nvPr/>
        </p:nvSpPr>
        <p:spPr>
          <a:xfrm>
            <a:off x="380880" y="462456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ss on </a:t>
            </a:r>
            <a:endParaRPr b="0" lang="en-US" sz="2400" spc="-1" strike="noStrike">
              <a:solidFill>
                <a:srgbClr val="000000"/>
              </a:solidFill>
              <a:latin typeface="Arial"/>
            </a:endParaRPr>
          </a:p>
        </p:txBody>
      </p:sp>
      <p:sp>
        <p:nvSpPr>
          <p:cNvPr id="228" name=""/>
          <p:cNvSpPr/>
          <p:nvPr/>
        </p:nvSpPr>
        <p:spPr>
          <a:xfrm>
            <a:off x="380880" y="569124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dure </a:t>
            </a:r>
            <a:endParaRPr b="0" lang="en-US" sz="2400" spc="-1" strike="noStrike">
              <a:solidFill>
                <a:srgbClr val="000000"/>
              </a:solidFill>
              <a:latin typeface="Arial"/>
            </a:endParaRPr>
          </a:p>
        </p:txBody>
      </p:sp>
      <p:sp>
        <p:nvSpPr>
          <p:cNvPr id="229" name=""/>
          <p:cNvSpPr/>
          <p:nvPr/>
        </p:nvSpPr>
        <p:spPr>
          <a:xfrm>
            <a:off x="304920" y="1523880"/>
            <a:ext cx="2209680" cy="67968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04920" y="1612800"/>
            <a:ext cx="22096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ng together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General </a:t>
            </a:r>
            <a:br>
              <a:rPr sz="3000"/>
            </a:br>
            <a:r>
              <a:rPr b="1" lang="en-US" sz="3000" spc="-1" strike="noStrike">
                <a:solidFill>
                  <a:srgbClr val="7bc623"/>
                </a:solidFill>
                <a:latin typeface="Verdana"/>
              </a:rPr>
              <a:t>organisation</a:t>
            </a:r>
            <a:endParaRPr b="1" lang="en-US" sz="3000" spc="-1" strike="noStrike">
              <a:solidFill>
                <a:srgbClr val="7bc623"/>
              </a:solidFill>
              <a:latin typeface="Verdana"/>
            </a:endParaRPr>
          </a:p>
        </p:txBody>
      </p:sp>
      <p:sp>
        <p:nvSpPr>
          <p:cNvPr id="232" name=""/>
          <p:cNvSpPr/>
          <p:nvPr/>
        </p:nvSpPr>
        <p:spPr>
          <a:xfrm flipV="1">
            <a:off x="1790640" y="5055840"/>
            <a:ext cx="244440" cy="237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4862520" y="1952640"/>
            <a:ext cx="0" cy="95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608200" y="2674440"/>
            <a:ext cx="0" cy="219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7245360" y="1973160"/>
            <a:ext cx="0" cy="95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099320" y="1155960"/>
            <a:ext cx="1991160" cy="814320"/>
          </a:xfrm>
          <a:prstGeom prst="rect">
            <a:avLst/>
          </a:prstGeom>
          <a:solidFill>
            <a:srgbClr val="969696">
              <a:alpha val="30000"/>
            </a:srgbClr>
          </a:solidFill>
          <a:ln w="0">
            <a:noFill/>
          </a:ln>
        </p:spPr>
        <p:style>
          <a:lnRef idx="0"/>
          <a:fillRef idx="0"/>
          <a:effectRef idx="0"/>
          <a:fontRef idx="minor"/>
        </p:style>
        <p:txBody>
          <a:bodyPr wrap="none" lIns="90000" rIns="90000" tIns="46800" bIns="46800" anchor="ctr">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22b"/>
                </a:solidFill>
                <a:latin typeface="Arial"/>
              </a:rPr>
              <a:t>Governing Counci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evel institutional </a:t>
            </a:r>
            <a:br>
              <a:rPr sz="1400"/>
            </a:br>
            <a:r>
              <a:rPr b="0" lang="en-US" sz="1400" spc="-1" strike="noStrike">
                <a:solidFill>
                  <a:srgbClr val="000000"/>
                </a:solidFill>
                <a:latin typeface="Arial"/>
              </a:rPr>
              <a:t>representation</a:t>
            </a:r>
            <a:endParaRPr b="0" lang="en-US" sz="1400" spc="-1" strike="noStrike">
              <a:solidFill>
                <a:srgbClr val="000000"/>
              </a:solidFill>
              <a:latin typeface="Arial"/>
            </a:endParaRPr>
          </a:p>
        </p:txBody>
      </p:sp>
      <p:sp>
        <p:nvSpPr>
          <p:cNvPr id="237" name=""/>
          <p:cNvSpPr/>
          <p:nvPr/>
        </p:nvSpPr>
        <p:spPr>
          <a:xfrm>
            <a:off x="6732720" y="1539720"/>
            <a:ext cx="1954080" cy="454320"/>
          </a:xfrm>
          <a:prstGeom prst="rect">
            <a:avLst/>
          </a:prstGeom>
          <a:solidFill>
            <a:srgbClr val="969696">
              <a:alpha val="30000"/>
            </a:srgbClr>
          </a:solidFill>
          <a:ln w="0">
            <a:noFill/>
          </a:ln>
        </p:spPr>
        <p:style>
          <a:lnRef idx="0"/>
          <a:fillRef idx="0"/>
          <a:effectRef idx="0"/>
          <a:fontRef idx="minor"/>
        </p:style>
        <p:txBody>
          <a:bodyPr wrap="none" lIns="90000" rIns="90000" tIns="46800" bIns="46800" anchor="ctr">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22b"/>
                </a:solidFill>
                <a:latin typeface="Arial"/>
              </a:rPr>
              <a:t>Management &amp; </a:t>
            </a:r>
            <a:br>
              <a:rPr sz="1600"/>
            </a:br>
            <a:r>
              <a:rPr b="1" lang="en-US" sz="1600" spc="-1" strike="noStrike">
                <a:solidFill>
                  <a:srgbClr val="c0022b"/>
                </a:solidFill>
                <a:latin typeface="Arial"/>
              </a:rPr>
              <a:t>Coordination</a:t>
            </a:r>
            <a:endParaRPr b="0" lang="en-US" sz="1600" spc="-1" strike="noStrike">
              <a:solidFill>
                <a:srgbClr val="000000"/>
              </a:solidFill>
              <a:latin typeface="Arial"/>
            </a:endParaRPr>
          </a:p>
        </p:txBody>
      </p:sp>
      <p:sp>
        <p:nvSpPr>
          <p:cNvPr id="238" name=""/>
          <p:cNvSpPr/>
          <p:nvPr/>
        </p:nvSpPr>
        <p:spPr>
          <a:xfrm>
            <a:off x="611280" y="1125360"/>
            <a:ext cx="2484360" cy="1541520"/>
          </a:xfrm>
          <a:prstGeom prst="rect">
            <a:avLst/>
          </a:prstGeom>
          <a:solidFill>
            <a:srgbClr val="969696">
              <a:alpha val="30000"/>
            </a:srgbClr>
          </a:solidFill>
          <a:ln w="0">
            <a:noFill/>
          </a:ln>
        </p:spPr>
        <p:style>
          <a:lnRef idx="0"/>
          <a:fillRef idx="0"/>
          <a:effectRef idx="0"/>
          <a:fontRef idx="minor"/>
        </p:style>
        <p:txBody>
          <a:bodyPr wrap="none" lIns="90000" rIns="90000" tIns="46800" bIns="46800" anchor="ctr">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22b"/>
                </a:solidFill>
                <a:latin typeface="Arial"/>
              </a:rPr>
              <a:t>External Advisory Board</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er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 group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cy making</a:t>
            </a:r>
            <a:endParaRPr b="0" lang="en-US" sz="1400" spc="-1" strike="noStrike">
              <a:solidFill>
                <a:srgbClr val="000000"/>
              </a:solidFill>
              <a:latin typeface="Arial"/>
            </a:endParaRPr>
          </a:p>
        </p:txBody>
      </p:sp>
      <p:sp>
        <p:nvSpPr>
          <p:cNvPr id="239" name=""/>
          <p:cNvSpPr/>
          <p:nvPr/>
        </p:nvSpPr>
        <p:spPr>
          <a:xfrm>
            <a:off x="63360" y="5305320"/>
            <a:ext cx="2548080" cy="1244880"/>
          </a:xfrm>
          <a:prstGeom prst="rect">
            <a:avLst/>
          </a:prstGeom>
          <a:solidFill>
            <a:srgbClr val="969696">
              <a:alpha val="30000"/>
            </a:srgbClr>
          </a:solidFill>
          <a:ln w="0">
            <a:noFill/>
          </a:ln>
        </p:spPr>
        <p:style>
          <a:lnRef idx="0"/>
          <a:fillRef idx="0"/>
          <a:effectRef idx="0"/>
          <a:fontRef idx="minor"/>
        </p:style>
        <p:txBody>
          <a:bodyPr lIns="90000" rIns="90000" tIns="154800" bIns="46800" anchor="ctr">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22b"/>
                </a:solidFill>
                <a:latin typeface="Arial"/>
              </a:rPr>
              <a:t>Crop Protection Networ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 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vil society 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EU proje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40" name=""/>
          <p:cNvGrpSpPr/>
          <p:nvPr/>
        </p:nvGrpSpPr>
        <p:grpSpPr>
          <a:xfrm>
            <a:off x="4854600" y="5176800"/>
            <a:ext cx="1141200" cy="823680"/>
            <a:chOff x="4854600" y="5176800"/>
            <a:chExt cx="1141200" cy="823680"/>
          </a:xfrm>
        </p:grpSpPr>
        <p:sp>
          <p:nvSpPr>
            <p:cNvPr id="241" name=""/>
            <p:cNvSpPr/>
            <p:nvPr/>
          </p:nvSpPr>
          <p:spPr>
            <a:xfrm>
              <a:off x="4854600" y="5176800"/>
              <a:ext cx="1141200" cy="82368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062680" y="5378400"/>
              <a:ext cx="750600" cy="489240"/>
            </a:xfrm>
            <a:prstGeom prst="rect">
              <a:avLst/>
            </a:prstGeom>
            <a:solidFill>
              <a:srgbClr val="ee820f">
                <a:alpha val="30000"/>
              </a:srgbClr>
            </a:solidFill>
            <a:ln w="0">
              <a:noFill/>
            </a:ln>
          </p:spPr>
          <p:style>
            <a:lnRef idx="0"/>
            <a:fillRef idx="0"/>
            <a:effectRef idx="0"/>
            <a:fontRef idx="minor"/>
          </p:style>
          <p:txBody>
            <a:bodyPr wrap="none" lIns="90000" rIns="90000" tIns="46800" bIns="4680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tual</a:t>
              </a:r>
              <a:endParaRPr b="0" lang="en-US" sz="1400" spc="-1" strike="noStrike">
                <a:solidFill>
                  <a:srgbClr val="000000"/>
                </a:solidFill>
                <a:latin typeface="Arial"/>
              </a:endParaRPr>
            </a:p>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a:t>
              </a:r>
              <a:endParaRPr b="0" lang="en-US" sz="1400" spc="-1" strike="noStrike">
                <a:solidFill>
                  <a:srgbClr val="000000"/>
                </a:solidFill>
                <a:latin typeface="Arial"/>
              </a:endParaRPr>
            </a:p>
          </p:txBody>
        </p:sp>
      </p:grpSp>
      <p:grpSp>
        <p:nvGrpSpPr>
          <p:cNvPr id="243" name=""/>
          <p:cNvGrpSpPr/>
          <p:nvPr/>
        </p:nvGrpSpPr>
        <p:grpSpPr>
          <a:xfrm>
            <a:off x="6454800" y="5187960"/>
            <a:ext cx="1461600" cy="799560"/>
            <a:chOff x="6454800" y="5187960"/>
            <a:chExt cx="1461600" cy="799560"/>
          </a:xfrm>
        </p:grpSpPr>
        <p:sp>
          <p:nvSpPr>
            <p:cNvPr id="244" name=""/>
            <p:cNvSpPr/>
            <p:nvPr/>
          </p:nvSpPr>
          <p:spPr>
            <a:xfrm>
              <a:off x="6454800" y="5187960"/>
              <a:ext cx="1461600" cy="79956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706440" y="5334480"/>
              <a:ext cx="961560" cy="474840"/>
            </a:xfrm>
            <a:prstGeom prst="rect">
              <a:avLst/>
            </a:prstGeom>
            <a:solidFill>
              <a:srgbClr val="ee820f">
                <a:alpha val="30000"/>
              </a:srgbClr>
            </a:solidFill>
            <a:ln w="0">
              <a:noFill/>
            </a:ln>
          </p:spPr>
          <p:style>
            <a:lnRef idx="0"/>
            <a:fillRef idx="0"/>
            <a:effectRef idx="0"/>
            <a:fontRef idx="minor"/>
          </p:style>
          <p:txBody>
            <a:bodyPr wrap="none" lIns="90000" rIns="90000" tIns="46800" bIns="4680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ence</a:t>
              </a:r>
              <a:endParaRPr b="0" lang="en-US" sz="1400" spc="-1" strike="noStrike">
                <a:solidFill>
                  <a:srgbClr val="000000"/>
                </a:solidFill>
                <a:latin typeface="Arial"/>
              </a:endParaRPr>
            </a:p>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e</a:t>
              </a:r>
              <a:endParaRPr b="0" lang="en-US" sz="1400" spc="-1" strike="noStrike">
                <a:solidFill>
                  <a:srgbClr val="000000"/>
                </a:solidFill>
                <a:latin typeface="Arial"/>
              </a:endParaRPr>
            </a:p>
          </p:txBody>
        </p:sp>
      </p:grpSp>
      <p:grpSp>
        <p:nvGrpSpPr>
          <p:cNvPr id="246" name=""/>
          <p:cNvGrpSpPr/>
          <p:nvPr/>
        </p:nvGrpSpPr>
        <p:grpSpPr>
          <a:xfrm>
            <a:off x="3124080" y="5162400"/>
            <a:ext cx="1272960" cy="852120"/>
            <a:chOff x="3124080" y="5162400"/>
            <a:chExt cx="1272960" cy="852120"/>
          </a:xfrm>
        </p:grpSpPr>
        <p:sp>
          <p:nvSpPr>
            <p:cNvPr id="247" name=""/>
            <p:cNvSpPr/>
            <p:nvPr/>
          </p:nvSpPr>
          <p:spPr>
            <a:xfrm>
              <a:off x="3124080" y="5162400"/>
              <a:ext cx="1272960" cy="85212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356280" y="5370840"/>
              <a:ext cx="837360" cy="506160"/>
            </a:xfrm>
            <a:prstGeom prst="rect">
              <a:avLst/>
            </a:prstGeom>
            <a:solidFill>
              <a:srgbClr val="ee820f">
                <a:alpha val="30000"/>
              </a:srgbClr>
            </a:solidFill>
            <a:ln w="0">
              <a:noFill/>
            </a:ln>
          </p:spPr>
          <p:style>
            <a:lnRef idx="0"/>
            <a:fillRef idx="0"/>
            <a:effectRef idx="0"/>
            <a:fontRef idx="minor"/>
          </p:style>
          <p:txBody>
            <a:bodyPr wrap="none" lIns="90000" rIns="90000" tIns="46800" bIns="4680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a:t>
              </a:r>
              <a:endParaRPr b="0" lang="en-US" sz="1400" spc="-1" strike="noStrike">
                <a:solidFill>
                  <a:srgbClr val="000000"/>
                </a:solidFill>
                <a:latin typeface="Arial"/>
              </a:endParaRPr>
            </a:p>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da</a:t>
              </a:r>
              <a:endParaRPr b="0" lang="en-US" sz="1400" spc="-1" strike="noStrike">
                <a:solidFill>
                  <a:srgbClr val="000000"/>
                </a:solidFill>
                <a:latin typeface="Arial"/>
              </a:endParaRPr>
            </a:p>
          </p:txBody>
        </p:sp>
      </p:grpSp>
      <p:grpSp>
        <p:nvGrpSpPr>
          <p:cNvPr id="249" name=""/>
          <p:cNvGrpSpPr/>
          <p:nvPr/>
        </p:nvGrpSpPr>
        <p:grpSpPr>
          <a:xfrm>
            <a:off x="2052720" y="2911320"/>
            <a:ext cx="6781320" cy="2133360"/>
            <a:chOff x="2052720" y="2911320"/>
            <a:chExt cx="6781320" cy="2133360"/>
          </a:xfrm>
        </p:grpSpPr>
        <p:sp>
          <p:nvSpPr>
            <p:cNvPr id="250" name=""/>
            <p:cNvSpPr/>
            <p:nvPr/>
          </p:nvSpPr>
          <p:spPr>
            <a:xfrm>
              <a:off x="2052720" y="2911320"/>
              <a:ext cx="6781320" cy="2133360"/>
            </a:xfrm>
            <a:prstGeom prst="rect">
              <a:avLst/>
            </a:prstGeom>
            <a:solidFill>
              <a:srgbClr val="969696">
                <a:alpha val="30000"/>
              </a:srgbClr>
            </a:solidFill>
            <a:ln w="0">
              <a:noFill/>
            </a:ln>
          </p:spPr>
          <p:style>
            <a:lnRef idx="0"/>
            <a:fillRef idx="0"/>
            <a:effectRef idx="0"/>
            <a:fontRef idx="minor"/>
          </p:style>
          <p:txBody>
            <a:bodyPr wrap="none" lIns="90000" rIns="90000" tIns="46800" bIns="4680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22b"/>
                  </a:solidFill>
                  <a:latin typeface="Arial"/>
                </a:rPr>
                <a:t>Executive Committee</a:t>
              </a:r>
              <a:endParaRPr b="0" lang="en-US" sz="1600" spc="-1" strike="noStrike">
                <a:solidFill>
                  <a:srgbClr val="000000"/>
                </a:solidFill>
                <a:latin typeface="Arial"/>
              </a:endParaRPr>
            </a:p>
          </p:txBody>
        </p:sp>
        <p:sp>
          <p:nvSpPr>
            <p:cNvPr id="251" name=""/>
            <p:cNvSpPr/>
            <p:nvPr/>
          </p:nvSpPr>
          <p:spPr>
            <a:xfrm>
              <a:off x="2521800" y="3352320"/>
              <a:ext cx="1009800" cy="36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Integration</a:t>
              </a:r>
              <a:endParaRPr b="0" lang="en-US" sz="1400" spc="-1" strike="noStrike">
                <a:solidFill>
                  <a:srgbClr val="000000"/>
                </a:solidFill>
                <a:latin typeface="Arial"/>
              </a:endParaRPr>
            </a:p>
          </p:txBody>
        </p:sp>
        <p:sp>
          <p:nvSpPr>
            <p:cNvPr id="252" name=""/>
            <p:cNvSpPr/>
            <p:nvPr/>
          </p:nvSpPr>
          <p:spPr>
            <a:xfrm>
              <a:off x="4632840" y="3352320"/>
              <a:ext cx="1301040" cy="35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Joint research</a:t>
              </a:r>
              <a:endParaRPr b="0" lang="en-US" sz="1400" spc="-1" strike="noStrike">
                <a:solidFill>
                  <a:srgbClr val="000000"/>
                </a:solidFill>
                <a:latin typeface="Arial"/>
              </a:endParaRPr>
            </a:p>
          </p:txBody>
        </p:sp>
        <p:sp>
          <p:nvSpPr>
            <p:cNvPr id="253" name=""/>
            <p:cNvSpPr/>
            <p:nvPr/>
          </p:nvSpPr>
          <p:spPr>
            <a:xfrm>
              <a:off x="6840720" y="3352320"/>
              <a:ext cx="1823040" cy="35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Spreading excellence</a:t>
              </a:r>
              <a:endParaRPr b="0" lang="en-US" sz="1400" spc="-1" strike="noStrike">
                <a:solidFill>
                  <a:srgbClr val="000000"/>
                </a:solidFill>
                <a:latin typeface="Arial"/>
              </a:endParaRPr>
            </a:p>
          </p:txBody>
        </p:sp>
        <p:sp>
          <p:nvSpPr>
            <p:cNvPr id="254" name=""/>
            <p:cNvSpPr/>
            <p:nvPr/>
          </p:nvSpPr>
          <p:spPr>
            <a:xfrm>
              <a:off x="2269080" y="3781800"/>
              <a:ext cx="1514160" cy="1102680"/>
            </a:xfrm>
            <a:prstGeom prst="rect">
              <a:avLst/>
            </a:prstGeom>
            <a:solidFill>
              <a:srgbClr val="99cc00"/>
            </a:solidFill>
            <a:ln w="0">
              <a:noFill/>
            </a:ln>
          </p:spPr>
          <p:style>
            <a:lnRef idx="0"/>
            <a:fillRef idx="0"/>
            <a:effectRef idx="0"/>
            <a:fontRef idx="minor"/>
          </p:style>
          <p:txBody>
            <a:bodyPr lIns="90000" rIns="90000" tIns="72000" bIns="46800" anchor="ctr">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ence mapping, foresight study, mobility, …</a:t>
              </a:r>
              <a:endParaRPr b="0" lang="en-US" sz="1400" spc="-1" strike="noStrike">
                <a:solidFill>
                  <a:srgbClr val="000000"/>
                </a:solidFill>
                <a:latin typeface="Arial"/>
              </a:endParaRPr>
            </a:p>
          </p:txBody>
        </p:sp>
        <p:sp>
          <p:nvSpPr>
            <p:cNvPr id="255" name=""/>
            <p:cNvSpPr/>
            <p:nvPr/>
          </p:nvSpPr>
          <p:spPr>
            <a:xfrm>
              <a:off x="3877200" y="3781800"/>
              <a:ext cx="2814120" cy="1102680"/>
            </a:xfrm>
            <a:prstGeom prst="rect">
              <a:avLst/>
            </a:prstGeom>
            <a:solidFill>
              <a:srgbClr val="99cc00"/>
            </a:solidFill>
            <a:ln w="0">
              <a:noFill/>
            </a:ln>
          </p:spPr>
          <p:style>
            <a:lnRef idx="0"/>
            <a:fillRef idx="0"/>
            <a:effectRef idx="0"/>
            <a:fontRef idx="minor"/>
          </p:style>
          <p:txBody>
            <a:bodyPr lIns="90000" rIns="90000" tIns="46800" bIns="46800" anchor="ctr">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izing &amp; reducing products through case studies, developing innovative strategies, multi-sector evaluation, ...</a:t>
              </a:r>
              <a:endParaRPr b="0" lang="en-US" sz="1400" spc="-1" strike="noStrike">
                <a:solidFill>
                  <a:srgbClr val="000000"/>
                </a:solidFill>
                <a:latin typeface="Arial"/>
              </a:endParaRPr>
            </a:p>
          </p:txBody>
        </p:sp>
        <p:sp>
          <p:nvSpPr>
            <p:cNvPr id="256" name=""/>
            <p:cNvSpPr/>
            <p:nvPr/>
          </p:nvSpPr>
          <p:spPr>
            <a:xfrm>
              <a:off x="6258960" y="3940560"/>
              <a:ext cx="0" cy="828720"/>
            </a:xfrm>
            <a:prstGeom prst="line">
              <a:avLst/>
            </a:prstGeom>
            <a:ln w="0">
              <a:noFill/>
            </a:ln>
          </p:spPr>
          <p:style>
            <a:lnRef idx="0"/>
            <a:fillRef idx="0"/>
            <a:effectRef idx="0"/>
            <a:fontRef idx="minor"/>
          </p:style>
          <p:txBody>
            <a:bodyPr lIns="90000" rIns="90000" tIns="72000" bIns="46800" anchor="ctr">
              <a:noAutofit/>
            </a:bodyPr>
            <a:p>
              <a:endParaRPr b="0" lang="en-US" sz="1800" spc="-1" strike="noStrike">
                <a:solidFill>
                  <a:srgbClr val="000000"/>
                </a:solidFill>
                <a:latin typeface="Arial"/>
              </a:endParaRPr>
            </a:p>
          </p:txBody>
        </p:sp>
        <p:sp>
          <p:nvSpPr>
            <p:cNvPr id="257" name=""/>
            <p:cNvSpPr/>
            <p:nvPr/>
          </p:nvSpPr>
          <p:spPr>
            <a:xfrm>
              <a:off x="6814080" y="3781800"/>
              <a:ext cx="1876680" cy="1102680"/>
            </a:xfrm>
            <a:prstGeom prst="rect">
              <a:avLst/>
            </a:prstGeom>
            <a:solidFill>
              <a:srgbClr val="99cc00"/>
            </a:solidFill>
            <a:ln w="0">
              <a:noFill/>
            </a:ln>
          </p:spPr>
          <p:style>
            <a:lnRef idx="0"/>
            <a:fillRef idx="0"/>
            <a:effectRef idx="0"/>
            <a:fontRef idx="minor"/>
          </p:style>
          <p:txBody>
            <a:bodyPr lIns="90000" rIns="90000" tIns="72000" bIns="46800" anchor="ctr">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ing, education, tech.- transfer, communication, ...</a:t>
              </a:r>
              <a:endParaRPr b="0" lang="en-US" sz="14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Project structure</a:t>
            </a:r>
            <a:br>
              <a:rPr sz="3000"/>
            </a:br>
            <a:r>
              <a:rPr b="1" lang="fr-FR" sz="3000" spc="-1" strike="noStrike">
                <a:solidFill>
                  <a:srgbClr val="7bc623"/>
                </a:solidFill>
                <a:latin typeface="Verdana"/>
              </a:rPr>
              <a:t>4 Integrating Themes</a:t>
            </a:r>
            <a:endParaRPr b="1" lang="en-US" sz="3000" spc="-1" strike="noStrike">
              <a:solidFill>
                <a:srgbClr val="7bc623"/>
              </a:solidFill>
              <a:latin typeface="Verdana"/>
            </a:endParaRPr>
          </a:p>
        </p:txBody>
      </p:sp>
      <p:grpSp>
        <p:nvGrpSpPr>
          <p:cNvPr id="259" name=""/>
          <p:cNvGrpSpPr/>
          <p:nvPr/>
        </p:nvGrpSpPr>
        <p:grpSpPr>
          <a:xfrm>
            <a:off x="4537080" y="1090440"/>
            <a:ext cx="4494240" cy="2476800"/>
            <a:chOff x="4537080" y="1090440"/>
            <a:chExt cx="4494240" cy="2476800"/>
          </a:xfrm>
        </p:grpSpPr>
        <p:sp>
          <p:nvSpPr>
            <p:cNvPr id="260" name=""/>
            <p:cNvSpPr/>
            <p:nvPr/>
          </p:nvSpPr>
          <p:spPr>
            <a:xfrm>
              <a:off x="6975360" y="1131840"/>
              <a:ext cx="2008440" cy="11178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481800" y="1090440"/>
              <a:ext cx="254952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ke stock of and inform plant protection policy changes</a:t>
              </a:r>
              <a:r>
                <a:rPr b="0" lang="en-GB" sz="1800" spc="-1" strike="noStrike">
                  <a:solidFill>
                    <a:srgbClr val="000000"/>
                  </a:solidFill>
                  <a:latin typeface="Arial"/>
                </a:rPr>
                <a: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URE will provide scientific support to policy maker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reading Activities</a:t>
              </a:r>
              <a:endParaRPr b="0" lang="en-US" sz="1800" spc="-1" strike="noStrike">
                <a:solidFill>
                  <a:srgbClr val="000000"/>
                </a:solidFill>
                <a:latin typeface="Arial"/>
              </a:endParaRPr>
            </a:p>
          </p:txBody>
        </p:sp>
        <p:grpSp>
          <p:nvGrpSpPr>
            <p:cNvPr id="262" name=""/>
            <p:cNvGrpSpPr/>
            <p:nvPr/>
          </p:nvGrpSpPr>
          <p:grpSpPr>
            <a:xfrm>
              <a:off x="4537080" y="1166760"/>
              <a:ext cx="1762200" cy="2400480"/>
              <a:chOff x="4537080" y="1166760"/>
              <a:chExt cx="1762200" cy="2400480"/>
            </a:xfrm>
          </p:grpSpPr>
          <p:sp>
            <p:nvSpPr>
              <p:cNvPr id="263" name=""/>
              <p:cNvSpPr/>
              <p:nvPr/>
            </p:nvSpPr>
            <p:spPr>
              <a:xfrm>
                <a:off x="4537080" y="1166760"/>
                <a:ext cx="1762200" cy="2400480"/>
              </a:xfrm>
              <a:custGeom>
                <a:avLst/>
                <a:gdLst/>
                <a:ahLst/>
                <a:rect l="l" t="t" r="r" b="b"/>
                <a:pathLst>
                  <a:path w="1110" h="1512">
                    <a:moveTo>
                      <a:pt x="336" y="1457"/>
                    </a:moveTo>
                    <a:lnTo>
                      <a:pt x="360" y="1466"/>
                    </a:lnTo>
                    <a:lnTo>
                      <a:pt x="382" y="1471"/>
                    </a:lnTo>
                    <a:lnTo>
                      <a:pt x="403" y="1473"/>
                    </a:lnTo>
                    <a:lnTo>
                      <a:pt x="419" y="1473"/>
                    </a:lnTo>
                    <a:lnTo>
                      <a:pt x="435" y="1469"/>
                    </a:lnTo>
                    <a:lnTo>
                      <a:pt x="448" y="1465"/>
                    </a:lnTo>
                    <a:lnTo>
                      <a:pt x="459" y="1457"/>
                    </a:lnTo>
                    <a:lnTo>
                      <a:pt x="466" y="1448"/>
                    </a:lnTo>
                    <a:lnTo>
                      <a:pt x="473" y="1438"/>
                    </a:lnTo>
                    <a:lnTo>
                      <a:pt x="477" y="1427"/>
                    </a:lnTo>
                    <a:lnTo>
                      <a:pt x="478" y="1415"/>
                    </a:lnTo>
                    <a:lnTo>
                      <a:pt x="478" y="1401"/>
                    </a:lnTo>
                    <a:lnTo>
                      <a:pt x="475" y="1388"/>
                    </a:lnTo>
                    <a:lnTo>
                      <a:pt x="469" y="1376"/>
                    </a:lnTo>
                    <a:lnTo>
                      <a:pt x="463" y="1364"/>
                    </a:lnTo>
                    <a:lnTo>
                      <a:pt x="454" y="1352"/>
                    </a:lnTo>
                    <a:lnTo>
                      <a:pt x="440" y="1336"/>
                    </a:lnTo>
                    <a:lnTo>
                      <a:pt x="429" y="1318"/>
                    </a:lnTo>
                    <a:lnTo>
                      <a:pt x="421" y="1299"/>
                    </a:lnTo>
                    <a:lnTo>
                      <a:pt x="414" y="1279"/>
                    </a:lnTo>
                    <a:lnTo>
                      <a:pt x="408" y="1258"/>
                    </a:lnTo>
                    <a:lnTo>
                      <a:pt x="406" y="1237"/>
                    </a:lnTo>
                    <a:lnTo>
                      <a:pt x="406" y="1218"/>
                    </a:lnTo>
                    <a:lnTo>
                      <a:pt x="408" y="1197"/>
                    </a:lnTo>
                    <a:lnTo>
                      <a:pt x="414" y="1179"/>
                    </a:lnTo>
                    <a:lnTo>
                      <a:pt x="421" y="1162"/>
                    </a:lnTo>
                    <a:lnTo>
                      <a:pt x="425" y="1153"/>
                    </a:lnTo>
                    <a:lnTo>
                      <a:pt x="431" y="1144"/>
                    </a:lnTo>
                    <a:lnTo>
                      <a:pt x="438" y="1137"/>
                    </a:lnTo>
                    <a:lnTo>
                      <a:pt x="445" y="1130"/>
                    </a:lnTo>
                    <a:lnTo>
                      <a:pt x="452" y="1124"/>
                    </a:lnTo>
                    <a:lnTo>
                      <a:pt x="461" y="1119"/>
                    </a:lnTo>
                    <a:lnTo>
                      <a:pt x="471" y="1114"/>
                    </a:lnTo>
                    <a:lnTo>
                      <a:pt x="480" y="1109"/>
                    </a:lnTo>
                    <a:lnTo>
                      <a:pt x="492" y="1107"/>
                    </a:lnTo>
                    <a:lnTo>
                      <a:pt x="503" y="1103"/>
                    </a:lnTo>
                    <a:lnTo>
                      <a:pt x="517" y="1101"/>
                    </a:lnTo>
                    <a:lnTo>
                      <a:pt x="530" y="1101"/>
                    </a:lnTo>
                    <a:lnTo>
                      <a:pt x="547" y="1101"/>
                    </a:lnTo>
                    <a:lnTo>
                      <a:pt x="561" y="1101"/>
                    </a:lnTo>
                    <a:lnTo>
                      <a:pt x="576" y="1103"/>
                    </a:lnTo>
                    <a:lnTo>
                      <a:pt x="589" y="1107"/>
                    </a:lnTo>
                    <a:lnTo>
                      <a:pt x="601" y="1111"/>
                    </a:lnTo>
                    <a:lnTo>
                      <a:pt x="614" y="1114"/>
                    </a:lnTo>
                    <a:lnTo>
                      <a:pt x="624" y="1119"/>
                    </a:lnTo>
                    <a:lnTo>
                      <a:pt x="635" y="1124"/>
                    </a:lnTo>
                    <a:lnTo>
                      <a:pt x="644" y="1130"/>
                    </a:lnTo>
                    <a:lnTo>
                      <a:pt x="652" y="1137"/>
                    </a:lnTo>
                    <a:lnTo>
                      <a:pt x="660" y="1144"/>
                    </a:lnTo>
                    <a:lnTo>
                      <a:pt x="666" y="1151"/>
                    </a:lnTo>
                    <a:lnTo>
                      <a:pt x="677" y="1167"/>
                    </a:lnTo>
                    <a:lnTo>
                      <a:pt x="686" y="1184"/>
                    </a:lnTo>
                    <a:lnTo>
                      <a:pt x="691" y="1202"/>
                    </a:lnTo>
                    <a:lnTo>
                      <a:pt x="694" y="1221"/>
                    </a:lnTo>
                    <a:lnTo>
                      <a:pt x="694" y="1241"/>
                    </a:lnTo>
                    <a:lnTo>
                      <a:pt x="691" y="1260"/>
                    </a:lnTo>
                    <a:lnTo>
                      <a:pt x="686" y="1278"/>
                    </a:lnTo>
                    <a:lnTo>
                      <a:pt x="679" y="1295"/>
                    </a:lnTo>
                    <a:lnTo>
                      <a:pt x="670" y="1311"/>
                    </a:lnTo>
                    <a:lnTo>
                      <a:pt x="658" y="1327"/>
                    </a:lnTo>
                    <a:lnTo>
                      <a:pt x="635" y="1354"/>
                    </a:lnTo>
                    <a:lnTo>
                      <a:pt x="619" y="1376"/>
                    </a:lnTo>
                    <a:lnTo>
                      <a:pt x="614" y="1385"/>
                    </a:lnTo>
                    <a:lnTo>
                      <a:pt x="608" y="1396"/>
                    </a:lnTo>
                    <a:lnTo>
                      <a:pt x="607" y="1404"/>
                    </a:lnTo>
                    <a:lnTo>
                      <a:pt x="607" y="1413"/>
                    </a:lnTo>
                    <a:lnTo>
                      <a:pt x="607" y="1422"/>
                    </a:lnTo>
                    <a:lnTo>
                      <a:pt x="610" y="1429"/>
                    </a:lnTo>
                    <a:lnTo>
                      <a:pt x="616" y="1436"/>
                    </a:lnTo>
                    <a:lnTo>
                      <a:pt x="622" y="1443"/>
                    </a:lnTo>
                    <a:lnTo>
                      <a:pt x="630" y="1450"/>
                    </a:lnTo>
                    <a:lnTo>
                      <a:pt x="640" y="1457"/>
                    </a:lnTo>
                    <a:lnTo>
                      <a:pt x="652" y="1465"/>
                    </a:lnTo>
                    <a:lnTo>
                      <a:pt x="668" y="1471"/>
                    </a:lnTo>
                    <a:lnTo>
                      <a:pt x="686" y="1478"/>
                    </a:lnTo>
                    <a:lnTo>
                      <a:pt x="709" y="1486"/>
                    </a:lnTo>
                    <a:lnTo>
                      <a:pt x="732" y="1492"/>
                    </a:lnTo>
                    <a:lnTo>
                      <a:pt x="756" y="1497"/>
                    </a:lnTo>
                    <a:lnTo>
                      <a:pt x="782" y="1503"/>
                    </a:lnTo>
                    <a:lnTo>
                      <a:pt x="809" y="1507"/>
                    </a:lnTo>
                    <a:lnTo>
                      <a:pt x="837" y="1510"/>
                    </a:lnTo>
                    <a:lnTo>
                      <a:pt x="864" y="1512"/>
                    </a:lnTo>
                    <a:lnTo>
                      <a:pt x="891" y="1512"/>
                    </a:lnTo>
                    <a:lnTo>
                      <a:pt x="920" y="1512"/>
                    </a:lnTo>
                    <a:lnTo>
                      <a:pt x="946" y="1510"/>
                    </a:lnTo>
                    <a:lnTo>
                      <a:pt x="971" y="1505"/>
                    </a:lnTo>
                    <a:lnTo>
                      <a:pt x="994" y="1499"/>
                    </a:lnTo>
                    <a:lnTo>
                      <a:pt x="1017" y="1492"/>
                    </a:lnTo>
                    <a:lnTo>
                      <a:pt x="1036" y="1484"/>
                    </a:lnTo>
                    <a:lnTo>
                      <a:pt x="1053" y="1471"/>
                    </a:lnTo>
                    <a:lnTo>
                      <a:pt x="1050" y="1450"/>
                    </a:lnTo>
                    <a:lnTo>
                      <a:pt x="1046" y="1429"/>
                    </a:lnTo>
                    <a:lnTo>
                      <a:pt x="1043" y="1406"/>
                    </a:lnTo>
                    <a:lnTo>
                      <a:pt x="1043" y="1381"/>
                    </a:lnTo>
                    <a:lnTo>
                      <a:pt x="1041" y="1331"/>
                    </a:lnTo>
                    <a:lnTo>
                      <a:pt x="1043" y="1279"/>
                    </a:lnTo>
                    <a:lnTo>
                      <a:pt x="1046" y="1230"/>
                    </a:lnTo>
                    <a:lnTo>
                      <a:pt x="1050" y="1186"/>
                    </a:lnTo>
                    <a:lnTo>
                      <a:pt x="1053" y="1149"/>
                    </a:lnTo>
                    <a:lnTo>
                      <a:pt x="1053" y="1119"/>
                    </a:lnTo>
                    <a:lnTo>
                      <a:pt x="1053" y="1109"/>
                    </a:lnTo>
                    <a:lnTo>
                      <a:pt x="1048" y="1098"/>
                    </a:lnTo>
                    <a:lnTo>
                      <a:pt x="1043" y="1088"/>
                    </a:lnTo>
                    <a:lnTo>
                      <a:pt x="1034" y="1077"/>
                    </a:lnTo>
                    <a:lnTo>
                      <a:pt x="1025" y="1068"/>
                    </a:lnTo>
                    <a:lnTo>
                      <a:pt x="1013" y="1061"/>
                    </a:lnTo>
                    <a:lnTo>
                      <a:pt x="1000" y="1054"/>
                    </a:lnTo>
                    <a:lnTo>
                      <a:pt x="988" y="1049"/>
                    </a:lnTo>
                    <a:lnTo>
                      <a:pt x="975" y="1046"/>
                    </a:lnTo>
                    <a:lnTo>
                      <a:pt x="960" y="1042"/>
                    </a:lnTo>
                    <a:lnTo>
                      <a:pt x="948" y="1042"/>
                    </a:lnTo>
                    <a:lnTo>
                      <a:pt x="933" y="1042"/>
                    </a:lnTo>
                    <a:lnTo>
                      <a:pt x="921" y="1046"/>
                    </a:lnTo>
                    <a:lnTo>
                      <a:pt x="910" y="1051"/>
                    </a:lnTo>
                    <a:lnTo>
                      <a:pt x="899" y="1057"/>
                    </a:lnTo>
                    <a:lnTo>
                      <a:pt x="889" y="1067"/>
                    </a:lnTo>
                    <a:lnTo>
                      <a:pt x="879" y="1075"/>
                    </a:lnTo>
                    <a:lnTo>
                      <a:pt x="867" y="1084"/>
                    </a:lnTo>
                    <a:lnTo>
                      <a:pt x="853" y="1089"/>
                    </a:lnTo>
                    <a:lnTo>
                      <a:pt x="837" y="1093"/>
                    </a:lnTo>
                    <a:lnTo>
                      <a:pt x="820" y="1095"/>
                    </a:lnTo>
                    <a:lnTo>
                      <a:pt x="802" y="1093"/>
                    </a:lnTo>
                    <a:lnTo>
                      <a:pt x="782" y="1091"/>
                    </a:lnTo>
                    <a:lnTo>
                      <a:pt x="765" y="1086"/>
                    </a:lnTo>
                    <a:lnTo>
                      <a:pt x="748" y="1079"/>
                    </a:lnTo>
                    <a:lnTo>
                      <a:pt x="730" y="1068"/>
                    </a:lnTo>
                    <a:lnTo>
                      <a:pt x="714" y="1057"/>
                    </a:lnTo>
                    <a:lnTo>
                      <a:pt x="700" y="1044"/>
                    </a:lnTo>
                    <a:lnTo>
                      <a:pt x="694" y="1035"/>
                    </a:lnTo>
                    <a:lnTo>
                      <a:pt x="689" y="1026"/>
                    </a:lnTo>
                    <a:lnTo>
                      <a:pt x="684" y="1017"/>
                    </a:lnTo>
                    <a:lnTo>
                      <a:pt x="681" y="1007"/>
                    </a:lnTo>
                    <a:lnTo>
                      <a:pt x="677" y="996"/>
                    </a:lnTo>
                    <a:lnTo>
                      <a:pt x="675" y="986"/>
                    </a:lnTo>
                    <a:lnTo>
                      <a:pt x="673" y="973"/>
                    </a:lnTo>
                    <a:lnTo>
                      <a:pt x="673" y="961"/>
                    </a:lnTo>
                    <a:lnTo>
                      <a:pt x="673" y="946"/>
                    </a:lnTo>
                    <a:lnTo>
                      <a:pt x="675" y="933"/>
                    </a:lnTo>
                    <a:lnTo>
                      <a:pt x="677" y="919"/>
                    </a:lnTo>
                    <a:lnTo>
                      <a:pt x="681" y="906"/>
                    </a:lnTo>
                    <a:lnTo>
                      <a:pt x="684" y="896"/>
                    </a:lnTo>
                    <a:lnTo>
                      <a:pt x="689" y="885"/>
                    </a:lnTo>
                    <a:lnTo>
                      <a:pt x="694" y="875"/>
                    </a:lnTo>
                    <a:lnTo>
                      <a:pt x="702" y="866"/>
                    </a:lnTo>
                    <a:lnTo>
                      <a:pt x="716" y="850"/>
                    </a:lnTo>
                    <a:lnTo>
                      <a:pt x="733" y="836"/>
                    </a:lnTo>
                    <a:lnTo>
                      <a:pt x="751" y="826"/>
                    </a:lnTo>
                    <a:lnTo>
                      <a:pt x="770" y="818"/>
                    </a:lnTo>
                    <a:lnTo>
                      <a:pt x="790" y="813"/>
                    </a:lnTo>
                    <a:lnTo>
                      <a:pt x="809" y="810"/>
                    </a:lnTo>
                    <a:lnTo>
                      <a:pt x="828" y="810"/>
                    </a:lnTo>
                    <a:lnTo>
                      <a:pt x="847" y="813"/>
                    </a:lnTo>
                    <a:lnTo>
                      <a:pt x="866" y="816"/>
                    </a:lnTo>
                    <a:lnTo>
                      <a:pt x="883" y="824"/>
                    </a:lnTo>
                    <a:lnTo>
                      <a:pt x="897" y="833"/>
                    </a:lnTo>
                    <a:lnTo>
                      <a:pt x="910" y="843"/>
                    </a:lnTo>
                    <a:lnTo>
                      <a:pt x="916" y="850"/>
                    </a:lnTo>
                    <a:lnTo>
                      <a:pt x="925" y="857"/>
                    </a:lnTo>
                    <a:lnTo>
                      <a:pt x="935" y="864"/>
                    </a:lnTo>
                    <a:lnTo>
                      <a:pt x="944" y="868"/>
                    </a:lnTo>
                    <a:lnTo>
                      <a:pt x="956" y="873"/>
                    </a:lnTo>
                    <a:lnTo>
                      <a:pt x="967" y="875"/>
                    </a:lnTo>
                    <a:lnTo>
                      <a:pt x="979" y="877"/>
                    </a:lnTo>
                    <a:lnTo>
                      <a:pt x="992" y="878"/>
                    </a:lnTo>
                    <a:lnTo>
                      <a:pt x="1004" y="878"/>
                    </a:lnTo>
                    <a:lnTo>
                      <a:pt x="1017" y="877"/>
                    </a:lnTo>
                    <a:lnTo>
                      <a:pt x="1028" y="873"/>
                    </a:lnTo>
                    <a:lnTo>
                      <a:pt x="1041" y="869"/>
                    </a:lnTo>
                    <a:lnTo>
                      <a:pt x="1053" y="866"/>
                    </a:lnTo>
                    <a:lnTo>
                      <a:pt x="1066" y="859"/>
                    </a:lnTo>
                    <a:lnTo>
                      <a:pt x="1076" y="852"/>
                    </a:lnTo>
                    <a:lnTo>
                      <a:pt x="1089" y="843"/>
                    </a:lnTo>
                    <a:lnTo>
                      <a:pt x="1092" y="837"/>
                    </a:lnTo>
                    <a:lnTo>
                      <a:pt x="1097" y="833"/>
                    </a:lnTo>
                    <a:lnTo>
                      <a:pt x="1101" y="826"/>
                    </a:lnTo>
                    <a:lnTo>
                      <a:pt x="1103" y="816"/>
                    </a:lnTo>
                    <a:lnTo>
                      <a:pt x="1108" y="799"/>
                    </a:lnTo>
                    <a:lnTo>
                      <a:pt x="1110" y="778"/>
                    </a:lnTo>
                    <a:lnTo>
                      <a:pt x="1110" y="753"/>
                    </a:lnTo>
                    <a:lnTo>
                      <a:pt x="1110" y="728"/>
                    </a:lnTo>
                    <a:lnTo>
                      <a:pt x="1106" y="702"/>
                    </a:lnTo>
                    <a:lnTo>
                      <a:pt x="1103" y="676"/>
                    </a:lnTo>
                    <a:lnTo>
                      <a:pt x="1092" y="619"/>
                    </a:lnTo>
                    <a:lnTo>
                      <a:pt x="1080" y="569"/>
                    </a:lnTo>
                    <a:lnTo>
                      <a:pt x="1066" y="523"/>
                    </a:lnTo>
                    <a:lnTo>
                      <a:pt x="1053" y="487"/>
                    </a:lnTo>
                    <a:lnTo>
                      <a:pt x="1025" y="493"/>
                    </a:lnTo>
                    <a:lnTo>
                      <a:pt x="996" y="496"/>
                    </a:lnTo>
                    <a:lnTo>
                      <a:pt x="965" y="500"/>
                    </a:lnTo>
                    <a:lnTo>
                      <a:pt x="933" y="500"/>
                    </a:lnTo>
                    <a:lnTo>
                      <a:pt x="904" y="500"/>
                    </a:lnTo>
                    <a:lnTo>
                      <a:pt x="874" y="498"/>
                    </a:lnTo>
                    <a:lnTo>
                      <a:pt x="844" y="496"/>
                    </a:lnTo>
                    <a:lnTo>
                      <a:pt x="818" y="493"/>
                    </a:lnTo>
                    <a:lnTo>
                      <a:pt x="767" y="485"/>
                    </a:lnTo>
                    <a:lnTo>
                      <a:pt x="726" y="479"/>
                    </a:lnTo>
                    <a:lnTo>
                      <a:pt x="700" y="473"/>
                    </a:lnTo>
                    <a:lnTo>
                      <a:pt x="691" y="472"/>
                    </a:lnTo>
                    <a:lnTo>
                      <a:pt x="668" y="461"/>
                    </a:lnTo>
                    <a:lnTo>
                      <a:pt x="649" y="449"/>
                    </a:lnTo>
                    <a:lnTo>
                      <a:pt x="631" y="437"/>
                    </a:lnTo>
                    <a:lnTo>
                      <a:pt x="619" y="422"/>
                    </a:lnTo>
                    <a:lnTo>
                      <a:pt x="608" y="407"/>
                    </a:lnTo>
                    <a:lnTo>
                      <a:pt x="601" y="391"/>
                    </a:lnTo>
                    <a:lnTo>
                      <a:pt x="597" y="375"/>
                    </a:lnTo>
                    <a:lnTo>
                      <a:pt x="593" y="359"/>
                    </a:lnTo>
                    <a:lnTo>
                      <a:pt x="593" y="342"/>
                    </a:lnTo>
                    <a:lnTo>
                      <a:pt x="595" y="326"/>
                    </a:lnTo>
                    <a:lnTo>
                      <a:pt x="598" y="309"/>
                    </a:lnTo>
                    <a:lnTo>
                      <a:pt x="603" y="296"/>
                    </a:lnTo>
                    <a:lnTo>
                      <a:pt x="608" y="282"/>
                    </a:lnTo>
                    <a:lnTo>
                      <a:pt x="618" y="269"/>
                    </a:lnTo>
                    <a:lnTo>
                      <a:pt x="628" y="257"/>
                    </a:lnTo>
                    <a:lnTo>
                      <a:pt x="639" y="248"/>
                    </a:lnTo>
                    <a:lnTo>
                      <a:pt x="649" y="238"/>
                    </a:lnTo>
                    <a:lnTo>
                      <a:pt x="658" y="223"/>
                    </a:lnTo>
                    <a:lnTo>
                      <a:pt x="666" y="208"/>
                    </a:lnTo>
                    <a:lnTo>
                      <a:pt x="673" y="188"/>
                    </a:lnTo>
                    <a:lnTo>
                      <a:pt x="679" y="169"/>
                    </a:lnTo>
                    <a:lnTo>
                      <a:pt x="681" y="148"/>
                    </a:lnTo>
                    <a:lnTo>
                      <a:pt x="683" y="127"/>
                    </a:lnTo>
                    <a:lnTo>
                      <a:pt x="679" y="106"/>
                    </a:lnTo>
                    <a:lnTo>
                      <a:pt x="673" y="85"/>
                    </a:lnTo>
                    <a:lnTo>
                      <a:pt x="666" y="65"/>
                    </a:lnTo>
                    <a:lnTo>
                      <a:pt x="662" y="56"/>
                    </a:lnTo>
                    <a:lnTo>
                      <a:pt x="654" y="47"/>
                    </a:lnTo>
                    <a:lnTo>
                      <a:pt x="647" y="39"/>
                    </a:lnTo>
                    <a:lnTo>
                      <a:pt x="639" y="32"/>
                    </a:lnTo>
                    <a:lnTo>
                      <a:pt x="630" y="24"/>
                    </a:lnTo>
                    <a:lnTo>
                      <a:pt x="619" y="18"/>
                    </a:lnTo>
                    <a:lnTo>
                      <a:pt x="607" y="12"/>
                    </a:lnTo>
                    <a:lnTo>
                      <a:pt x="595" y="9"/>
                    </a:lnTo>
                    <a:lnTo>
                      <a:pt x="580" y="3"/>
                    </a:lnTo>
                    <a:lnTo>
                      <a:pt x="566" y="1"/>
                    </a:lnTo>
                    <a:lnTo>
                      <a:pt x="551" y="0"/>
                    </a:lnTo>
                    <a:lnTo>
                      <a:pt x="532" y="0"/>
                    </a:lnTo>
                    <a:lnTo>
                      <a:pt x="517" y="0"/>
                    </a:lnTo>
                    <a:lnTo>
                      <a:pt x="501" y="1"/>
                    </a:lnTo>
                    <a:lnTo>
                      <a:pt x="488" y="3"/>
                    </a:lnTo>
                    <a:lnTo>
                      <a:pt x="475" y="7"/>
                    </a:lnTo>
                    <a:lnTo>
                      <a:pt x="463" y="10"/>
                    </a:lnTo>
                    <a:lnTo>
                      <a:pt x="450" y="14"/>
                    </a:lnTo>
                    <a:lnTo>
                      <a:pt x="440" y="20"/>
                    </a:lnTo>
                    <a:lnTo>
                      <a:pt x="429" y="26"/>
                    </a:lnTo>
                    <a:lnTo>
                      <a:pt x="421" y="32"/>
                    </a:lnTo>
                    <a:lnTo>
                      <a:pt x="412" y="39"/>
                    </a:lnTo>
                    <a:lnTo>
                      <a:pt x="404" y="45"/>
                    </a:lnTo>
                    <a:lnTo>
                      <a:pt x="398" y="55"/>
                    </a:lnTo>
                    <a:lnTo>
                      <a:pt x="387" y="70"/>
                    </a:lnTo>
                    <a:lnTo>
                      <a:pt x="378" y="89"/>
                    </a:lnTo>
                    <a:lnTo>
                      <a:pt x="373" y="108"/>
                    </a:lnTo>
                    <a:lnTo>
                      <a:pt x="371" y="129"/>
                    </a:lnTo>
                    <a:lnTo>
                      <a:pt x="371" y="148"/>
                    </a:lnTo>
                    <a:lnTo>
                      <a:pt x="373" y="167"/>
                    </a:lnTo>
                    <a:lnTo>
                      <a:pt x="378" y="187"/>
                    </a:lnTo>
                    <a:lnTo>
                      <a:pt x="387" y="204"/>
                    </a:lnTo>
                    <a:lnTo>
                      <a:pt x="398" y="220"/>
                    </a:lnTo>
                    <a:lnTo>
                      <a:pt x="410" y="236"/>
                    </a:lnTo>
                    <a:lnTo>
                      <a:pt x="422" y="250"/>
                    </a:lnTo>
                    <a:lnTo>
                      <a:pt x="433" y="265"/>
                    </a:lnTo>
                    <a:lnTo>
                      <a:pt x="442" y="282"/>
                    </a:lnTo>
                    <a:lnTo>
                      <a:pt x="446" y="297"/>
                    </a:lnTo>
                    <a:lnTo>
                      <a:pt x="450" y="315"/>
                    </a:lnTo>
                    <a:lnTo>
                      <a:pt x="450" y="332"/>
                    </a:lnTo>
                    <a:lnTo>
                      <a:pt x="448" y="350"/>
                    </a:lnTo>
                    <a:lnTo>
                      <a:pt x="444" y="366"/>
                    </a:lnTo>
                    <a:lnTo>
                      <a:pt x="436" y="384"/>
                    </a:lnTo>
                    <a:lnTo>
                      <a:pt x="425" y="399"/>
                    </a:lnTo>
                    <a:lnTo>
                      <a:pt x="414" y="414"/>
                    </a:lnTo>
                    <a:lnTo>
                      <a:pt x="398" y="429"/>
                    </a:lnTo>
                    <a:lnTo>
                      <a:pt x="380" y="441"/>
                    </a:lnTo>
                    <a:lnTo>
                      <a:pt x="359" y="452"/>
                    </a:lnTo>
                    <a:lnTo>
                      <a:pt x="334" y="462"/>
                    </a:lnTo>
                    <a:lnTo>
                      <a:pt x="308" y="472"/>
                    </a:lnTo>
                    <a:lnTo>
                      <a:pt x="287" y="472"/>
                    </a:lnTo>
                    <a:lnTo>
                      <a:pt x="259" y="472"/>
                    </a:lnTo>
                    <a:lnTo>
                      <a:pt x="229" y="472"/>
                    </a:lnTo>
                    <a:lnTo>
                      <a:pt x="194" y="472"/>
                    </a:lnTo>
                    <a:lnTo>
                      <a:pt x="156" y="472"/>
                    </a:lnTo>
                    <a:lnTo>
                      <a:pt x="116" y="472"/>
                    </a:lnTo>
                    <a:lnTo>
                      <a:pt x="74" y="472"/>
                    </a:lnTo>
                    <a:lnTo>
                      <a:pt x="30" y="472"/>
                    </a:lnTo>
                    <a:lnTo>
                      <a:pt x="25" y="502"/>
                    </a:lnTo>
                    <a:lnTo>
                      <a:pt x="18" y="544"/>
                    </a:lnTo>
                    <a:lnTo>
                      <a:pt x="13" y="590"/>
                    </a:lnTo>
                    <a:lnTo>
                      <a:pt x="7" y="638"/>
                    </a:lnTo>
                    <a:lnTo>
                      <a:pt x="2" y="686"/>
                    </a:lnTo>
                    <a:lnTo>
                      <a:pt x="0" y="730"/>
                    </a:lnTo>
                    <a:lnTo>
                      <a:pt x="0" y="764"/>
                    </a:lnTo>
                    <a:lnTo>
                      <a:pt x="0" y="787"/>
                    </a:lnTo>
                    <a:lnTo>
                      <a:pt x="5" y="799"/>
                    </a:lnTo>
                    <a:lnTo>
                      <a:pt x="11" y="811"/>
                    </a:lnTo>
                    <a:lnTo>
                      <a:pt x="20" y="820"/>
                    </a:lnTo>
                    <a:lnTo>
                      <a:pt x="30" y="829"/>
                    </a:lnTo>
                    <a:lnTo>
                      <a:pt x="43" y="837"/>
                    </a:lnTo>
                    <a:lnTo>
                      <a:pt x="57" y="843"/>
                    </a:lnTo>
                    <a:lnTo>
                      <a:pt x="72" y="848"/>
                    </a:lnTo>
                    <a:lnTo>
                      <a:pt x="87" y="852"/>
                    </a:lnTo>
                    <a:lnTo>
                      <a:pt x="104" y="854"/>
                    </a:lnTo>
                    <a:lnTo>
                      <a:pt x="120" y="855"/>
                    </a:lnTo>
                    <a:lnTo>
                      <a:pt x="135" y="854"/>
                    </a:lnTo>
                    <a:lnTo>
                      <a:pt x="152" y="852"/>
                    </a:lnTo>
                    <a:lnTo>
                      <a:pt x="167" y="848"/>
                    </a:lnTo>
                    <a:lnTo>
                      <a:pt x="181" y="841"/>
                    </a:lnTo>
                    <a:lnTo>
                      <a:pt x="194" y="834"/>
                    </a:lnTo>
                    <a:lnTo>
                      <a:pt x="206" y="826"/>
                    </a:lnTo>
                    <a:lnTo>
                      <a:pt x="217" y="814"/>
                    </a:lnTo>
                    <a:lnTo>
                      <a:pt x="230" y="808"/>
                    </a:lnTo>
                    <a:lnTo>
                      <a:pt x="244" y="803"/>
                    </a:lnTo>
                    <a:lnTo>
                      <a:pt x="261" y="801"/>
                    </a:lnTo>
                    <a:lnTo>
                      <a:pt x="278" y="799"/>
                    </a:lnTo>
                    <a:lnTo>
                      <a:pt x="294" y="801"/>
                    </a:lnTo>
                    <a:lnTo>
                      <a:pt x="311" y="804"/>
                    </a:lnTo>
                    <a:lnTo>
                      <a:pt x="329" y="811"/>
                    </a:lnTo>
                    <a:lnTo>
                      <a:pt x="345" y="820"/>
                    </a:lnTo>
                    <a:lnTo>
                      <a:pt x="360" y="831"/>
                    </a:lnTo>
                    <a:lnTo>
                      <a:pt x="373" y="843"/>
                    </a:lnTo>
                    <a:lnTo>
                      <a:pt x="385" y="859"/>
                    </a:lnTo>
                    <a:lnTo>
                      <a:pt x="396" y="877"/>
                    </a:lnTo>
                    <a:lnTo>
                      <a:pt x="403" y="896"/>
                    </a:lnTo>
                    <a:lnTo>
                      <a:pt x="408" y="919"/>
                    </a:lnTo>
                    <a:lnTo>
                      <a:pt x="410" y="942"/>
                    </a:lnTo>
                    <a:lnTo>
                      <a:pt x="408" y="959"/>
                    </a:lnTo>
                    <a:lnTo>
                      <a:pt x="403" y="975"/>
                    </a:lnTo>
                    <a:lnTo>
                      <a:pt x="396" y="991"/>
                    </a:lnTo>
                    <a:lnTo>
                      <a:pt x="385" y="1003"/>
                    </a:lnTo>
                    <a:lnTo>
                      <a:pt x="373" y="1015"/>
                    </a:lnTo>
                    <a:lnTo>
                      <a:pt x="360" y="1026"/>
                    </a:lnTo>
                    <a:lnTo>
                      <a:pt x="345" y="1035"/>
                    </a:lnTo>
                    <a:lnTo>
                      <a:pt x="329" y="1042"/>
                    </a:lnTo>
                    <a:lnTo>
                      <a:pt x="311" y="1047"/>
                    </a:lnTo>
                    <a:lnTo>
                      <a:pt x="294" y="1051"/>
                    </a:lnTo>
                    <a:lnTo>
                      <a:pt x="278" y="1051"/>
                    </a:lnTo>
                    <a:lnTo>
                      <a:pt x="261" y="1049"/>
                    </a:lnTo>
                    <a:lnTo>
                      <a:pt x="244" y="1046"/>
                    </a:lnTo>
                    <a:lnTo>
                      <a:pt x="230" y="1038"/>
                    </a:lnTo>
                    <a:lnTo>
                      <a:pt x="217" y="1030"/>
                    </a:lnTo>
                    <a:lnTo>
                      <a:pt x="206" y="1017"/>
                    </a:lnTo>
                    <a:lnTo>
                      <a:pt x="196" y="1005"/>
                    </a:lnTo>
                    <a:lnTo>
                      <a:pt x="183" y="996"/>
                    </a:lnTo>
                    <a:lnTo>
                      <a:pt x="171" y="989"/>
                    </a:lnTo>
                    <a:lnTo>
                      <a:pt x="158" y="984"/>
                    </a:lnTo>
                    <a:lnTo>
                      <a:pt x="144" y="982"/>
                    </a:lnTo>
                    <a:lnTo>
                      <a:pt x="131" y="982"/>
                    </a:lnTo>
                    <a:lnTo>
                      <a:pt x="116" y="984"/>
                    </a:lnTo>
                    <a:lnTo>
                      <a:pt x="102" y="987"/>
                    </a:lnTo>
                    <a:lnTo>
                      <a:pt x="88" y="994"/>
                    </a:lnTo>
                    <a:lnTo>
                      <a:pt x="74" y="1002"/>
                    </a:lnTo>
                    <a:lnTo>
                      <a:pt x="62" y="1010"/>
                    </a:lnTo>
                    <a:lnTo>
                      <a:pt x="49" y="1021"/>
                    </a:lnTo>
                    <a:lnTo>
                      <a:pt x="39" y="1031"/>
                    </a:lnTo>
                    <a:lnTo>
                      <a:pt x="28" y="1044"/>
                    </a:lnTo>
                    <a:lnTo>
                      <a:pt x="20" y="1057"/>
                    </a:lnTo>
                    <a:lnTo>
                      <a:pt x="14" y="1074"/>
                    </a:lnTo>
                    <a:lnTo>
                      <a:pt x="9" y="1089"/>
                    </a:lnTo>
                    <a:lnTo>
                      <a:pt x="7" y="1109"/>
                    </a:lnTo>
                    <a:lnTo>
                      <a:pt x="9" y="1132"/>
                    </a:lnTo>
                    <a:lnTo>
                      <a:pt x="11" y="1155"/>
                    </a:lnTo>
                    <a:lnTo>
                      <a:pt x="20" y="1209"/>
                    </a:lnTo>
                    <a:lnTo>
                      <a:pt x="30" y="1266"/>
                    </a:lnTo>
                    <a:lnTo>
                      <a:pt x="36" y="1294"/>
                    </a:lnTo>
                    <a:lnTo>
                      <a:pt x="41" y="1323"/>
                    </a:lnTo>
                    <a:lnTo>
                      <a:pt x="44" y="1352"/>
                    </a:lnTo>
                    <a:lnTo>
                      <a:pt x="46" y="1380"/>
                    </a:lnTo>
                    <a:lnTo>
                      <a:pt x="46" y="1404"/>
                    </a:lnTo>
                    <a:lnTo>
                      <a:pt x="44" y="1429"/>
                    </a:lnTo>
                    <a:lnTo>
                      <a:pt x="43" y="1442"/>
                    </a:lnTo>
                    <a:lnTo>
                      <a:pt x="39" y="1452"/>
                    </a:lnTo>
                    <a:lnTo>
                      <a:pt x="36" y="1463"/>
                    </a:lnTo>
                    <a:lnTo>
                      <a:pt x="30" y="1471"/>
                    </a:lnTo>
                    <a:lnTo>
                      <a:pt x="70" y="1465"/>
                    </a:lnTo>
                    <a:lnTo>
                      <a:pt x="112" y="1455"/>
                    </a:lnTo>
                    <a:lnTo>
                      <a:pt x="155" y="1450"/>
                    </a:lnTo>
                    <a:lnTo>
                      <a:pt x="196" y="1445"/>
                    </a:lnTo>
                    <a:lnTo>
                      <a:pt x="234" y="1443"/>
                    </a:lnTo>
                    <a:lnTo>
                      <a:pt x="271" y="1443"/>
                    </a:lnTo>
                    <a:lnTo>
                      <a:pt x="288" y="1445"/>
                    </a:lnTo>
                    <a:lnTo>
                      <a:pt x="306" y="1448"/>
                    </a:lnTo>
                    <a:lnTo>
                      <a:pt x="320" y="1452"/>
                    </a:lnTo>
                    <a:lnTo>
                      <a:pt x="336" y="1457"/>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537080" y="1166760"/>
                <a:ext cx="1762200" cy="2400480"/>
              </a:xfrm>
              <a:custGeom>
                <a:avLst/>
                <a:gdLst/>
                <a:ahLst/>
                <a:rect l="l" t="t" r="r" b="b"/>
                <a:pathLst>
                  <a:path w="1110" h="1512">
                    <a:moveTo>
                      <a:pt x="336" y="1457"/>
                    </a:moveTo>
                    <a:lnTo>
                      <a:pt x="360" y="1466"/>
                    </a:lnTo>
                    <a:lnTo>
                      <a:pt x="382" y="1471"/>
                    </a:lnTo>
                    <a:lnTo>
                      <a:pt x="403" y="1473"/>
                    </a:lnTo>
                    <a:lnTo>
                      <a:pt x="419" y="1473"/>
                    </a:lnTo>
                    <a:lnTo>
                      <a:pt x="435" y="1469"/>
                    </a:lnTo>
                    <a:lnTo>
                      <a:pt x="448" y="1465"/>
                    </a:lnTo>
                    <a:lnTo>
                      <a:pt x="459" y="1457"/>
                    </a:lnTo>
                    <a:lnTo>
                      <a:pt x="466" y="1448"/>
                    </a:lnTo>
                    <a:lnTo>
                      <a:pt x="473" y="1438"/>
                    </a:lnTo>
                    <a:lnTo>
                      <a:pt x="477" y="1427"/>
                    </a:lnTo>
                    <a:lnTo>
                      <a:pt x="478" y="1415"/>
                    </a:lnTo>
                    <a:lnTo>
                      <a:pt x="478" y="1401"/>
                    </a:lnTo>
                    <a:lnTo>
                      <a:pt x="475" y="1388"/>
                    </a:lnTo>
                    <a:lnTo>
                      <a:pt x="469" y="1376"/>
                    </a:lnTo>
                    <a:lnTo>
                      <a:pt x="463" y="1364"/>
                    </a:lnTo>
                    <a:lnTo>
                      <a:pt x="454" y="1352"/>
                    </a:lnTo>
                    <a:lnTo>
                      <a:pt x="440" y="1336"/>
                    </a:lnTo>
                    <a:lnTo>
                      <a:pt x="429" y="1318"/>
                    </a:lnTo>
                    <a:lnTo>
                      <a:pt x="421" y="1299"/>
                    </a:lnTo>
                    <a:lnTo>
                      <a:pt x="414" y="1279"/>
                    </a:lnTo>
                    <a:lnTo>
                      <a:pt x="408" y="1258"/>
                    </a:lnTo>
                    <a:lnTo>
                      <a:pt x="406" y="1237"/>
                    </a:lnTo>
                    <a:lnTo>
                      <a:pt x="406" y="1218"/>
                    </a:lnTo>
                    <a:lnTo>
                      <a:pt x="408" y="1197"/>
                    </a:lnTo>
                    <a:lnTo>
                      <a:pt x="414" y="1179"/>
                    </a:lnTo>
                    <a:lnTo>
                      <a:pt x="421" y="1162"/>
                    </a:lnTo>
                    <a:lnTo>
                      <a:pt x="425" y="1153"/>
                    </a:lnTo>
                    <a:lnTo>
                      <a:pt x="431" y="1144"/>
                    </a:lnTo>
                    <a:lnTo>
                      <a:pt x="438" y="1137"/>
                    </a:lnTo>
                    <a:lnTo>
                      <a:pt x="445" y="1130"/>
                    </a:lnTo>
                    <a:lnTo>
                      <a:pt x="452" y="1124"/>
                    </a:lnTo>
                    <a:lnTo>
                      <a:pt x="461" y="1119"/>
                    </a:lnTo>
                    <a:lnTo>
                      <a:pt x="471" y="1114"/>
                    </a:lnTo>
                    <a:lnTo>
                      <a:pt x="480" y="1109"/>
                    </a:lnTo>
                    <a:lnTo>
                      <a:pt x="492" y="1107"/>
                    </a:lnTo>
                    <a:lnTo>
                      <a:pt x="503" y="1103"/>
                    </a:lnTo>
                    <a:lnTo>
                      <a:pt x="517" y="1101"/>
                    </a:lnTo>
                    <a:lnTo>
                      <a:pt x="530" y="1101"/>
                    </a:lnTo>
                    <a:lnTo>
                      <a:pt x="547" y="1101"/>
                    </a:lnTo>
                    <a:lnTo>
                      <a:pt x="561" y="1101"/>
                    </a:lnTo>
                    <a:lnTo>
                      <a:pt x="576" y="1103"/>
                    </a:lnTo>
                    <a:lnTo>
                      <a:pt x="589" y="1107"/>
                    </a:lnTo>
                    <a:lnTo>
                      <a:pt x="601" y="1111"/>
                    </a:lnTo>
                    <a:lnTo>
                      <a:pt x="614" y="1114"/>
                    </a:lnTo>
                    <a:lnTo>
                      <a:pt x="624" y="1119"/>
                    </a:lnTo>
                    <a:lnTo>
                      <a:pt x="635" y="1124"/>
                    </a:lnTo>
                    <a:lnTo>
                      <a:pt x="644" y="1130"/>
                    </a:lnTo>
                    <a:lnTo>
                      <a:pt x="652" y="1137"/>
                    </a:lnTo>
                    <a:lnTo>
                      <a:pt x="660" y="1144"/>
                    </a:lnTo>
                    <a:lnTo>
                      <a:pt x="666" y="1151"/>
                    </a:lnTo>
                    <a:lnTo>
                      <a:pt x="677" y="1167"/>
                    </a:lnTo>
                    <a:lnTo>
                      <a:pt x="686" y="1184"/>
                    </a:lnTo>
                    <a:lnTo>
                      <a:pt x="691" y="1202"/>
                    </a:lnTo>
                    <a:lnTo>
                      <a:pt x="694" y="1221"/>
                    </a:lnTo>
                    <a:lnTo>
                      <a:pt x="694" y="1241"/>
                    </a:lnTo>
                    <a:lnTo>
                      <a:pt x="691" y="1260"/>
                    </a:lnTo>
                    <a:lnTo>
                      <a:pt x="686" y="1278"/>
                    </a:lnTo>
                    <a:lnTo>
                      <a:pt x="679" y="1295"/>
                    </a:lnTo>
                    <a:lnTo>
                      <a:pt x="670" y="1311"/>
                    </a:lnTo>
                    <a:lnTo>
                      <a:pt x="658" y="1327"/>
                    </a:lnTo>
                    <a:lnTo>
                      <a:pt x="635" y="1354"/>
                    </a:lnTo>
                    <a:lnTo>
                      <a:pt x="619" y="1376"/>
                    </a:lnTo>
                    <a:lnTo>
                      <a:pt x="614" y="1385"/>
                    </a:lnTo>
                    <a:lnTo>
                      <a:pt x="608" y="1396"/>
                    </a:lnTo>
                    <a:lnTo>
                      <a:pt x="607" y="1404"/>
                    </a:lnTo>
                    <a:lnTo>
                      <a:pt x="607" y="1413"/>
                    </a:lnTo>
                    <a:lnTo>
                      <a:pt x="607" y="1422"/>
                    </a:lnTo>
                    <a:lnTo>
                      <a:pt x="610" y="1429"/>
                    </a:lnTo>
                    <a:lnTo>
                      <a:pt x="616" y="1436"/>
                    </a:lnTo>
                    <a:lnTo>
                      <a:pt x="622" y="1443"/>
                    </a:lnTo>
                    <a:lnTo>
                      <a:pt x="630" y="1450"/>
                    </a:lnTo>
                    <a:lnTo>
                      <a:pt x="640" y="1457"/>
                    </a:lnTo>
                    <a:lnTo>
                      <a:pt x="652" y="1465"/>
                    </a:lnTo>
                    <a:lnTo>
                      <a:pt x="668" y="1471"/>
                    </a:lnTo>
                    <a:lnTo>
                      <a:pt x="686" y="1478"/>
                    </a:lnTo>
                    <a:lnTo>
                      <a:pt x="709" y="1486"/>
                    </a:lnTo>
                    <a:lnTo>
                      <a:pt x="732" y="1492"/>
                    </a:lnTo>
                    <a:lnTo>
                      <a:pt x="756" y="1497"/>
                    </a:lnTo>
                    <a:lnTo>
                      <a:pt x="782" y="1503"/>
                    </a:lnTo>
                    <a:lnTo>
                      <a:pt x="809" y="1507"/>
                    </a:lnTo>
                    <a:lnTo>
                      <a:pt x="837" y="1510"/>
                    </a:lnTo>
                    <a:lnTo>
                      <a:pt x="864" y="1512"/>
                    </a:lnTo>
                    <a:lnTo>
                      <a:pt x="891" y="1512"/>
                    </a:lnTo>
                    <a:lnTo>
                      <a:pt x="920" y="1512"/>
                    </a:lnTo>
                    <a:lnTo>
                      <a:pt x="946" y="1510"/>
                    </a:lnTo>
                    <a:lnTo>
                      <a:pt x="971" y="1505"/>
                    </a:lnTo>
                    <a:lnTo>
                      <a:pt x="994" y="1499"/>
                    </a:lnTo>
                    <a:lnTo>
                      <a:pt x="1017" y="1492"/>
                    </a:lnTo>
                    <a:lnTo>
                      <a:pt x="1036" y="1484"/>
                    </a:lnTo>
                    <a:lnTo>
                      <a:pt x="1053" y="1471"/>
                    </a:lnTo>
                    <a:lnTo>
                      <a:pt x="1050" y="1450"/>
                    </a:lnTo>
                    <a:lnTo>
                      <a:pt x="1046" y="1429"/>
                    </a:lnTo>
                    <a:lnTo>
                      <a:pt x="1043" y="1406"/>
                    </a:lnTo>
                    <a:lnTo>
                      <a:pt x="1043" y="1381"/>
                    </a:lnTo>
                    <a:lnTo>
                      <a:pt x="1041" y="1331"/>
                    </a:lnTo>
                    <a:lnTo>
                      <a:pt x="1043" y="1279"/>
                    </a:lnTo>
                    <a:lnTo>
                      <a:pt x="1046" y="1230"/>
                    </a:lnTo>
                    <a:lnTo>
                      <a:pt x="1050" y="1186"/>
                    </a:lnTo>
                    <a:lnTo>
                      <a:pt x="1053" y="1149"/>
                    </a:lnTo>
                    <a:lnTo>
                      <a:pt x="1053" y="1119"/>
                    </a:lnTo>
                    <a:lnTo>
                      <a:pt x="1053" y="1109"/>
                    </a:lnTo>
                    <a:lnTo>
                      <a:pt x="1048" y="1098"/>
                    </a:lnTo>
                    <a:lnTo>
                      <a:pt x="1043" y="1088"/>
                    </a:lnTo>
                    <a:lnTo>
                      <a:pt x="1034" y="1077"/>
                    </a:lnTo>
                    <a:lnTo>
                      <a:pt x="1025" y="1068"/>
                    </a:lnTo>
                    <a:lnTo>
                      <a:pt x="1013" y="1061"/>
                    </a:lnTo>
                    <a:lnTo>
                      <a:pt x="1000" y="1054"/>
                    </a:lnTo>
                    <a:lnTo>
                      <a:pt x="988" y="1049"/>
                    </a:lnTo>
                    <a:lnTo>
                      <a:pt x="975" y="1046"/>
                    </a:lnTo>
                    <a:lnTo>
                      <a:pt x="960" y="1042"/>
                    </a:lnTo>
                    <a:lnTo>
                      <a:pt x="948" y="1042"/>
                    </a:lnTo>
                    <a:lnTo>
                      <a:pt x="933" y="1042"/>
                    </a:lnTo>
                    <a:lnTo>
                      <a:pt x="921" y="1046"/>
                    </a:lnTo>
                    <a:lnTo>
                      <a:pt x="910" y="1051"/>
                    </a:lnTo>
                    <a:lnTo>
                      <a:pt x="899" y="1057"/>
                    </a:lnTo>
                    <a:lnTo>
                      <a:pt x="889" y="1067"/>
                    </a:lnTo>
                    <a:lnTo>
                      <a:pt x="879" y="1075"/>
                    </a:lnTo>
                    <a:lnTo>
                      <a:pt x="867" y="1084"/>
                    </a:lnTo>
                    <a:lnTo>
                      <a:pt x="853" y="1089"/>
                    </a:lnTo>
                    <a:lnTo>
                      <a:pt x="837" y="1093"/>
                    </a:lnTo>
                    <a:lnTo>
                      <a:pt x="820" y="1095"/>
                    </a:lnTo>
                    <a:lnTo>
                      <a:pt x="802" y="1093"/>
                    </a:lnTo>
                    <a:lnTo>
                      <a:pt x="782" y="1091"/>
                    </a:lnTo>
                    <a:lnTo>
                      <a:pt x="765" y="1086"/>
                    </a:lnTo>
                    <a:lnTo>
                      <a:pt x="748" y="1079"/>
                    </a:lnTo>
                    <a:lnTo>
                      <a:pt x="730" y="1068"/>
                    </a:lnTo>
                    <a:lnTo>
                      <a:pt x="714" y="1057"/>
                    </a:lnTo>
                    <a:lnTo>
                      <a:pt x="700" y="1044"/>
                    </a:lnTo>
                    <a:lnTo>
                      <a:pt x="694" y="1035"/>
                    </a:lnTo>
                    <a:lnTo>
                      <a:pt x="689" y="1026"/>
                    </a:lnTo>
                    <a:lnTo>
                      <a:pt x="684" y="1017"/>
                    </a:lnTo>
                    <a:lnTo>
                      <a:pt x="681" y="1007"/>
                    </a:lnTo>
                    <a:lnTo>
                      <a:pt x="677" y="996"/>
                    </a:lnTo>
                    <a:lnTo>
                      <a:pt x="675" y="986"/>
                    </a:lnTo>
                    <a:lnTo>
                      <a:pt x="673" y="973"/>
                    </a:lnTo>
                    <a:lnTo>
                      <a:pt x="673" y="961"/>
                    </a:lnTo>
                    <a:lnTo>
                      <a:pt x="673" y="946"/>
                    </a:lnTo>
                    <a:lnTo>
                      <a:pt x="675" y="933"/>
                    </a:lnTo>
                    <a:lnTo>
                      <a:pt x="677" y="919"/>
                    </a:lnTo>
                    <a:lnTo>
                      <a:pt x="681" y="906"/>
                    </a:lnTo>
                    <a:lnTo>
                      <a:pt x="684" y="896"/>
                    </a:lnTo>
                    <a:lnTo>
                      <a:pt x="689" y="885"/>
                    </a:lnTo>
                    <a:lnTo>
                      <a:pt x="694" y="875"/>
                    </a:lnTo>
                    <a:lnTo>
                      <a:pt x="702" y="866"/>
                    </a:lnTo>
                    <a:lnTo>
                      <a:pt x="716" y="850"/>
                    </a:lnTo>
                    <a:lnTo>
                      <a:pt x="733" y="836"/>
                    </a:lnTo>
                    <a:lnTo>
                      <a:pt x="751" y="826"/>
                    </a:lnTo>
                    <a:lnTo>
                      <a:pt x="770" y="818"/>
                    </a:lnTo>
                    <a:lnTo>
                      <a:pt x="790" y="813"/>
                    </a:lnTo>
                    <a:lnTo>
                      <a:pt x="809" y="810"/>
                    </a:lnTo>
                    <a:lnTo>
                      <a:pt x="828" y="810"/>
                    </a:lnTo>
                    <a:lnTo>
                      <a:pt x="847" y="813"/>
                    </a:lnTo>
                    <a:lnTo>
                      <a:pt x="866" y="816"/>
                    </a:lnTo>
                    <a:lnTo>
                      <a:pt x="883" y="824"/>
                    </a:lnTo>
                    <a:lnTo>
                      <a:pt x="897" y="833"/>
                    </a:lnTo>
                    <a:lnTo>
                      <a:pt x="910" y="843"/>
                    </a:lnTo>
                    <a:lnTo>
                      <a:pt x="916" y="850"/>
                    </a:lnTo>
                    <a:lnTo>
                      <a:pt x="925" y="857"/>
                    </a:lnTo>
                    <a:lnTo>
                      <a:pt x="935" y="864"/>
                    </a:lnTo>
                    <a:lnTo>
                      <a:pt x="944" y="868"/>
                    </a:lnTo>
                    <a:lnTo>
                      <a:pt x="956" y="873"/>
                    </a:lnTo>
                    <a:lnTo>
                      <a:pt x="967" y="875"/>
                    </a:lnTo>
                    <a:lnTo>
                      <a:pt x="979" y="877"/>
                    </a:lnTo>
                    <a:lnTo>
                      <a:pt x="992" y="878"/>
                    </a:lnTo>
                    <a:lnTo>
                      <a:pt x="1004" y="878"/>
                    </a:lnTo>
                    <a:lnTo>
                      <a:pt x="1017" y="877"/>
                    </a:lnTo>
                    <a:lnTo>
                      <a:pt x="1028" y="873"/>
                    </a:lnTo>
                    <a:lnTo>
                      <a:pt x="1041" y="869"/>
                    </a:lnTo>
                    <a:lnTo>
                      <a:pt x="1053" y="866"/>
                    </a:lnTo>
                    <a:lnTo>
                      <a:pt x="1066" y="859"/>
                    </a:lnTo>
                    <a:lnTo>
                      <a:pt x="1076" y="852"/>
                    </a:lnTo>
                    <a:lnTo>
                      <a:pt x="1089" y="843"/>
                    </a:lnTo>
                    <a:lnTo>
                      <a:pt x="1092" y="837"/>
                    </a:lnTo>
                    <a:lnTo>
                      <a:pt x="1097" y="833"/>
                    </a:lnTo>
                    <a:lnTo>
                      <a:pt x="1101" y="826"/>
                    </a:lnTo>
                    <a:lnTo>
                      <a:pt x="1103" y="816"/>
                    </a:lnTo>
                    <a:lnTo>
                      <a:pt x="1108" y="799"/>
                    </a:lnTo>
                    <a:lnTo>
                      <a:pt x="1110" y="778"/>
                    </a:lnTo>
                    <a:lnTo>
                      <a:pt x="1110" y="753"/>
                    </a:lnTo>
                    <a:lnTo>
                      <a:pt x="1110" y="728"/>
                    </a:lnTo>
                    <a:lnTo>
                      <a:pt x="1106" y="702"/>
                    </a:lnTo>
                    <a:lnTo>
                      <a:pt x="1103" y="676"/>
                    </a:lnTo>
                    <a:lnTo>
                      <a:pt x="1092" y="619"/>
                    </a:lnTo>
                    <a:lnTo>
                      <a:pt x="1080" y="569"/>
                    </a:lnTo>
                    <a:lnTo>
                      <a:pt x="1066" y="523"/>
                    </a:lnTo>
                    <a:lnTo>
                      <a:pt x="1053" y="487"/>
                    </a:lnTo>
                    <a:lnTo>
                      <a:pt x="1025" y="493"/>
                    </a:lnTo>
                    <a:lnTo>
                      <a:pt x="996" y="496"/>
                    </a:lnTo>
                    <a:lnTo>
                      <a:pt x="965" y="500"/>
                    </a:lnTo>
                    <a:lnTo>
                      <a:pt x="933" y="500"/>
                    </a:lnTo>
                    <a:lnTo>
                      <a:pt x="904" y="500"/>
                    </a:lnTo>
                    <a:lnTo>
                      <a:pt x="874" y="498"/>
                    </a:lnTo>
                    <a:lnTo>
                      <a:pt x="844" y="496"/>
                    </a:lnTo>
                    <a:lnTo>
                      <a:pt x="818" y="493"/>
                    </a:lnTo>
                    <a:lnTo>
                      <a:pt x="767" y="485"/>
                    </a:lnTo>
                    <a:lnTo>
                      <a:pt x="726" y="479"/>
                    </a:lnTo>
                    <a:lnTo>
                      <a:pt x="700" y="473"/>
                    </a:lnTo>
                    <a:lnTo>
                      <a:pt x="691" y="472"/>
                    </a:lnTo>
                    <a:lnTo>
                      <a:pt x="668" y="461"/>
                    </a:lnTo>
                    <a:lnTo>
                      <a:pt x="649" y="449"/>
                    </a:lnTo>
                    <a:lnTo>
                      <a:pt x="631" y="437"/>
                    </a:lnTo>
                    <a:lnTo>
                      <a:pt x="619" y="422"/>
                    </a:lnTo>
                    <a:lnTo>
                      <a:pt x="608" y="407"/>
                    </a:lnTo>
                    <a:lnTo>
                      <a:pt x="601" y="391"/>
                    </a:lnTo>
                    <a:lnTo>
                      <a:pt x="597" y="375"/>
                    </a:lnTo>
                    <a:lnTo>
                      <a:pt x="593" y="359"/>
                    </a:lnTo>
                    <a:lnTo>
                      <a:pt x="593" y="342"/>
                    </a:lnTo>
                    <a:lnTo>
                      <a:pt x="595" y="326"/>
                    </a:lnTo>
                    <a:lnTo>
                      <a:pt x="598" y="309"/>
                    </a:lnTo>
                    <a:lnTo>
                      <a:pt x="603" y="296"/>
                    </a:lnTo>
                    <a:lnTo>
                      <a:pt x="608" y="282"/>
                    </a:lnTo>
                    <a:lnTo>
                      <a:pt x="618" y="269"/>
                    </a:lnTo>
                    <a:lnTo>
                      <a:pt x="628" y="257"/>
                    </a:lnTo>
                    <a:lnTo>
                      <a:pt x="639" y="248"/>
                    </a:lnTo>
                    <a:lnTo>
                      <a:pt x="649" y="238"/>
                    </a:lnTo>
                    <a:lnTo>
                      <a:pt x="658" y="223"/>
                    </a:lnTo>
                    <a:lnTo>
                      <a:pt x="666" y="208"/>
                    </a:lnTo>
                    <a:lnTo>
                      <a:pt x="673" y="188"/>
                    </a:lnTo>
                    <a:lnTo>
                      <a:pt x="679" y="169"/>
                    </a:lnTo>
                    <a:lnTo>
                      <a:pt x="681" y="148"/>
                    </a:lnTo>
                    <a:lnTo>
                      <a:pt x="683" y="127"/>
                    </a:lnTo>
                    <a:lnTo>
                      <a:pt x="679" y="106"/>
                    </a:lnTo>
                    <a:lnTo>
                      <a:pt x="673" y="85"/>
                    </a:lnTo>
                    <a:lnTo>
                      <a:pt x="666" y="65"/>
                    </a:lnTo>
                    <a:lnTo>
                      <a:pt x="662" y="56"/>
                    </a:lnTo>
                    <a:lnTo>
                      <a:pt x="654" y="47"/>
                    </a:lnTo>
                    <a:lnTo>
                      <a:pt x="647" y="39"/>
                    </a:lnTo>
                    <a:lnTo>
                      <a:pt x="639" y="32"/>
                    </a:lnTo>
                    <a:lnTo>
                      <a:pt x="630" y="24"/>
                    </a:lnTo>
                    <a:lnTo>
                      <a:pt x="619" y="18"/>
                    </a:lnTo>
                    <a:lnTo>
                      <a:pt x="607" y="12"/>
                    </a:lnTo>
                    <a:lnTo>
                      <a:pt x="595" y="9"/>
                    </a:lnTo>
                    <a:lnTo>
                      <a:pt x="580" y="3"/>
                    </a:lnTo>
                    <a:lnTo>
                      <a:pt x="566" y="1"/>
                    </a:lnTo>
                    <a:lnTo>
                      <a:pt x="551" y="0"/>
                    </a:lnTo>
                    <a:lnTo>
                      <a:pt x="532" y="0"/>
                    </a:lnTo>
                    <a:lnTo>
                      <a:pt x="517" y="0"/>
                    </a:lnTo>
                    <a:lnTo>
                      <a:pt x="501" y="1"/>
                    </a:lnTo>
                    <a:lnTo>
                      <a:pt x="488" y="3"/>
                    </a:lnTo>
                    <a:lnTo>
                      <a:pt x="475" y="7"/>
                    </a:lnTo>
                    <a:lnTo>
                      <a:pt x="463" y="10"/>
                    </a:lnTo>
                    <a:lnTo>
                      <a:pt x="450" y="14"/>
                    </a:lnTo>
                    <a:lnTo>
                      <a:pt x="440" y="20"/>
                    </a:lnTo>
                    <a:lnTo>
                      <a:pt x="429" y="26"/>
                    </a:lnTo>
                    <a:lnTo>
                      <a:pt x="421" y="32"/>
                    </a:lnTo>
                    <a:lnTo>
                      <a:pt x="412" y="39"/>
                    </a:lnTo>
                    <a:lnTo>
                      <a:pt x="404" y="45"/>
                    </a:lnTo>
                    <a:lnTo>
                      <a:pt x="398" y="55"/>
                    </a:lnTo>
                    <a:lnTo>
                      <a:pt x="387" y="70"/>
                    </a:lnTo>
                    <a:lnTo>
                      <a:pt x="378" y="89"/>
                    </a:lnTo>
                    <a:lnTo>
                      <a:pt x="373" y="108"/>
                    </a:lnTo>
                    <a:lnTo>
                      <a:pt x="371" y="129"/>
                    </a:lnTo>
                    <a:lnTo>
                      <a:pt x="371" y="148"/>
                    </a:lnTo>
                    <a:lnTo>
                      <a:pt x="373" y="167"/>
                    </a:lnTo>
                    <a:lnTo>
                      <a:pt x="378" y="187"/>
                    </a:lnTo>
                    <a:lnTo>
                      <a:pt x="387" y="204"/>
                    </a:lnTo>
                    <a:lnTo>
                      <a:pt x="398" y="220"/>
                    </a:lnTo>
                    <a:lnTo>
                      <a:pt x="410" y="236"/>
                    </a:lnTo>
                    <a:lnTo>
                      <a:pt x="422" y="250"/>
                    </a:lnTo>
                    <a:lnTo>
                      <a:pt x="433" y="265"/>
                    </a:lnTo>
                    <a:lnTo>
                      <a:pt x="442" y="282"/>
                    </a:lnTo>
                    <a:lnTo>
                      <a:pt x="446" y="297"/>
                    </a:lnTo>
                    <a:lnTo>
                      <a:pt x="450" y="315"/>
                    </a:lnTo>
                    <a:lnTo>
                      <a:pt x="450" y="332"/>
                    </a:lnTo>
                    <a:lnTo>
                      <a:pt x="448" y="350"/>
                    </a:lnTo>
                    <a:lnTo>
                      <a:pt x="444" y="366"/>
                    </a:lnTo>
                    <a:lnTo>
                      <a:pt x="436" y="384"/>
                    </a:lnTo>
                    <a:lnTo>
                      <a:pt x="425" y="399"/>
                    </a:lnTo>
                    <a:lnTo>
                      <a:pt x="414" y="414"/>
                    </a:lnTo>
                    <a:lnTo>
                      <a:pt x="398" y="429"/>
                    </a:lnTo>
                    <a:lnTo>
                      <a:pt x="380" y="441"/>
                    </a:lnTo>
                    <a:lnTo>
                      <a:pt x="359" y="452"/>
                    </a:lnTo>
                    <a:lnTo>
                      <a:pt x="334" y="462"/>
                    </a:lnTo>
                    <a:lnTo>
                      <a:pt x="308" y="472"/>
                    </a:lnTo>
                    <a:lnTo>
                      <a:pt x="287" y="472"/>
                    </a:lnTo>
                    <a:lnTo>
                      <a:pt x="259" y="472"/>
                    </a:lnTo>
                    <a:lnTo>
                      <a:pt x="229" y="472"/>
                    </a:lnTo>
                    <a:lnTo>
                      <a:pt x="194" y="472"/>
                    </a:lnTo>
                    <a:lnTo>
                      <a:pt x="156" y="472"/>
                    </a:lnTo>
                    <a:lnTo>
                      <a:pt x="116" y="472"/>
                    </a:lnTo>
                    <a:lnTo>
                      <a:pt x="74" y="472"/>
                    </a:lnTo>
                    <a:lnTo>
                      <a:pt x="30" y="472"/>
                    </a:lnTo>
                    <a:lnTo>
                      <a:pt x="25" y="502"/>
                    </a:lnTo>
                    <a:lnTo>
                      <a:pt x="18" y="544"/>
                    </a:lnTo>
                    <a:lnTo>
                      <a:pt x="13" y="590"/>
                    </a:lnTo>
                    <a:lnTo>
                      <a:pt x="7" y="638"/>
                    </a:lnTo>
                    <a:lnTo>
                      <a:pt x="2" y="686"/>
                    </a:lnTo>
                    <a:lnTo>
                      <a:pt x="0" y="730"/>
                    </a:lnTo>
                    <a:lnTo>
                      <a:pt x="0" y="764"/>
                    </a:lnTo>
                    <a:lnTo>
                      <a:pt x="0" y="787"/>
                    </a:lnTo>
                    <a:lnTo>
                      <a:pt x="5" y="799"/>
                    </a:lnTo>
                    <a:lnTo>
                      <a:pt x="11" y="811"/>
                    </a:lnTo>
                    <a:lnTo>
                      <a:pt x="20" y="820"/>
                    </a:lnTo>
                    <a:lnTo>
                      <a:pt x="30" y="829"/>
                    </a:lnTo>
                    <a:lnTo>
                      <a:pt x="43" y="837"/>
                    </a:lnTo>
                    <a:lnTo>
                      <a:pt x="57" y="843"/>
                    </a:lnTo>
                    <a:lnTo>
                      <a:pt x="72" y="848"/>
                    </a:lnTo>
                    <a:lnTo>
                      <a:pt x="87" y="852"/>
                    </a:lnTo>
                    <a:lnTo>
                      <a:pt x="104" y="854"/>
                    </a:lnTo>
                    <a:lnTo>
                      <a:pt x="120" y="855"/>
                    </a:lnTo>
                    <a:lnTo>
                      <a:pt x="135" y="854"/>
                    </a:lnTo>
                    <a:lnTo>
                      <a:pt x="152" y="852"/>
                    </a:lnTo>
                    <a:lnTo>
                      <a:pt x="167" y="848"/>
                    </a:lnTo>
                    <a:lnTo>
                      <a:pt x="181" y="841"/>
                    </a:lnTo>
                    <a:lnTo>
                      <a:pt x="194" y="834"/>
                    </a:lnTo>
                    <a:lnTo>
                      <a:pt x="206" y="826"/>
                    </a:lnTo>
                    <a:lnTo>
                      <a:pt x="217" y="814"/>
                    </a:lnTo>
                    <a:lnTo>
                      <a:pt x="230" y="808"/>
                    </a:lnTo>
                    <a:lnTo>
                      <a:pt x="244" y="803"/>
                    </a:lnTo>
                    <a:lnTo>
                      <a:pt x="261" y="801"/>
                    </a:lnTo>
                    <a:lnTo>
                      <a:pt x="278" y="799"/>
                    </a:lnTo>
                    <a:lnTo>
                      <a:pt x="294" y="801"/>
                    </a:lnTo>
                    <a:lnTo>
                      <a:pt x="311" y="804"/>
                    </a:lnTo>
                    <a:lnTo>
                      <a:pt x="329" y="811"/>
                    </a:lnTo>
                    <a:lnTo>
                      <a:pt x="345" y="820"/>
                    </a:lnTo>
                    <a:lnTo>
                      <a:pt x="360" y="831"/>
                    </a:lnTo>
                    <a:lnTo>
                      <a:pt x="373" y="843"/>
                    </a:lnTo>
                    <a:lnTo>
                      <a:pt x="385" y="859"/>
                    </a:lnTo>
                    <a:lnTo>
                      <a:pt x="396" y="877"/>
                    </a:lnTo>
                    <a:lnTo>
                      <a:pt x="403" y="896"/>
                    </a:lnTo>
                    <a:lnTo>
                      <a:pt x="408" y="919"/>
                    </a:lnTo>
                    <a:lnTo>
                      <a:pt x="410" y="942"/>
                    </a:lnTo>
                    <a:lnTo>
                      <a:pt x="408" y="959"/>
                    </a:lnTo>
                    <a:lnTo>
                      <a:pt x="403" y="975"/>
                    </a:lnTo>
                    <a:lnTo>
                      <a:pt x="396" y="991"/>
                    </a:lnTo>
                    <a:lnTo>
                      <a:pt x="385" y="1003"/>
                    </a:lnTo>
                    <a:lnTo>
                      <a:pt x="373" y="1015"/>
                    </a:lnTo>
                    <a:lnTo>
                      <a:pt x="360" y="1026"/>
                    </a:lnTo>
                    <a:lnTo>
                      <a:pt x="345" y="1035"/>
                    </a:lnTo>
                    <a:lnTo>
                      <a:pt x="329" y="1042"/>
                    </a:lnTo>
                    <a:lnTo>
                      <a:pt x="311" y="1047"/>
                    </a:lnTo>
                    <a:lnTo>
                      <a:pt x="294" y="1051"/>
                    </a:lnTo>
                    <a:lnTo>
                      <a:pt x="278" y="1051"/>
                    </a:lnTo>
                    <a:lnTo>
                      <a:pt x="261" y="1049"/>
                    </a:lnTo>
                    <a:lnTo>
                      <a:pt x="244" y="1046"/>
                    </a:lnTo>
                    <a:lnTo>
                      <a:pt x="230" y="1038"/>
                    </a:lnTo>
                    <a:lnTo>
                      <a:pt x="217" y="1030"/>
                    </a:lnTo>
                    <a:lnTo>
                      <a:pt x="206" y="1017"/>
                    </a:lnTo>
                    <a:lnTo>
                      <a:pt x="196" y="1005"/>
                    </a:lnTo>
                    <a:lnTo>
                      <a:pt x="183" y="996"/>
                    </a:lnTo>
                    <a:lnTo>
                      <a:pt x="171" y="989"/>
                    </a:lnTo>
                    <a:lnTo>
                      <a:pt x="158" y="984"/>
                    </a:lnTo>
                    <a:lnTo>
                      <a:pt x="144" y="982"/>
                    </a:lnTo>
                    <a:lnTo>
                      <a:pt x="131" y="982"/>
                    </a:lnTo>
                    <a:lnTo>
                      <a:pt x="116" y="984"/>
                    </a:lnTo>
                    <a:lnTo>
                      <a:pt x="102" y="987"/>
                    </a:lnTo>
                    <a:lnTo>
                      <a:pt x="88" y="994"/>
                    </a:lnTo>
                    <a:lnTo>
                      <a:pt x="74" y="1002"/>
                    </a:lnTo>
                    <a:lnTo>
                      <a:pt x="62" y="1010"/>
                    </a:lnTo>
                    <a:lnTo>
                      <a:pt x="49" y="1021"/>
                    </a:lnTo>
                    <a:lnTo>
                      <a:pt x="39" y="1031"/>
                    </a:lnTo>
                    <a:lnTo>
                      <a:pt x="28" y="1044"/>
                    </a:lnTo>
                    <a:lnTo>
                      <a:pt x="20" y="1057"/>
                    </a:lnTo>
                    <a:lnTo>
                      <a:pt x="14" y="1074"/>
                    </a:lnTo>
                    <a:lnTo>
                      <a:pt x="9" y="1089"/>
                    </a:lnTo>
                    <a:lnTo>
                      <a:pt x="7" y="1109"/>
                    </a:lnTo>
                    <a:lnTo>
                      <a:pt x="9" y="1132"/>
                    </a:lnTo>
                    <a:lnTo>
                      <a:pt x="11" y="1155"/>
                    </a:lnTo>
                    <a:lnTo>
                      <a:pt x="20" y="1209"/>
                    </a:lnTo>
                    <a:lnTo>
                      <a:pt x="30" y="1266"/>
                    </a:lnTo>
                    <a:lnTo>
                      <a:pt x="36" y="1294"/>
                    </a:lnTo>
                    <a:lnTo>
                      <a:pt x="41" y="1323"/>
                    </a:lnTo>
                    <a:lnTo>
                      <a:pt x="44" y="1352"/>
                    </a:lnTo>
                    <a:lnTo>
                      <a:pt x="46" y="1380"/>
                    </a:lnTo>
                    <a:lnTo>
                      <a:pt x="46" y="1404"/>
                    </a:lnTo>
                    <a:lnTo>
                      <a:pt x="44" y="1429"/>
                    </a:lnTo>
                    <a:lnTo>
                      <a:pt x="43" y="1442"/>
                    </a:lnTo>
                    <a:lnTo>
                      <a:pt x="39" y="1452"/>
                    </a:lnTo>
                    <a:lnTo>
                      <a:pt x="36" y="1463"/>
                    </a:lnTo>
                    <a:lnTo>
                      <a:pt x="30" y="1471"/>
                    </a:lnTo>
                    <a:lnTo>
                      <a:pt x="70" y="1465"/>
                    </a:lnTo>
                    <a:lnTo>
                      <a:pt x="112" y="1455"/>
                    </a:lnTo>
                    <a:lnTo>
                      <a:pt x="155" y="1450"/>
                    </a:lnTo>
                    <a:lnTo>
                      <a:pt x="196" y="1445"/>
                    </a:lnTo>
                    <a:lnTo>
                      <a:pt x="234" y="1443"/>
                    </a:lnTo>
                    <a:lnTo>
                      <a:pt x="271" y="1443"/>
                    </a:lnTo>
                    <a:lnTo>
                      <a:pt x="288" y="1445"/>
                    </a:lnTo>
                    <a:lnTo>
                      <a:pt x="306" y="1448"/>
                    </a:lnTo>
                    <a:lnTo>
                      <a:pt x="320" y="1452"/>
                    </a:lnTo>
                    <a:lnTo>
                      <a:pt x="336" y="1457"/>
                    </a:lnTo>
                    <a:close/>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
            <p:cNvSpPr/>
            <p:nvPr/>
          </p:nvSpPr>
          <p:spPr>
            <a:xfrm>
              <a:off x="4988160" y="2035080"/>
              <a:ext cx="83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LICY</a:t>
              </a:r>
              <a:endParaRPr b="0" lang="en-US" sz="1800" spc="-1" strike="noStrike">
                <a:solidFill>
                  <a:srgbClr val="000000"/>
                </a:solidFill>
                <a:latin typeface="Arial"/>
              </a:endParaRPr>
            </a:p>
          </p:txBody>
        </p:sp>
      </p:grpSp>
      <p:grpSp>
        <p:nvGrpSpPr>
          <p:cNvPr id="266" name=""/>
          <p:cNvGrpSpPr/>
          <p:nvPr/>
        </p:nvGrpSpPr>
        <p:grpSpPr>
          <a:xfrm>
            <a:off x="4014720" y="2917800"/>
            <a:ext cx="5016600" cy="3467880"/>
            <a:chOff x="4014720" y="2917800"/>
            <a:chExt cx="5016600" cy="3467880"/>
          </a:xfrm>
        </p:grpSpPr>
        <p:sp>
          <p:nvSpPr>
            <p:cNvPr id="267" name=""/>
            <p:cNvSpPr/>
            <p:nvPr/>
          </p:nvSpPr>
          <p:spPr>
            <a:xfrm>
              <a:off x="7169040" y="3622680"/>
              <a:ext cx="1843200" cy="1063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6845400" y="3556080"/>
              <a:ext cx="218592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 a lasting crop protection community of research</a:t>
              </a:r>
              <a:r>
                <a:rPr b="0" lang="en-GB" sz="1800" spc="-1" strike="noStrike">
                  <a:solidFill>
                    <a:srgbClr val="000000"/>
                  </a:solidFill>
                  <a:latin typeface="Arial"/>
                </a:rPr>
                <a: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e a coherent research strategy,</a:t>
              </a:r>
              <a:endParaRPr b="0" lang="en-US" sz="1800" spc="-1" strike="noStrike">
                <a:solidFill>
                  <a:srgbClr val="000000"/>
                </a:solidFill>
                <a:latin typeface="Arial"/>
              </a:endParaRPr>
            </a:p>
          </p:txBody>
        </p:sp>
        <p:sp>
          <p:nvSpPr>
            <p:cNvPr id="269" name=""/>
            <p:cNvSpPr/>
            <p:nvPr/>
          </p:nvSpPr>
          <p:spPr>
            <a:xfrm>
              <a:off x="4373640" y="5194440"/>
              <a:ext cx="46576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the Network internal structure, and Develop links with scientific community</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earch, Integration and Spreading Activities</a:t>
              </a:r>
              <a:endParaRPr b="0" lang="en-US" sz="1800" spc="-1" strike="noStrike">
                <a:solidFill>
                  <a:srgbClr val="000000"/>
                </a:solidFill>
                <a:latin typeface="Arial"/>
              </a:endParaRPr>
            </a:p>
          </p:txBody>
        </p:sp>
        <p:grpSp>
          <p:nvGrpSpPr>
            <p:cNvPr id="270" name=""/>
            <p:cNvGrpSpPr/>
            <p:nvPr/>
          </p:nvGrpSpPr>
          <p:grpSpPr>
            <a:xfrm>
              <a:off x="4014720" y="2917800"/>
              <a:ext cx="2819520" cy="2182680"/>
              <a:chOff x="4014720" y="2917800"/>
              <a:chExt cx="2819520" cy="2182680"/>
            </a:xfrm>
          </p:grpSpPr>
          <p:sp>
            <p:nvSpPr>
              <p:cNvPr id="271" name=""/>
              <p:cNvSpPr/>
              <p:nvPr/>
            </p:nvSpPr>
            <p:spPr>
              <a:xfrm>
                <a:off x="4014720" y="2917800"/>
                <a:ext cx="2819520" cy="2182680"/>
              </a:xfrm>
              <a:custGeom>
                <a:avLst/>
                <a:gdLst/>
                <a:ahLst/>
                <a:rect l="l" t="t" r="r" b="b"/>
                <a:pathLst>
                  <a:path w="1776" h="1375">
                    <a:moveTo>
                      <a:pt x="349" y="785"/>
                    </a:moveTo>
                    <a:lnTo>
                      <a:pt x="340" y="792"/>
                    </a:lnTo>
                    <a:lnTo>
                      <a:pt x="329" y="800"/>
                    </a:lnTo>
                    <a:lnTo>
                      <a:pt x="320" y="803"/>
                    </a:lnTo>
                    <a:lnTo>
                      <a:pt x="310" y="807"/>
                    </a:lnTo>
                    <a:lnTo>
                      <a:pt x="299" y="807"/>
                    </a:lnTo>
                    <a:lnTo>
                      <a:pt x="289" y="807"/>
                    </a:lnTo>
                    <a:lnTo>
                      <a:pt x="279" y="805"/>
                    </a:lnTo>
                    <a:lnTo>
                      <a:pt x="270" y="802"/>
                    </a:lnTo>
                    <a:lnTo>
                      <a:pt x="248" y="794"/>
                    </a:lnTo>
                    <a:lnTo>
                      <a:pt x="229" y="784"/>
                    </a:lnTo>
                    <a:lnTo>
                      <a:pt x="208" y="772"/>
                    </a:lnTo>
                    <a:lnTo>
                      <a:pt x="188" y="762"/>
                    </a:lnTo>
                    <a:lnTo>
                      <a:pt x="167" y="751"/>
                    </a:lnTo>
                    <a:lnTo>
                      <a:pt x="145" y="742"/>
                    </a:lnTo>
                    <a:lnTo>
                      <a:pt x="134" y="741"/>
                    </a:lnTo>
                    <a:lnTo>
                      <a:pt x="124" y="739"/>
                    </a:lnTo>
                    <a:lnTo>
                      <a:pt x="113" y="739"/>
                    </a:lnTo>
                    <a:lnTo>
                      <a:pt x="103" y="739"/>
                    </a:lnTo>
                    <a:lnTo>
                      <a:pt x="91" y="741"/>
                    </a:lnTo>
                    <a:lnTo>
                      <a:pt x="79" y="746"/>
                    </a:lnTo>
                    <a:lnTo>
                      <a:pt x="68" y="751"/>
                    </a:lnTo>
                    <a:lnTo>
                      <a:pt x="58" y="760"/>
                    </a:lnTo>
                    <a:lnTo>
                      <a:pt x="45" y="768"/>
                    </a:lnTo>
                    <a:lnTo>
                      <a:pt x="35" y="781"/>
                    </a:lnTo>
                    <a:lnTo>
                      <a:pt x="22" y="796"/>
                    </a:lnTo>
                    <a:lnTo>
                      <a:pt x="12" y="813"/>
                    </a:lnTo>
                    <a:lnTo>
                      <a:pt x="6" y="824"/>
                    </a:lnTo>
                    <a:lnTo>
                      <a:pt x="2" y="836"/>
                    </a:lnTo>
                    <a:lnTo>
                      <a:pt x="0" y="851"/>
                    </a:lnTo>
                    <a:lnTo>
                      <a:pt x="0" y="867"/>
                    </a:lnTo>
                    <a:lnTo>
                      <a:pt x="2" y="883"/>
                    </a:lnTo>
                    <a:lnTo>
                      <a:pt x="8" y="900"/>
                    </a:lnTo>
                    <a:lnTo>
                      <a:pt x="15" y="916"/>
                    </a:lnTo>
                    <a:lnTo>
                      <a:pt x="24" y="931"/>
                    </a:lnTo>
                    <a:lnTo>
                      <a:pt x="37" y="945"/>
                    </a:lnTo>
                    <a:lnTo>
                      <a:pt x="50" y="957"/>
                    </a:lnTo>
                    <a:lnTo>
                      <a:pt x="60" y="962"/>
                    </a:lnTo>
                    <a:lnTo>
                      <a:pt x="68" y="967"/>
                    </a:lnTo>
                    <a:lnTo>
                      <a:pt x="77" y="971"/>
                    </a:lnTo>
                    <a:lnTo>
                      <a:pt x="89" y="975"/>
                    </a:lnTo>
                    <a:lnTo>
                      <a:pt x="99" y="976"/>
                    </a:lnTo>
                    <a:lnTo>
                      <a:pt x="111" y="978"/>
                    </a:lnTo>
                    <a:lnTo>
                      <a:pt x="124" y="978"/>
                    </a:lnTo>
                    <a:lnTo>
                      <a:pt x="138" y="978"/>
                    </a:lnTo>
                    <a:lnTo>
                      <a:pt x="153" y="976"/>
                    </a:lnTo>
                    <a:lnTo>
                      <a:pt x="167" y="975"/>
                    </a:lnTo>
                    <a:lnTo>
                      <a:pt x="182" y="969"/>
                    </a:lnTo>
                    <a:lnTo>
                      <a:pt x="199" y="964"/>
                    </a:lnTo>
                    <a:lnTo>
                      <a:pt x="225" y="956"/>
                    </a:lnTo>
                    <a:lnTo>
                      <a:pt x="247" y="948"/>
                    </a:lnTo>
                    <a:lnTo>
                      <a:pt x="268" y="943"/>
                    </a:lnTo>
                    <a:lnTo>
                      <a:pt x="289" y="941"/>
                    </a:lnTo>
                    <a:lnTo>
                      <a:pt x="297" y="943"/>
                    </a:lnTo>
                    <a:lnTo>
                      <a:pt x="306" y="945"/>
                    </a:lnTo>
                    <a:lnTo>
                      <a:pt x="313" y="948"/>
                    </a:lnTo>
                    <a:lnTo>
                      <a:pt x="322" y="954"/>
                    </a:lnTo>
                    <a:lnTo>
                      <a:pt x="329" y="960"/>
                    </a:lnTo>
                    <a:lnTo>
                      <a:pt x="336" y="969"/>
                    </a:lnTo>
                    <a:lnTo>
                      <a:pt x="343" y="980"/>
                    </a:lnTo>
                    <a:lnTo>
                      <a:pt x="349" y="994"/>
                    </a:lnTo>
                    <a:lnTo>
                      <a:pt x="355" y="1009"/>
                    </a:lnTo>
                    <a:lnTo>
                      <a:pt x="361" y="1026"/>
                    </a:lnTo>
                    <a:lnTo>
                      <a:pt x="365" y="1046"/>
                    </a:lnTo>
                    <a:lnTo>
                      <a:pt x="370" y="1065"/>
                    </a:lnTo>
                    <a:lnTo>
                      <a:pt x="374" y="1087"/>
                    </a:lnTo>
                    <a:lnTo>
                      <a:pt x="376" y="1110"/>
                    </a:lnTo>
                    <a:lnTo>
                      <a:pt x="377" y="1134"/>
                    </a:lnTo>
                    <a:lnTo>
                      <a:pt x="377" y="1157"/>
                    </a:lnTo>
                    <a:lnTo>
                      <a:pt x="377" y="1182"/>
                    </a:lnTo>
                    <a:lnTo>
                      <a:pt x="377" y="1208"/>
                    </a:lnTo>
                    <a:lnTo>
                      <a:pt x="374" y="1232"/>
                    </a:lnTo>
                    <a:lnTo>
                      <a:pt x="370" y="1257"/>
                    </a:lnTo>
                    <a:lnTo>
                      <a:pt x="367" y="1281"/>
                    </a:lnTo>
                    <a:lnTo>
                      <a:pt x="359" y="1303"/>
                    </a:lnTo>
                    <a:lnTo>
                      <a:pt x="353" y="1326"/>
                    </a:lnTo>
                    <a:lnTo>
                      <a:pt x="345" y="1347"/>
                    </a:lnTo>
                    <a:lnTo>
                      <a:pt x="390" y="1347"/>
                    </a:lnTo>
                    <a:lnTo>
                      <a:pt x="433" y="1347"/>
                    </a:lnTo>
                    <a:lnTo>
                      <a:pt x="475" y="1347"/>
                    </a:lnTo>
                    <a:lnTo>
                      <a:pt x="512" y="1347"/>
                    </a:lnTo>
                    <a:lnTo>
                      <a:pt x="549" y="1347"/>
                    </a:lnTo>
                    <a:lnTo>
                      <a:pt x="580" y="1347"/>
                    </a:lnTo>
                    <a:lnTo>
                      <a:pt x="609" y="1347"/>
                    </a:lnTo>
                    <a:lnTo>
                      <a:pt x="630" y="1347"/>
                    </a:lnTo>
                    <a:lnTo>
                      <a:pt x="659" y="1338"/>
                    </a:lnTo>
                    <a:lnTo>
                      <a:pt x="683" y="1329"/>
                    </a:lnTo>
                    <a:lnTo>
                      <a:pt x="704" y="1317"/>
                    </a:lnTo>
                    <a:lnTo>
                      <a:pt x="723" y="1305"/>
                    </a:lnTo>
                    <a:lnTo>
                      <a:pt x="737" y="1291"/>
                    </a:lnTo>
                    <a:lnTo>
                      <a:pt x="752" y="1275"/>
                    </a:lnTo>
                    <a:lnTo>
                      <a:pt x="761" y="1260"/>
                    </a:lnTo>
                    <a:lnTo>
                      <a:pt x="768" y="1244"/>
                    </a:lnTo>
                    <a:lnTo>
                      <a:pt x="774" y="1227"/>
                    </a:lnTo>
                    <a:lnTo>
                      <a:pt x="775" y="1210"/>
                    </a:lnTo>
                    <a:lnTo>
                      <a:pt x="775" y="1193"/>
                    </a:lnTo>
                    <a:lnTo>
                      <a:pt x="772" y="1177"/>
                    </a:lnTo>
                    <a:lnTo>
                      <a:pt x="766" y="1159"/>
                    </a:lnTo>
                    <a:lnTo>
                      <a:pt x="757" y="1144"/>
                    </a:lnTo>
                    <a:lnTo>
                      <a:pt x="749" y="1129"/>
                    </a:lnTo>
                    <a:lnTo>
                      <a:pt x="733" y="1114"/>
                    </a:lnTo>
                    <a:lnTo>
                      <a:pt x="721" y="1099"/>
                    </a:lnTo>
                    <a:lnTo>
                      <a:pt x="710" y="1084"/>
                    </a:lnTo>
                    <a:lnTo>
                      <a:pt x="704" y="1066"/>
                    </a:lnTo>
                    <a:lnTo>
                      <a:pt x="696" y="1048"/>
                    </a:lnTo>
                    <a:lnTo>
                      <a:pt x="695" y="1028"/>
                    </a:lnTo>
                    <a:lnTo>
                      <a:pt x="695" y="1009"/>
                    </a:lnTo>
                    <a:lnTo>
                      <a:pt x="696" y="990"/>
                    </a:lnTo>
                    <a:lnTo>
                      <a:pt x="702" y="971"/>
                    </a:lnTo>
                    <a:lnTo>
                      <a:pt x="710" y="954"/>
                    </a:lnTo>
                    <a:lnTo>
                      <a:pt x="721" y="937"/>
                    </a:lnTo>
                    <a:lnTo>
                      <a:pt x="729" y="929"/>
                    </a:lnTo>
                    <a:lnTo>
                      <a:pt x="737" y="921"/>
                    </a:lnTo>
                    <a:lnTo>
                      <a:pt x="745" y="914"/>
                    </a:lnTo>
                    <a:lnTo>
                      <a:pt x="755" y="909"/>
                    </a:lnTo>
                    <a:lnTo>
                      <a:pt x="764" y="903"/>
                    </a:lnTo>
                    <a:lnTo>
                      <a:pt x="775" y="898"/>
                    </a:lnTo>
                    <a:lnTo>
                      <a:pt x="787" y="893"/>
                    </a:lnTo>
                    <a:lnTo>
                      <a:pt x="799" y="890"/>
                    </a:lnTo>
                    <a:lnTo>
                      <a:pt x="813" y="886"/>
                    </a:lnTo>
                    <a:lnTo>
                      <a:pt x="827" y="884"/>
                    </a:lnTo>
                    <a:lnTo>
                      <a:pt x="843" y="883"/>
                    </a:lnTo>
                    <a:lnTo>
                      <a:pt x="859" y="883"/>
                    </a:lnTo>
                    <a:lnTo>
                      <a:pt x="877" y="883"/>
                    </a:lnTo>
                    <a:lnTo>
                      <a:pt x="893" y="884"/>
                    </a:lnTo>
                    <a:lnTo>
                      <a:pt x="907" y="888"/>
                    </a:lnTo>
                    <a:lnTo>
                      <a:pt x="921" y="892"/>
                    </a:lnTo>
                    <a:lnTo>
                      <a:pt x="933" y="896"/>
                    </a:lnTo>
                    <a:lnTo>
                      <a:pt x="946" y="902"/>
                    </a:lnTo>
                    <a:lnTo>
                      <a:pt x="957" y="907"/>
                    </a:lnTo>
                    <a:lnTo>
                      <a:pt x="966" y="914"/>
                    </a:lnTo>
                    <a:lnTo>
                      <a:pt x="975" y="921"/>
                    </a:lnTo>
                    <a:lnTo>
                      <a:pt x="982" y="929"/>
                    </a:lnTo>
                    <a:lnTo>
                      <a:pt x="989" y="939"/>
                    </a:lnTo>
                    <a:lnTo>
                      <a:pt x="995" y="946"/>
                    </a:lnTo>
                    <a:lnTo>
                      <a:pt x="1003" y="967"/>
                    </a:lnTo>
                    <a:lnTo>
                      <a:pt x="1009" y="986"/>
                    </a:lnTo>
                    <a:lnTo>
                      <a:pt x="1011" y="1007"/>
                    </a:lnTo>
                    <a:lnTo>
                      <a:pt x="1011" y="1028"/>
                    </a:lnTo>
                    <a:lnTo>
                      <a:pt x="1007" y="1048"/>
                    </a:lnTo>
                    <a:lnTo>
                      <a:pt x="1001" y="1069"/>
                    </a:lnTo>
                    <a:lnTo>
                      <a:pt x="995" y="1087"/>
                    </a:lnTo>
                    <a:lnTo>
                      <a:pt x="987" y="1102"/>
                    </a:lnTo>
                    <a:lnTo>
                      <a:pt x="977" y="1116"/>
                    </a:lnTo>
                    <a:lnTo>
                      <a:pt x="966" y="1127"/>
                    </a:lnTo>
                    <a:lnTo>
                      <a:pt x="955" y="1135"/>
                    </a:lnTo>
                    <a:lnTo>
                      <a:pt x="945" y="1148"/>
                    </a:lnTo>
                    <a:lnTo>
                      <a:pt x="937" y="1159"/>
                    </a:lnTo>
                    <a:lnTo>
                      <a:pt x="930" y="1174"/>
                    </a:lnTo>
                    <a:lnTo>
                      <a:pt x="925" y="1187"/>
                    </a:lnTo>
                    <a:lnTo>
                      <a:pt x="921" y="1203"/>
                    </a:lnTo>
                    <a:lnTo>
                      <a:pt x="919" y="1219"/>
                    </a:lnTo>
                    <a:lnTo>
                      <a:pt x="919" y="1236"/>
                    </a:lnTo>
                    <a:lnTo>
                      <a:pt x="923" y="1251"/>
                    </a:lnTo>
                    <a:lnTo>
                      <a:pt x="929" y="1266"/>
                    </a:lnTo>
                    <a:lnTo>
                      <a:pt x="935" y="1283"/>
                    </a:lnTo>
                    <a:lnTo>
                      <a:pt x="946" y="1298"/>
                    </a:lnTo>
                    <a:lnTo>
                      <a:pt x="960" y="1311"/>
                    </a:lnTo>
                    <a:lnTo>
                      <a:pt x="977" y="1324"/>
                    </a:lnTo>
                    <a:lnTo>
                      <a:pt x="996" y="1336"/>
                    </a:lnTo>
                    <a:lnTo>
                      <a:pt x="1020" y="1347"/>
                    </a:lnTo>
                    <a:lnTo>
                      <a:pt x="1030" y="1348"/>
                    </a:lnTo>
                    <a:lnTo>
                      <a:pt x="1057" y="1354"/>
                    </a:lnTo>
                    <a:lnTo>
                      <a:pt x="1096" y="1360"/>
                    </a:lnTo>
                    <a:lnTo>
                      <a:pt x="1148" y="1367"/>
                    </a:lnTo>
                    <a:lnTo>
                      <a:pt x="1177" y="1371"/>
                    </a:lnTo>
                    <a:lnTo>
                      <a:pt x="1205" y="1373"/>
                    </a:lnTo>
                    <a:lnTo>
                      <a:pt x="1235" y="1375"/>
                    </a:lnTo>
                    <a:lnTo>
                      <a:pt x="1267" y="1375"/>
                    </a:lnTo>
                    <a:lnTo>
                      <a:pt x="1298" y="1375"/>
                    </a:lnTo>
                    <a:lnTo>
                      <a:pt x="1330" y="1373"/>
                    </a:lnTo>
                    <a:lnTo>
                      <a:pt x="1358" y="1367"/>
                    </a:lnTo>
                    <a:lnTo>
                      <a:pt x="1389" y="1362"/>
                    </a:lnTo>
                    <a:lnTo>
                      <a:pt x="1383" y="1348"/>
                    </a:lnTo>
                    <a:lnTo>
                      <a:pt x="1379" y="1332"/>
                    </a:lnTo>
                    <a:lnTo>
                      <a:pt x="1377" y="1315"/>
                    </a:lnTo>
                    <a:lnTo>
                      <a:pt x="1375" y="1296"/>
                    </a:lnTo>
                    <a:lnTo>
                      <a:pt x="1373" y="1255"/>
                    </a:lnTo>
                    <a:lnTo>
                      <a:pt x="1373" y="1210"/>
                    </a:lnTo>
                    <a:lnTo>
                      <a:pt x="1375" y="1165"/>
                    </a:lnTo>
                    <a:lnTo>
                      <a:pt x="1378" y="1120"/>
                    </a:lnTo>
                    <a:lnTo>
                      <a:pt x="1383" y="1078"/>
                    </a:lnTo>
                    <a:lnTo>
                      <a:pt x="1389" y="1042"/>
                    </a:lnTo>
                    <a:lnTo>
                      <a:pt x="1392" y="1026"/>
                    </a:lnTo>
                    <a:lnTo>
                      <a:pt x="1398" y="1014"/>
                    </a:lnTo>
                    <a:lnTo>
                      <a:pt x="1405" y="1004"/>
                    </a:lnTo>
                    <a:lnTo>
                      <a:pt x="1414" y="995"/>
                    </a:lnTo>
                    <a:lnTo>
                      <a:pt x="1424" y="990"/>
                    </a:lnTo>
                    <a:lnTo>
                      <a:pt x="1435" y="986"/>
                    </a:lnTo>
                    <a:lnTo>
                      <a:pt x="1447" y="983"/>
                    </a:lnTo>
                    <a:lnTo>
                      <a:pt x="1460" y="983"/>
                    </a:lnTo>
                    <a:lnTo>
                      <a:pt x="1472" y="984"/>
                    </a:lnTo>
                    <a:lnTo>
                      <a:pt x="1486" y="988"/>
                    </a:lnTo>
                    <a:lnTo>
                      <a:pt x="1499" y="994"/>
                    </a:lnTo>
                    <a:lnTo>
                      <a:pt x="1511" y="1001"/>
                    </a:lnTo>
                    <a:lnTo>
                      <a:pt x="1526" y="1007"/>
                    </a:lnTo>
                    <a:lnTo>
                      <a:pt x="1538" y="1016"/>
                    </a:lnTo>
                    <a:lnTo>
                      <a:pt x="1551" y="1026"/>
                    </a:lnTo>
                    <a:lnTo>
                      <a:pt x="1562" y="1038"/>
                    </a:lnTo>
                    <a:lnTo>
                      <a:pt x="1573" y="1048"/>
                    </a:lnTo>
                    <a:lnTo>
                      <a:pt x="1587" y="1057"/>
                    </a:lnTo>
                    <a:lnTo>
                      <a:pt x="1600" y="1065"/>
                    </a:lnTo>
                    <a:lnTo>
                      <a:pt x="1617" y="1069"/>
                    </a:lnTo>
                    <a:lnTo>
                      <a:pt x="1633" y="1071"/>
                    </a:lnTo>
                    <a:lnTo>
                      <a:pt x="1649" y="1073"/>
                    </a:lnTo>
                    <a:lnTo>
                      <a:pt x="1666" y="1071"/>
                    </a:lnTo>
                    <a:lnTo>
                      <a:pt x="1683" y="1068"/>
                    </a:lnTo>
                    <a:lnTo>
                      <a:pt x="1699" y="1063"/>
                    </a:lnTo>
                    <a:lnTo>
                      <a:pt x="1715" y="1054"/>
                    </a:lnTo>
                    <a:lnTo>
                      <a:pt x="1730" y="1044"/>
                    </a:lnTo>
                    <a:lnTo>
                      <a:pt x="1742" y="1031"/>
                    </a:lnTo>
                    <a:lnTo>
                      <a:pt x="1755" y="1018"/>
                    </a:lnTo>
                    <a:lnTo>
                      <a:pt x="1763" y="1001"/>
                    </a:lnTo>
                    <a:lnTo>
                      <a:pt x="1771" y="982"/>
                    </a:lnTo>
                    <a:lnTo>
                      <a:pt x="1776" y="959"/>
                    </a:lnTo>
                    <a:lnTo>
                      <a:pt x="1776" y="946"/>
                    </a:lnTo>
                    <a:lnTo>
                      <a:pt x="1776" y="937"/>
                    </a:lnTo>
                    <a:lnTo>
                      <a:pt x="1776" y="924"/>
                    </a:lnTo>
                    <a:lnTo>
                      <a:pt x="1774" y="914"/>
                    </a:lnTo>
                    <a:lnTo>
                      <a:pt x="1771" y="903"/>
                    </a:lnTo>
                    <a:lnTo>
                      <a:pt x="1767" y="893"/>
                    </a:lnTo>
                    <a:lnTo>
                      <a:pt x="1761" y="884"/>
                    </a:lnTo>
                    <a:lnTo>
                      <a:pt x="1756" y="875"/>
                    </a:lnTo>
                    <a:lnTo>
                      <a:pt x="1744" y="858"/>
                    </a:lnTo>
                    <a:lnTo>
                      <a:pt x="1730" y="845"/>
                    </a:lnTo>
                    <a:lnTo>
                      <a:pt x="1711" y="832"/>
                    </a:lnTo>
                    <a:lnTo>
                      <a:pt x="1694" y="824"/>
                    </a:lnTo>
                    <a:lnTo>
                      <a:pt x="1674" y="815"/>
                    </a:lnTo>
                    <a:lnTo>
                      <a:pt x="1654" y="811"/>
                    </a:lnTo>
                    <a:lnTo>
                      <a:pt x="1635" y="808"/>
                    </a:lnTo>
                    <a:lnTo>
                      <a:pt x="1615" y="810"/>
                    </a:lnTo>
                    <a:lnTo>
                      <a:pt x="1598" y="813"/>
                    </a:lnTo>
                    <a:lnTo>
                      <a:pt x="1581" y="821"/>
                    </a:lnTo>
                    <a:lnTo>
                      <a:pt x="1575" y="824"/>
                    </a:lnTo>
                    <a:lnTo>
                      <a:pt x="1567" y="829"/>
                    </a:lnTo>
                    <a:lnTo>
                      <a:pt x="1562" y="836"/>
                    </a:lnTo>
                    <a:lnTo>
                      <a:pt x="1555" y="843"/>
                    </a:lnTo>
                    <a:lnTo>
                      <a:pt x="1544" y="857"/>
                    </a:lnTo>
                    <a:lnTo>
                      <a:pt x="1532" y="867"/>
                    </a:lnTo>
                    <a:lnTo>
                      <a:pt x="1519" y="874"/>
                    </a:lnTo>
                    <a:lnTo>
                      <a:pt x="1505" y="879"/>
                    </a:lnTo>
                    <a:lnTo>
                      <a:pt x="1492" y="881"/>
                    </a:lnTo>
                    <a:lnTo>
                      <a:pt x="1478" y="883"/>
                    </a:lnTo>
                    <a:lnTo>
                      <a:pt x="1464" y="881"/>
                    </a:lnTo>
                    <a:lnTo>
                      <a:pt x="1451" y="877"/>
                    </a:lnTo>
                    <a:lnTo>
                      <a:pt x="1439" y="873"/>
                    </a:lnTo>
                    <a:lnTo>
                      <a:pt x="1426" y="867"/>
                    </a:lnTo>
                    <a:lnTo>
                      <a:pt x="1416" y="860"/>
                    </a:lnTo>
                    <a:lnTo>
                      <a:pt x="1406" y="851"/>
                    </a:lnTo>
                    <a:lnTo>
                      <a:pt x="1400" y="843"/>
                    </a:lnTo>
                    <a:lnTo>
                      <a:pt x="1392" y="834"/>
                    </a:lnTo>
                    <a:lnTo>
                      <a:pt x="1389" y="826"/>
                    </a:lnTo>
                    <a:lnTo>
                      <a:pt x="1389" y="817"/>
                    </a:lnTo>
                    <a:lnTo>
                      <a:pt x="1389" y="787"/>
                    </a:lnTo>
                    <a:lnTo>
                      <a:pt x="1389" y="741"/>
                    </a:lnTo>
                    <a:lnTo>
                      <a:pt x="1389" y="680"/>
                    </a:lnTo>
                    <a:lnTo>
                      <a:pt x="1389" y="612"/>
                    </a:lnTo>
                    <a:lnTo>
                      <a:pt x="1389" y="544"/>
                    </a:lnTo>
                    <a:lnTo>
                      <a:pt x="1389" y="474"/>
                    </a:lnTo>
                    <a:lnTo>
                      <a:pt x="1389" y="412"/>
                    </a:lnTo>
                    <a:lnTo>
                      <a:pt x="1389" y="364"/>
                    </a:lnTo>
                    <a:lnTo>
                      <a:pt x="1371" y="373"/>
                    </a:lnTo>
                    <a:lnTo>
                      <a:pt x="1350" y="383"/>
                    </a:lnTo>
                    <a:lnTo>
                      <a:pt x="1328" y="391"/>
                    </a:lnTo>
                    <a:lnTo>
                      <a:pt x="1303" y="396"/>
                    </a:lnTo>
                    <a:lnTo>
                      <a:pt x="1278" y="400"/>
                    </a:lnTo>
                    <a:lnTo>
                      <a:pt x="1251" y="402"/>
                    </a:lnTo>
                    <a:lnTo>
                      <a:pt x="1222" y="403"/>
                    </a:lnTo>
                    <a:lnTo>
                      <a:pt x="1196" y="403"/>
                    </a:lnTo>
                    <a:lnTo>
                      <a:pt x="1168" y="402"/>
                    </a:lnTo>
                    <a:lnTo>
                      <a:pt x="1139" y="398"/>
                    </a:lnTo>
                    <a:lnTo>
                      <a:pt x="1112" y="394"/>
                    </a:lnTo>
                    <a:lnTo>
                      <a:pt x="1086" y="390"/>
                    </a:lnTo>
                    <a:lnTo>
                      <a:pt x="1061" y="384"/>
                    </a:lnTo>
                    <a:lnTo>
                      <a:pt x="1037" y="377"/>
                    </a:lnTo>
                    <a:lnTo>
                      <a:pt x="1016" y="370"/>
                    </a:lnTo>
                    <a:lnTo>
                      <a:pt x="996" y="364"/>
                    </a:lnTo>
                    <a:lnTo>
                      <a:pt x="982" y="356"/>
                    </a:lnTo>
                    <a:lnTo>
                      <a:pt x="970" y="349"/>
                    </a:lnTo>
                    <a:lnTo>
                      <a:pt x="959" y="343"/>
                    </a:lnTo>
                    <a:lnTo>
                      <a:pt x="950" y="336"/>
                    </a:lnTo>
                    <a:lnTo>
                      <a:pt x="943" y="328"/>
                    </a:lnTo>
                    <a:lnTo>
                      <a:pt x="937" y="322"/>
                    </a:lnTo>
                    <a:lnTo>
                      <a:pt x="935" y="313"/>
                    </a:lnTo>
                    <a:lnTo>
                      <a:pt x="933" y="306"/>
                    </a:lnTo>
                    <a:lnTo>
                      <a:pt x="933" y="298"/>
                    </a:lnTo>
                    <a:lnTo>
                      <a:pt x="935" y="289"/>
                    </a:lnTo>
                    <a:lnTo>
                      <a:pt x="941" y="279"/>
                    </a:lnTo>
                    <a:lnTo>
                      <a:pt x="946" y="268"/>
                    </a:lnTo>
                    <a:lnTo>
                      <a:pt x="962" y="246"/>
                    </a:lnTo>
                    <a:lnTo>
                      <a:pt x="985" y="221"/>
                    </a:lnTo>
                    <a:lnTo>
                      <a:pt x="998" y="206"/>
                    </a:lnTo>
                    <a:lnTo>
                      <a:pt x="1007" y="191"/>
                    </a:lnTo>
                    <a:lnTo>
                      <a:pt x="1014" y="174"/>
                    </a:lnTo>
                    <a:lnTo>
                      <a:pt x="1020" y="154"/>
                    </a:lnTo>
                    <a:lnTo>
                      <a:pt x="1023" y="137"/>
                    </a:lnTo>
                    <a:lnTo>
                      <a:pt x="1023" y="118"/>
                    </a:lnTo>
                    <a:lnTo>
                      <a:pt x="1020" y="99"/>
                    </a:lnTo>
                    <a:lnTo>
                      <a:pt x="1014" y="82"/>
                    </a:lnTo>
                    <a:lnTo>
                      <a:pt x="1007" y="64"/>
                    </a:lnTo>
                    <a:lnTo>
                      <a:pt x="995" y="48"/>
                    </a:lnTo>
                    <a:lnTo>
                      <a:pt x="987" y="42"/>
                    </a:lnTo>
                    <a:lnTo>
                      <a:pt x="980" y="35"/>
                    </a:lnTo>
                    <a:lnTo>
                      <a:pt x="971" y="27"/>
                    </a:lnTo>
                    <a:lnTo>
                      <a:pt x="962" y="22"/>
                    </a:lnTo>
                    <a:lnTo>
                      <a:pt x="952" y="18"/>
                    </a:lnTo>
                    <a:lnTo>
                      <a:pt x="941" y="12"/>
                    </a:lnTo>
                    <a:lnTo>
                      <a:pt x="929" y="9"/>
                    </a:lnTo>
                    <a:lnTo>
                      <a:pt x="916" y="5"/>
                    </a:lnTo>
                    <a:lnTo>
                      <a:pt x="902" y="1"/>
                    </a:lnTo>
                    <a:lnTo>
                      <a:pt x="888" y="0"/>
                    </a:lnTo>
                    <a:lnTo>
                      <a:pt x="873" y="0"/>
                    </a:lnTo>
                    <a:lnTo>
                      <a:pt x="855" y="0"/>
                    </a:lnTo>
                    <a:lnTo>
                      <a:pt x="843" y="0"/>
                    </a:lnTo>
                    <a:lnTo>
                      <a:pt x="828" y="1"/>
                    </a:lnTo>
                    <a:lnTo>
                      <a:pt x="818" y="3"/>
                    </a:lnTo>
                    <a:lnTo>
                      <a:pt x="805" y="7"/>
                    </a:lnTo>
                    <a:lnTo>
                      <a:pt x="797" y="12"/>
                    </a:lnTo>
                    <a:lnTo>
                      <a:pt x="786" y="16"/>
                    </a:lnTo>
                    <a:lnTo>
                      <a:pt x="777" y="22"/>
                    </a:lnTo>
                    <a:lnTo>
                      <a:pt x="770" y="27"/>
                    </a:lnTo>
                    <a:lnTo>
                      <a:pt x="762" y="35"/>
                    </a:lnTo>
                    <a:lnTo>
                      <a:pt x="755" y="42"/>
                    </a:lnTo>
                    <a:lnTo>
                      <a:pt x="750" y="48"/>
                    </a:lnTo>
                    <a:lnTo>
                      <a:pt x="745" y="57"/>
                    </a:lnTo>
                    <a:lnTo>
                      <a:pt x="737" y="74"/>
                    </a:lnTo>
                    <a:lnTo>
                      <a:pt x="733" y="93"/>
                    </a:lnTo>
                    <a:lnTo>
                      <a:pt x="731" y="112"/>
                    </a:lnTo>
                    <a:lnTo>
                      <a:pt x="731" y="133"/>
                    </a:lnTo>
                    <a:lnTo>
                      <a:pt x="733" y="154"/>
                    </a:lnTo>
                    <a:lnTo>
                      <a:pt x="737" y="174"/>
                    </a:lnTo>
                    <a:lnTo>
                      <a:pt x="745" y="194"/>
                    </a:lnTo>
                    <a:lnTo>
                      <a:pt x="754" y="213"/>
                    </a:lnTo>
                    <a:lnTo>
                      <a:pt x="764" y="230"/>
                    </a:lnTo>
                    <a:lnTo>
                      <a:pt x="778" y="246"/>
                    </a:lnTo>
                    <a:lnTo>
                      <a:pt x="787" y="258"/>
                    </a:lnTo>
                    <a:lnTo>
                      <a:pt x="795" y="270"/>
                    </a:lnTo>
                    <a:lnTo>
                      <a:pt x="799" y="282"/>
                    </a:lnTo>
                    <a:lnTo>
                      <a:pt x="803" y="294"/>
                    </a:lnTo>
                    <a:lnTo>
                      <a:pt x="803" y="306"/>
                    </a:lnTo>
                    <a:lnTo>
                      <a:pt x="801" y="318"/>
                    </a:lnTo>
                    <a:lnTo>
                      <a:pt x="799" y="330"/>
                    </a:lnTo>
                    <a:lnTo>
                      <a:pt x="791" y="341"/>
                    </a:lnTo>
                    <a:lnTo>
                      <a:pt x="784" y="349"/>
                    </a:lnTo>
                    <a:lnTo>
                      <a:pt x="774" y="356"/>
                    </a:lnTo>
                    <a:lnTo>
                      <a:pt x="759" y="362"/>
                    </a:lnTo>
                    <a:lnTo>
                      <a:pt x="745" y="365"/>
                    </a:lnTo>
                    <a:lnTo>
                      <a:pt x="727" y="365"/>
                    </a:lnTo>
                    <a:lnTo>
                      <a:pt x="706" y="364"/>
                    </a:lnTo>
                    <a:lnTo>
                      <a:pt x="684" y="358"/>
                    </a:lnTo>
                    <a:lnTo>
                      <a:pt x="659" y="349"/>
                    </a:lnTo>
                    <a:lnTo>
                      <a:pt x="644" y="345"/>
                    </a:lnTo>
                    <a:lnTo>
                      <a:pt x="629" y="341"/>
                    </a:lnTo>
                    <a:lnTo>
                      <a:pt x="611" y="337"/>
                    </a:lnTo>
                    <a:lnTo>
                      <a:pt x="595" y="336"/>
                    </a:lnTo>
                    <a:lnTo>
                      <a:pt x="555" y="336"/>
                    </a:lnTo>
                    <a:lnTo>
                      <a:pt x="516" y="337"/>
                    </a:lnTo>
                    <a:lnTo>
                      <a:pt x="475" y="341"/>
                    </a:lnTo>
                    <a:lnTo>
                      <a:pt x="433" y="348"/>
                    </a:lnTo>
                    <a:lnTo>
                      <a:pt x="390" y="354"/>
                    </a:lnTo>
                    <a:lnTo>
                      <a:pt x="349" y="364"/>
                    </a:lnTo>
                    <a:lnTo>
                      <a:pt x="345" y="373"/>
                    </a:lnTo>
                    <a:lnTo>
                      <a:pt x="345" y="392"/>
                    </a:lnTo>
                    <a:lnTo>
                      <a:pt x="345" y="415"/>
                    </a:lnTo>
                    <a:lnTo>
                      <a:pt x="347" y="441"/>
                    </a:lnTo>
                    <a:lnTo>
                      <a:pt x="355" y="503"/>
                    </a:lnTo>
                    <a:lnTo>
                      <a:pt x="361" y="573"/>
                    </a:lnTo>
                    <a:lnTo>
                      <a:pt x="365" y="608"/>
                    </a:lnTo>
                    <a:lnTo>
                      <a:pt x="367" y="642"/>
                    </a:lnTo>
                    <a:lnTo>
                      <a:pt x="368" y="675"/>
                    </a:lnTo>
                    <a:lnTo>
                      <a:pt x="370" y="704"/>
                    </a:lnTo>
                    <a:lnTo>
                      <a:pt x="368" y="732"/>
                    </a:lnTo>
                    <a:lnTo>
                      <a:pt x="365" y="755"/>
                    </a:lnTo>
                    <a:lnTo>
                      <a:pt x="361" y="765"/>
                    </a:lnTo>
                    <a:lnTo>
                      <a:pt x="357" y="774"/>
                    </a:lnTo>
                    <a:lnTo>
                      <a:pt x="355" y="781"/>
                    </a:lnTo>
                    <a:lnTo>
                      <a:pt x="349" y="78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014720" y="2917800"/>
                <a:ext cx="2819520" cy="2182680"/>
              </a:xfrm>
              <a:custGeom>
                <a:avLst/>
                <a:gdLst/>
                <a:ahLst/>
                <a:rect l="l" t="t" r="r" b="b"/>
                <a:pathLst>
                  <a:path w="1776" h="1375">
                    <a:moveTo>
                      <a:pt x="349" y="785"/>
                    </a:moveTo>
                    <a:lnTo>
                      <a:pt x="340" y="792"/>
                    </a:lnTo>
                    <a:lnTo>
                      <a:pt x="329" y="800"/>
                    </a:lnTo>
                    <a:lnTo>
                      <a:pt x="320" y="803"/>
                    </a:lnTo>
                    <a:lnTo>
                      <a:pt x="310" y="807"/>
                    </a:lnTo>
                    <a:lnTo>
                      <a:pt x="299" y="807"/>
                    </a:lnTo>
                    <a:lnTo>
                      <a:pt x="289" y="807"/>
                    </a:lnTo>
                    <a:lnTo>
                      <a:pt x="279" y="805"/>
                    </a:lnTo>
                    <a:lnTo>
                      <a:pt x="270" y="802"/>
                    </a:lnTo>
                    <a:lnTo>
                      <a:pt x="248" y="794"/>
                    </a:lnTo>
                    <a:lnTo>
                      <a:pt x="229" y="784"/>
                    </a:lnTo>
                    <a:lnTo>
                      <a:pt x="208" y="772"/>
                    </a:lnTo>
                    <a:lnTo>
                      <a:pt x="188" y="762"/>
                    </a:lnTo>
                    <a:lnTo>
                      <a:pt x="167" y="751"/>
                    </a:lnTo>
                    <a:lnTo>
                      <a:pt x="145" y="742"/>
                    </a:lnTo>
                    <a:lnTo>
                      <a:pt x="134" y="741"/>
                    </a:lnTo>
                    <a:lnTo>
                      <a:pt x="124" y="739"/>
                    </a:lnTo>
                    <a:lnTo>
                      <a:pt x="113" y="739"/>
                    </a:lnTo>
                    <a:lnTo>
                      <a:pt x="103" y="739"/>
                    </a:lnTo>
                    <a:lnTo>
                      <a:pt x="91" y="741"/>
                    </a:lnTo>
                    <a:lnTo>
                      <a:pt x="79" y="746"/>
                    </a:lnTo>
                    <a:lnTo>
                      <a:pt x="68" y="751"/>
                    </a:lnTo>
                    <a:lnTo>
                      <a:pt x="58" y="760"/>
                    </a:lnTo>
                    <a:lnTo>
                      <a:pt x="45" y="768"/>
                    </a:lnTo>
                    <a:lnTo>
                      <a:pt x="35" y="781"/>
                    </a:lnTo>
                    <a:lnTo>
                      <a:pt x="22" y="796"/>
                    </a:lnTo>
                    <a:lnTo>
                      <a:pt x="12" y="813"/>
                    </a:lnTo>
                    <a:lnTo>
                      <a:pt x="6" y="824"/>
                    </a:lnTo>
                    <a:lnTo>
                      <a:pt x="2" y="836"/>
                    </a:lnTo>
                    <a:lnTo>
                      <a:pt x="0" y="851"/>
                    </a:lnTo>
                    <a:lnTo>
                      <a:pt x="0" y="867"/>
                    </a:lnTo>
                    <a:lnTo>
                      <a:pt x="2" y="883"/>
                    </a:lnTo>
                    <a:lnTo>
                      <a:pt x="8" y="900"/>
                    </a:lnTo>
                    <a:lnTo>
                      <a:pt x="15" y="916"/>
                    </a:lnTo>
                    <a:lnTo>
                      <a:pt x="24" y="931"/>
                    </a:lnTo>
                    <a:lnTo>
                      <a:pt x="37" y="945"/>
                    </a:lnTo>
                    <a:lnTo>
                      <a:pt x="50" y="957"/>
                    </a:lnTo>
                    <a:lnTo>
                      <a:pt x="60" y="962"/>
                    </a:lnTo>
                    <a:lnTo>
                      <a:pt x="68" y="967"/>
                    </a:lnTo>
                    <a:lnTo>
                      <a:pt x="77" y="971"/>
                    </a:lnTo>
                    <a:lnTo>
                      <a:pt x="89" y="975"/>
                    </a:lnTo>
                    <a:lnTo>
                      <a:pt x="99" y="976"/>
                    </a:lnTo>
                    <a:lnTo>
                      <a:pt x="111" y="978"/>
                    </a:lnTo>
                    <a:lnTo>
                      <a:pt x="124" y="978"/>
                    </a:lnTo>
                    <a:lnTo>
                      <a:pt x="138" y="978"/>
                    </a:lnTo>
                    <a:lnTo>
                      <a:pt x="153" y="976"/>
                    </a:lnTo>
                    <a:lnTo>
                      <a:pt x="167" y="975"/>
                    </a:lnTo>
                    <a:lnTo>
                      <a:pt x="182" y="969"/>
                    </a:lnTo>
                    <a:lnTo>
                      <a:pt x="199" y="964"/>
                    </a:lnTo>
                    <a:lnTo>
                      <a:pt x="225" y="956"/>
                    </a:lnTo>
                    <a:lnTo>
                      <a:pt x="247" y="948"/>
                    </a:lnTo>
                    <a:lnTo>
                      <a:pt x="268" y="943"/>
                    </a:lnTo>
                    <a:lnTo>
                      <a:pt x="289" y="941"/>
                    </a:lnTo>
                    <a:lnTo>
                      <a:pt x="297" y="943"/>
                    </a:lnTo>
                    <a:lnTo>
                      <a:pt x="306" y="945"/>
                    </a:lnTo>
                    <a:lnTo>
                      <a:pt x="313" y="948"/>
                    </a:lnTo>
                    <a:lnTo>
                      <a:pt x="322" y="954"/>
                    </a:lnTo>
                    <a:lnTo>
                      <a:pt x="329" y="960"/>
                    </a:lnTo>
                    <a:lnTo>
                      <a:pt x="336" y="969"/>
                    </a:lnTo>
                    <a:lnTo>
                      <a:pt x="343" y="980"/>
                    </a:lnTo>
                    <a:lnTo>
                      <a:pt x="349" y="994"/>
                    </a:lnTo>
                    <a:lnTo>
                      <a:pt x="355" y="1009"/>
                    </a:lnTo>
                    <a:lnTo>
                      <a:pt x="361" y="1026"/>
                    </a:lnTo>
                    <a:lnTo>
                      <a:pt x="365" y="1046"/>
                    </a:lnTo>
                    <a:lnTo>
                      <a:pt x="370" y="1065"/>
                    </a:lnTo>
                    <a:lnTo>
                      <a:pt x="374" y="1087"/>
                    </a:lnTo>
                    <a:lnTo>
                      <a:pt x="376" y="1110"/>
                    </a:lnTo>
                    <a:lnTo>
                      <a:pt x="377" y="1134"/>
                    </a:lnTo>
                    <a:lnTo>
                      <a:pt x="377" y="1157"/>
                    </a:lnTo>
                    <a:lnTo>
                      <a:pt x="377" y="1182"/>
                    </a:lnTo>
                    <a:lnTo>
                      <a:pt x="377" y="1208"/>
                    </a:lnTo>
                    <a:lnTo>
                      <a:pt x="374" y="1232"/>
                    </a:lnTo>
                    <a:lnTo>
                      <a:pt x="370" y="1257"/>
                    </a:lnTo>
                    <a:lnTo>
                      <a:pt x="367" y="1281"/>
                    </a:lnTo>
                    <a:lnTo>
                      <a:pt x="359" y="1303"/>
                    </a:lnTo>
                    <a:lnTo>
                      <a:pt x="353" y="1326"/>
                    </a:lnTo>
                    <a:lnTo>
                      <a:pt x="345" y="1347"/>
                    </a:lnTo>
                    <a:lnTo>
                      <a:pt x="390" y="1347"/>
                    </a:lnTo>
                    <a:lnTo>
                      <a:pt x="433" y="1347"/>
                    </a:lnTo>
                    <a:lnTo>
                      <a:pt x="475" y="1347"/>
                    </a:lnTo>
                    <a:lnTo>
                      <a:pt x="512" y="1347"/>
                    </a:lnTo>
                    <a:lnTo>
                      <a:pt x="549" y="1347"/>
                    </a:lnTo>
                    <a:lnTo>
                      <a:pt x="580" y="1347"/>
                    </a:lnTo>
                    <a:lnTo>
                      <a:pt x="609" y="1347"/>
                    </a:lnTo>
                    <a:lnTo>
                      <a:pt x="630" y="1347"/>
                    </a:lnTo>
                    <a:lnTo>
                      <a:pt x="659" y="1338"/>
                    </a:lnTo>
                    <a:lnTo>
                      <a:pt x="683" y="1329"/>
                    </a:lnTo>
                    <a:lnTo>
                      <a:pt x="704" y="1317"/>
                    </a:lnTo>
                    <a:lnTo>
                      <a:pt x="723" y="1305"/>
                    </a:lnTo>
                    <a:lnTo>
                      <a:pt x="737" y="1291"/>
                    </a:lnTo>
                    <a:lnTo>
                      <a:pt x="752" y="1275"/>
                    </a:lnTo>
                    <a:lnTo>
                      <a:pt x="761" y="1260"/>
                    </a:lnTo>
                    <a:lnTo>
                      <a:pt x="768" y="1244"/>
                    </a:lnTo>
                    <a:lnTo>
                      <a:pt x="774" y="1227"/>
                    </a:lnTo>
                    <a:lnTo>
                      <a:pt x="775" y="1210"/>
                    </a:lnTo>
                    <a:lnTo>
                      <a:pt x="775" y="1193"/>
                    </a:lnTo>
                    <a:lnTo>
                      <a:pt x="772" y="1177"/>
                    </a:lnTo>
                    <a:lnTo>
                      <a:pt x="766" y="1159"/>
                    </a:lnTo>
                    <a:lnTo>
                      <a:pt x="757" y="1144"/>
                    </a:lnTo>
                    <a:lnTo>
                      <a:pt x="749" y="1129"/>
                    </a:lnTo>
                    <a:lnTo>
                      <a:pt x="733" y="1114"/>
                    </a:lnTo>
                    <a:lnTo>
                      <a:pt x="721" y="1099"/>
                    </a:lnTo>
                    <a:lnTo>
                      <a:pt x="710" y="1084"/>
                    </a:lnTo>
                    <a:lnTo>
                      <a:pt x="704" y="1066"/>
                    </a:lnTo>
                    <a:lnTo>
                      <a:pt x="696" y="1048"/>
                    </a:lnTo>
                    <a:lnTo>
                      <a:pt x="695" y="1028"/>
                    </a:lnTo>
                    <a:lnTo>
                      <a:pt x="695" y="1009"/>
                    </a:lnTo>
                    <a:lnTo>
                      <a:pt x="696" y="990"/>
                    </a:lnTo>
                    <a:lnTo>
                      <a:pt x="702" y="971"/>
                    </a:lnTo>
                    <a:lnTo>
                      <a:pt x="710" y="954"/>
                    </a:lnTo>
                    <a:lnTo>
                      <a:pt x="721" y="937"/>
                    </a:lnTo>
                    <a:lnTo>
                      <a:pt x="729" y="929"/>
                    </a:lnTo>
                    <a:lnTo>
                      <a:pt x="737" y="921"/>
                    </a:lnTo>
                    <a:lnTo>
                      <a:pt x="745" y="914"/>
                    </a:lnTo>
                    <a:lnTo>
                      <a:pt x="755" y="909"/>
                    </a:lnTo>
                    <a:lnTo>
                      <a:pt x="764" y="903"/>
                    </a:lnTo>
                    <a:lnTo>
                      <a:pt x="775" y="898"/>
                    </a:lnTo>
                    <a:lnTo>
                      <a:pt x="787" y="893"/>
                    </a:lnTo>
                    <a:lnTo>
                      <a:pt x="799" y="890"/>
                    </a:lnTo>
                    <a:lnTo>
                      <a:pt x="813" y="886"/>
                    </a:lnTo>
                    <a:lnTo>
                      <a:pt x="827" y="884"/>
                    </a:lnTo>
                    <a:lnTo>
                      <a:pt x="843" y="883"/>
                    </a:lnTo>
                    <a:lnTo>
                      <a:pt x="859" y="883"/>
                    </a:lnTo>
                    <a:lnTo>
                      <a:pt x="877" y="883"/>
                    </a:lnTo>
                    <a:lnTo>
                      <a:pt x="893" y="884"/>
                    </a:lnTo>
                    <a:lnTo>
                      <a:pt x="907" y="888"/>
                    </a:lnTo>
                    <a:lnTo>
                      <a:pt x="921" y="892"/>
                    </a:lnTo>
                    <a:lnTo>
                      <a:pt x="933" y="896"/>
                    </a:lnTo>
                    <a:lnTo>
                      <a:pt x="946" y="902"/>
                    </a:lnTo>
                    <a:lnTo>
                      <a:pt x="957" y="907"/>
                    </a:lnTo>
                    <a:lnTo>
                      <a:pt x="966" y="914"/>
                    </a:lnTo>
                    <a:lnTo>
                      <a:pt x="975" y="921"/>
                    </a:lnTo>
                    <a:lnTo>
                      <a:pt x="982" y="929"/>
                    </a:lnTo>
                    <a:lnTo>
                      <a:pt x="989" y="939"/>
                    </a:lnTo>
                    <a:lnTo>
                      <a:pt x="995" y="946"/>
                    </a:lnTo>
                    <a:lnTo>
                      <a:pt x="1003" y="967"/>
                    </a:lnTo>
                    <a:lnTo>
                      <a:pt x="1009" y="986"/>
                    </a:lnTo>
                    <a:lnTo>
                      <a:pt x="1011" y="1007"/>
                    </a:lnTo>
                    <a:lnTo>
                      <a:pt x="1011" y="1028"/>
                    </a:lnTo>
                    <a:lnTo>
                      <a:pt x="1007" y="1048"/>
                    </a:lnTo>
                    <a:lnTo>
                      <a:pt x="1001" y="1069"/>
                    </a:lnTo>
                    <a:lnTo>
                      <a:pt x="995" y="1087"/>
                    </a:lnTo>
                    <a:lnTo>
                      <a:pt x="987" y="1102"/>
                    </a:lnTo>
                    <a:lnTo>
                      <a:pt x="977" y="1116"/>
                    </a:lnTo>
                    <a:lnTo>
                      <a:pt x="966" y="1127"/>
                    </a:lnTo>
                    <a:lnTo>
                      <a:pt x="955" y="1135"/>
                    </a:lnTo>
                    <a:lnTo>
                      <a:pt x="945" y="1148"/>
                    </a:lnTo>
                    <a:lnTo>
                      <a:pt x="937" y="1159"/>
                    </a:lnTo>
                    <a:lnTo>
                      <a:pt x="930" y="1174"/>
                    </a:lnTo>
                    <a:lnTo>
                      <a:pt x="925" y="1187"/>
                    </a:lnTo>
                    <a:lnTo>
                      <a:pt x="921" y="1203"/>
                    </a:lnTo>
                    <a:lnTo>
                      <a:pt x="919" y="1219"/>
                    </a:lnTo>
                    <a:lnTo>
                      <a:pt x="919" y="1236"/>
                    </a:lnTo>
                    <a:lnTo>
                      <a:pt x="923" y="1251"/>
                    </a:lnTo>
                    <a:lnTo>
                      <a:pt x="929" y="1266"/>
                    </a:lnTo>
                    <a:lnTo>
                      <a:pt x="935" y="1283"/>
                    </a:lnTo>
                    <a:lnTo>
                      <a:pt x="946" y="1298"/>
                    </a:lnTo>
                    <a:lnTo>
                      <a:pt x="960" y="1311"/>
                    </a:lnTo>
                    <a:lnTo>
                      <a:pt x="977" y="1324"/>
                    </a:lnTo>
                    <a:lnTo>
                      <a:pt x="996" y="1336"/>
                    </a:lnTo>
                    <a:lnTo>
                      <a:pt x="1020" y="1347"/>
                    </a:lnTo>
                    <a:lnTo>
                      <a:pt x="1030" y="1348"/>
                    </a:lnTo>
                    <a:lnTo>
                      <a:pt x="1057" y="1354"/>
                    </a:lnTo>
                    <a:lnTo>
                      <a:pt x="1096" y="1360"/>
                    </a:lnTo>
                    <a:lnTo>
                      <a:pt x="1148" y="1367"/>
                    </a:lnTo>
                    <a:lnTo>
                      <a:pt x="1177" y="1371"/>
                    </a:lnTo>
                    <a:lnTo>
                      <a:pt x="1205" y="1373"/>
                    </a:lnTo>
                    <a:lnTo>
                      <a:pt x="1235" y="1375"/>
                    </a:lnTo>
                    <a:lnTo>
                      <a:pt x="1267" y="1375"/>
                    </a:lnTo>
                    <a:lnTo>
                      <a:pt x="1298" y="1375"/>
                    </a:lnTo>
                    <a:lnTo>
                      <a:pt x="1330" y="1373"/>
                    </a:lnTo>
                    <a:lnTo>
                      <a:pt x="1358" y="1367"/>
                    </a:lnTo>
                    <a:lnTo>
                      <a:pt x="1389" y="1362"/>
                    </a:lnTo>
                    <a:lnTo>
                      <a:pt x="1383" y="1348"/>
                    </a:lnTo>
                    <a:lnTo>
                      <a:pt x="1379" y="1332"/>
                    </a:lnTo>
                    <a:lnTo>
                      <a:pt x="1377" y="1315"/>
                    </a:lnTo>
                    <a:lnTo>
                      <a:pt x="1375" y="1296"/>
                    </a:lnTo>
                    <a:lnTo>
                      <a:pt x="1373" y="1255"/>
                    </a:lnTo>
                    <a:lnTo>
                      <a:pt x="1373" y="1210"/>
                    </a:lnTo>
                    <a:lnTo>
                      <a:pt x="1375" y="1165"/>
                    </a:lnTo>
                    <a:lnTo>
                      <a:pt x="1378" y="1120"/>
                    </a:lnTo>
                    <a:lnTo>
                      <a:pt x="1383" y="1078"/>
                    </a:lnTo>
                    <a:lnTo>
                      <a:pt x="1389" y="1042"/>
                    </a:lnTo>
                    <a:lnTo>
                      <a:pt x="1392" y="1026"/>
                    </a:lnTo>
                    <a:lnTo>
                      <a:pt x="1398" y="1014"/>
                    </a:lnTo>
                    <a:lnTo>
                      <a:pt x="1405" y="1004"/>
                    </a:lnTo>
                    <a:lnTo>
                      <a:pt x="1414" y="995"/>
                    </a:lnTo>
                    <a:lnTo>
                      <a:pt x="1424" y="990"/>
                    </a:lnTo>
                    <a:lnTo>
                      <a:pt x="1435" y="986"/>
                    </a:lnTo>
                    <a:lnTo>
                      <a:pt x="1447" y="983"/>
                    </a:lnTo>
                    <a:lnTo>
                      <a:pt x="1460" y="983"/>
                    </a:lnTo>
                    <a:lnTo>
                      <a:pt x="1472" y="984"/>
                    </a:lnTo>
                    <a:lnTo>
                      <a:pt x="1486" y="988"/>
                    </a:lnTo>
                    <a:lnTo>
                      <a:pt x="1499" y="994"/>
                    </a:lnTo>
                    <a:lnTo>
                      <a:pt x="1511" y="1001"/>
                    </a:lnTo>
                    <a:lnTo>
                      <a:pt x="1526" y="1007"/>
                    </a:lnTo>
                    <a:lnTo>
                      <a:pt x="1538" y="1016"/>
                    </a:lnTo>
                    <a:lnTo>
                      <a:pt x="1551" y="1026"/>
                    </a:lnTo>
                    <a:lnTo>
                      <a:pt x="1562" y="1038"/>
                    </a:lnTo>
                    <a:lnTo>
                      <a:pt x="1573" y="1048"/>
                    </a:lnTo>
                    <a:lnTo>
                      <a:pt x="1587" y="1057"/>
                    </a:lnTo>
                    <a:lnTo>
                      <a:pt x="1600" y="1065"/>
                    </a:lnTo>
                    <a:lnTo>
                      <a:pt x="1617" y="1069"/>
                    </a:lnTo>
                    <a:lnTo>
                      <a:pt x="1633" y="1071"/>
                    </a:lnTo>
                    <a:lnTo>
                      <a:pt x="1649" y="1073"/>
                    </a:lnTo>
                    <a:lnTo>
                      <a:pt x="1666" y="1071"/>
                    </a:lnTo>
                    <a:lnTo>
                      <a:pt x="1683" y="1068"/>
                    </a:lnTo>
                    <a:lnTo>
                      <a:pt x="1699" y="1063"/>
                    </a:lnTo>
                    <a:lnTo>
                      <a:pt x="1715" y="1054"/>
                    </a:lnTo>
                    <a:lnTo>
                      <a:pt x="1730" y="1044"/>
                    </a:lnTo>
                    <a:lnTo>
                      <a:pt x="1742" y="1031"/>
                    </a:lnTo>
                    <a:lnTo>
                      <a:pt x="1755" y="1018"/>
                    </a:lnTo>
                    <a:lnTo>
                      <a:pt x="1763" y="1001"/>
                    </a:lnTo>
                    <a:lnTo>
                      <a:pt x="1771" y="982"/>
                    </a:lnTo>
                    <a:lnTo>
                      <a:pt x="1776" y="959"/>
                    </a:lnTo>
                    <a:lnTo>
                      <a:pt x="1776" y="946"/>
                    </a:lnTo>
                    <a:lnTo>
                      <a:pt x="1776" y="937"/>
                    </a:lnTo>
                    <a:lnTo>
                      <a:pt x="1776" y="924"/>
                    </a:lnTo>
                    <a:lnTo>
                      <a:pt x="1774" y="914"/>
                    </a:lnTo>
                    <a:lnTo>
                      <a:pt x="1771" y="903"/>
                    </a:lnTo>
                    <a:lnTo>
                      <a:pt x="1767" y="893"/>
                    </a:lnTo>
                    <a:lnTo>
                      <a:pt x="1761" y="884"/>
                    </a:lnTo>
                    <a:lnTo>
                      <a:pt x="1756" y="875"/>
                    </a:lnTo>
                    <a:lnTo>
                      <a:pt x="1744" y="858"/>
                    </a:lnTo>
                    <a:lnTo>
                      <a:pt x="1730" y="845"/>
                    </a:lnTo>
                    <a:lnTo>
                      <a:pt x="1711" y="832"/>
                    </a:lnTo>
                    <a:lnTo>
                      <a:pt x="1694" y="824"/>
                    </a:lnTo>
                    <a:lnTo>
                      <a:pt x="1674" y="815"/>
                    </a:lnTo>
                    <a:lnTo>
                      <a:pt x="1654" y="811"/>
                    </a:lnTo>
                    <a:lnTo>
                      <a:pt x="1635" y="808"/>
                    </a:lnTo>
                    <a:lnTo>
                      <a:pt x="1615" y="810"/>
                    </a:lnTo>
                    <a:lnTo>
                      <a:pt x="1598" y="813"/>
                    </a:lnTo>
                    <a:lnTo>
                      <a:pt x="1581" y="821"/>
                    </a:lnTo>
                    <a:lnTo>
                      <a:pt x="1575" y="824"/>
                    </a:lnTo>
                    <a:lnTo>
                      <a:pt x="1567" y="829"/>
                    </a:lnTo>
                    <a:lnTo>
                      <a:pt x="1562" y="836"/>
                    </a:lnTo>
                    <a:lnTo>
                      <a:pt x="1555" y="843"/>
                    </a:lnTo>
                    <a:lnTo>
                      <a:pt x="1544" y="857"/>
                    </a:lnTo>
                    <a:lnTo>
                      <a:pt x="1532" y="867"/>
                    </a:lnTo>
                    <a:lnTo>
                      <a:pt x="1519" y="874"/>
                    </a:lnTo>
                    <a:lnTo>
                      <a:pt x="1505" y="879"/>
                    </a:lnTo>
                    <a:lnTo>
                      <a:pt x="1492" y="881"/>
                    </a:lnTo>
                    <a:lnTo>
                      <a:pt x="1478" y="883"/>
                    </a:lnTo>
                    <a:lnTo>
                      <a:pt x="1464" y="881"/>
                    </a:lnTo>
                    <a:lnTo>
                      <a:pt x="1451" y="877"/>
                    </a:lnTo>
                    <a:lnTo>
                      <a:pt x="1439" y="873"/>
                    </a:lnTo>
                    <a:lnTo>
                      <a:pt x="1426" y="867"/>
                    </a:lnTo>
                    <a:lnTo>
                      <a:pt x="1416" y="860"/>
                    </a:lnTo>
                    <a:lnTo>
                      <a:pt x="1406" y="851"/>
                    </a:lnTo>
                    <a:lnTo>
                      <a:pt x="1400" y="843"/>
                    </a:lnTo>
                    <a:lnTo>
                      <a:pt x="1392" y="834"/>
                    </a:lnTo>
                    <a:lnTo>
                      <a:pt x="1389" y="826"/>
                    </a:lnTo>
                    <a:lnTo>
                      <a:pt x="1389" y="817"/>
                    </a:lnTo>
                    <a:lnTo>
                      <a:pt x="1389" y="787"/>
                    </a:lnTo>
                    <a:lnTo>
                      <a:pt x="1389" y="741"/>
                    </a:lnTo>
                    <a:lnTo>
                      <a:pt x="1389" y="680"/>
                    </a:lnTo>
                    <a:lnTo>
                      <a:pt x="1389" y="612"/>
                    </a:lnTo>
                    <a:lnTo>
                      <a:pt x="1389" y="544"/>
                    </a:lnTo>
                    <a:lnTo>
                      <a:pt x="1389" y="474"/>
                    </a:lnTo>
                    <a:lnTo>
                      <a:pt x="1389" y="412"/>
                    </a:lnTo>
                    <a:lnTo>
                      <a:pt x="1389" y="364"/>
                    </a:lnTo>
                    <a:lnTo>
                      <a:pt x="1371" y="373"/>
                    </a:lnTo>
                    <a:lnTo>
                      <a:pt x="1350" y="383"/>
                    </a:lnTo>
                    <a:lnTo>
                      <a:pt x="1328" y="391"/>
                    </a:lnTo>
                    <a:lnTo>
                      <a:pt x="1303" y="396"/>
                    </a:lnTo>
                    <a:lnTo>
                      <a:pt x="1278" y="400"/>
                    </a:lnTo>
                    <a:lnTo>
                      <a:pt x="1251" y="402"/>
                    </a:lnTo>
                    <a:lnTo>
                      <a:pt x="1222" y="403"/>
                    </a:lnTo>
                    <a:lnTo>
                      <a:pt x="1196" y="403"/>
                    </a:lnTo>
                    <a:lnTo>
                      <a:pt x="1168" y="402"/>
                    </a:lnTo>
                    <a:lnTo>
                      <a:pt x="1139" y="398"/>
                    </a:lnTo>
                    <a:lnTo>
                      <a:pt x="1112" y="394"/>
                    </a:lnTo>
                    <a:lnTo>
                      <a:pt x="1086" y="390"/>
                    </a:lnTo>
                    <a:lnTo>
                      <a:pt x="1061" y="384"/>
                    </a:lnTo>
                    <a:lnTo>
                      <a:pt x="1037" y="377"/>
                    </a:lnTo>
                    <a:lnTo>
                      <a:pt x="1016" y="370"/>
                    </a:lnTo>
                    <a:lnTo>
                      <a:pt x="996" y="364"/>
                    </a:lnTo>
                    <a:lnTo>
                      <a:pt x="982" y="356"/>
                    </a:lnTo>
                    <a:lnTo>
                      <a:pt x="970" y="349"/>
                    </a:lnTo>
                    <a:lnTo>
                      <a:pt x="959" y="343"/>
                    </a:lnTo>
                    <a:lnTo>
                      <a:pt x="950" y="336"/>
                    </a:lnTo>
                    <a:lnTo>
                      <a:pt x="943" y="328"/>
                    </a:lnTo>
                    <a:lnTo>
                      <a:pt x="937" y="322"/>
                    </a:lnTo>
                    <a:lnTo>
                      <a:pt x="935" y="313"/>
                    </a:lnTo>
                    <a:lnTo>
                      <a:pt x="933" y="306"/>
                    </a:lnTo>
                    <a:lnTo>
                      <a:pt x="933" y="298"/>
                    </a:lnTo>
                    <a:lnTo>
                      <a:pt x="935" y="289"/>
                    </a:lnTo>
                    <a:lnTo>
                      <a:pt x="941" y="279"/>
                    </a:lnTo>
                    <a:lnTo>
                      <a:pt x="946" y="268"/>
                    </a:lnTo>
                    <a:lnTo>
                      <a:pt x="962" y="246"/>
                    </a:lnTo>
                    <a:lnTo>
                      <a:pt x="985" y="221"/>
                    </a:lnTo>
                    <a:lnTo>
                      <a:pt x="998" y="206"/>
                    </a:lnTo>
                    <a:lnTo>
                      <a:pt x="1007" y="191"/>
                    </a:lnTo>
                    <a:lnTo>
                      <a:pt x="1014" y="174"/>
                    </a:lnTo>
                    <a:lnTo>
                      <a:pt x="1020" y="154"/>
                    </a:lnTo>
                    <a:lnTo>
                      <a:pt x="1023" y="137"/>
                    </a:lnTo>
                    <a:lnTo>
                      <a:pt x="1023" y="118"/>
                    </a:lnTo>
                    <a:lnTo>
                      <a:pt x="1020" y="99"/>
                    </a:lnTo>
                    <a:lnTo>
                      <a:pt x="1014" y="82"/>
                    </a:lnTo>
                    <a:lnTo>
                      <a:pt x="1007" y="64"/>
                    </a:lnTo>
                    <a:lnTo>
                      <a:pt x="995" y="48"/>
                    </a:lnTo>
                    <a:lnTo>
                      <a:pt x="987" y="42"/>
                    </a:lnTo>
                    <a:lnTo>
                      <a:pt x="980" y="35"/>
                    </a:lnTo>
                    <a:lnTo>
                      <a:pt x="971" y="27"/>
                    </a:lnTo>
                    <a:lnTo>
                      <a:pt x="962" y="22"/>
                    </a:lnTo>
                    <a:lnTo>
                      <a:pt x="952" y="18"/>
                    </a:lnTo>
                    <a:lnTo>
                      <a:pt x="941" y="12"/>
                    </a:lnTo>
                    <a:lnTo>
                      <a:pt x="929" y="9"/>
                    </a:lnTo>
                    <a:lnTo>
                      <a:pt x="916" y="5"/>
                    </a:lnTo>
                    <a:lnTo>
                      <a:pt x="902" y="1"/>
                    </a:lnTo>
                    <a:lnTo>
                      <a:pt x="888" y="0"/>
                    </a:lnTo>
                    <a:lnTo>
                      <a:pt x="873" y="0"/>
                    </a:lnTo>
                    <a:lnTo>
                      <a:pt x="855" y="0"/>
                    </a:lnTo>
                    <a:lnTo>
                      <a:pt x="843" y="0"/>
                    </a:lnTo>
                    <a:lnTo>
                      <a:pt x="828" y="1"/>
                    </a:lnTo>
                    <a:lnTo>
                      <a:pt x="818" y="3"/>
                    </a:lnTo>
                    <a:lnTo>
                      <a:pt x="805" y="7"/>
                    </a:lnTo>
                    <a:lnTo>
                      <a:pt x="797" y="12"/>
                    </a:lnTo>
                    <a:lnTo>
                      <a:pt x="786" y="16"/>
                    </a:lnTo>
                    <a:lnTo>
                      <a:pt x="777" y="22"/>
                    </a:lnTo>
                    <a:lnTo>
                      <a:pt x="770" y="27"/>
                    </a:lnTo>
                    <a:lnTo>
                      <a:pt x="762" y="35"/>
                    </a:lnTo>
                    <a:lnTo>
                      <a:pt x="755" y="42"/>
                    </a:lnTo>
                    <a:lnTo>
                      <a:pt x="750" y="48"/>
                    </a:lnTo>
                    <a:lnTo>
                      <a:pt x="745" y="57"/>
                    </a:lnTo>
                    <a:lnTo>
                      <a:pt x="737" y="74"/>
                    </a:lnTo>
                    <a:lnTo>
                      <a:pt x="733" y="93"/>
                    </a:lnTo>
                    <a:lnTo>
                      <a:pt x="731" y="112"/>
                    </a:lnTo>
                    <a:lnTo>
                      <a:pt x="731" y="133"/>
                    </a:lnTo>
                    <a:lnTo>
                      <a:pt x="733" y="154"/>
                    </a:lnTo>
                    <a:lnTo>
                      <a:pt x="737" y="174"/>
                    </a:lnTo>
                    <a:lnTo>
                      <a:pt x="745" y="194"/>
                    </a:lnTo>
                    <a:lnTo>
                      <a:pt x="754" y="213"/>
                    </a:lnTo>
                    <a:lnTo>
                      <a:pt x="764" y="230"/>
                    </a:lnTo>
                    <a:lnTo>
                      <a:pt x="778" y="246"/>
                    </a:lnTo>
                    <a:lnTo>
                      <a:pt x="787" y="258"/>
                    </a:lnTo>
                    <a:lnTo>
                      <a:pt x="795" y="270"/>
                    </a:lnTo>
                    <a:lnTo>
                      <a:pt x="799" y="282"/>
                    </a:lnTo>
                    <a:lnTo>
                      <a:pt x="803" y="294"/>
                    </a:lnTo>
                    <a:lnTo>
                      <a:pt x="803" y="306"/>
                    </a:lnTo>
                    <a:lnTo>
                      <a:pt x="801" y="318"/>
                    </a:lnTo>
                    <a:lnTo>
                      <a:pt x="799" y="330"/>
                    </a:lnTo>
                    <a:lnTo>
                      <a:pt x="791" y="341"/>
                    </a:lnTo>
                    <a:lnTo>
                      <a:pt x="784" y="349"/>
                    </a:lnTo>
                    <a:lnTo>
                      <a:pt x="774" y="356"/>
                    </a:lnTo>
                    <a:lnTo>
                      <a:pt x="759" y="362"/>
                    </a:lnTo>
                    <a:lnTo>
                      <a:pt x="745" y="365"/>
                    </a:lnTo>
                    <a:lnTo>
                      <a:pt x="727" y="365"/>
                    </a:lnTo>
                    <a:lnTo>
                      <a:pt x="706" y="364"/>
                    </a:lnTo>
                    <a:lnTo>
                      <a:pt x="684" y="358"/>
                    </a:lnTo>
                    <a:lnTo>
                      <a:pt x="659" y="349"/>
                    </a:lnTo>
                    <a:lnTo>
                      <a:pt x="644" y="345"/>
                    </a:lnTo>
                    <a:lnTo>
                      <a:pt x="629" y="341"/>
                    </a:lnTo>
                    <a:lnTo>
                      <a:pt x="611" y="337"/>
                    </a:lnTo>
                    <a:lnTo>
                      <a:pt x="595" y="336"/>
                    </a:lnTo>
                    <a:lnTo>
                      <a:pt x="555" y="336"/>
                    </a:lnTo>
                    <a:lnTo>
                      <a:pt x="516" y="337"/>
                    </a:lnTo>
                    <a:lnTo>
                      <a:pt x="475" y="341"/>
                    </a:lnTo>
                    <a:lnTo>
                      <a:pt x="433" y="348"/>
                    </a:lnTo>
                    <a:lnTo>
                      <a:pt x="390" y="354"/>
                    </a:lnTo>
                    <a:lnTo>
                      <a:pt x="349" y="364"/>
                    </a:lnTo>
                    <a:lnTo>
                      <a:pt x="345" y="373"/>
                    </a:lnTo>
                    <a:lnTo>
                      <a:pt x="345" y="392"/>
                    </a:lnTo>
                    <a:lnTo>
                      <a:pt x="345" y="415"/>
                    </a:lnTo>
                    <a:lnTo>
                      <a:pt x="347" y="441"/>
                    </a:lnTo>
                    <a:lnTo>
                      <a:pt x="355" y="503"/>
                    </a:lnTo>
                    <a:lnTo>
                      <a:pt x="361" y="573"/>
                    </a:lnTo>
                    <a:lnTo>
                      <a:pt x="365" y="608"/>
                    </a:lnTo>
                    <a:lnTo>
                      <a:pt x="367" y="642"/>
                    </a:lnTo>
                    <a:lnTo>
                      <a:pt x="368" y="675"/>
                    </a:lnTo>
                    <a:lnTo>
                      <a:pt x="370" y="704"/>
                    </a:lnTo>
                    <a:lnTo>
                      <a:pt x="368" y="732"/>
                    </a:lnTo>
                    <a:lnTo>
                      <a:pt x="365" y="755"/>
                    </a:lnTo>
                    <a:lnTo>
                      <a:pt x="361" y="765"/>
                    </a:lnTo>
                    <a:lnTo>
                      <a:pt x="357" y="774"/>
                    </a:lnTo>
                    <a:lnTo>
                      <a:pt x="355" y="781"/>
                    </a:lnTo>
                    <a:lnTo>
                      <a:pt x="349" y="785"/>
                    </a:lnTo>
                    <a:close/>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a:off x="5099400" y="361944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NG </a:t>
              </a:r>
              <a:endParaRPr b="0" lang="en-US" sz="1800" spc="-1" strike="noStrike">
                <a:solidFill>
                  <a:srgbClr val="000000"/>
                </a:solidFill>
                <a:latin typeface="Arial"/>
              </a:endParaRPr>
            </a:p>
          </p:txBody>
        </p:sp>
        <p:sp>
          <p:nvSpPr>
            <p:cNvPr id="274" name=""/>
            <p:cNvSpPr/>
            <p:nvPr/>
          </p:nvSpPr>
          <p:spPr>
            <a:xfrm>
              <a:off x="5110200" y="3895560"/>
              <a:ext cx="627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RM</a:t>
              </a:r>
              <a:endParaRPr b="0" lang="en-US" sz="1800" spc="-1" strike="noStrike">
                <a:solidFill>
                  <a:srgbClr val="000000"/>
                </a:solidFill>
                <a:latin typeface="Arial"/>
              </a:endParaRPr>
            </a:p>
          </p:txBody>
        </p:sp>
      </p:grpSp>
      <p:grpSp>
        <p:nvGrpSpPr>
          <p:cNvPr id="275" name=""/>
          <p:cNvGrpSpPr/>
          <p:nvPr/>
        </p:nvGrpSpPr>
        <p:grpSpPr>
          <a:xfrm>
            <a:off x="249120" y="2884320"/>
            <a:ext cx="4384800" cy="3681360"/>
            <a:chOff x="249120" y="2884320"/>
            <a:chExt cx="4384800" cy="3681360"/>
          </a:xfrm>
        </p:grpSpPr>
        <p:sp>
          <p:nvSpPr>
            <p:cNvPr id="276" name=""/>
            <p:cNvSpPr/>
            <p:nvPr/>
          </p:nvSpPr>
          <p:spPr>
            <a:xfrm>
              <a:off x="276120" y="3522600"/>
              <a:ext cx="2341800" cy="1096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249120" y="3440160"/>
              <a:ext cx="2538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vide end-users a broader range of short-term solutions to specific problems</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farmers to respond to the new demands while maintaining competitiveness.</a:t>
              </a:r>
              <a:endParaRPr b="0" lang="en-US" sz="1800" spc="-1" strike="noStrike">
                <a:solidFill>
                  <a:srgbClr val="000000"/>
                </a:solidFill>
                <a:latin typeface="Arial"/>
              </a:endParaRPr>
            </a:p>
          </p:txBody>
        </p:sp>
        <p:sp>
          <p:nvSpPr>
            <p:cNvPr id="278" name=""/>
            <p:cNvSpPr/>
            <p:nvPr/>
          </p:nvSpPr>
          <p:spPr>
            <a:xfrm>
              <a:off x="249120" y="5923080"/>
              <a:ext cx="242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esearch and Spreading Activities</a:t>
              </a:r>
              <a:endParaRPr b="0" lang="en-US" sz="1800" spc="-1" strike="noStrike">
                <a:solidFill>
                  <a:srgbClr val="000000"/>
                </a:solidFill>
                <a:latin typeface="Arial"/>
              </a:endParaRPr>
            </a:p>
          </p:txBody>
        </p:sp>
        <p:grpSp>
          <p:nvGrpSpPr>
            <p:cNvPr id="279" name=""/>
            <p:cNvGrpSpPr/>
            <p:nvPr/>
          </p:nvGrpSpPr>
          <p:grpSpPr>
            <a:xfrm>
              <a:off x="2941560" y="2884320"/>
              <a:ext cx="1692360" cy="2800440"/>
              <a:chOff x="2941560" y="2884320"/>
              <a:chExt cx="1692360" cy="2800440"/>
            </a:xfrm>
          </p:grpSpPr>
          <p:sp>
            <p:nvSpPr>
              <p:cNvPr id="280" name=""/>
              <p:cNvSpPr/>
              <p:nvPr/>
            </p:nvSpPr>
            <p:spPr>
              <a:xfrm>
                <a:off x="2941560" y="2884320"/>
                <a:ext cx="1692360" cy="2800440"/>
              </a:xfrm>
              <a:custGeom>
                <a:avLst/>
                <a:gdLst/>
                <a:ahLst/>
                <a:rect l="l" t="t" r="r" b="b"/>
                <a:pathLst>
                  <a:path w="1066" h="1764">
                    <a:moveTo>
                      <a:pt x="184" y="862"/>
                    </a:moveTo>
                    <a:lnTo>
                      <a:pt x="189" y="855"/>
                    </a:lnTo>
                    <a:lnTo>
                      <a:pt x="197" y="848"/>
                    </a:lnTo>
                    <a:lnTo>
                      <a:pt x="203" y="843"/>
                    </a:lnTo>
                    <a:lnTo>
                      <a:pt x="211" y="839"/>
                    </a:lnTo>
                    <a:lnTo>
                      <a:pt x="227" y="833"/>
                    </a:lnTo>
                    <a:lnTo>
                      <a:pt x="244" y="829"/>
                    </a:lnTo>
                    <a:lnTo>
                      <a:pt x="265" y="827"/>
                    </a:lnTo>
                    <a:lnTo>
                      <a:pt x="285" y="829"/>
                    </a:lnTo>
                    <a:lnTo>
                      <a:pt x="304" y="835"/>
                    </a:lnTo>
                    <a:lnTo>
                      <a:pt x="324" y="841"/>
                    </a:lnTo>
                    <a:lnTo>
                      <a:pt x="342" y="852"/>
                    </a:lnTo>
                    <a:lnTo>
                      <a:pt x="360" y="863"/>
                    </a:lnTo>
                    <a:lnTo>
                      <a:pt x="375" y="878"/>
                    </a:lnTo>
                    <a:lnTo>
                      <a:pt x="387" y="895"/>
                    </a:lnTo>
                    <a:lnTo>
                      <a:pt x="392" y="903"/>
                    </a:lnTo>
                    <a:lnTo>
                      <a:pt x="398" y="912"/>
                    </a:lnTo>
                    <a:lnTo>
                      <a:pt x="401" y="923"/>
                    </a:lnTo>
                    <a:lnTo>
                      <a:pt x="404" y="932"/>
                    </a:lnTo>
                    <a:lnTo>
                      <a:pt x="406" y="943"/>
                    </a:lnTo>
                    <a:lnTo>
                      <a:pt x="406" y="953"/>
                    </a:lnTo>
                    <a:lnTo>
                      <a:pt x="406" y="966"/>
                    </a:lnTo>
                    <a:lnTo>
                      <a:pt x="406" y="977"/>
                    </a:lnTo>
                    <a:lnTo>
                      <a:pt x="401" y="998"/>
                    </a:lnTo>
                    <a:lnTo>
                      <a:pt x="394" y="1019"/>
                    </a:lnTo>
                    <a:lnTo>
                      <a:pt x="385" y="1034"/>
                    </a:lnTo>
                    <a:lnTo>
                      <a:pt x="373" y="1050"/>
                    </a:lnTo>
                    <a:lnTo>
                      <a:pt x="360" y="1062"/>
                    </a:lnTo>
                    <a:lnTo>
                      <a:pt x="346" y="1073"/>
                    </a:lnTo>
                    <a:lnTo>
                      <a:pt x="330" y="1079"/>
                    </a:lnTo>
                    <a:lnTo>
                      <a:pt x="313" y="1086"/>
                    </a:lnTo>
                    <a:lnTo>
                      <a:pt x="297" y="1090"/>
                    </a:lnTo>
                    <a:lnTo>
                      <a:pt x="279" y="1090"/>
                    </a:lnTo>
                    <a:lnTo>
                      <a:pt x="263" y="1090"/>
                    </a:lnTo>
                    <a:lnTo>
                      <a:pt x="246" y="1086"/>
                    </a:lnTo>
                    <a:lnTo>
                      <a:pt x="230" y="1082"/>
                    </a:lnTo>
                    <a:lnTo>
                      <a:pt x="216" y="1075"/>
                    </a:lnTo>
                    <a:lnTo>
                      <a:pt x="201" y="1067"/>
                    </a:lnTo>
                    <a:lnTo>
                      <a:pt x="191" y="1056"/>
                    </a:lnTo>
                    <a:lnTo>
                      <a:pt x="180" y="1045"/>
                    </a:lnTo>
                    <a:lnTo>
                      <a:pt x="168" y="1034"/>
                    </a:lnTo>
                    <a:lnTo>
                      <a:pt x="154" y="1026"/>
                    </a:lnTo>
                    <a:lnTo>
                      <a:pt x="140" y="1019"/>
                    </a:lnTo>
                    <a:lnTo>
                      <a:pt x="128" y="1012"/>
                    </a:lnTo>
                    <a:lnTo>
                      <a:pt x="113" y="1007"/>
                    </a:lnTo>
                    <a:lnTo>
                      <a:pt x="101" y="1003"/>
                    </a:lnTo>
                    <a:lnTo>
                      <a:pt x="88" y="1002"/>
                    </a:lnTo>
                    <a:lnTo>
                      <a:pt x="76" y="1002"/>
                    </a:lnTo>
                    <a:lnTo>
                      <a:pt x="64" y="1003"/>
                    </a:lnTo>
                    <a:lnTo>
                      <a:pt x="52" y="1009"/>
                    </a:lnTo>
                    <a:lnTo>
                      <a:pt x="42" y="1013"/>
                    </a:lnTo>
                    <a:lnTo>
                      <a:pt x="33" y="1022"/>
                    </a:lnTo>
                    <a:lnTo>
                      <a:pt x="25" y="1032"/>
                    </a:lnTo>
                    <a:lnTo>
                      <a:pt x="21" y="1045"/>
                    </a:lnTo>
                    <a:lnTo>
                      <a:pt x="17" y="1060"/>
                    </a:lnTo>
                    <a:lnTo>
                      <a:pt x="11" y="1097"/>
                    </a:lnTo>
                    <a:lnTo>
                      <a:pt x="6" y="1138"/>
                    </a:lnTo>
                    <a:lnTo>
                      <a:pt x="2" y="1183"/>
                    </a:lnTo>
                    <a:lnTo>
                      <a:pt x="0" y="1227"/>
                    </a:lnTo>
                    <a:lnTo>
                      <a:pt x="0" y="1272"/>
                    </a:lnTo>
                    <a:lnTo>
                      <a:pt x="2" y="1313"/>
                    </a:lnTo>
                    <a:lnTo>
                      <a:pt x="4" y="1333"/>
                    </a:lnTo>
                    <a:lnTo>
                      <a:pt x="8" y="1350"/>
                    </a:lnTo>
                    <a:lnTo>
                      <a:pt x="11" y="1365"/>
                    </a:lnTo>
                    <a:lnTo>
                      <a:pt x="17" y="1379"/>
                    </a:lnTo>
                    <a:lnTo>
                      <a:pt x="49" y="1374"/>
                    </a:lnTo>
                    <a:lnTo>
                      <a:pt x="92" y="1367"/>
                    </a:lnTo>
                    <a:lnTo>
                      <a:pt x="140" y="1363"/>
                    </a:lnTo>
                    <a:lnTo>
                      <a:pt x="191" y="1360"/>
                    </a:lnTo>
                    <a:lnTo>
                      <a:pt x="244" y="1358"/>
                    </a:lnTo>
                    <a:lnTo>
                      <a:pt x="289" y="1358"/>
                    </a:lnTo>
                    <a:lnTo>
                      <a:pt x="330" y="1360"/>
                    </a:lnTo>
                    <a:lnTo>
                      <a:pt x="360" y="1363"/>
                    </a:lnTo>
                    <a:lnTo>
                      <a:pt x="389" y="1371"/>
                    </a:lnTo>
                    <a:lnTo>
                      <a:pt x="414" y="1377"/>
                    </a:lnTo>
                    <a:lnTo>
                      <a:pt x="435" y="1386"/>
                    </a:lnTo>
                    <a:lnTo>
                      <a:pt x="455" y="1397"/>
                    </a:lnTo>
                    <a:lnTo>
                      <a:pt x="469" y="1407"/>
                    </a:lnTo>
                    <a:lnTo>
                      <a:pt x="480" y="1417"/>
                    </a:lnTo>
                    <a:lnTo>
                      <a:pt x="489" y="1429"/>
                    </a:lnTo>
                    <a:lnTo>
                      <a:pt x="496" y="1440"/>
                    </a:lnTo>
                    <a:lnTo>
                      <a:pt x="498" y="1452"/>
                    </a:lnTo>
                    <a:lnTo>
                      <a:pt x="500" y="1463"/>
                    </a:lnTo>
                    <a:lnTo>
                      <a:pt x="498" y="1476"/>
                    </a:lnTo>
                    <a:lnTo>
                      <a:pt x="494" y="1487"/>
                    </a:lnTo>
                    <a:lnTo>
                      <a:pt x="489" y="1500"/>
                    </a:lnTo>
                    <a:lnTo>
                      <a:pt x="482" y="1512"/>
                    </a:lnTo>
                    <a:lnTo>
                      <a:pt x="473" y="1522"/>
                    </a:lnTo>
                    <a:lnTo>
                      <a:pt x="462" y="1532"/>
                    </a:lnTo>
                    <a:lnTo>
                      <a:pt x="451" y="1547"/>
                    </a:lnTo>
                    <a:lnTo>
                      <a:pt x="443" y="1562"/>
                    </a:lnTo>
                    <a:lnTo>
                      <a:pt x="435" y="1579"/>
                    </a:lnTo>
                    <a:lnTo>
                      <a:pt x="432" y="1598"/>
                    </a:lnTo>
                    <a:lnTo>
                      <a:pt x="430" y="1617"/>
                    </a:lnTo>
                    <a:lnTo>
                      <a:pt x="430" y="1637"/>
                    </a:lnTo>
                    <a:lnTo>
                      <a:pt x="433" y="1657"/>
                    </a:lnTo>
                    <a:lnTo>
                      <a:pt x="439" y="1676"/>
                    </a:lnTo>
                    <a:lnTo>
                      <a:pt x="447" y="1695"/>
                    </a:lnTo>
                    <a:lnTo>
                      <a:pt x="459" y="1712"/>
                    </a:lnTo>
                    <a:lnTo>
                      <a:pt x="471" y="1725"/>
                    </a:lnTo>
                    <a:lnTo>
                      <a:pt x="488" y="1740"/>
                    </a:lnTo>
                    <a:lnTo>
                      <a:pt x="496" y="1746"/>
                    </a:lnTo>
                    <a:lnTo>
                      <a:pt x="507" y="1751"/>
                    </a:lnTo>
                    <a:lnTo>
                      <a:pt x="516" y="1755"/>
                    </a:lnTo>
                    <a:lnTo>
                      <a:pt x="527" y="1759"/>
                    </a:lnTo>
                    <a:lnTo>
                      <a:pt x="539" y="1762"/>
                    </a:lnTo>
                    <a:lnTo>
                      <a:pt x="550" y="1764"/>
                    </a:lnTo>
                    <a:lnTo>
                      <a:pt x="564" y="1764"/>
                    </a:lnTo>
                    <a:lnTo>
                      <a:pt x="578" y="1764"/>
                    </a:lnTo>
                    <a:lnTo>
                      <a:pt x="602" y="1762"/>
                    </a:lnTo>
                    <a:lnTo>
                      <a:pt x="627" y="1757"/>
                    </a:lnTo>
                    <a:lnTo>
                      <a:pt x="649" y="1748"/>
                    </a:lnTo>
                    <a:lnTo>
                      <a:pt x="667" y="1738"/>
                    </a:lnTo>
                    <a:lnTo>
                      <a:pt x="683" y="1725"/>
                    </a:lnTo>
                    <a:lnTo>
                      <a:pt x="697" y="1712"/>
                    </a:lnTo>
                    <a:lnTo>
                      <a:pt x="711" y="1697"/>
                    </a:lnTo>
                    <a:lnTo>
                      <a:pt x="717" y="1680"/>
                    </a:lnTo>
                    <a:lnTo>
                      <a:pt x="725" y="1663"/>
                    </a:lnTo>
                    <a:lnTo>
                      <a:pt x="726" y="1644"/>
                    </a:lnTo>
                    <a:lnTo>
                      <a:pt x="728" y="1627"/>
                    </a:lnTo>
                    <a:lnTo>
                      <a:pt x="725" y="1609"/>
                    </a:lnTo>
                    <a:lnTo>
                      <a:pt x="719" y="1592"/>
                    </a:lnTo>
                    <a:lnTo>
                      <a:pt x="711" y="1572"/>
                    </a:lnTo>
                    <a:lnTo>
                      <a:pt x="699" y="1555"/>
                    </a:lnTo>
                    <a:lnTo>
                      <a:pt x="685" y="1539"/>
                    </a:lnTo>
                    <a:lnTo>
                      <a:pt x="672" y="1526"/>
                    </a:lnTo>
                    <a:lnTo>
                      <a:pt x="662" y="1510"/>
                    </a:lnTo>
                    <a:lnTo>
                      <a:pt x="654" y="1493"/>
                    </a:lnTo>
                    <a:lnTo>
                      <a:pt x="649" y="1477"/>
                    </a:lnTo>
                    <a:lnTo>
                      <a:pt x="645" y="1460"/>
                    </a:lnTo>
                    <a:lnTo>
                      <a:pt x="645" y="1442"/>
                    </a:lnTo>
                    <a:lnTo>
                      <a:pt x="645" y="1427"/>
                    </a:lnTo>
                    <a:lnTo>
                      <a:pt x="649" y="1412"/>
                    </a:lnTo>
                    <a:lnTo>
                      <a:pt x="653" y="1397"/>
                    </a:lnTo>
                    <a:lnTo>
                      <a:pt x="658" y="1382"/>
                    </a:lnTo>
                    <a:lnTo>
                      <a:pt x="666" y="1371"/>
                    </a:lnTo>
                    <a:lnTo>
                      <a:pt x="674" y="1360"/>
                    </a:lnTo>
                    <a:lnTo>
                      <a:pt x="683" y="1352"/>
                    </a:lnTo>
                    <a:lnTo>
                      <a:pt x="694" y="1345"/>
                    </a:lnTo>
                    <a:lnTo>
                      <a:pt x="705" y="1339"/>
                    </a:lnTo>
                    <a:lnTo>
                      <a:pt x="715" y="1337"/>
                    </a:lnTo>
                    <a:lnTo>
                      <a:pt x="733" y="1339"/>
                    </a:lnTo>
                    <a:lnTo>
                      <a:pt x="758" y="1343"/>
                    </a:lnTo>
                    <a:lnTo>
                      <a:pt x="793" y="1346"/>
                    </a:lnTo>
                    <a:lnTo>
                      <a:pt x="832" y="1352"/>
                    </a:lnTo>
                    <a:lnTo>
                      <a:pt x="877" y="1355"/>
                    </a:lnTo>
                    <a:lnTo>
                      <a:pt x="926" y="1358"/>
                    </a:lnTo>
                    <a:lnTo>
                      <a:pt x="978" y="1362"/>
                    </a:lnTo>
                    <a:lnTo>
                      <a:pt x="1032" y="1363"/>
                    </a:lnTo>
                    <a:lnTo>
                      <a:pt x="1041" y="1343"/>
                    </a:lnTo>
                    <a:lnTo>
                      <a:pt x="1048" y="1320"/>
                    </a:lnTo>
                    <a:lnTo>
                      <a:pt x="1055" y="1298"/>
                    </a:lnTo>
                    <a:lnTo>
                      <a:pt x="1059" y="1274"/>
                    </a:lnTo>
                    <a:lnTo>
                      <a:pt x="1063" y="1249"/>
                    </a:lnTo>
                    <a:lnTo>
                      <a:pt x="1066" y="1224"/>
                    </a:lnTo>
                    <a:lnTo>
                      <a:pt x="1066" y="1200"/>
                    </a:lnTo>
                    <a:lnTo>
                      <a:pt x="1066" y="1176"/>
                    </a:lnTo>
                    <a:lnTo>
                      <a:pt x="1066" y="1152"/>
                    </a:lnTo>
                    <a:lnTo>
                      <a:pt x="1064" y="1127"/>
                    </a:lnTo>
                    <a:lnTo>
                      <a:pt x="1061" y="1105"/>
                    </a:lnTo>
                    <a:lnTo>
                      <a:pt x="1057" y="1082"/>
                    </a:lnTo>
                    <a:lnTo>
                      <a:pt x="1053" y="1062"/>
                    </a:lnTo>
                    <a:lnTo>
                      <a:pt x="1048" y="1043"/>
                    </a:lnTo>
                    <a:lnTo>
                      <a:pt x="1043" y="1026"/>
                    </a:lnTo>
                    <a:lnTo>
                      <a:pt x="1037" y="1012"/>
                    </a:lnTo>
                    <a:lnTo>
                      <a:pt x="1032" y="998"/>
                    </a:lnTo>
                    <a:lnTo>
                      <a:pt x="1024" y="988"/>
                    </a:lnTo>
                    <a:lnTo>
                      <a:pt x="1018" y="979"/>
                    </a:lnTo>
                    <a:lnTo>
                      <a:pt x="1010" y="972"/>
                    </a:lnTo>
                    <a:lnTo>
                      <a:pt x="1001" y="967"/>
                    </a:lnTo>
                    <a:lnTo>
                      <a:pt x="994" y="964"/>
                    </a:lnTo>
                    <a:lnTo>
                      <a:pt x="985" y="962"/>
                    </a:lnTo>
                    <a:lnTo>
                      <a:pt x="976" y="960"/>
                    </a:lnTo>
                    <a:lnTo>
                      <a:pt x="956" y="962"/>
                    </a:lnTo>
                    <a:lnTo>
                      <a:pt x="934" y="967"/>
                    </a:lnTo>
                    <a:lnTo>
                      <a:pt x="912" y="974"/>
                    </a:lnTo>
                    <a:lnTo>
                      <a:pt x="887" y="983"/>
                    </a:lnTo>
                    <a:lnTo>
                      <a:pt x="870" y="988"/>
                    </a:lnTo>
                    <a:lnTo>
                      <a:pt x="854" y="993"/>
                    </a:lnTo>
                    <a:lnTo>
                      <a:pt x="840" y="994"/>
                    </a:lnTo>
                    <a:lnTo>
                      <a:pt x="825" y="996"/>
                    </a:lnTo>
                    <a:lnTo>
                      <a:pt x="811" y="996"/>
                    </a:lnTo>
                    <a:lnTo>
                      <a:pt x="799" y="996"/>
                    </a:lnTo>
                    <a:lnTo>
                      <a:pt x="787" y="994"/>
                    </a:lnTo>
                    <a:lnTo>
                      <a:pt x="775" y="993"/>
                    </a:lnTo>
                    <a:lnTo>
                      <a:pt x="764" y="989"/>
                    </a:lnTo>
                    <a:lnTo>
                      <a:pt x="756" y="986"/>
                    </a:lnTo>
                    <a:lnTo>
                      <a:pt x="746" y="981"/>
                    </a:lnTo>
                    <a:lnTo>
                      <a:pt x="737" y="976"/>
                    </a:lnTo>
                    <a:lnTo>
                      <a:pt x="723" y="964"/>
                    </a:lnTo>
                    <a:lnTo>
                      <a:pt x="711" y="949"/>
                    </a:lnTo>
                    <a:lnTo>
                      <a:pt x="701" y="934"/>
                    </a:lnTo>
                    <a:lnTo>
                      <a:pt x="694" y="919"/>
                    </a:lnTo>
                    <a:lnTo>
                      <a:pt x="690" y="902"/>
                    </a:lnTo>
                    <a:lnTo>
                      <a:pt x="687" y="886"/>
                    </a:lnTo>
                    <a:lnTo>
                      <a:pt x="687" y="871"/>
                    </a:lnTo>
                    <a:lnTo>
                      <a:pt x="689" y="855"/>
                    </a:lnTo>
                    <a:lnTo>
                      <a:pt x="692" y="843"/>
                    </a:lnTo>
                    <a:lnTo>
                      <a:pt x="697" y="831"/>
                    </a:lnTo>
                    <a:lnTo>
                      <a:pt x="709" y="814"/>
                    </a:lnTo>
                    <a:lnTo>
                      <a:pt x="721" y="800"/>
                    </a:lnTo>
                    <a:lnTo>
                      <a:pt x="732" y="788"/>
                    </a:lnTo>
                    <a:lnTo>
                      <a:pt x="744" y="777"/>
                    </a:lnTo>
                    <a:lnTo>
                      <a:pt x="756" y="771"/>
                    </a:lnTo>
                    <a:lnTo>
                      <a:pt x="766" y="765"/>
                    </a:lnTo>
                    <a:lnTo>
                      <a:pt x="778" y="760"/>
                    </a:lnTo>
                    <a:lnTo>
                      <a:pt x="789" y="758"/>
                    </a:lnTo>
                    <a:lnTo>
                      <a:pt x="800" y="757"/>
                    </a:lnTo>
                    <a:lnTo>
                      <a:pt x="811" y="758"/>
                    </a:lnTo>
                    <a:lnTo>
                      <a:pt x="822" y="760"/>
                    </a:lnTo>
                    <a:lnTo>
                      <a:pt x="832" y="762"/>
                    </a:lnTo>
                    <a:lnTo>
                      <a:pt x="854" y="771"/>
                    </a:lnTo>
                    <a:lnTo>
                      <a:pt x="875" y="781"/>
                    </a:lnTo>
                    <a:lnTo>
                      <a:pt x="895" y="792"/>
                    </a:lnTo>
                    <a:lnTo>
                      <a:pt x="917" y="803"/>
                    </a:lnTo>
                    <a:lnTo>
                      <a:pt x="936" y="814"/>
                    </a:lnTo>
                    <a:lnTo>
                      <a:pt x="958" y="820"/>
                    </a:lnTo>
                    <a:lnTo>
                      <a:pt x="967" y="824"/>
                    </a:lnTo>
                    <a:lnTo>
                      <a:pt x="978" y="826"/>
                    </a:lnTo>
                    <a:lnTo>
                      <a:pt x="987" y="826"/>
                    </a:lnTo>
                    <a:lnTo>
                      <a:pt x="998" y="824"/>
                    </a:lnTo>
                    <a:lnTo>
                      <a:pt x="1006" y="822"/>
                    </a:lnTo>
                    <a:lnTo>
                      <a:pt x="1018" y="818"/>
                    </a:lnTo>
                    <a:lnTo>
                      <a:pt x="1028" y="812"/>
                    </a:lnTo>
                    <a:lnTo>
                      <a:pt x="1037" y="805"/>
                    </a:lnTo>
                    <a:lnTo>
                      <a:pt x="1043" y="800"/>
                    </a:lnTo>
                    <a:lnTo>
                      <a:pt x="1046" y="793"/>
                    </a:lnTo>
                    <a:lnTo>
                      <a:pt x="1049" y="784"/>
                    </a:lnTo>
                    <a:lnTo>
                      <a:pt x="1053" y="774"/>
                    </a:lnTo>
                    <a:lnTo>
                      <a:pt x="1057" y="752"/>
                    </a:lnTo>
                    <a:lnTo>
                      <a:pt x="1057" y="724"/>
                    </a:lnTo>
                    <a:lnTo>
                      <a:pt x="1057" y="695"/>
                    </a:lnTo>
                    <a:lnTo>
                      <a:pt x="1055" y="662"/>
                    </a:lnTo>
                    <a:lnTo>
                      <a:pt x="1053" y="627"/>
                    </a:lnTo>
                    <a:lnTo>
                      <a:pt x="1049" y="593"/>
                    </a:lnTo>
                    <a:lnTo>
                      <a:pt x="1043" y="524"/>
                    </a:lnTo>
                    <a:lnTo>
                      <a:pt x="1035" y="462"/>
                    </a:lnTo>
                    <a:lnTo>
                      <a:pt x="1034" y="436"/>
                    </a:lnTo>
                    <a:lnTo>
                      <a:pt x="1034" y="414"/>
                    </a:lnTo>
                    <a:lnTo>
                      <a:pt x="1034" y="395"/>
                    </a:lnTo>
                    <a:lnTo>
                      <a:pt x="1037" y="383"/>
                    </a:lnTo>
                    <a:lnTo>
                      <a:pt x="1018" y="395"/>
                    </a:lnTo>
                    <a:lnTo>
                      <a:pt x="992" y="405"/>
                    </a:lnTo>
                    <a:lnTo>
                      <a:pt x="967" y="412"/>
                    </a:lnTo>
                    <a:lnTo>
                      <a:pt x="938" y="419"/>
                    </a:lnTo>
                    <a:lnTo>
                      <a:pt x="910" y="423"/>
                    </a:lnTo>
                    <a:lnTo>
                      <a:pt x="879" y="426"/>
                    </a:lnTo>
                    <a:lnTo>
                      <a:pt x="848" y="428"/>
                    </a:lnTo>
                    <a:lnTo>
                      <a:pt x="818" y="428"/>
                    </a:lnTo>
                    <a:lnTo>
                      <a:pt x="787" y="426"/>
                    </a:lnTo>
                    <a:lnTo>
                      <a:pt x="756" y="423"/>
                    </a:lnTo>
                    <a:lnTo>
                      <a:pt x="730" y="419"/>
                    </a:lnTo>
                    <a:lnTo>
                      <a:pt x="703" y="414"/>
                    </a:lnTo>
                    <a:lnTo>
                      <a:pt x="678" y="407"/>
                    </a:lnTo>
                    <a:lnTo>
                      <a:pt x="658" y="400"/>
                    </a:lnTo>
                    <a:lnTo>
                      <a:pt x="640" y="391"/>
                    </a:lnTo>
                    <a:lnTo>
                      <a:pt x="625" y="383"/>
                    </a:lnTo>
                    <a:lnTo>
                      <a:pt x="613" y="374"/>
                    </a:lnTo>
                    <a:lnTo>
                      <a:pt x="604" y="365"/>
                    </a:lnTo>
                    <a:lnTo>
                      <a:pt x="599" y="357"/>
                    </a:lnTo>
                    <a:lnTo>
                      <a:pt x="594" y="348"/>
                    </a:lnTo>
                    <a:lnTo>
                      <a:pt x="592" y="340"/>
                    </a:lnTo>
                    <a:lnTo>
                      <a:pt x="590" y="331"/>
                    </a:lnTo>
                    <a:lnTo>
                      <a:pt x="592" y="322"/>
                    </a:lnTo>
                    <a:lnTo>
                      <a:pt x="595" y="314"/>
                    </a:lnTo>
                    <a:lnTo>
                      <a:pt x="599" y="303"/>
                    </a:lnTo>
                    <a:lnTo>
                      <a:pt x="604" y="293"/>
                    </a:lnTo>
                    <a:lnTo>
                      <a:pt x="611" y="282"/>
                    </a:lnTo>
                    <a:lnTo>
                      <a:pt x="621" y="273"/>
                    </a:lnTo>
                    <a:lnTo>
                      <a:pt x="642" y="250"/>
                    </a:lnTo>
                    <a:lnTo>
                      <a:pt x="666" y="224"/>
                    </a:lnTo>
                    <a:lnTo>
                      <a:pt x="678" y="209"/>
                    </a:lnTo>
                    <a:lnTo>
                      <a:pt x="685" y="193"/>
                    </a:lnTo>
                    <a:lnTo>
                      <a:pt x="690" y="176"/>
                    </a:lnTo>
                    <a:lnTo>
                      <a:pt x="694" y="159"/>
                    </a:lnTo>
                    <a:lnTo>
                      <a:pt x="694" y="140"/>
                    </a:lnTo>
                    <a:lnTo>
                      <a:pt x="692" y="121"/>
                    </a:lnTo>
                    <a:lnTo>
                      <a:pt x="687" y="102"/>
                    </a:lnTo>
                    <a:lnTo>
                      <a:pt x="680" y="85"/>
                    </a:lnTo>
                    <a:lnTo>
                      <a:pt x="668" y="67"/>
                    </a:lnTo>
                    <a:lnTo>
                      <a:pt x="658" y="50"/>
                    </a:lnTo>
                    <a:lnTo>
                      <a:pt x="644" y="36"/>
                    </a:lnTo>
                    <a:lnTo>
                      <a:pt x="627" y="24"/>
                    </a:lnTo>
                    <a:lnTo>
                      <a:pt x="609" y="14"/>
                    </a:lnTo>
                    <a:lnTo>
                      <a:pt x="590" y="5"/>
                    </a:lnTo>
                    <a:lnTo>
                      <a:pt x="568" y="1"/>
                    </a:lnTo>
                    <a:lnTo>
                      <a:pt x="545" y="0"/>
                    </a:lnTo>
                    <a:lnTo>
                      <a:pt x="523" y="0"/>
                    </a:lnTo>
                    <a:lnTo>
                      <a:pt x="502" y="5"/>
                    </a:lnTo>
                    <a:lnTo>
                      <a:pt x="482" y="14"/>
                    </a:lnTo>
                    <a:lnTo>
                      <a:pt x="462" y="22"/>
                    </a:lnTo>
                    <a:lnTo>
                      <a:pt x="444" y="36"/>
                    </a:lnTo>
                    <a:lnTo>
                      <a:pt x="428" y="50"/>
                    </a:lnTo>
                    <a:lnTo>
                      <a:pt x="414" y="65"/>
                    </a:lnTo>
                    <a:lnTo>
                      <a:pt x="403" y="83"/>
                    </a:lnTo>
                    <a:lnTo>
                      <a:pt x="394" y="100"/>
                    </a:lnTo>
                    <a:lnTo>
                      <a:pt x="387" y="119"/>
                    </a:lnTo>
                    <a:lnTo>
                      <a:pt x="383" y="138"/>
                    </a:lnTo>
                    <a:lnTo>
                      <a:pt x="381" y="159"/>
                    </a:lnTo>
                    <a:lnTo>
                      <a:pt x="383" y="177"/>
                    </a:lnTo>
                    <a:lnTo>
                      <a:pt x="389" y="194"/>
                    </a:lnTo>
                    <a:lnTo>
                      <a:pt x="394" y="205"/>
                    </a:lnTo>
                    <a:lnTo>
                      <a:pt x="400" y="214"/>
                    </a:lnTo>
                    <a:lnTo>
                      <a:pt x="404" y="222"/>
                    </a:lnTo>
                    <a:lnTo>
                      <a:pt x="412" y="229"/>
                    </a:lnTo>
                    <a:lnTo>
                      <a:pt x="426" y="245"/>
                    </a:lnTo>
                    <a:lnTo>
                      <a:pt x="439" y="260"/>
                    </a:lnTo>
                    <a:lnTo>
                      <a:pt x="447" y="276"/>
                    </a:lnTo>
                    <a:lnTo>
                      <a:pt x="457" y="290"/>
                    </a:lnTo>
                    <a:lnTo>
                      <a:pt x="462" y="303"/>
                    </a:lnTo>
                    <a:lnTo>
                      <a:pt x="466" y="316"/>
                    </a:lnTo>
                    <a:lnTo>
                      <a:pt x="467" y="327"/>
                    </a:lnTo>
                    <a:lnTo>
                      <a:pt x="467" y="338"/>
                    </a:lnTo>
                    <a:lnTo>
                      <a:pt x="466" y="348"/>
                    </a:lnTo>
                    <a:lnTo>
                      <a:pt x="462" y="357"/>
                    </a:lnTo>
                    <a:lnTo>
                      <a:pt x="457" y="365"/>
                    </a:lnTo>
                    <a:lnTo>
                      <a:pt x="449" y="370"/>
                    </a:lnTo>
                    <a:lnTo>
                      <a:pt x="441" y="376"/>
                    </a:lnTo>
                    <a:lnTo>
                      <a:pt x="430" y="381"/>
                    </a:lnTo>
                    <a:lnTo>
                      <a:pt x="418" y="383"/>
                    </a:lnTo>
                    <a:lnTo>
                      <a:pt x="403" y="383"/>
                    </a:lnTo>
                    <a:lnTo>
                      <a:pt x="347" y="385"/>
                    </a:lnTo>
                    <a:lnTo>
                      <a:pt x="289" y="387"/>
                    </a:lnTo>
                    <a:lnTo>
                      <a:pt x="232" y="391"/>
                    </a:lnTo>
                    <a:lnTo>
                      <a:pt x="177" y="395"/>
                    </a:lnTo>
                    <a:lnTo>
                      <a:pt x="126" y="396"/>
                    </a:lnTo>
                    <a:lnTo>
                      <a:pt x="82" y="396"/>
                    </a:lnTo>
                    <a:lnTo>
                      <a:pt x="62" y="395"/>
                    </a:lnTo>
                    <a:lnTo>
                      <a:pt x="43" y="393"/>
                    </a:lnTo>
                    <a:lnTo>
                      <a:pt x="29" y="387"/>
                    </a:lnTo>
                    <a:lnTo>
                      <a:pt x="17" y="383"/>
                    </a:lnTo>
                    <a:lnTo>
                      <a:pt x="17" y="432"/>
                    </a:lnTo>
                    <a:lnTo>
                      <a:pt x="17" y="494"/>
                    </a:lnTo>
                    <a:lnTo>
                      <a:pt x="17" y="562"/>
                    </a:lnTo>
                    <a:lnTo>
                      <a:pt x="17" y="633"/>
                    </a:lnTo>
                    <a:lnTo>
                      <a:pt x="17" y="700"/>
                    </a:lnTo>
                    <a:lnTo>
                      <a:pt x="17" y="760"/>
                    </a:lnTo>
                    <a:lnTo>
                      <a:pt x="17" y="807"/>
                    </a:lnTo>
                    <a:lnTo>
                      <a:pt x="17" y="836"/>
                    </a:lnTo>
                    <a:lnTo>
                      <a:pt x="19" y="845"/>
                    </a:lnTo>
                    <a:lnTo>
                      <a:pt x="22" y="854"/>
                    </a:lnTo>
                    <a:lnTo>
                      <a:pt x="27" y="862"/>
                    </a:lnTo>
                    <a:lnTo>
                      <a:pt x="35" y="871"/>
                    </a:lnTo>
                    <a:lnTo>
                      <a:pt x="43" y="880"/>
                    </a:lnTo>
                    <a:lnTo>
                      <a:pt x="54" y="886"/>
                    </a:lnTo>
                    <a:lnTo>
                      <a:pt x="67" y="891"/>
                    </a:lnTo>
                    <a:lnTo>
                      <a:pt x="80" y="897"/>
                    </a:lnTo>
                    <a:lnTo>
                      <a:pt x="92" y="900"/>
                    </a:lnTo>
                    <a:lnTo>
                      <a:pt x="107" y="902"/>
                    </a:lnTo>
                    <a:lnTo>
                      <a:pt x="121" y="900"/>
                    </a:lnTo>
                    <a:lnTo>
                      <a:pt x="133" y="898"/>
                    </a:lnTo>
                    <a:lnTo>
                      <a:pt x="148" y="893"/>
                    </a:lnTo>
                    <a:lnTo>
                      <a:pt x="160" y="886"/>
                    </a:lnTo>
                    <a:lnTo>
                      <a:pt x="173" y="876"/>
                    </a:lnTo>
                    <a:lnTo>
                      <a:pt x="184" y="86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941560" y="2884320"/>
                <a:ext cx="1692360" cy="2800440"/>
              </a:xfrm>
              <a:custGeom>
                <a:avLst/>
                <a:gdLst/>
                <a:ahLst/>
                <a:rect l="l" t="t" r="r" b="b"/>
                <a:pathLst>
                  <a:path w="1066" h="1764">
                    <a:moveTo>
                      <a:pt x="184" y="862"/>
                    </a:moveTo>
                    <a:lnTo>
                      <a:pt x="189" y="855"/>
                    </a:lnTo>
                    <a:lnTo>
                      <a:pt x="197" y="848"/>
                    </a:lnTo>
                    <a:lnTo>
                      <a:pt x="203" y="843"/>
                    </a:lnTo>
                    <a:lnTo>
                      <a:pt x="211" y="839"/>
                    </a:lnTo>
                    <a:lnTo>
                      <a:pt x="227" y="833"/>
                    </a:lnTo>
                    <a:lnTo>
                      <a:pt x="244" y="829"/>
                    </a:lnTo>
                    <a:lnTo>
                      <a:pt x="265" y="827"/>
                    </a:lnTo>
                    <a:lnTo>
                      <a:pt x="285" y="829"/>
                    </a:lnTo>
                    <a:lnTo>
                      <a:pt x="304" y="835"/>
                    </a:lnTo>
                    <a:lnTo>
                      <a:pt x="324" y="841"/>
                    </a:lnTo>
                    <a:lnTo>
                      <a:pt x="342" y="852"/>
                    </a:lnTo>
                    <a:lnTo>
                      <a:pt x="360" y="863"/>
                    </a:lnTo>
                    <a:lnTo>
                      <a:pt x="375" y="878"/>
                    </a:lnTo>
                    <a:lnTo>
                      <a:pt x="387" y="895"/>
                    </a:lnTo>
                    <a:lnTo>
                      <a:pt x="392" y="903"/>
                    </a:lnTo>
                    <a:lnTo>
                      <a:pt x="398" y="912"/>
                    </a:lnTo>
                    <a:lnTo>
                      <a:pt x="401" y="923"/>
                    </a:lnTo>
                    <a:lnTo>
                      <a:pt x="404" y="932"/>
                    </a:lnTo>
                    <a:lnTo>
                      <a:pt x="406" y="943"/>
                    </a:lnTo>
                    <a:lnTo>
                      <a:pt x="406" y="953"/>
                    </a:lnTo>
                    <a:lnTo>
                      <a:pt x="406" y="966"/>
                    </a:lnTo>
                    <a:lnTo>
                      <a:pt x="406" y="977"/>
                    </a:lnTo>
                    <a:lnTo>
                      <a:pt x="401" y="998"/>
                    </a:lnTo>
                    <a:lnTo>
                      <a:pt x="394" y="1019"/>
                    </a:lnTo>
                    <a:lnTo>
                      <a:pt x="385" y="1034"/>
                    </a:lnTo>
                    <a:lnTo>
                      <a:pt x="373" y="1050"/>
                    </a:lnTo>
                    <a:lnTo>
                      <a:pt x="360" y="1062"/>
                    </a:lnTo>
                    <a:lnTo>
                      <a:pt x="346" y="1073"/>
                    </a:lnTo>
                    <a:lnTo>
                      <a:pt x="330" y="1079"/>
                    </a:lnTo>
                    <a:lnTo>
                      <a:pt x="313" y="1086"/>
                    </a:lnTo>
                    <a:lnTo>
                      <a:pt x="297" y="1090"/>
                    </a:lnTo>
                    <a:lnTo>
                      <a:pt x="279" y="1090"/>
                    </a:lnTo>
                    <a:lnTo>
                      <a:pt x="263" y="1090"/>
                    </a:lnTo>
                    <a:lnTo>
                      <a:pt x="246" y="1086"/>
                    </a:lnTo>
                    <a:lnTo>
                      <a:pt x="230" y="1082"/>
                    </a:lnTo>
                    <a:lnTo>
                      <a:pt x="216" y="1075"/>
                    </a:lnTo>
                    <a:lnTo>
                      <a:pt x="201" y="1067"/>
                    </a:lnTo>
                    <a:lnTo>
                      <a:pt x="191" y="1056"/>
                    </a:lnTo>
                    <a:lnTo>
                      <a:pt x="180" y="1045"/>
                    </a:lnTo>
                    <a:lnTo>
                      <a:pt x="168" y="1034"/>
                    </a:lnTo>
                    <a:lnTo>
                      <a:pt x="154" y="1026"/>
                    </a:lnTo>
                    <a:lnTo>
                      <a:pt x="140" y="1019"/>
                    </a:lnTo>
                    <a:lnTo>
                      <a:pt x="128" y="1012"/>
                    </a:lnTo>
                    <a:lnTo>
                      <a:pt x="113" y="1007"/>
                    </a:lnTo>
                    <a:lnTo>
                      <a:pt x="101" y="1003"/>
                    </a:lnTo>
                    <a:lnTo>
                      <a:pt x="88" y="1002"/>
                    </a:lnTo>
                    <a:lnTo>
                      <a:pt x="76" y="1002"/>
                    </a:lnTo>
                    <a:lnTo>
                      <a:pt x="64" y="1003"/>
                    </a:lnTo>
                    <a:lnTo>
                      <a:pt x="52" y="1009"/>
                    </a:lnTo>
                    <a:lnTo>
                      <a:pt x="42" y="1013"/>
                    </a:lnTo>
                    <a:lnTo>
                      <a:pt x="33" y="1022"/>
                    </a:lnTo>
                    <a:lnTo>
                      <a:pt x="25" y="1032"/>
                    </a:lnTo>
                    <a:lnTo>
                      <a:pt x="21" y="1045"/>
                    </a:lnTo>
                    <a:lnTo>
                      <a:pt x="17" y="1060"/>
                    </a:lnTo>
                    <a:lnTo>
                      <a:pt x="11" y="1097"/>
                    </a:lnTo>
                    <a:lnTo>
                      <a:pt x="6" y="1138"/>
                    </a:lnTo>
                    <a:lnTo>
                      <a:pt x="2" y="1183"/>
                    </a:lnTo>
                    <a:lnTo>
                      <a:pt x="0" y="1227"/>
                    </a:lnTo>
                    <a:lnTo>
                      <a:pt x="0" y="1272"/>
                    </a:lnTo>
                    <a:lnTo>
                      <a:pt x="2" y="1313"/>
                    </a:lnTo>
                    <a:lnTo>
                      <a:pt x="4" y="1333"/>
                    </a:lnTo>
                    <a:lnTo>
                      <a:pt x="8" y="1350"/>
                    </a:lnTo>
                    <a:lnTo>
                      <a:pt x="11" y="1365"/>
                    </a:lnTo>
                    <a:lnTo>
                      <a:pt x="17" y="1379"/>
                    </a:lnTo>
                    <a:lnTo>
                      <a:pt x="49" y="1374"/>
                    </a:lnTo>
                    <a:lnTo>
                      <a:pt x="92" y="1367"/>
                    </a:lnTo>
                    <a:lnTo>
                      <a:pt x="140" y="1363"/>
                    </a:lnTo>
                    <a:lnTo>
                      <a:pt x="191" y="1360"/>
                    </a:lnTo>
                    <a:lnTo>
                      <a:pt x="244" y="1358"/>
                    </a:lnTo>
                    <a:lnTo>
                      <a:pt x="289" y="1358"/>
                    </a:lnTo>
                    <a:lnTo>
                      <a:pt x="330" y="1360"/>
                    </a:lnTo>
                    <a:lnTo>
                      <a:pt x="360" y="1363"/>
                    </a:lnTo>
                    <a:lnTo>
                      <a:pt x="389" y="1371"/>
                    </a:lnTo>
                    <a:lnTo>
                      <a:pt x="414" y="1377"/>
                    </a:lnTo>
                    <a:lnTo>
                      <a:pt x="435" y="1386"/>
                    </a:lnTo>
                    <a:lnTo>
                      <a:pt x="455" y="1397"/>
                    </a:lnTo>
                    <a:lnTo>
                      <a:pt x="469" y="1407"/>
                    </a:lnTo>
                    <a:lnTo>
                      <a:pt x="480" y="1417"/>
                    </a:lnTo>
                    <a:lnTo>
                      <a:pt x="489" y="1429"/>
                    </a:lnTo>
                    <a:lnTo>
                      <a:pt x="496" y="1440"/>
                    </a:lnTo>
                    <a:lnTo>
                      <a:pt x="498" y="1452"/>
                    </a:lnTo>
                    <a:lnTo>
                      <a:pt x="500" y="1463"/>
                    </a:lnTo>
                    <a:lnTo>
                      <a:pt x="498" y="1476"/>
                    </a:lnTo>
                    <a:lnTo>
                      <a:pt x="494" y="1487"/>
                    </a:lnTo>
                    <a:lnTo>
                      <a:pt x="489" y="1500"/>
                    </a:lnTo>
                    <a:lnTo>
                      <a:pt x="482" y="1512"/>
                    </a:lnTo>
                    <a:lnTo>
                      <a:pt x="473" y="1522"/>
                    </a:lnTo>
                    <a:lnTo>
                      <a:pt x="462" y="1532"/>
                    </a:lnTo>
                    <a:lnTo>
                      <a:pt x="451" y="1547"/>
                    </a:lnTo>
                    <a:lnTo>
                      <a:pt x="443" y="1562"/>
                    </a:lnTo>
                    <a:lnTo>
                      <a:pt x="435" y="1579"/>
                    </a:lnTo>
                    <a:lnTo>
                      <a:pt x="432" y="1598"/>
                    </a:lnTo>
                    <a:lnTo>
                      <a:pt x="430" y="1617"/>
                    </a:lnTo>
                    <a:lnTo>
                      <a:pt x="430" y="1637"/>
                    </a:lnTo>
                    <a:lnTo>
                      <a:pt x="433" y="1657"/>
                    </a:lnTo>
                    <a:lnTo>
                      <a:pt x="439" y="1676"/>
                    </a:lnTo>
                    <a:lnTo>
                      <a:pt x="447" y="1695"/>
                    </a:lnTo>
                    <a:lnTo>
                      <a:pt x="459" y="1712"/>
                    </a:lnTo>
                    <a:lnTo>
                      <a:pt x="471" y="1725"/>
                    </a:lnTo>
                    <a:lnTo>
                      <a:pt x="488" y="1740"/>
                    </a:lnTo>
                    <a:lnTo>
                      <a:pt x="496" y="1746"/>
                    </a:lnTo>
                    <a:lnTo>
                      <a:pt x="507" y="1751"/>
                    </a:lnTo>
                    <a:lnTo>
                      <a:pt x="516" y="1755"/>
                    </a:lnTo>
                    <a:lnTo>
                      <a:pt x="527" y="1759"/>
                    </a:lnTo>
                    <a:lnTo>
                      <a:pt x="539" y="1762"/>
                    </a:lnTo>
                    <a:lnTo>
                      <a:pt x="550" y="1764"/>
                    </a:lnTo>
                    <a:lnTo>
                      <a:pt x="564" y="1764"/>
                    </a:lnTo>
                    <a:lnTo>
                      <a:pt x="578" y="1764"/>
                    </a:lnTo>
                    <a:lnTo>
                      <a:pt x="602" y="1762"/>
                    </a:lnTo>
                    <a:lnTo>
                      <a:pt x="627" y="1757"/>
                    </a:lnTo>
                    <a:lnTo>
                      <a:pt x="649" y="1748"/>
                    </a:lnTo>
                    <a:lnTo>
                      <a:pt x="667" y="1738"/>
                    </a:lnTo>
                    <a:lnTo>
                      <a:pt x="683" y="1725"/>
                    </a:lnTo>
                    <a:lnTo>
                      <a:pt x="697" y="1712"/>
                    </a:lnTo>
                    <a:lnTo>
                      <a:pt x="711" y="1697"/>
                    </a:lnTo>
                    <a:lnTo>
                      <a:pt x="717" y="1680"/>
                    </a:lnTo>
                    <a:lnTo>
                      <a:pt x="725" y="1663"/>
                    </a:lnTo>
                    <a:lnTo>
                      <a:pt x="726" y="1644"/>
                    </a:lnTo>
                    <a:lnTo>
                      <a:pt x="728" y="1627"/>
                    </a:lnTo>
                    <a:lnTo>
                      <a:pt x="725" y="1609"/>
                    </a:lnTo>
                    <a:lnTo>
                      <a:pt x="719" y="1592"/>
                    </a:lnTo>
                    <a:lnTo>
                      <a:pt x="711" y="1572"/>
                    </a:lnTo>
                    <a:lnTo>
                      <a:pt x="699" y="1555"/>
                    </a:lnTo>
                    <a:lnTo>
                      <a:pt x="685" y="1539"/>
                    </a:lnTo>
                    <a:lnTo>
                      <a:pt x="672" y="1526"/>
                    </a:lnTo>
                    <a:lnTo>
                      <a:pt x="662" y="1510"/>
                    </a:lnTo>
                    <a:lnTo>
                      <a:pt x="654" y="1493"/>
                    </a:lnTo>
                    <a:lnTo>
                      <a:pt x="649" y="1477"/>
                    </a:lnTo>
                    <a:lnTo>
                      <a:pt x="645" y="1460"/>
                    </a:lnTo>
                    <a:lnTo>
                      <a:pt x="645" y="1442"/>
                    </a:lnTo>
                    <a:lnTo>
                      <a:pt x="645" y="1427"/>
                    </a:lnTo>
                    <a:lnTo>
                      <a:pt x="649" y="1412"/>
                    </a:lnTo>
                    <a:lnTo>
                      <a:pt x="653" y="1397"/>
                    </a:lnTo>
                    <a:lnTo>
                      <a:pt x="658" y="1382"/>
                    </a:lnTo>
                    <a:lnTo>
                      <a:pt x="666" y="1371"/>
                    </a:lnTo>
                    <a:lnTo>
                      <a:pt x="674" y="1360"/>
                    </a:lnTo>
                    <a:lnTo>
                      <a:pt x="683" y="1352"/>
                    </a:lnTo>
                    <a:lnTo>
                      <a:pt x="694" y="1345"/>
                    </a:lnTo>
                    <a:lnTo>
                      <a:pt x="705" y="1339"/>
                    </a:lnTo>
                    <a:lnTo>
                      <a:pt x="715" y="1337"/>
                    </a:lnTo>
                    <a:lnTo>
                      <a:pt x="733" y="1339"/>
                    </a:lnTo>
                    <a:lnTo>
                      <a:pt x="758" y="1343"/>
                    </a:lnTo>
                    <a:lnTo>
                      <a:pt x="793" y="1346"/>
                    </a:lnTo>
                    <a:lnTo>
                      <a:pt x="832" y="1352"/>
                    </a:lnTo>
                    <a:lnTo>
                      <a:pt x="877" y="1355"/>
                    </a:lnTo>
                    <a:lnTo>
                      <a:pt x="926" y="1358"/>
                    </a:lnTo>
                    <a:lnTo>
                      <a:pt x="978" y="1362"/>
                    </a:lnTo>
                    <a:lnTo>
                      <a:pt x="1032" y="1363"/>
                    </a:lnTo>
                    <a:lnTo>
                      <a:pt x="1041" y="1343"/>
                    </a:lnTo>
                    <a:lnTo>
                      <a:pt x="1048" y="1320"/>
                    </a:lnTo>
                    <a:lnTo>
                      <a:pt x="1055" y="1298"/>
                    </a:lnTo>
                    <a:lnTo>
                      <a:pt x="1059" y="1274"/>
                    </a:lnTo>
                    <a:lnTo>
                      <a:pt x="1063" y="1249"/>
                    </a:lnTo>
                    <a:lnTo>
                      <a:pt x="1066" y="1224"/>
                    </a:lnTo>
                    <a:lnTo>
                      <a:pt x="1066" y="1200"/>
                    </a:lnTo>
                    <a:lnTo>
                      <a:pt x="1066" y="1176"/>
                    </a:lnTo>
                    <a:lnTo>
                      <a:pt x="1066" y="1152"/>
                    </a:lnTo>
                    <a:lnTo>
                      <a:pt x="1064" y="1127"/>
                    </a:lnTo>
                    <a:lnTo>
                      <a:pt x="1061" y="1105"/>
                    </a:lnTo>
                    <a:lnTo>
                      <a:pt x="1057" y="1082"/>
                    </a:lnTo>
                    <a:lnTo>
                      <a:pt x="1053" y="1062"/>
                    </a:lnTo>
                    <a:lnTo>
                      <a:pt x="1048" y="1043"/>
                    </a:lnTo>
                    <a:lnTo>
                      <a:pt x="1043" y="1026"/>
                    </a:lnTo>
                    <a:lnTo>
                      <a:pt x="1037" y="1012"/>
                    </a:lnTo>
                    <a:lnTo>
                      <a:pt x="1032" y="998"/>
                    </a:lnTo>
                    <a:lnTo>
                      <a:pt x="1024" y="988"/>
                    </a:lnTo>
                    <a:lnTo>
                      <a:pt x="1018" y="979"/>
                    </a:lnTo>
                    <a:lnTo>
                      <a:pt x="1010" y="972"/>
                    </a:lnTo>
                    <a:lnTo>
                      <a:pt x="1001" y="967"/>
                    </a:lnTo>
                    <a:lnTo>
                      <a:pt x="994" y="964"/>
                    </a:lnTo>
                    <a:lnTo>
                      <a:pt x="985" y="962"/>
                    </a:lnTo>
                    <a:lnTo>
                      <a:pt x="976" y="960"/>
                    </a:lnTo>
                    <a:lnTo>
                      <a:pt x="956" y="962"/>
                    </a:lnTo>
                    <a:lnTo>
                      <a:pt x="934" y="967"/>
                    </a:lnTo>
                    <a:lnTo>
                      <a:pt x="912" y="974"/>
                    </a:lnTo>
                    <a:lnTo>
                      <a:pt x="887" y="983"/>
                    </a:lnTo>
                    <a:lnTo>
                      <a:pt x="870" y="988"/>
                    </a:lnTo>
                    <a:lnTo>
                      <a:pt x="854" y="993"/>
                    </a:lnTo>
                    <a:lnTo>
                      <a:pt x="840" y="994"/>
                    </a:lnTo>
                    <a:lnTo>
                      <a:pt x="825" y="996"/>
                    </a:lnTo>
                    <a:lnTo>
                      <a:pt x="811" y="996"/>
                    </a:lnTo>
                    <a:lnTo>
                      <a:pt x="799" y="996"/>
                    </a:lnTo>
                    <a:lnTo>
                      <a:pt x="787" y="994"/>
                    </a:lnTo>
                    <a:lnTo>
                      <a:pt x="775" y="993"/>
                    </a:lnTo>
                    <a:lnTo>
                      <a:pt x="764" y="989"/>
                    </a:lnTo>
                    <a:lnTo>
                      <a:pt x="756" y="986"/>
                    </a:lnTo>
                    <a:lnTo>
                      <a:pt x="746" y="981"/>
                    </a:lnTo>
                    <a:lnTo>
                      <a:pt x="737" y="976"/>
                    </a:lnTo>
                    <a:lnTo>
                      <a:pt x="723" y="964"/>
                    </a:lnTo>
                    <a:lnTo>
                      <a:pt x="711" y="949"/>
                    </a:lnTo>
                    <a:lnTo>
                      <a:pt x="701" y="934"/>
                    </a:lnTo>
                    <a:lnTo>
                      <a:pt x="694" y="919"/>
                    </a:lnTo>
                    <a:lnTo>
                      <a:pt x="690" y="902"/>
                    </a:lnTo>
                    <a:lnTo>
                      <a:pt x="687" y="886"/>
                    </a:lnTo>
                    <a:lnTo>
                      <a:pt x="687" y="871"/>
                    </a:lnTo>
                    <a:lnTo>
                      <a:pt x="689" y="855"/>
                    </a:lnTo>
                    <a:lnTo>
                      <a:pt x="692" y="843"/>
                    </a:lnTo>
                    <a:lnTo>
                      <a:pt x="697" y="831"/>
                    </a:lnTo>
                    <a:lnTo>
                      <a:pt x="709" y="814"/>
                    </a:lnTo>
                    <a:lnTo>
                      <a:pt x="721" y="800"/>
                    </a:lnTo>
                    <a:lnTo>
                      <a:pt x="732" y="788"/>
                    </a:lnTo>
                    <a:lnTo>
                      <a:pt x="744" y="777"/>
                    </a:lnTo>
                    <a:lnTo>
                      <a:pt x="756" y="771"/>
                    </a:lnTo>
                    <a:lnTo>
                      <a:pt x="766" y="765"/>
                    </a:lnTo>
                    <a:lnTo>
                      <a:pt x="778" y="760"/>
                    </a:lnTo>
                    <a:lnTo>
                      <a:pt x="789" y="758"/>
                    </a:lnTo>
                    <a:lnTo>
                      <a:pt x="800" y="757"/>
                    </a:lnTo>
                    <a:lnTo>
                      <a:pt x="811" y="758"/>
                    </a:lnTo>
                    <a:lnTo>
                      <a:pt x="822" y="760"/>
                    </a:lnTo>
                    <a:lnTo>
                      <a:pt x="832" y="762"/>
                    </a:lnTo>
                    <a:lnTo>
                      <a:pt x="854" y="771"/>
                    </a:lnTo>
                    <a:lnTo>
                      <a:pt x="875" y="781"/>
                    </a:lnTo>
                    <a:lnTo>
                      <a:pt x="895" y="792"/>
                    </a:lnTo>
                    <a:lnTo>
                      <a:pt x="917" y="803"/>
                    </a:lnTo>
                    <a:lnTo>
                      <a:pt x="936" y="814"/>
                    </a:lnTo>
                    <a:lnTo>
                      <a:pt x="958" y="820"/>
                    </a:lnTo>
                    <a:lnTo>
                      <a:pt x="967" y="824"/>
                    </a:lnTo>
                    <a:lnTo>
                      <a:pt x="978" y="826"/>
                    </a:lnTo>
                    <a:lnTo>
                      <a:pt x="987" y="826"/>
                    </a:lnTo>
                    <a:lnTo>
                      <a:pt x="998" y="824"/>
                    </a:lnTo>
                    <a:lnTo>
                      <a:pt x="1006" y="822"/>
                    </a:lnTo>
                    <a:lnTo>
                      <a:pt x="1018" y="818"/>
                    </a:lnTo>
                    <a:lnTo>
                      <a:pt x="1028" y="812"/>
                    </a:lnTo>
                    <a:lnTo>
                      <a:pt x="1037" y="805"/>
                    </a:lnTo>
                    <a:lnTo>
                      <a:pt x="1043" y="800"/>
                    </a:lnTo>
                    <a:lnTo>
                      <a:pt x="1046" y="793"/>
                    </a:lnTo>
                    <a:lnTo>
                      <a:pt x="1049" y="784"/>
                    </a:lnTo>
                    <a:lnTo>
                      <a:pt x="1053" y="774"/>
                    </a:lnTo>
                    <a:lnTo>
                      <a:pt x="1057" y="752"/>
                    </a:lnTo>
                    <a:lnTo>
                      <a:pt x="1057" y="724"/>
                    </a:lnTo>
                    <a:lnTo>
                      <a:pt x="1057" y="695"/>
                    </a:lnTo>
                    <a:lnTo>
                      <a:pt x="1055" y="662"/>
                    </a:lnTo>
                    <a:lnTo>
                      <a:pt x="1053" y="627"/>
                    </a:lnTo>
                    <a:lnTo>
                      <a:pt x="1049" y="593"/>
                    </a:lnTo>
                    <a:lnTo>
                      <a:pt x="1043" y="524"/>
                    </a:lnTo>
                    <a:lnTo>
                      <a:pt x="1035" y="462"/>
                    </a:lnTo>
                    <a:lnTo>
                      <a:pt x="1034" y="436"/>
                    </a:lnTo>
                    <a:lnTo>
                      <a:pt x="1034" y="414"/>
                    </a:lnTo>
                    <a:lnTo>
                      <a:pt x="1034" y="395"/>
                    </a:lnTo>
                    <a:lnTo>
                      <a:pt x="1037" y="383"/>
                    </a:lnTo>
                    <a:lnTo>
                      <a:pt x="1018" y="395"/>
                    </a:lnTo>
                    <a:lnTo>
                      <a:pt x="992" y="405"/>
                    </a:lnTo>
                    <a:lnTo>
                      <a:pt x="967" y="412"/>
                    </a:lnTo>
                    <a:lnTo>
                      <a:pt x="938" y="419"/>
                    </a:lnTo>
                    <a:lnTo>
                      <a:pt x="910" y="423"/>
                    </a:lnTo>
                    <a:lnTo>
                      <a:pt x="879" y="426"/>
                    </a:lnTo>
                    <a:lnTo>
                      <a:pt x="848" y="428"/>
                    </a:lnTo>
                    <a:lnTo>
                      <a:pt x="818" y="428"/>
                    </a:lnTo>
                    <a:lnTo>
                      <a:pt x="787" y="426"/>
                    </a:lnTo>
                    <a:lnTo>
                      <a:pt x="756" y="423"/>
                    </a:lnTo>
                    <a:lnTo>
                      <a:pt x="730" y="419"/>
                    </a:lnTo>
                    <a:lnTo>
                      <a:pt x="703" y="414"/>
                    </a:lnTo>
                    <a:lnTo>
                      <a:pt x="678" y="407"/>
                    </a:lnTo>
                    <a:lnTo>
                      <a:pt x="658" y="400"/>
                    </a:lnTo>
                    <a:lnTo>
                      <a:pt x="640" y="391"/>
                    </a:lnTo>
                    <a:lnTo>
                      <a:pt x="625" y="383"/>
                    </a:lnTo>
                    <a:lnTo>
                      <a:pt x="613" y="374"/>
                    </a:lnTo>
                    <a:lnTo>
                      <a:pt x="604" y="365"/>
                    </a:lnTo>
                    <a:lnTo>
                      <a:pt x="599" y="357"/>
                    </a:lnTo>
                    <a:lnTo>
                      <a:pt x="594" y="348"/>
                    </a:lnTo>
                    <a:lnTo>
                      <a:pt x="592" y="340"/>
                    </a:lnTo>
                    <a:lnTo>
                      <a:pt x="590" y="331"/>
                    </a:lnTo>
                    <a:lnTo>
                      <a:pt x="592" y="322"/>
                    </a:lnTo>
                    <a:lnTo>
                      <a:pt x="595" y="314"/>
                    </a:lnTo>
                    <a:lnTo>
                      <a:pt x="599" y="303"/>
                    </a:lnTo>
                    <a:lnTo>
                      <a:pt x="604" y="293"/>
                    </a:lnTo>
                    <a:lnTo>
                      <a:pt x="611" y="282"/>
                    </a:lnTo>
                    <a:lnTo>
                      <a:pt x="621" y="273"/>
                    </a:lnTo>
                    <a:lnTo>
                      <a:pt x="642" y="250"/>
                    </a:lnTo>
                    <a:lnTo>
                      <a:pt x="666" y="224"/>
                    </a:lnTo>
                    <a:lnTo>
                      <a:pt x="678" y="209"/>
                    </a:lnTo>
                    <a:lnTo>
                      <a:pt x="685" y="193"/>
                    </a:lnTo>
                    <a:lnTo>
                      <a:pt x="690" y="176"/>
                    </a:lnTo>
                    <a:lnTo>
                      <a:pt x="694" y="159"/>
                    </a:lnTo>
                    <a:lnTo>
                      <a:pt x="694" y="140"/>
                    </a:lnTo>
                    <a:lnTo>
                      <a:pt x="692" y="121"/>
                    </a:lnTo>
                    <a:lnTo>
                      <a:pt x="687" y="102"/>
                    </a:lnTo>
                    <a:lnTo>
                      <a:pt x="680" y="85"/>
                    </a:lnTo>
                    <a:lnTo>
                      <a:pt x="668" y="67"/>
                    </a:lnTo>
                    <a:lnTo>
                      <a:pt x="658" y="50"/>
                    </a:lnTo>
                    <a:lnTo>
                      <a:pt x="644" y="36"/>
                    </a:lnTo>
                    <a:lnTo>
                      <a:pt x="627" y="24"/>
                    </a:lnTo>
                    <a:lnTo>
                      <a:pt x="609" y="14"/>
                    </a:lnTo>
                    <a:lnTo>
                      <a:pt x="590" y="5"/>
                    </a:lnTo>
                    <a:lnTo>
                      <a:pt x="568" y="1"/>
                    </a:lnTo>
                    <a:lnTo>
                      <a:pt x="545" y="0"/>
                    </a:lnTo>
                    <a:lnTo>
                      <a:pt x="523" y="0"/>
                    </a:lnTo>
                    <a:lnTo>
                      <a:pt x="502" y="5"/>
                    </a:lnTo>
                    <a:lnTo>
                      <a:pt x="482" y="14"/>
                    </a:lnTo>
                    <a:lnTo>
                      <a:pt x="462" y="22"/>
                    </a:lnTo>
                    <a:lnTo>
                      <a:pt x="444" y="36"/>
                    </a:lnTo>
                    <a:lnTo>
                      <a:pt x="428" y="50"/>
                    </a:lnTo>
                    <a:lnTo>
                      <a:pt x="414" y="65"/>
                    </a:lnTo>
                    <a:lnTo>
                      <a:pt x="403" y="83"/>
                    </a:lnTo>
                    <a:lnTo>
                      <a:pt x="394" y="100"/>
                    </a:lnTo>
                    <a:lnTo>
                      <a:pt x="387" y="119"/>
                    </a:lnTo>
                    <a:lnTo>
                      <a:pt x="383" y="138"/>
                    </a:lnTo>
                    <a:lnTo>
                      <a:pt x="381" y="159"/>
                    </a:lnTo>
                    <a:lnTo>
                      <a:pt x="383" y="177"/>
                    </a:lnTo>
                    <a:lnTo>
                      <a:pt x="389" y="194"/>
                    </a:lnTo>
                    <a:lnTo>
                      <a:pt x="394" y="205"/>
                    </a:lnTo>
                    <a:lnTo>
                      <a:pt x="400" y="214"/>
                    </a:lnTo>
                    <a:lnTo>
                      <a:pt x="404" y="222"/>
                    </a:lnTo>
                    <a:lnTo>
                      <a:pt x="412" y="229"/>
                    </a:lnTo>
                    <a:lnTo>
                      <a:pt x="426" y="245"/>
                    </a:lnTo>
                    <a:lnTo>
                      <a:pt x="439" y="260"/>
                    </a:lnTo>
                    <a:lnTo>
                      <a:pt x="447" y="276"/>
                    </a:lnTo>
                    <a:lnTo>
                      <a:pt x="457" y="290"/>
                    </a:lnTo>
                    <a:lnTo>
                      <a:pt x="462" y="303"/>
                    </a:lnTo>
                    <a:lnTo>
                      <a:pt x="466" y="316"/>
                    </a:lnTo>
                    <a:lnTo>
                      <a:pt x="467" y="327"/>
                    </a:lnTo>
                    <a:lnTo>
                      <a:pt x="467" y="338"/>
                    </a:lnTo>
                    <a:lnTo>
                      <a:pt x="466" y="348"/>
                    </a:lnTo>
                    <a:lnTo>
                      <a:pt x="462" y="357"/>
                    </a:lnTo>
                    <a:lnTo>
                      <a:pt x="457" y="365"/>
                    </a:lnTo>
                    <a:lnTo>
                      <a:pt x="449" y="370"/>
                    </a:lnTo>
                    <a:lnTo>
                      <a:pt x="441" y="376"/>
                    </a:lnTo>
                    <a:lnTo>
                      <a:pt x="430" y="381"/>
                    </a:lnTo>
                    <a:lnTo>
                      <a:pt x="418" y="383"/>
                    </a:lnTo>
                    <a:lnTo>
                      <a:pt x="403" y="383"/>
                    </a:lnTo>
                    <a:lnTo>
                      <a:pt x="347" y="385"/>
                    </a:lnTo>
                    <a:lnTo>
                      <a:pt x="289" y="387"/>
                    </a:lnTo>
                    <a:lnTo>
                      <a:pt x="232" y="391"/>
                    </a:lnTo>
                    <a:lnTo>
                      <a:pt x="177" y="395"/>
                    </a:lnTo>
                    <a:lnTo>
                      <a:pt x="126" y="396"/>
                    </a:lnTo>
                    <a:lnTo>
                      <a:pt x="82" y="396"/>
                    </a:lnTo>
                    <a:lnTo>
                      <a:pt x="62" y="395"/>
                    </a:lnTo>
                    <a:lnTo>
                      <a:pt x="43" y="393"/>
                    </a:lnTo>
                    <a:lnTo>
                      <a:pt x="29" y="387"/>
                    </a:lnTo>
                    <a:lnTo>
                      <a:pt x="17" y="383"/>
                    </a:lnTo>
                    <a:lnTo>
                      <a:pt x="17" y="432"/>
                    </a:lnTo>
                    <a:lnTo>
                      <a:pt x="17" y="494"/>
                    </a:lnTo>
                    <a:lnTo>
                      <a:pt x="17" y="562"/>
                    </a:lnTo>
                    <a:lnTo>
                      <a:pt x="17" y="633"/>
                    </a:lnTo>
                    <a:lnTo>
                      <a:pt x="17" y="700"/>
                    </a:lnTo>
                    <a:lnTo>
                      <a:pt x="17" y="760"/>
                    </a:lnTo>
                    <a:lnTo>
                      <a:pt x="17" y="807"/>
                    </a:lnTo>
                    <a:lnTo>
                      <a:pt x="17" y="836"/>
                    </a:lnTo>
                    <a:lnTo>
                      <a:pt x="19" y="845"/>
                    </a:lnTo>
                    <a:lnTo>
                      <a:pt x="22" y="854"/>
                    </a:lnTo>
                    <a:lnTo>
                      <a:pt x="27" y="862"/>
                    </a:lnTo>
                    <a:lnTo>
                      <a:pt x="35" y="871"/>
                    </a:lnTo>
                    <a:lnTo>
                      <a:pt x="43" y="880"/>
                    </a:lnTo>
                    <a:lnTo>
                      <a:pt x="54" y="886"/>
                    </a:lnTo>
                    <a:lnTo>
                      <a:pt x="67" y="891"/>
                    </a:lnTo>
                    <a:lnTo>
                      <a:pt x="80" y="897"/>
                    </a:lnTo>
                    <a:lnTo>
                      <a:pt x="92" y="900"/>
                    </a:lnTo>
                    <a:lnTo>
                      <a:pt x="107" y="902"/>
                    </a:lnTo>
                    <a:lnTo>
                      <a:pt x="121" y="900"/>
                    </a:lnTo>
                    <a:lnTo>
                      <a:pt x="133" y="898"/>
                    </a:lnTo>
                    <a:lnTo>
                      <a:pt x="148" y="893"/>
                    </a:lnTo>
                    <a:lnTo>
                      <a:pt x="160" y="886"/>
                    </a:lnTo>
                    <a:lnTo>
                      <a:pt x="173" y="876"/>
                    </a:lnTo>
                    <a:lnTo>
                      <a:pt x="184" y="862"/>
                    </a:lnTo>
                    <a:close/>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3434040" y="3643200"/>
              <a:ext cx="826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HORT </a:t>
              </a:r>
              <a:endParaRPr b="0" lang="en-US" sz="1800" spc="-1" strike="noStrike">
                <a:solidFill>
                  <a:srgbClr val="000000"/>
                </a:solidFill>
                <a:latin typeface="Arial"/>
              </a:endParaRPr>
            </a:p>
          </p:txBody>
        </p:sp>
        <p:sp>
          <p:nvSpPr>
            <p:cNvPr id="283" name=""/>
            <p:cNvSpPr/>
            <p:nvPr/>
          </p:nvSpPr>
          <p:spPr>
            <a:xfrm>
              <a:off x="3495600" y="3917880"/>
              <a:ext cx="627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RM</a:t>
              </a:r>
              <a:endParaRPr b="0" lang="en-US" sz="1800" spc="-1" strike="noStrike">
                <a:solidFill>
                  <a:srgbClr val="000000"/>
                </a:solidFill>
                <a:latin typeface="Arial"/>
              </a:endParaRPr>
            </a:p>
          </p:txBody>
        </p:sp>
      </p:grpSp>
      <p:grpSp>
        <p:nvGrpSpPr>
          <p:cNvPr id="284" name=""/>
          <p:cNvGrpSpPr/>
          <p:nvPr/>
        </p:nvGrpSpPr>
        <p:grpSpPr>
          <a:xfrm>
            <a:off x="249120" y="1055520"/>
            <a:ext cx="4969080" cy="2494080"/>
            <a:chOff x="249120" y="1055520"/>
            <a:chExt cx="4969080" cy="2494080"/>
          </a:xfrm>
        </p:grpSpPr>
        <p:sp>
          <p:nvSpPr>
            <p:cNvPr id="285" name=""/>
            <p:cNvSpPr/>
            <p:nvPr/>
          </p:nvSpPr>
          <p:spPr>
            <a:xfrm>
              <a:off x="276120" y="1111320"/>
              <a:ext cx="2129040" cy="1076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49120" y="1055520"/>
              <a:ext cx="254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velop a holistic approach to sustainable pest management</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long-term, optimising existing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Activities</a:t>
              </a:r>
              <a:endParaRPr b="0" lang="en-US" sz="1800" spc="-1" strike="noStrike">
                <a:solidFill>
                  <a:srgbClr val="000000"/>
                </a:solidFill>
                <a:latin typeface="Arial"/>
              </a:endParaRPr>
            </a:p>
          </p:txBody>
        </p:sp>
        <p:grpSp>
          <p:nvGrpSpPr>
            <p:cNvPr id="287" name=""/>
            <p:cNvGrpSpPr/>
            <p:nvPr/>
          </p:nvGrpSpPr>
          <p:grpSpPr>
            <a:xfrm>
              <a:off x="2360520" y="1876320"/>
              <a:ext cx="2857680" cy="1673280"/>
              <a:chOff x="2360520" y="1876320"/>
              <a:chExt cx="2857680" cy="1673280"/>
            </a:xfrm>
          </p:grpSpPr>
          <p:sp>
            <p:nvSpPr>
              <p:cNvPr id="288" name=""/>
              <p:cNvSpPr/>
              <p:nvPr/>
            </p:nvSpPr>
            <p:spPr>
              <a:xfrm>
                <a:off x="2360520" y="1876320"/>
                <a:ext cx="2857680" cy="1673280"/>
              </a:xfrm>
              <a:custGeom>
                <a:avLst/>
                <a:gdLst/>
                <a:ahLst/>
                <a:rect l="l" t="t" r="r" b="b"/>
                <a:pathLst>
                  <a:path w="1800" h="1054">
                    <a:moveTo>
                      <a:pt x="777" y="1011"/>
                    </a:moveTo>
                    <a:lnTo>
                      <a:pt x="791" y="1011"/>
                    </a:lnTo>
                    <a:lnTo>
                      <a:pt x="804" y="1007"/>
                    </a:lnTo>
                    <a:lnTo>
                      <a:pt x="814" y="1003"/>
                    </a:lnTo>
                    <a:lnTo>
                      <a:pt x="824" y="998"/>
                    </a:lnTo>
                    <a:lnTo>
                      <a:pt x="831" y="991"/>
                    </a:lnTo>
                    <a:lnTo>
                      <a:pt x="836" y="984"/>
                    </a:lnTo>
                    <a:lnTo>
                      <a:pt x="840" y="975"/>
                    </a:lnTo>
                    <a:lnTo>
                      <a:pt x="842" y="965"/>
                    </a:lnTo>
                    <a:lnTo>
                      <a:pt x="842" y="955"/>
                    </a:lnTo>
                    <a:lnTo>
                      <a:pt x="840" y="943"/>
                    </a:lnTo>
                    <a:lnTo>
                      <a:pt x="836" y="928"/>
                    </a:lnTo>
                    <a:lnTo>
                      <a:pt x="831" y="917"/>
                    </a:lnTo>
                    <a:lnTo>
                      <a:pt x="822" y="903"/>
                    </a:lnTo>
                    <a:lnTo>
                      <a:pt x="813" y="887"/>
                    </a:lnTo>
                    <a:lnTo>
                      <a:pt x="800" y="871"/>
                    </a:lnTo>
                    <a:lnTo>
                      <a:pt x="786" y="856"/>
                    </a:lnTo>
                    <a:lnTo>
                      <a:pt x="779" y="847"/>
                    </a:lnTo>
                    <a:lnTo>
                      <a:pt x="773" y="839"/>
                    </a:lnTo>
                    <a:lnTo>
                      <a:pt x="768" y="830"/>
                    </a:lnTo>
                    <a:lnTo>
                      <a:pt x="763" y="821"/>
                    </a:lnTo>
                    <a:lnTo>
                      <a:pt x="757" y="802"/>
                    </a:lnTo>
                    <a:lnTo>
                      <a:pt x="755" y="783"/>
                    </a:lnTo>
                    <a:lnTo>
                      <a:pt x="755" y="764"/>
                    </a:lnTo>
                    <a:lnTo>
                      <a:pt x="761" y="745"/>
                    </a:lnTo>
                    <a:lnTo>
                      <a:pt x="767" y="726"/>
                    </a:lnTo>
                    <a:lnTo>
                      <a:pt x="777" y="707"/>
                    </a:lnTo>
                    <a:lnTo>
                      <a:pt x="788" y="690"/>
                    </a:lnTo>
                    <a:lnTo>
                      <a:pt x="802" y="673"/>
                    </a:lnTo>
                    <a:lnTo>
                      <a:pt x="818" y="660"/>
                    </a:lnTo>
                    <a:lnTo>
                      <a:pt x="836" y="647"/>
                    </a:lnTo>
                    <a:lnTo>
                      <a:pt x="855" y="637"/>
                    </a:lnTo>
                    <a:lnTo>
                      <a:pt x="876" y="630"/>
                    </a:lnTo>
                    <a:lnTo>
                      <a:pt x="898" y="624"/>
                    </a:lnTo>
                    <a:lnTo>
                      <a:pt x="919" y="624"/>
                    </a:lnTo>
                    <a:lnTo>
                      <a:pt x="943" y="624"/>
                    </a:lnTo>
                    <a:lnTo>
                      <a:pt x="964" y="630"/>
                    </a:lnTo>
                    <a:lnTo>
                      <a:pt x="984" y="639"/>
                    </a:lnTo>
                    <a:lnTo>
                      <a:pt x="1002" y="649"/>
                    </a:lnTo>
                    <a:lnTo>
                      <a:pt x="1018" y="662"/>
                    </a:lnTo>
                    <a:lnTo>
                      <a:pt x="1032" y="675"/>
                    </a:lnTo>
                    <a:lnTo>
                      <a:pt x="1043" y="690"/>
                    </a:lnTo>
                    <a:lnTo>
                      <a:pt x="1054" y="709"/>
                    </a:lnTo>
                    <a:lnTo>
                      <a:pt x="1061" y="728"/>
                    </a:lnTo>
                    <a:lnTo>
                      <a:pt x="1066" y="747"/>
                    </a:lnTo>
                    <a:lnTo>
                      <a:pt x="1068" y="764"/>
                    </a:lnTo>
                    <a:lnTo>
                      <a:pt x="1068" y="783"/>
                    </a:lnTo>
                    <a:lnTo>
                      <a:pt x="1065" y="802"/>
                    </a:lnTo>
                    <a:lnTo>
                      <a:pt x="1059" y="819"/>
                    </a:lnTo>
                    <a:lnTo>
                      <a:pt x="1052" y="835"/>
                    </a:lnTo>
                    <a:lnTo>
                      <a:pt x="1039" y="849"/>
                    </a:lnTo>
                    <a:lnTo>
                      <a:pt x="1016" y="875"/>
                    </a:lnTo>
                    <a:lnTo>
                      <a:pt x="994" y="899"/>
                    </a:lnTo>
                    <a:lnTo>
                      <a:pt x="986" y="909"/>
                    </a:lnTo>
                    <a:lnTo>
                      <a:pt x="978" y="920"/>
                    </a:lnTo>
                    <a:lnTo>
                      <a:pt x="973" y="930"/>
                    </a:lnTo>
                    <a:lnTo>
                      <a:pt x="969" y="939"/>
                    </a:lnTo>
                    <a:lnTo>
                      <a:pt x="966" y="949"/>
                    </a:lnTo>
                    <a:lnTo>
                      <a:pt x="966" y="958"/>
                    </a:lnTo>
                    <a:lnTo>
                      <a:pt x="966" y="967"/>
                    </a:lnTo>
                    <a:lnTo>
                      <a:pt x="967" y="975"/>
                    </a:lnTo>
                    <a:lnTo>
                      <a:pt x="973" y="984"/>
                    </a:lnTo>
                    <a:lnTo>
                      <a:pt x="980" y="992"/>
                    </a:lnTo>
                    <a:lnTo>
                      <a:pt x="988" y="1002"/>
                    </a:lnTo>
                    <a:lnTo>
                      <a:pt x="1000" y="1011"/>
                    </a:lnTo>
                    <a:lnTo>
                      <a:pt x="1014" y="1019"/>
                    </a:lnTo>
                    <a:lnTo>
                      <a:pt x="1032" y="1028"/>
                    </a:lnTo>
                    <a:lnTo>
                      <a:pt x="1052" y="1034"/>
                    </a:lnTo>
                    <a:lnTo>
                      <a:pt x="1077" y="1040"/>
                    </a:lnTo>
                    <a:lnTo>
                      <a:pt x="1104" y="1045"/>
                    </a:lnTo>
                    <a:lnTo>
                      <a:pt x="1131" y="1050"/>
                    </a:lnTo>
                    <a:lnTo>
                      <a:pt x="1162" y="1052"/>
                    </a:lnTo>
                    <a:lnTo>
                      <a:pt x="1192" y="1054"/>
                    </a:lnTo>
                    <a:lnTo>
                      <a:pt x="1223" y="1054"/>
                    </a:lnTo>
                    <a:lnTo>
                      <a:pt x="1253" y="1054"/>
                    </a:lnTo>
                    <a:lnTo>
                      <a:pt x="1284" y="1050"/>
                    </a:lnTo>
                    <a:lnTo>
                      <a:pt x="1313" y="1047"/>
                    </a:lnTo>
                    <a:lnTo>
                      <a:pt x="1341" y="1040"/>
                    </a:lnTo>
                    <a:lnTo>
                      <a:pt x="1368" y="1033"/>
                    </a:lnTo>
                    <a:lnTo>
                      <a:pt x="1392" y="1022"/>
                    </a:lnTo>
                    <a:lnTo>
                      <a:pt x="1411" y="1011"/>
                    </a:lnTo>
                    <a:lnTo>
                      <a:pt x="1417" y="1002"/>
                    </a:lnTo>
                    <a:lnTo>
                      <a:pt x="1421" y="991"/>
                    </a:lnTo>
                    <a:lnTo>
                      <a:pt x="1424" y="981"/>
                    </a:lnTo>
                    <a:lnTo>
                      <a:pt x="1426" y="969"/>
                    </a:lnTo>
                    <a:lnTo>
                      <a:pt x="1427" y="945"/>
                    </a:lnTo>
                    <a:lnTo>
                      <a:pt x="1427" y="920"/>
                    </a:lnTo>
                    <a:lnTo>
                      <a:pt x="1426" y="892"/>
                    </a:lnTo>
                    <a:lnTo>
                      <a:pt x="1423" y="864"/>
                    </a:lnTo>
                    <a:lnTo>
                      <a:pt x="1419" y="837"/>
                    </a:lnTo>
                    <a:lnTo>
                      <a:pt x="1413" y="807"/>
                    </a:lnTo>
                    <a:lnTo>
                      <a:pt x="1401" y="752"/>
                    </a:lnTo>
                    <a:lnTo>
                      <a:pt x="1392" y="698"/>
                    </a:lnTo>
                    <a:lnTo>
                      <a:pt x="1390" y="675"/>
                    </a:lnTo>
                    <a:lnTo>
                      <a:pt x="1388" y="653"/>
                    </a:lnTo>
                    <a:lnTo>
                      <a:pt x="1390" y="633"/>
                    </a:lnTo>
                    <a:lnTo>
                      <a:pt x="1395" y="618"/>
                    </a:lnTo>
                    <a:lnTo>
                      <a:pt x="1401" y="602"/>
                    </a:lnTo>
                    <a:lnTo>
                      <a:pt x="1409" y="588"/>
                    </a:lnTo>
                    <a:lnTo>
                      <a:pt x="1421" y="577"/>
                    </a:lnTo>
                    <a:lnTo>
                      <a:pt x="1431" y="566"/>
                    </a:lnTo>
                    <a:lnTo>
                      <a:pt x="1444" y="556"/>
                    </a:lnTo>
                    <a:lnTo>
                      <a:pt x="1456" y="547"/>
                    </a:lnTo>
                    <a:lnTo>
                      <a:pt x="1471" y="540"/>
                    </a:lnTo>
                    <a:lnTo>
                      <a:pt x="1485" y="535"/>
                    </a:lnTo>
                    <a:lnTo>
                      <a:pt x="1499" y="530"/>
                    </a:lnTo>
                    <a:lnTo>
                      <a:pt x="1514" y="528"/>
                    </a:lnTo>
                    <a:lnTo>
                      <a:pt x="1528" y="528"/>
                    </a:lnTo>
                    <a:lnTo>
                      <a:pt x="1542" y="531"/>
                    </a:lnTo>
                    <a:lnTo>
                      <a:pt x="1555" y="535"/>
                    </a:lnTo>
                    <a:lnTo>
                      <a:pt x="1568" y="541"/>
                    </a:lnTo>
                    <a:lnTo>
                      <a:pt x="1581" y="550"/>
                    </a:lnTo>
                    <a:lnTo>
                      <a:pt x="1591" y="562"/>
                    </a:lnTo>
                    <a:lnTo>
                      <a:pt x="1602" y="575"/>
                    </a:lnTo>
                    <a:lnTo>
                      <a:pt x="1616" y="583"/>
                    </a:lnTo>
                    <a:lnTo>
                      <a:pt x="1630" y="590"/>
                    </a:lnTo>
                    <a:lnTo>
                      <a:pt x="1648" y="596"/>
                    </a:lnTo>
                    <a:lnTo>
                      <a:pt x="1665" y="596"/>
                    </a:lnTo>
                    <a:lnTo>
                      <a:pt x="1683" y="596"/>
                    </a:lnTo>
                    <a:lnTo>
                      <a:pt x="1701" y="592"/>
                    </a:lnTo>
                    <a:lnTo>
                      <a:pt x="1717" y="587"/>
                    </a:lnTo>
                    <a:lnTo>
                      <a:pt x="1734" y="580"/>
                    </a:lnTo>
                    <a:lnTo>
                      <a:pt x="1749" y="571"/>
                    </a:lnTo>
                    <a:lnTo>
                      <a:pt x="1764" y="560"/>
                    </a:lnTo>
                    <a:lnTo>
                      <a:pt x="1777" y="549"/>
                    </a:lnTo>
                    <a:lnTo>
                      <a:pt x="1785" y="537"/>
                    </a:lnTo>
                    <a:lnTo>
                      <a:pt x="1794" y="521"/>
                    </a:lnTo>
                    <a:lnTo>
                      <a:pt x="1798" y="505"/>
                    </a:lnTo>
                    <a:lnTo>
                      <a:pt x="1800" y="490"/>
                    </a:lnTo>
                    <a:lnTo>
                      <a:pt x="1798" y="465"/>
                    </a:lnTo>
                    <a:lnTo>
                      <a:pt x="1794" y="443"/>
                    </a:lnTo>
                    <a:lnTo>
                      <a:pt x="1785" y="424"/>
                    </a:lnTo>
                    <a:lnTo>
                      <a:pt x="1777" y="407"/>
                    </a:lnTo>
                    <a:lnTo>
                      <a:pt x="1764" y="390"/>
                    </a:lnTo>
                    <a:lnTo>
                      <a:pt x="1749" y="379"/>
                    </a:lnTo>
                    <a:lnTo>
                      <a:pt x="1734" y="368"/>
                    </a:lnTo>
                    <a:lnTo>
                      <a:pt x="1717" y="360"/>
                    </a:lnTo>
                    <a:lnTo>
                      <a:pt x="1701" y="354"/>
                    </a:lnTo>
                    <a:lnTo>
                      <a:pt x="1683" y="349"/>
                    </a:lnTo>
                    <a:lnTo>
                      <a:pt x="1665" y="347"/>
                    </a:lnTo>
                    <a:lnTo>
                      <a:pt x="1648" y="349"/>
                    </a:lnTo>
                    <a:lnTo>
                      <a:pt x="1630" y="351"/>
                    </a:lnTo>
                    <a:lnTo>
                      <a:pt x="1616" y="356"/>
                    </a:lnTo>
                    <a:lnTo>
                      <a:pt x="1602" y="363"/>
                    </a:lnTo>
                    <a:lnTo>
                      <a:pt x="1591" y="373"/>
                    </a:lnTo>
                    <a:lnTo>
                      <a:pt x="1581" y="382"/>
                    </a:lnTo>
                    <a:lnTo>
                      <a:pt x="1566" y="388"/>
                    </a:lnTo>
                    <a:lnTo>
                      <a:pt x="1552" y="396"/>
                    </a:lnTo>
                    <a:lnTo>
                      <a:pt x="1536" y="399"/>
                    </a:lnTo>
                    <a:lnTo>
                      <a:pt x="1519" y="401"/>
                    </a:lnTo>
                    <a:lnTo>
                      <a:pt x="1503" y="403"/>
                    </a:lnTo>
                    <a:lnTo>
                      <a:pt x="1487" y="403"/>
                    </a:lnTo>
                    <a:lnTo>
                      <a:pt x="1471" y="399"/>
                    </a:lnTo>
                    <a:lnTo>
                      <a:pt x="1454" y="396"/>
                    </a:lnTo>
                    <a:lnTo>
                      <a:pt x="1438" y="390"/>
                    </a:lnTo>
                    <a:lnTo>
                      <a:pt x="1424" y="386"/>
                    </a:lnTo>
                    <a:lnTo>
                      <a:pt x="1411" y="377"/>
                    </a:lnTo>
                    <a:lnTo>
                      <a:pt x="1401" y="368"/>
                    </a:lnTo>
                    <a:lnTo>
                      <a:pt x="1392" y="360"/>
                    </a:lnTo>
                    <a:lnTo>
                      <a:pt x="1386" y="347"/>
                    </a:lnTo>
                    <a:lnTo>
                      <a:pt x="1383" y="335"/>
                    </a:lnTo>
                    <a:lnTo>
                      <a:pt x="1381" y="314"/>
                    </a:lnTo>
                    <a:lnTo>
                      <a:pt x="1381" y="279"/>
                    </a:lnTo>
                    <a:lnTo>
                      <a:pt x="1384" y="238"/>
                    </a:lnTo>
                    <a:lnTo>
                      <a:pt x="1388" y="190"/>
                    </a:lnTo>
                    <a:lnTo>
                      <a:pt x="1393" y="143"/>
                    </a:lnTo>
                    <a:lnTo>
                      <a:pt x="1399" y="96"/>
                    </a:lnTo>
                    <a:lnTo>
                      <a:pt x="1406" y="56"/>
                    </a:lnTo>
                    <a:lnTo>
                      <a:pt x="1411" y="24"/>
                    </a:lnTo>
                    <a:lnTo>
                      <a:pt x="1409" y="24"/>
                    </a:lnTo>
                    <a:lnTo>
                      <a:pt x="1408" y="24"/>
                    </a:lnTo>
                    <a:lnTo>
                      <a:pt x="1352" y="22"/>
                    </a:lnTo>
                    <a:lnTo>
                      <a:pt x="1300" y="20"/>
                    </a:lnTo>
                    <a:lnTo>
                      <a:pt x="1252" y="16"/>
                    </a:lnTo>
                    <a:lnTo>
                      <a:pt x="1207" y="12"/>
                    </a:lnTo>
                    <a:lnTo>
                      <a:pt x="1167" y="7"/>
                    </a:lnTo>
                    <a:lnTo>
                      <a:pt x="1133" y="3"/>
                    </a:lnTo>
                    <a:lnTo>
                      <a:pt x="1108" y="0"/>
                    </a:lnTo>
                    <a:lnTo>
                      <a:pt x="1090" y="0"/>
                    </a:lnTo>
                    <a:lnTo>
                      <a:pt x="1079" y="0"/>
                    </a:lnTo>
                    <a:lnTo>
                      <a:pt x="1068" y="5"/>
                    </a:lnTo>
                    <a:lnTo>
                      <a:pt x="1057" y="12"/>
                    </a:lnTo>
                    <a:lnTo>
                      <a:pt x="1049" y="20"/>
                    </a:lnTo>
                    <a:lnTo>
                      <a:pt x="1039" y="31"/>
                    </a:lnTo>
                    <a:lnTo>
                      <a:pt x="1032" y="43"/>
                    </a:lnTo>
                    <a:lnTo>
                      <a:pt x="1027" y="58"/>
                    </a:lnTo>
                    <a:lnTo>
                      <a:pt x="1023" y="73"/>
                    </a:lnTo>
                    <a:lnTo>
                      <a:pt x="1020" y="88"/>
                    </a:lnTo>
                    <a:lnTo>
                      <a:pt x="1018" y="106"/>
                    </a:lnTo>
                    <a:lnTo>
                      <a:pt x="1020" y="122"/>
                    </a:lnTo>
                    <a:lnTo>
                      <a:pt x="1023" y="139"/>
                    </a:lnTo>
                    <a:lnTo>
                      <a:pt x="1029" y="156"/>
                    </a:lnTo>
                    <a:lnTo>
                      <a:pt x="1035" y="172"/>
                    </a:lnTo>
                    <a:lnTo>
                      <a:pt x="1045" y="188"/>
                    </a:lnTo>
                    <a:lnTo>
                      <a:pt x="1059" y="201"/>
                    </a:lnTo>
                    <a:lnTo>
                      <a:pt x="1074" y="217"/>
                    </a:lnTo>
                    <a:lnTo>
                      <a:pt x="1084" y="235"/>
                    </a:lnTo>
                    <a:lnTo>
                      <a:pt x="1094" y="254"/>
                    </a:lnTo>
                    <a:lnTo>
                      <a:pt x="1098" y="271"/>
                    </a:lnTo>
                    <a:lnTo>
                      <a:pt x="1102" y="290"/>
                    </a:lnTo>
                    <a:lnTo>
                      <a:pt x="1100" y="309"/>
                    </a:lnTo>
                    <a:lnTo>
                      <a:pt x="1098" y="326"/>
                    </a:lnTo>
                    <a:lnTo>
                      <a:pt x="1092" y="343"/>
                    </a:lnTo>
                    <a:lnTo>
                      <a:pt x="1084" y="360"/>
                    </a:lnTo>
                    <a:lnTo>
                      <a:pt x="1072" y="375"/>
                    </a:lnTo>
                    <a:lnTo>
                      <a:pt x="1057" y="388"/>
                    </a:lnTo>
                    <a:lnTo>
                      <a:pt x="1041" y="401"/>
                    </a:lnTo>
                    <a:lnTo>
                      <a:pt x="1023" y="411"/>
                    </a:lnTo>
                    <a:lnTo>
                      <a:pt x="1002" y="420"/>
                    </a:lnTo>
                    <a:lnTo>
                      <a:pt x="977" y="426"/>
                    </a:lnTo>
                    <a:lnTo>
                      <a:pt x="951" y="427"/>
                    </a:lnTo>
                    <a:lnTo>
                      <a:pt x="937" y="427"/>
                    </a:lnTo>
                    <a:lnTo>
                      <a:pt x="924" y="427"/>
                    </a:lnTo>
                    <a:lnTo>
                      <a:pt x="914" y="426"/>
                    </a:lnTo>
                    <a:lnTo>
                      <a:pt x="901" y="422"/>
                    </a:lnTo>
                    <a:lnTo>
                      <a:pt x="890" y="418"/>
                    </a:lnTo>
                    <a:lnTo>
                      <a:pt x="881" y="415"/>
                    </a:lnTo>
                    <a:lnTo>
                      <a:pt x="871" y="409"/>
                    </a:lnTo>
                    <a:lnTo>
                      <a:pt x="861" y="403"/>
                    </a:lnTo>
                    <a:lnTo>
                      <a:pt x="845" y="390"/>
                    </a:lnTo>
                    <a:lnTo>
                      <a:pt x="833" y="375"/>
                    </a:lnTo>
                    <a:lnTo>
                      <a:pt x="822" y="358"/>
                    </a:lnTo>
                    <a:lnTo>
                      <a:pt x="813" y="339"/>
                    </a:lnTo>
                    <a:lnTo>
                      <a:pt x="808" y="320"/>
                    </a:lnTo>
                    <a:lnTo>
                      <a:pt x="804" y="301"/>
                    </a:lnTo>
                    <a:lnTo>
                      <a:pt x="802" y="279"/>
                    </a:lnTo>
                    <a:lnTo>
                      <a:pt x="804" y="260"/>
                    </a:lnTo>
                    <a:lnTo>
                      <a:pt x="810" y="241"/>
                    </a:lnTo>
                    <a:lnTo>
                      <a:pt x="816" y="224"/>
                    </a:lnTo>
                    <a:lnTo>
                      <a:pt x="826" y="209"/>
                    </a:lnTo>
                    <a:lnTo>
                      <a:pt x="836" y="194"/>
                    </a:lnTo>
                    <a:lnTo>
                      <a:pt x="847" y="184"/>
                    </a:lnTo>
                    <a:lnTo>
                      <a:pt x="857" y="173"/>
                    </a:lnTo>
                    <a:lnTo>
                      <a:pt x="863" y="162"/>
                    </a:lnTo>
                    <a:lnTo>
                      <a:pt x="869" y="150"/>
                    </a:lnTo>
                    <a:lnTo>
                      <a:pt x="873" y="137"/>
                    </a:lnTo>
                    <a:lnTo>
                      <a:pt x="874" y="125"/>
                    </a:lnTo>
                    <a:lnTo>
                      <a:pt x="873" y="113"/>
                    </a:lnTo>
                    <a:lnTo>
                      <a:pt x="869" y="103"/>
                    </a:lnTo>
                    <a:lnTo>
                      <a:pt x="863" y="90"/>
                    </a:lnTo>
                    <a:lnTo>
                      <a:pt x="855" y="78"/>
                    </a:lnTo>
                    <a:lnTo>
                      <a:pt x="843" y="68"/>
                    </a:lnTo>
                    <a:lnTo>
                      <a:pt x="828" y="58"/>
                    </a:lnTo>
                    <a:lnTo>
                      <a:pt x="810" y="47"/>
                    </a:lnTo>
                    <a:lnTo>
                      <a:pt x="788" y="39"/>
                    </a:lnTo>
                    <a:lnTo>
                      <a:pt x="763" y="31"/>
                    </a:lnTo>
                    <a:lnTo>
                      <a:pt x="734" y="24"/>
                    </a:lnTo>
                    <a:lnTo>
                      <a:pt x="703" y="20"/>
                    </a:lnTo>
                    <a:lnTo>
                      <a:pt x="664" y="20"/>
                    </a:lnTo>
                    <a:lnTo>
                      <a:pt x="615" y="20"/>
                    </a:lnTo>
                    <a:lnTo>
                      <a:pt x="565" y="20"/>
                    </a:lnTo>
                    <a:lnTo>
                      <a:pt x="513" y="24"/>
                    </a:lnTo>
                    <a:lnTo>
                      <a:pt x="464" y="30"/>
                    </a:lnTo>
                    <a:lnTo>
                      <a:pt x="423" y="35"/>
                    </a:lnTo>
                    <a:lnTo>
                      <a:pt x="391" y="40"/>
                    </a:lnTo>
                    <a:lnTo>
                      <a:pt x="401" y="75"/>
                    </a:lnTo>
                    <a:lnTo>
                      <a:pt x="416" y="120"/>
                    </a:lnTo>
                    <a:lnTo>
                      <a:pt x="428" y="172"/>
                    </a:lnTo>
                    <a:lnTo>
                      <a:pt x="439" y="226"/>
                    </a:lnTo>
                    <a:lnTo>
                      <a:pt x="442" y="252"/>
                    </a:lnTo>
                    <a:lnTo>
                      <a:pt x="446" y="278"/>
                    </a:lnTo>
                    <a:lnTo>
                      <a:pt x="448" y="304"/>
                    </a:lnTo>
                    <a:lnTo>
                      <a:pt x="448" y="326"/>
                    </a:lnTo>
                    <a:lnTo>
                      <a:pt x="444" y="347"/>
                    </a:lnTo>
                    <a:lnTo>
                      <a:pt x="441" y="365"/>
                    </a:lnTo>
                    <a:lnTo>
                      <a:pt x="438" y="373"/>
                    </a:lnTo>
                    <a:lnTo>
                      <a:pt x="434" y="380"/>
                    </a:lnTo>
                    <a:lnTo>
                      <a:pt x="430" y="386"/>
                    </a:lnTo>
                    <a:lnTo>
                      <a:pt x="425" y="390"/>
                    </a:lnTo>
                    <a:lnTo>
                      <a:pt x="414" y="399"/>
                    </a:lnTo>
                    <a:lnTo>
                      <a:pt x="401" y="407"/>
                    </a:lnTo>
                    <a:lnTo>
                      <a:pt x="391" y="413"/>
                    </a:lnTo>
                    <a:lnTo>
                      <a:pt x="378" y="418"/>
                    </a:lnTo>
                    <a:lnTo>
                      <a:pt x="366" y="422"/>
                    </a:lnTo>
                    <a:lnTo>
                      <a:pt x="352" y="424"/>
                    </a:lnTo>
                    <a:lnTo>
                      <a:pt x="339" y="426"/>
                    </a:lnTo>
                    <a:lnTo>
                      <a:pt x="326" y="426"/>
                    </a:lnTo>
                    <a:lnTo>
                      <a:pt x="313" y="424"/>
                    </a:lnTo>
                    <a:lnTo>
                      <a:pt x="303" y="422"/>
                    </a:lnTo>
                    <a:lnTo>
                      <a:pt x="290" y="420"/>
                    </a:lnTo>
                    <a:lnTo>
                      <a:pt x="280" y="417"/>
                    </a:lnTo>
                    <a:lnTo>
                      <a:pt x="268" y="411"/>
                    </a:lnTo>
                    <a:lnTo>
                      <a:pt x="258" y="405"/>
                    </a:lnTo>
                    <a:lnTo>
                      <a:pt x="249" y="399"/>
                    </a:lnTo>
                    <a:lnTo>
                      <a:pt x="241" y="390"/>
                    </a:lnTo>
                    <a:lnTo>
                      <a:pt x="229" y="380"/>
                    </a:lnTo>
                    <a:lnTo>
                      <a:pt x="215" y="371"/>
                    </a:lnTo>
                    <a:lnTo>
                      <a:pt x="198" y="365"/>
                    </a:lnTo>
                    <a:lnTo>
                      <a:pt x="178" y="361"/>
                    </a:lnTo>
                    <a:lnTo>
                      <a:pt x="161" y="360"/>
                    </a:lnTo>
                    <a:lnTo>
                      <a:pt x="139" y="360"/>
                    </a:lnTo>
                    <a:lnTo>
                      <a:pt x="119" y="361"/>
                    </a:lnTo>
                    <a:lnTo>
                      <a:pt x="100" y="366"/>
                    </a:lnTo>
                    <a:lnTo>
                      <a:pt x="80" y="373"/>
                    </a:lnTo>
                    <a:lnTo>
                      <a:pt x="62" y="384"/>
                    </a:lnTo>
                    <a:lnTo>
                      <a:pt x="43" y="398"/>
                    </a:lnTo>
                    <a:lnTo>
                      <a:pt x="29" y="413"/>
                    </a:lnTo>
                    <a:lnTo>
                      <a:pt x="24" y="422"/>
                    </a:lnTo>
                    <a:lnTo>
                      <a:pt x="17" y="432"/>
                    </a:lnTo>
                    <a:lnTo>
                      <a:pt x="13" y="443"/>
                    </a:lnTo>
                    <a:lnTo>
                      <a:pt x="8" y="453"/>
                    </a:lnTo>
                    <a:lnTo>
                      <a:pt x="4" y="465"/>
                    </a:lnTo>
                    <a:lnTo>
                      <a:pt x="2" y="479"/>
                    </a:lnTo>
                    <a:lnTo>
                      <a:pt x="0" y="493"/>
                    </a:lnTo>
                    <a:lnTo>
                      <a:pt x="0" y="507"/>
                    </a:lnTo>
                    <a:lnTo>
                      <a:pt x="0" y="519"/>
                    </a:lnTo>
                    <a:lnTo>
                      <a:pt x="2" y="531"/>
                    </a:lnTo>
                    <a:lnTo>
                      <a:pt x="4" y="541"/>
                    </a:lnTo>
                    <a:lnTo>
                      <a:pt x="8" y="552"/>
                    </a:lnTo>
                    <a:lnTo>
                      <a:pt x="11" y="562"/>
                    </a:lnTo>
                    <a:lnTo>
                      <a:pt x="17" y="571"/>
                    </a:lnTo>
                    <a:lnTo>
                      <a:pt x="22" y="580"/>
                    </a:lnTo>
                    <a:lnTo>
                      <a:pt x="29" y="588"/>
                    </a:lnTo>
                    <a:lnTo>
                      <a:pt x="42" y="602"/>
                    </a:lnTo>
                    <a:lnTo>
                      <a:pt x="58" y="615"/>
                    </a:lnTo>
                    <a:lnTo>
                      <a:pt x="76" y="624"/>
                    </a:lnTo>
                    <a:lnTo>
                      <a:pt x="94" y="630"/>
                    </a:lnTo>
                    <a:lnTo>
                      <a:pt x="114" y="635"/>
                    </a:lnTo>
                    <a:lnTo>
                      <a:pt x="131" y="639"/>
                    </a:lnTo>
                    <a:lnTo>
                      <a:pt x="152" y="639"/>
                    </a:lnTo>
                    <a:lnTo>
                      <a:pt x="170" y="637"/>
                    </a:lnTo>
                    <a:lnTo>
                      <a:pt x="186" y="633"/>
                    </a:lnTo>
                    <a:lnTo>
                      <a:pt x="200" y="628"/>
                    </a:lnTo>
                    <a:lnTo>
                      <a:pt x="213" y="620"/>
                    </a:lnTo>
                    <a:lnTo>
                      <a:pt x="221" y="611"/>
                    </a:lnTo>
                    <a:lnTo>
                      <a:pt x="231" y="602"/>
                    </a:lnTo>
                    <a:lnTo>
                      <a:pt x="241" y="596"/>
                    </a:lnTo>
                    <a:lnTo>
                      <a:pt x="254" y="590"/>
                    </a:lnTo>
                    <a:lnTo>
                      <a:pt x="266" y="587"/>
                    </a:lnTo>
                    <a:lnTo>
                      <a:pt x="281" y="587"/>
                    </a:lnTo>
                    <a:lnTo>
                      <a:pt x="295" y="587"/>
                    </a:lnTo>
                    <a:lnTo>
                      <a:pt x="307" y="590"/>
                    </a:lnTo>
                    <a:lnTo>
                      <a:pt x="322" y="594"/>
                    </a:lnTo>
                    <a:lnTo>
                      <a:pt x="337" y="599"/>
                    </a:lnTo>
                    <a:lnTo>
                      <a:pt x="350" y="606"/>
                    </a:lnTo>
                    <a:lnTo>
                      <a:pt x="360" y="613"/>
                    </a:lnTo>
                    <a:lnTo>
                      <a:pt x="371" y="622"/>
                    </a:lnTo>
                    <a:lnTo>
                      <a:pt x="378" y="632"/>
                    </a:lnTo>
                    <a:lnTo>
                      <a:pt x="385" y="643"/>
                    </a:lnTo>
                    <a:lnTo>
                      <a:pt x="389" y="653"/>
                    </a:lnTo>
                    <a:lnTo>
                      <a:pt x="391" y="663"/>
                    </a:lnTo>
                    <a:lnTo>
                      <a:pt x="389" y="692"/>
                    </a:lnTo>
                    <a:lnTo>
                      <a:pt x="385" y="729"/>
                    </a:lnTo>
                    <a:lnTo>
                      <a:pt x="382" y="775"/>
                    </a:lnTo>
                    <a:lnTo>
                      <a:pt x="380" y="821"/>
                    </a:lnTo>
                    <a:lnTo>
                      <a:pt x="378" y="871"/>
                    </a:lnTo>
                    <a:lnTo>
                      <a:pt x="378" y="922"/>
                    </a:lnTo>
                    <a:lnTo>
                      <a:pt x="380" y="946"/>
                    </a:lnTo>
                    <a:lnTo>
                      <a:pt x="382" y="969"/>
                    </a:lnTo>
                    <a:lnTo>
                      <a:pt x="385" y="991"/>
                    </a:lnTo>
                    <a:lnTo>
                      <a:pt x="391" y="1011"/>
                    </a:lnTo>
                    <a:lnTo>
                      <a:pt x="401" y="1015"/>
                    </a:lnTo>
                    <a:lnTo>
                      <a:pt x="417" y="1019"/>
                    </a:lnTo>
                    <a:lnTo>
                      <a:pt x="436" y="1022"/>
                    </a:lnTo>
                    <a:lnTo>
                      <a:pt x="454" y="1024"/>
                    </a:lnTo>
                    <a:lnTo>
                      <a:pt x="501" y="1024"/>
                    </a:lnTo>
                    <a:lnTo>
                      <a:pt x="550" y="1022"/>
                    </a:lnTo>
                    <a:lnTo>
                      <a:pt x="606" y="1019"/>
                    </a:lnTo>
                    <a:lnTo>
                      <a:pt x="664" y="1015"/>
                    </a:lnTo>
                    <a:lnTo>
                      <a:pt x="722" y="1012"/>
                    </a:lnTo>
                    <a:lnTo>
                      <a:pt x="777" y="101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360520" y="1876320"/>
                <a:ext cx="2857680" cy="1673280"/>
              </a:xfrm>
              <a:custGeom>
                <a:avLst/>
                <a:gdLst/>
                <a:ahLst/>
                <a:rect l="l" t="t" r="r" b="b"/>
                <a:pathLst>
                  <a:path w="1800" h="1054">
                    <a:moveTo>
                      <a:pt x="777" y="1011"/>
                    </a:moveTo>
                    <a:lnTo>
                      <a:pt x="791" y="1011"/>
                    </a:lnTo>
                    <a:lnTo>
                      <a:pt x="804" y="1007"/>
                    </a:lnTo>
                    <a:lnTo>
                      <a:pt x="814" y="1003"/>
                    </a:lnTo>
                    <a:lnTo>
                      <a:pt x="824" y="998"/>
                    </a:lnTo>
                    <a:lnTo>
                      <a:pt x="831" y="991"/>
                    </a:lnTo>
                    <a:lnTo>
                      <a:pt x="836" y="984"/>
                    </a:lnTo>
                    <a:lnTo>
                      <a:pt x="840" y="975"/>
                    </a:lnTo>
                    <a:lnTo>
                      <a:pt x="842" y="965"/>
                    </a:lnTo>
                    <a:lnTo>
                      <a:pt x="842" y="955"/>
                    </a:lnTo>
                    <a:lnTo>
                      <a:pt x="840" y="943"/>
                    </a:lnTo>
                    <a:lnTo>
                      <a:pt x="836" y="928"/>
                    </a:lnTo>
                    <a:lnTo>
                      <a:pt x="831" y="917"/>
                    </a:lnTo>
                    <a:lnTo>
                      <a:pt x="822" y="903"/>
                    </a:lnTo>
                    <a:lnTo>
                      <a:pt x="813" y="887"/>
                    </a:lnTo>
                    <a:lnTo>
                      <a:pt x="800" y="871"/>
                    </a:lnTo>
                    <a:lnTo>
                      <a:pt x="786" y="856"/>
                    </a:lnTo>
                    <a:lnTo>
                      <a:pt x="779" y="847"/>
                    </a:lnTo>
                    <a:lnTo>
                      <a:pt x="773" y="839"/>
                    </a:lnTo>
                    <a:lnTo>
                      <a:pt x="768" y="830"/>
                    </a:lnTo>
                    <a:lnTo>
                      <a:pt x="763" y="821"/>
                    </a:lnTo>
                    <a:lnTo>
                      <a:pt x="757" y="802"/>
                    </a:lnTo>
                    <a:lnTo>
                      <a:pt x="755" y="783"/>
                    </a:lnTo>
                    <a:lnTo>
                      <a:pt x="755" y="764"/>
                    </a:lnTo>
                    <a:lnTo>
                      <a:pt x="761" y="745"/>
                    </a:lnTo>
                    <a:lnTo>
                      <a:pt x="767" y="726"/>
                    </a:lnTo>
                    <a:lnTo>
                      <a:pt x="777" y="707"/>
                    </a:lnTo>
                    <a:lnTo>
                      <a:pt x="788" y="690"/>
                    </a:lnTo>
                    <a:lnTo>
                      <a:pt x="802" y="673"/>
                    </a:lnTo>
                    <a:lnTo>
                      <a:pt x="818" y="660"/>
                    </a:lnTo>
                    <a:lnTo>
                      <a:pt x="836" y="647"/>
                    </a:lnTo>
                    <a:lnTo>
                      <a:pt x="855" y="637"/>
                    </a:lnTo>
                    <a:lnTo>
                      <a:pt x="876" y="630"/>
                    </a:lnTo>
                    <a:lnTo>
                      <a:pt x="898" y="624"/>
                    </a:lnTo>
                    <a:lnTo>
                      <a:pt x="919" y="624"/>
                    </a:lnTo>
                    <a:lnTo>
                      <a:pt x="943" y="624"/>
                    </a:lnTo>
                    <a:lnTo>
                      <a:pt x="964" y="630"/>
                    </a:lnTo>
                    <a:lnTo>
                      <a:pt x="984" y="639"/>
                    </a:lnTo>
                    <a:lnTo>
                      <a:pt x="1002" y="649"/>
                    </a:lnTo>
                    <a:lnTo>
                      <a:pt x="1018" y="662"/>
                    </a:lnTo>
                    <a:lnTo>
                      <a:pt x="1032" y="675"/>
                    </a:lnTo>
                    <a:lnTo>
                      <a:pt x="1043" y="690"/>
                    </a:lnTo>
                    <a:lnTo>
                      <a:pt x="1054" y="709"/>
                    </a:lnTo>
                    <a:lnTo>
                      <a:pt x="1061" y="728"/>
                    </a:lnTo>
                    <a:lnTo>
                      <a:pt x="1066" y="747"/>
                    </a:lnTo>
                    <a:lnTo>
                      <a:pt x="1068" y="764"/>
                    </a:lnTo>
                    <a:lnTo>
                      <a:pt x="1068" y="783"/>
                    </a:lnTo>
                    <a:lnTo>
                      <a:pt x="1065" y="802"/>
                    </a:lnTo>
                    <a:lnTo>
                      <a:pt x="1059" y="819"/>
                    </a:lnTo>
                    <a:lnTo>
                      <a:pt x="1052" y="835"/>
                    </a:lnTo>
                    <a:lnTo>
                      <a:pt x="1039" y="849"/>
                    </a:lnTo>
                    <a:lnTo>
                      <a:pt x="1016" y="875"/>
                    </a:lnTo>
                    <a:lnTo>
                      <a:pt x="994" y="899"/>
                    </a:lnTo>
                    <a:lnTo>
                      <a:pt x="986" y="909"/>
                    </a:lnTo>
                    <a:lnTo>
                      <a:pt x="978" y="920"/>
                    </a:lnTo>
                    <a:lnTo>
                      <a:pt x="973" y="930"/>
                    </a:lnTo>
                    <a:lnTo>
                      <a:pt x="969" y="939"/>
                    </a:lnTo>
                    <a:lnTo>
                      <a:pt x="966" y="949"/>
                    </a:lnTo>
                    <a:lnTo>
                      <a:pt x="966" y="958"/>
                    </a:lnTo>
                    <a:lnTo>
                      <a:pt x="966" y="967"/>
                    </a:lnTo>
                    <a:lnTo>
                      <a:pt x="967" y="975"/>
                    </a:lnTo>
                    <a:lnTo>
                      <a:pt x="973" y="984"/>
                    </a:lnTo>
                    <a:lnTo>
                      <a:pt x="980" y="992"/>
                    </a:lnTo>
                    <a:lnTo>
                      <a:pt x="988" y="1002"/>
                    </a:lnTo>
                    <a:lnTo>
                      <a:pt x="1000" y="1011"/>
                    </a:lnTo>
                    <a:lnTo>
                      <a:pt x="1014" y="1019"/>
                    </a:lnTo>
                    <a:lnTo>
                      <a:pt x="1032" y="1028"/>
                    </a:lnTo>
                    <a:lnTo>
                      <a:pt x="1052" y="1034"/>
                    </a:lnTo>
                    <a:lnTo>
                      <a:pt x="1077" y="1040"/>
                    </a:lnTo>
                    <a:lnTo>
                      <a:pt x="1104" y="1045"/>
                    </a:lnTo>
                    <a:lnTo>
                      <a:pt x="1131" y="1050"/>
                    </a:lnTo>
                    <a:lnTo>
                      <a:pt x="1162" y="1052"/>
                    </a:lnTo>
                    <a:lnTo>
                      <a:pt x="1192" y="1054"/>
                    </a:lnTo>
                    <a:lnTo>
                      <a:pt x="1223" y="1054"/>
                    </a:lnTo>
                    <a:lnTo>
                      <a:pt x="1253" y="1054"/>
                    </a:lnTo>
                    <a:lnTo>
                      <a:pt x="1284" y="1050"/>
                    </a:lnTo>
                    <a:lnTo>
                      <a:pt x="1313" y="1047"/>
                    </a:lnTo>
                    <a:lnTo>
                      <a:pt x="1341" y="1040"/>
                    </a:lnTo>
                    <a:lnTo>
                      <a:pt x="1368" y="1033"/>
                    </a:lnTo>
                    <a:lnTo>
                      <a:pt x="1392" y="1022"/>
                    </a:lnTo>
                    <a:lnTo>
                      <a:pt x="1411" y="1011"/>
                    </a:lnTo>
                    <a:lnTo>
                      <a:pt x="1417" y="1002"/>
                    </a:lnTo>
                    <a:lnTo>
                      <a:pt x="1421" y="991"/>
                    </a:lnTo>
                    <a:lnTo>
                      <a:pt x="1424" y="981"/>
                    </a:lnTo>
                    <a:lnTo>
                      <a:pt x="1426" y="969"/>
                    </a:lnTo>
                    <a:lnTo>
                      <a:pt x="1427" y="945"/>
                    </a:lnTo>
                    <a:lnTo>
                      <a:pt x="1427" y="920"/>
                    </a:lnTo>
                    <a:lnTo>
                      <a:pt x="1426" y="892"/>
                    </a:lnTo>
                    <a:lnTo>
                      <a:pt x="1423" y="864"/>
                    </a:lnTo>
                    <a:lnTo>
                      <a:pt x="1419" y="837"/>
                    </a:lnTo>
                    <a:lnTo>
                      <a:pt x="1413" y="807"/>
                    </a:lnTo>
                    <a:lnTo>
                      <a:pt x="1401" y="752"/>
                    </a:lnTo>
                    <a:lnTo>
                      <a:pt x="1392" y="698"/>
                    </a:lnTo>
                    <a:lnTo>
                      <a:pt x="1390" y="675"/>
                    </a:lnTo>
                    <a:lnTo>
                      <a:pt x="1388" y="653"/>
                    </a:lnTo>
                    <a:lnTo>
                      <a:pt x="1390" y="633"/>
                    </a:lnTo>
                    <a:lnTo>
                      <a:pt x="1395" y="618"/>
                    </a:lnTo>
                    <a:lnTo>
                      <a:pt x="1401" y="602"/>
                    </a:lnTo>
                    <a:lnTo>
                      <a:pt x="1409" y="588"/>
                    </a:lnTo>
                    <a:lnTo>
                      <a:pt x="1421" y="577"/>
                    </a:lnTo>
                    <a:lnTo>
                      <a:pt x="1431" y="566"/>
                    </a:lnTo>
                    <a:lnTo>
                      <a:pt x="1444" y="556"/>
                    </a:lnTo>
                    <a:lnTo>
                      <a:pt x="1456" y="547"/>
                    </a:lnTo>
                    <a:lnTo>
                      <a:pt x="1471" y="540"/>
                    </a:lnTo>
                    <a:lnTo>
                      <a:pt x="1485" y="535"/>
                    </a:lnTo>
                    <a:lnTo>
                      <a:pt x="1499" y="530"/>
                    </a:lnTo>
                    <a:lnTo>
                      <a:pt x="1514" y="528"/>
                    </a:lnTo>
                    <a:lnTo>
                      <a:pt x="1528" y="528"/>
                    </a:lnTo>
                    <a:lnTo>
                      <a:pt x="1542" y="531"/>
                    </a:lnTo>
                    <a:lnTo>
                      <a:pt x="1555" y="535"/>
                    </a:lnTo>
                    <a:lnTo>
                      <a:pt x="1568" y="541"/>
                    </a:lnTo>
                    <a:lnTo>
                      <a:pt x="1581" y="550"/>
                    </a:lnTo>
                    <a:lnTo>
                      <a:pt x="1591" y="562"/>
                    </a:lnTo>
                    <a:lnTo>
                      <a:pt x="1602" y="575"/>
                    </a:lnTo>
                    <a:lnTo>
                      <a:pt x="1616" y="583"/>
                    </a:lnTo>
                    <a:lnTo>
                      <a:pt x="1630" y="590"/>
                    </a:lnTo>
                    <a:lnTo>
                      <a:pt x="1648" y="596"/>
                    </a:lnTo>
                    <a:lnTo>
                      <a:pt x="1665" y="596"/>
                    </a:lnTo>
                    <a:lnTo>
                      <a:pt x="1683" y="596"/>
                    </a:lnTo>
                    <a:lnTo>
                      <a:pt x="1701" y="592"/>
                    </a:lnTo>
                    <a:lnTo>
                      <a:pt x="1717" y="587"/>
                    </a:lnTo>
                    <a:lnTo>
                      <a:pt x="1734" y="580"/>
                    </a:lnTo>
                    <a:lnTo>
                      <a:pt x="1749" y="571"/>
                    </a:lnTo>
                    <a:lnTo>
                      <a:pt x="1764" y="560"/>
                    </a:lnTo>
                    <a:lnTo>
                      <a:pt x="1777" y="549"/>
                    </a:lnTo>
                    <a:lnTo>
                      <a:pt x="1785" y="537"/>
                    </a:lnTo>
                    <a:lnTo>
                      <a:pt x="1794" y="521"/>
                    </a:lnTo>
                    <a:lnTo>
                      <a:pt x="1798" y="505"/>
                    </a:lnTo>
                    <a:lnTo>
                      <a:pt x="1800" y="490"/>
                    </a:lnTo>
                    <a:lnTo>
                      <a:pt x="1798" y="465"/>
                    </a:lnTo>
                    <a:lnTo>
                      <a:pt x="1794" y="443"/>
                    </a:lnTo>
                    <a:lnTo>
                      <a:pt x="1785" y="424"/>
                    </a:lnTo>
                    <a:lnTo>
                      <a:pt x="1777" y="407"/>
                    </a:lnTo>
                    <a:lnTo>
                      <a:pt x="1764" y="390"/>
                    </a:lnTo>
                    <a:lnTo>
                      <a:pt x="1749" y="379"/>
                    </a:lnTo>
                    <a:lnTo>
                      <a:pt x="1734" y="368"/>
                    </a:lnTo>
                    <a:lnTo>
                      <a:pt x="1717" y="360"/>
                    </a:lnTo>
                    <a:lnTo>
                      <a:pt x="1701" y="354"/>
                    </a:lnTo>
                    <a:lnTo>
                      <a:pt x="1683" y="349"/>
                    </a:lnTo>
                    <a:lnTo>
                      <a:pt x="1665" y="347"/>
                    </a:lnTo>
                    <a:lnTo>
                      <a:pt x="1648" y="349"/>
                    </a:lnTo>
                    <a:lnTo>
                      <a:pt x="1630" y="351"/>
                    </a:lnTo>
                    <a:lnTo>
                      <a:pt x="1616" y="356"/>
                    </a:lnTo>
                    <a:lnTo>
                      <a:pt x="1602" y="363"/>
                    </a:lnTo>
                    <a:lnTo>
                      <a:pt x="1591" y="373"/>
                    </a:lnTo>
                    <a:lnTo>
                      <a:pt x="1581" y="382"/>
                    </a:lnTo>
                    <a:lnTo>
                      <a:pt x="1566" y="388"/>
                    </a:lnTo>
                    <a:lnTo>
                      <a:pt x="1552" y="396"/>
                    </a:lnTo>
                    <a:lnTo>
                      <a:pt x="1536" y="399"/>
                    </a:lnTo>
                    <a:lnTo>
                      <a:pt x="1519" y="401"/>
                    </a:lnTo>
                    <a:lnTo>
                      <a:pt x="1503" y="403"/>
                    </a:lnTo>
                    <a:lnTo>
                      <a:pt x="1487" y="403"/>
                    </a:lnTo>
                    <a:lnTo>
                      <a:pt x="1471" y="399"/>
                    </a:lnTo>
                    <a:lnTo>
                      <a:pt x="1454" y="396"/>
                    </a:lnTo>
                    <a:lnTo>
                      <a:pt x="1438" y="390"/>
                    </a:lnTo>
                    <a:lnTo>
                      <a:pt x="1424" y="386"/>
                    </a:lnTo>
                    <a:lnTo>
                      <a:pt x="1411" y="377"/>
                    </a:lnTo>
                    <a:lnTo>
                      <a:pt x="1401" y="368"/>
                    </a:lnTo>
                    <a:lnTo>
                      <a:pt x="1392" y="360"/>
                    </a:lnTo>
                    <a:lnTo>
                      <a:pt x="1386" y="347"/>
                    </a:lnTo>
                    <a:lnTo>
                      <a:pt x="1383" y="335"/>
                    </a:lnTo>
                    <a:lnTo>
                      <a:pt x="1381" y="314"/>
                    </a:lnTo>
                    <a:lnTo>
                      <a:pt x="1381" y="279"/>
                    </a:lnTo>
                    <a:lnTo>
                      <a:pt x="1384" y="238"/>
                    </a:lnTo>
                    <a:lnTo>
                      <a:pt x="1388" y="190"/>
                    </a:lnTo>
                    <a:lnTo>
                      <a:pt x="1393" y="143"/>
                    </a:lnTo>
                    <a:lnTo>
                      <a:pt x="1399" y="96"/>
                    </a:lnTo>
                    <a:lnTo>
                      <a:pt x="1406" y="56"/>
                    </a:lnTo>
                    <a:lnTo>
                      <a:pt x="1411" y="24"/>
                    </a:lnTo>
                    <a:lnTo>
                      <a:pt x="1409" y="24"/>
                    </a:lnTo>
                    <a:lnTo>
                      <a:pt x="1408" y="24"/>
                    </a:lnTo>
                    <a:lnTo>
                      <a:pt x="1352" y="22"/>
                    </a:lnTo>
                    <a:lnTo>
                      <a:pt x="1300" y="20"/>
                    </a:lnTo>
                    <a:lnTo>
                      <a:pt x="1252" y="16"/>
                    </a:lnTo>
                    <a:lnTo>
                      <a:pt x="1207" y="12"/>
                    </a:lnTo>
                    <a:lnTo>
                      <a:pt x="1167" y="7"/>
                    </a:lnTo>
                    <a:lnTo>
                      <a:pt x="1133" y="3"/>
                    </a:lnTo>
                    <a:lnTo>
                      <a:pt x="1108" y="0"/>
                    </a:lnTo>
                    <a:lnTo>
                      <a:pt x="1090" y="0"/>
                    </a:lnTo>
                    <a:lnTo>
                      <a:pt x="1079" y="0"/>
                    </a:lnTo>
                    <a:lnTo>
                      <a:pt x="1068" y="5"/>
                    </a:lnTo>
                    <a:lnTo>
                      <a:pt x="1057" y="12"/>
                    </a:lnTo>
                    <a:lnTo>
                      <a:pt x="1049" y="20"/>
                    </a:lnTo>
                    <a:lnTo>
                      <a:pt x="1039" y="31"/>
                    </a:lnTo>
                    <a:lnTo>
                      <a:pt x="1032" y="43"/>
                    </a:lnTo>
                    <a:lnTo>
                      <a:pt x="1027" y="58"/>
                    </a:lnTo>
                    <a:lnTo>
                      <a:pt x="1023" y="73"/>
                    </a:lnTo>
                    <a:lnTo>
                      <a:pt x="1020" y="88"/>
                    </a:lnTo>
                    <a:lnTo>
                      <a:pt x="1018" y="106"/>
                    </a:lnTo>
                    <a:lnTo>
                      <a:pt x="1020" y="122"/>
                    </a:lnTo>
                    <a:lnTo>
                      <a:pt x="1023" y="139"/>
                    </a:lnTo>
                    <a:lnTo>
                      <a:pt x="1029" y="156"/>
                    </a:lnTo>
                    <a:lnTo>
                      <a:pt x="1035" y="172"/>
                    </a:lnTo>
                    <a:lnTo>
                      <a:pt x="1045" y="188"/>
                    </a:lnTo>
                    <a:lnTo>
                      <a:pt x="1059" y="201"/>
                    </a:lnTo>
                    <a:lnTo>
                      <a:pt x="1074" y="217"/>
                    </a:lnTo>
                    <a:lnTo>
                      <a:pt x="1084" y="235"/>
                    </a:lnTo>
                    <a:lnTo>
                      <a:pt x="1094" y="254"/>
                    </a:lnTo>
                    <a:lnTo>
                      <a:pt x="1098" y="271"/>
                    </a:lnTo>
                    <a:lnTo>
                      <a:pt x="1102" y="290"/>
                    </a:lnTo>
                    <a:lnTo>
                      <a:pt x="1100" y="309"/>
                    </a:lnTo>
                    <a:lnTo>
                      <a:pt x="1098" y="326"/>
                    </a:lnTo>
                    <a:lnTo>
                      <a:pt x="1092" y="343"/>
                    </a:lnTo>
                    <a:lnTo>
                      <a:pt x="1084" y="360"/>
                    </a:lnTo>
                    <a:lnTo>
                      <a:pt x="1072" y="375"/>
                    </a:lnTo>
                    <a:lnTo>
                      <a:pt x="1057" y="388"/>
                    </a:lnTo>
                    <a:lnTo>
                      <a:pt x="1041" y="401"/>
                    </a:lnTo>
                    <a:lnTo>
                      <a:pt x="1023" y="411"/>
                    </a:lnTo>
                    <a:lnTo>
                      <a:pt x="1002" y="420"/>
                    </a:lnTo>
                    <a:lnTo>
                      <a:pt x="977" y="426"/>
                    </a:lnTo>
                    <a:lnTo>
                      <a:pt x="951" y="427"/>
                    </a:lnTo>
                    <a:lnTo>
                      <a:pt x="937" y="427"/>
                    </a:lnTo>
                    <a:lnTo>
                      <a:pt x="924" y="427"/>
                    </a:lnTo>
                    <a:lnTo>
                      <a:pt x="914" y="426"/>
                    </a:lnTo>
                    <a:lnTo>
                      <a:pt x="901" y="422"/>
                    </a:lnTo>
                    <a:lnTo>
                      <a:pt x="890" y="418"/>
                    </a:lnTo>
                    <a:lnTo>
                      <a:pt x="881" y="415"/>
                    </a:lnTo>
                    <a:lnTo>
                      <a:pt x="871" y="409"/>
                    </a:lnTo>
                    <a:lnTo>
                      <a:pt x="861" y="403"/>
                    </a:lnTo>
                    <a:lnTo>
                      <a:pt x="845" y="390"/>
                    </a:lnTo>
                    <a:lnTo>
                      <a:pt x="833" y="375"/>
                    </a:lnTo>
                    <a:lnTo>
                      <a:pt x="822" y="358"/>
                    </a:lnTo>
                    <a:lnTo>
                      <a:pt x="813" y="339"/>
                    </a:lnTo>
                    <a:lnTo>
                      <a:pt x="808" y="320"/>
                    </a:lnTo>
                    <a:lnTo>
                      <a:pt x="804" y="301"/>
                    </a:lnTo>
                    <a:lnTo>
                      <a:pt x="802" y="279"/>
                    </a:lnTo>
                    <a:lnTo>
                      <a:pt x="804" y="260"/>
                    </a:lnTo>
                    <a:lnTo>
                      <a:pt x="810" y="241"/>
                    </a:lnTo>
                    <a:lnTo>
                      <a:pt x="816" y="224"/>
                    </a:lnTo>
                    <a:lnTo>
                      <a:pt x="826" y="209"/>
                    </a:lnTo>
                    <a:lnTo>
                      <a:pt x="836" y="194"/>
                    </a:lnTo>
                    <a:lnTo>
                      <a:pt x="847" y="184"/>
                    </a:lnTo>
                    <a:lnTo>
                      <a:pt x="857" y="173"/>
                    </a:lnTo>
                    <a:lnTo>
                      <a:pt x="863" y="162"/>
                    </a:lnTo>
                    <a:lnTo>
                      <a:pt x="869" y="150"/>
                    </a:lnTo>
                    <a:lnTo>
                      <a:pt x="873" y="137"/>
                    </a:lnTo>
                    <a:lnTo>
                      <a:pt x="874" y="125"/>
                    </a:lnTo>
                    <a:lnTo>
                      <a:pt x="873" y="113"/>
                    </a:lnTo>
                    <a:lnTo>
                      <a:pt x="869" y="103"/>
                    </a:lnTo>
                    <a:lnTo>
                      <a:pt x="863" y="90"/>
                    </a:lnTo>
                    <a:lnTo>
                      <a:pt x="855" y="78"/>
                    </a:lnTo>
                    <a:lnTo>
                      <a:pt x="843" y="68"/>
                    </a:lnTo>
                    <a:lnTo>
                      <a:pt x="828" y="58"/>
                    </a:lnTo>
                    <a:lnTo>
                      <a:pt x="810" y="47"/>
                    </a:lnTo>
                    <a:lnTo>
                      <a:pt x="788" y="39"/>
                    </a:lnTo>
                    <a:lnTo>
                      <a:pt x="763" y="31"/>
                    </a:lnTo>
                    <a:lnTo>
                      <a:pt x="734" y="24"/>
                    </a:lnTo>
                    <a:lnTo>
                      <a:pt x="703" y="20"/>
                    </a:lnTo>
                    <a:lnTo>
                      <a:pt x="664" y="20"/>
                    </a:lnTo>
                    <a:lnTo>
                      <a:pt x="615" y="20"/>
                    </a:lnTo>
                    <a:lnTo>
                      <a:pt x="565" y="20"/>
                    </a:lnTo>
                    <a:lnTo>
                      <a:pt x="513" y="24"/>
                    </a:lnTo>
                    <a:lnTo>
                      <a:pt x="464" y="30"/>
                    </a:lnTo>
                    <a:lnTo>
                      <a:pt x="423" y="35"/>
                    </a:lnTo>
                    <a:lnTo>
                      <a:pt x="391" y="40"/>
                    </a:lnTo>
                    <a:lnTo>
                      <a:pt x="401" y="75"/>
                    </a:lnTo>
                    <a:lnTo>
                      <a:pt x="416" y="120"/>
                    </a:lnTo>
                    <a:lnTo>
                      <a:pt x="428" y="172"/>
                    </a:lnTo>
                    <a:lnTo>
                      <a:pt x="439" y="226"/>
                    </a:lnTo>
                    <a:lnTo>
                      <a:pt x="442" y="252"/>
                    </a:lnTo>
                    <a:lnTo>
                      <a:pt x="446" y="278"/>
                    </a:lnTo>
                    <a:lnTo>
                      <a:pt x="448" y="304"/>
                    </a:lnTo>
                    <a:lnTo>
                      <a:pt x="448" y="326"/>
                    </a:lnTo>
                    <a:lnTo>
                      <a:pt x="444" y="347"/>
                    </a:lnTo>
                    <a:lnTo>
                      <a:pt x="441" y="365"/>
                    </a:lnTo>
                    <a:lnTo>
                      <a:pt x="438" y="373"/>
                    </a:lnTo>
                    <a:lnTo>
                      <a:pt x="434" y="380"/>
                    </a:lnTo>
                    <a:lnTo>
                      <a:pt x="430" y="386"/>
                    </a:lnTo>
                    <a:lnTo>
                      <a:pt x="425" y="390"/>
                    </a:lnTo>
                    <a:lnTo>
                      <a:pt x="414" y="399"/>
                    </a:lnTo>
                    <a:lnTo>
                      <a:pt x="401" y="407"/>
                    </a:lnTo>
                    <a:lnTo>
                      <a:pt x="391" y="413"/>
                    </a:lnTo>
                    <a:lnTo>
                      <a:pt x="378" y="418"/>
                    </a:lnTo>
                    <a:lnTo>
                      <a:pt x="366" y="422"/>
                    </a:lnTo>
                    <a:lnTo>
                      <a:pt x="352" y="424"/>
                    </a:lnTo>
                    <a:lnTo>
                      <a:pt x="339" y="426"/>
                    </a:lnTo>
                    <a:lnTo>
                      <a:pt x="326" y="426"/>
                    </a:lnTo>
                    <a:lnTo>
                      <a:pt x="313" y="424"/>
                    </a:lnTo>
                    <a:lnTo>
                      <a:pt x="303" y="422"/>
                    </a:lnTo>
                    <a:lnTo>
                      <a:pt x="290" y="420"/>
                    </a:lnTo>
                    <a:lnTo>
                      <a:pt x="280" y="417"/>
                    </a:lnTo>
                    <a:lnTo>
                      <a:pt x="268" y="411"/>
                    </a:lnTo>
                    <a:lnTo>
                      <a:pt x="258" y="405"/>
                    </a:lnTo>
                    <a:lnTo>
                      <a:pt x="249" y="399"/>
                    </a:lnTo>
                    <a:lnTo>
                      <a:pt x="241" y="390"/>
                    </a:lnTo>
                    <a:lnTo>
                      <a:pt x="229" y="380"/>
                    </a:lnTo>
                    <a:lnTo>
                      <a:pt x="215" y="371"/>
                    </a:lnTo>
                    <a:lnTo>
                      <a:pt x="198" y="365"/>
                    </a:lnTo>
                    <a:lnTo>
                      <a:pt x="178" y="361"/>
                    </a:lnTo>
                    <a:lnTo>
                      <a:pt x="161" y="360"/>
                    </a:lnTo>
                    <a:lnTo>
                      <a:pt x="139" y="360"/>
                    </a:lnTo>
                    <a:lnTo>
                      <a:pt x="119" y="361"/>
                    </a:lnTo>
                    <a:lnTo>
                      <a:pt x="100" y="366"/>
                    </a:lnTo>
                    <a:lnTo>
                      <a:pt x="80" y="373"/>
                    </a:lnTo>
                    <a:lnTo>
                      <a:pt x="62" y="384"/>
                    </a:lnTo>
                    <a:lnTo>
                      <a:pt x="43" y="398"/>
                    </a:lnTo>
                    <a:lnTo>
                      <a:pt x="29" y="413"/>
                    </a:lnTo>
                    <a:lnTo>
                      <a:pt x="24" y="422"/>
                    </a:lnTo>
                    <a:lnTo>
                      <a:pt x="17" y="432"/>
                    </a:lnTo>
                    <a:lnTo>
                      <a:pt x="13" y="443"/>
                    </a:lnTo>
                    <a:lnTo>
                      <a:pt x="8" y="453"/>
                    </a:lnTo>
                    <a:lnTo>
                      <a:pt x="4" y="465"/>
                    </a:lnTo>
                    <a:lnTo>
                      <a:pt x="2" y="479"/>
                    </a:lnTo>
                    <a:lnTo>
                      <a:pt x="0" y="493"/>
                    </a:lnTo>
                    <a:lnTo>
                      <a:pt x="0" y="507"/>
                    </a:lnTo>
                    <a:lnTo>
                      <a:pt x="0" y="519"/>
                    </a:lnTo>
                    <a:lnTo>
                      <a:pt x="2" y="531"/>
                    </a:lnTo>
                    <a:lnTo>
                      <a:pt x="4" y="541"/>
                    </a:lnTo>
                    <a:lnTo>
                      <a:pt x="8" y="552"/>
                    </a:lnTo>
                    <a:lnTo>
                      <a:pt x="11" y="562"/>
                    </a:lnTo>
                    <a:lnTo>
                      <a:pt x="17" y="571"/>
                    </a:lnTo>
                    <a:lnTo>
                      <a:pt x="22" y="580"/>
                    </a:lnTo>
                    <a:lnTo>
                      <a:pt x="29" y="588"/>
                    </a:lnTo>
                    <a:lnTo>
                      <a:pt x="42" y="602"/>
                    </a:lnTo>
                    <a:lnTo>
                      <a:pt x="58" y="615"/>
                    </a:lnTo>
                    <a:lnTo>
                      <a:pt x="76" y="624"/>
                    </a:lnTo>
                    <a:lnTo>
                      <a:pt x="94" y="630"/>
                    </a:lnTo>
                    <a:lnTo>
                      <a:pt x="114" y="635"/>
                    </a:lnTo>
                    <a:lnTo>
                      <a:pt x="131" y="639"/>
                    </a:lnTo>
                    <a:lnTo>
                      <a:pt x="152" y="639"/>
                    </a:lnTo>
                    <a:lnTo>
                      <a:pt x="170" y="637"/>
                    </a:lnTo>
                    <a:lnTo>
                      <a:pt x="186" y="633"/>
                    </a:lnTo>
                    <a:lnTo>
                      <a:pt x="200" y="628"/>
                    </a:lnTo>
                    <a:lnTo>
                      <a:pt x="213" y="620"/>
                    </a:lnTo>
                    <a:lnTo>
                      <a:pt x="221" y="611"/>
                    </a:lnTo>
                    <a:lnTo>
                      <a:pt x="231" y="602"/>
                    </a:lnTo>
                    <a:lnTo>
                      <a:pt x="241" y="596"/>
                    </a:lnTo>
                    <a:lnTo>
                      <a:pt x="254" y="590"/>
                    </a:lnTo>
                    <a:lnTo>
                      <a:pt x="266" y="587"/>
                    </a:lnTo>
                    <a:lnTo>
                      <a:pt x="281" y="587"/>
                    </a:lnTo>
                    <a:lnTo>
                      <a:pt x="295" y="587"/>
                    </a:lnTo>
                    <a:lnTo>
                      <a:pt x="307" y="590"/>
                    </a:lnTo>
                    <a:lnTo>
                      <a:pt x="322" y="594"/>
                    </a:lnTo>
                    <a:lnTo>
                      <a:pt x="337" y="599"/>
                    </a:lnTo>
                    <a:lnTo>
                      <a:pt x="350" y="606"/>
                    </a:lnTo>
                    <a:lnTo>
                      <a:pt x="360" y="613"/>
                    </a:lnTo>
                    <a:lnTo>
                      <a:pt x="371" y="622"/>
                    </a:lnTo>
                    <a:lnTo>
                      <a:pt x="378" y="632"/>
                    </a:lnTo>
                    <a:lnTo>
                      <a:pt x="385" y="643"/>
                    </a:lnTo>
                    <a:lnTo>
                      <a:pt x="389" y="653"/>
                    </a:lnTo>
                    <a:lnTo>
                      <a:pt x="391" y="663"/>
                    </a:lnTo>
                    <a:lnTo>
                      <a:pt x="389" y="692"/>
                    </a:lnTo>
                    <a:lnTo>
                      <a:pt x="385" y="729"/>
                    </a:lnTo>
                    <a:lnTo>
                      <a:pt x="382" y="775"/>
                    </a:lnTo>
                    <a:lnTo>
                      <a:pt x="380" y="821"/>
                    </a:lnTo>
                    <a:lnTo>
                      <a:pt x="378" y="871"/>
                    </a:lnTo>
                    <a:lnTo>
                      <a:pt x="378" y="922"/>
                    </a:lnTo>
                    <a:lnTo>
                      <a:pt x="380" y="946"/>
                    </a:lnTo>
                    <a:lnTo>
                      <a:pt x="382" y="969"/>
                    </a:lnTo>
                    <a:lnTo>
                      <a:pt x="385" y="991"/>
                    </a:lnTo>
                    <a:lnTo>
                      <a:pt x="391" y="1011"/>
                    </a:lnTo>
                    <a:lnTo>
                      <a:pt x="401" y="1015"/>
                    </a:lnTo>
                    <a:lnTo>
                      <a:pt x="417" y="1019"/>
                    </a:lnTo>
                    <a:lnTo>
                      <a:pt x="436" y="1022"/>
                    </a:lnTo>
                    <a:lnTo>
                      <a:pt x="454" y="1024"/>
                    </a:lnTo>
                    <a:lnTo>
                      <a:pt x="501" y="1024"/>
                    </a:lnTo>
                    <a:lnTo>
                      <a:pt x="550" y="1022"/>
                    </a:lnTo>
                    <a:lnTo>
                      <a:pt x="606" y="1019"/>
                    </a:lnTo>
                    <a:lnTo>
                      <a:pt x="664" y="1015"/>
                    </a:lnTo>
                    <a:lnTo>
                      <a:pt x="722" y="1012"/>
                    </a:lnTo>
                    <a:lnTo>
                      <a:pt x="777" y="1011"/>
                    </a:lnTo>
                    <a:close/>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a:off x="3388320" y="2576520"/>
              <a:ext cx="87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YSTEM</a:t>
              </a: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1 -SHORT TERM</a:t>
            </a:r>
            <a:endParaRPr b="1" lang="en-US" sz="3000" spc="-1" strike="noStrike">
              <a:solidFill>
                <a:srgbClr val="7bc623"/>
              </a:solidFill>
              <a:latin typeface="Verdana"/>
            </a:endParaRPr>
          </a:p>
        </p:txBody>
      </p:sp>
      <p:sp>
        <p:nvSpPr>
          <p:cNvPr id="292" name="PlaceHolder 2"/>
          <p:cNvSpPr>
            <a:spLocks noGrp="1"/>
          </p:cNvSpPr>
          <p:nvPr>
            <p:ph/>
          </p:nvPr>
        </p:nvSpPr>
        <p:spPr>
          <a:xfrm>
            <a:off x="1747440" y="1692360"/>
            <a:ext cx="7396200" cy="24192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Available solutions to specific problems</a:t>
            </a: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Taking advantage of the European dimension</a:t>
            </a:r>
            <a:endParaRPr b="1" lang="en-US" sz="2400" spc="-1" strike="noStrike">
              <a:solidFill>
                <a:srgbClr val="c0022b"/>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Based on case studies</a:t>
            </a:r>
            <a:endParaRPr b="1" lang="en-US" sz="2400" spc="-1" strike="noStrike">
              <a:solidFill>
                <a:srgbClr val="c0022b"/>
              </a:solidFill>
              <a:latin typeface="Arial"/>
            </a:endParaRPr>
          </a:p>
        </p:txBody>
      </p:sp>
      <p:grpSp>
        <p:nvGrpSpPr>
          <p:cNvPr id="293" name=""/>
          <p:cNvGrpSpPr/>
          <p:nvPr/>
        </p:nvGrpSpPr>
        <p:grpSpPr>
          <a:xfrm>
            <a:off x="155160" y="3443400"/>
            <a:ext cx="8841240" cy="792000"/>
            <a:chOff x="155160" y="3443400"/>
            <a:chExt cx="8841240" cy="792000"/>
          </a:xfrm>
        </p:grpSpPr>
        <p:sp>
          <p:nvSpPr>
            <p:cNvPr id="294" name=""/>
            <p:cNvSpPr/>
            <p:nvPr/>
          </p:nvSpPr>
          <p:spPr>
            <a:xfrm>
              <a:off x="1023840" y="3443400"/>
              <a:ext cx="1224000" cy="7920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MATO</a:t>
              </a:r>
              <a:endParaRPr b="0" lang="en-US" sz="2000" spc="-1" strike="noStrike">
                <a:solidFill>
                  <a:srgbClr val="000000"/>
                </a:solidFill>
                <a:latin typeface="Arial"/>
              </a:endParaRPr>
            </a:p>
          </p:txBody>
        </p:sp>
        <p:sp>
          <p:nvSpPr>
            <p:cNvPr id="295" name=""/>
            <p:cNvSpPr/>
            <p:nvPr/>
          </p:nvSpPr>
          <p:spPr>
            <a:xfrm>
              <a:off x="2633760" y="3443400"/>
              <a:ext cx="1224000" cy="7920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AT</a:t>
              </a:r>
              <a:endParaRPr b="0" lang="en-US" sz="2000" spc="-1" strike="noStrike">
                <a:solidFill>
                  <a:srgbClr val="000000"/>
                </a:solidFill>
                <a:latin typeface="Arial"/>
              </a:endParaRPr>
            </a:p>
          </p:txBody>
        </p:sp>
        <p:sp>
          <p:nvSpPr>
            <p:cNvPr id="296" name=""/>
            <p:cNvSpPr/>
            <p:nvPr/>
          </p:nvSpPr>
          <p:spPr>
            <a:xfrm>
              <a:off x="4219560" y="3443400"/>
              <a:ext cx="1224000" cy="7920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WM</a:t>
              </a:r>
              <a:endParaRPr b="0" lang="en-US" sz="2000" spc="-1" strike="noStrike">
                <a:solidFill>
                  <a:srgbClr val="000000"/>
                </a:solidFill>
                <a:latin typeface="Arial"/>
              </a:endParaRPr>
            </a:p>
          </p:txBody>
        </p:sp>
        <p:sp>
          <p:nvSpPr>
            <p:cNvPr id="297" name=""/>
            <p:cNvSpPr/>
            <p:nvPr/>
          </p:nvSpPr>
          <p:spPr>
            <a:xfrm>
              <a:off x="5838840" y="3443400"/>
              <a:ext cx="1224000" cy="7920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ATO</a:t>
              </a:r>
              <a:endParaRPr b="0" lang="en-US" sz="2000" spc="-1" strike="noStrike">
                <a:solidFill>
                  <a:srgbClr val="000000"/>
                </a:solidFill>
                <a:latin typeface="Arial"/>
              </a:endParaRPr>
            </a:p>
          </p:txBody>
        </p:sp>
        <p:sp>
          <p:nvSpPr>
            <p:cNvPr id="298" name=""/>
            <p:cNvSpPr/>
            <p:nvPr/>
          </p:nvSpPr>
          <p:spPr>
            <a:xfrm>
              <a:off x="7454880" y="3443400"/>
              <a:ext cx="1541520" cy="7920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MEFRUIT</a:t>
              </a:r>
              <a:endParaRPr b="0" lang="en-US" sz="2000" spc="-1" strike="noStrike">
                <a:solidFill>
                  <a:srgbClr val="000000"/>
                </a:solidFill>
                <a:latin typeface="Arial"/>
              </a:endParaRPr>
            </a:p>
          </p:txBody>
        </p:sp>
        <p:sp>
          <p:nvSpPr>
            <p:cNvPr id="299" name=""/>
            <p:cNvSpPr/>
            <p:nvPr/>
          </p:nvSpPr>
          <p:spPr>
            <a:xfrm>
              <a:off x="155160" y="3517920"/>
              <a:ext cx="68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grpSp>
      <p:grpSp>
        <p:nvGrpSpPr>
          <p:cNvPr id="300" name=""/>
          <p:cNvGrpSpPr/>
          <p:nvPr/>
        </p:nvGrpSpPr>
        <p:grpSpPr>
          <a:xfrm>
            <a:off x="3158640" y="4465800"/>
            <a:ext cx="5837760" cy="792000"/>
            <a:chOff x="3158640" y="4465800"/>
            <a:chExt cx="5837760" cy="792000"/>
          </a:xfrm>
        </p:grpSpPr>
        <p:sp>
          <p:nvSpPr>
            <p:cNvPr id="301" name=""/>
            <p:cNvSpPr/>
            <p:nvPr/>
          </p:nvSpPr>
          <p:spPr>
            <a:xfrm>
              <a:off x="4208400" y="4465800"/>
              <a:ext cx="1224000" cy="792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ZE</a:t>
              </a:r>
              <a:endParaRPr b="0" lang="en-US" sz="2000" spc="-1" strike="noStrike">
                <a:solidFill>
                  <a:srgbClr val="000000"/>
                </a:solidFill>
                <a:latin typeface="Arial"/>
              </a:endParaRPr>
            </a:p>
          </p:txBody>
        </p:sp>
        <p:sp>
          <p:nvSpPr>
            <p:cNvPr id="302" name=""/>
            <p:cNvSpPr/>
            <p:nvPr/>
          </p:nvSpPr>
          <p:spPr>
            <a:xfrm>
              <a:off x="5838840" y="4465800"/>
              <a:ext cx="1224000" cy="792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ANA</a:t>
              </a:r>
              <a:endParaRPr b="0" lang="en-US" sz="2000" spc="-1" strike="noStrike">
                <a:solidFill>
                  <a:srgbClr val="000000"/>
                </a:solidFill>
                <a:latin typeface="Arial"/>
              </a:endParaRPr>
            </a:p>
          </p:txBody>
        </p:sp>
        <p:sp>
          <p:nvSpPr>
            <p:cNvPr id="303" name=""/>
            <p:cNvSpPr/>
            <p:nvPr/>
          </p:nvSpPr>
          <p:spPr>
            <a:xfrm>
              <a:off x="7454880" y="4465800"/>
              <a:ext cx="1541520" cy="792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GETABLES</a:t>
              </a:r>
              <a:endParaRPr b="0" lang="en-US" sz="2000" spc="-1" strike="noStrike">
                <a:solidFill>
                  <a:srgbClr val="000000"/>
                </a:solidFill>
                <a:latin typeface="Arial"/>
              </a:endParaRPr>
            </a:p>
          </p:txBody>
        </p:sp>
        <p:sp>
          <p:nvSpPr>
            <p:cNvPr id="304" name=""/>
            <p:cNvSpPr/>
            <p:nvPr/>
          </p:nvSpPr>
          <p:spPr>
            <a:xfrm>
              <a:off x="3158640" y="4541760"/>
              <a:ext cx="68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9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2 – SYSTEM</a:t>
            </a:r>
            <a:endParaRPr b="1" lang="en-US" sz="3000" spc="-1" strike="noStrike">
              <a:solidFill>
                <a:srgbClr val="7bc623"/>
              </a:solidFill>
              <a:latin typeface="Verdana"/>
            </a:endParaRPr>
          </a:p>
        </p:txBody>
      </p:sp>
      <p:sp>
        <p:nvSpPr>
          <p:cNvPr id="306" name="PlaceHolder 2"/>
          <p:cNvSpPr>
            <a:spLocks noGrp="1"/>
          </p:cNvSpPr>
          <p:nvPr>
            <p:ph/>
          </p:nvPr>
        </p:nvSpPr>
        <p:spPr>
          <a:xfrm>
            <a:off x="1424160" y="1268280"/>
            <a:ext cx="7262640" cy="356256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Consider pests altogether</a:t>
            </a:r>
            <a:endParaRPr b="1" lang="en-US" sz="2400" spc="-1" strike="noStrike">
              <a:solidFill>
                <a:srgbClr val="c0022b"/>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Combine methods with partial effects</a:t>
            </a:r>
            <a:endParaRPr b="1" lang="en-US" sz="2400" spc="-1" strike="noStrike">
              <a:solidFill>
                <a:srgbClr val="c0022b"/>
              </a:solidFill>
              <a:latin typeface="Arial"/>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Elaborate strategies at large time and space scales</a:t>
            </a:r>
            <a:endParaRPr b="1" lang="en-US" sz="2400" spc="-1" strike="noStrike">
              <a:solidFill>
                <a:srgbClr val="c0022b"/>
              </a:solidFill>
              <a:latin typeface="Arial"/>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Consider interactions between crop protection, agronomy, ecological, landscape factors…</a:t>
            </a:r>
            <a:endParaRPr b="1" lang="en-US" sz="2400" spc="-1" strike="noStrike">
              <a:solidFill>
                <a:srgbClr val="c0022b"/>
              </a:solidFill>
              <a:latin typeface="Arial"/>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and </a:t>
            </a:r>
            <a:r>
              <a:rPr b="1" lang="en-GB" sz="2400" spc="-1" strike="noStrike">
                <a:solidFill>
                  <a:srgbClr val="c0022b"/>
                </a:solidFill>
                <a:latin typeface="Arial"/>
              </a:rPr>
              <a:t>the socio-economic framework</a:t>
            </a:r>
            <a:r>
              <a:rPr b="1" lang="fr-FR" sz="2400" spc="-1" strike="noStrike">
                <a:solidFill>
                  <a:srgbClr val="c0022b"/>
                </a:solidFill>
                <a:latin typeface="Arial"/>
              </a:rPr>
              <a:t> </a:t>
            </a:r>
            <a:endParaRPr b="1" lang="en-US" sz="2400" spc="-1" strike="noStrike">
              <a:solidFill>
                <a:srgbClr val="c0022b"/>
              </a:solidFill>
              <a:latin typeface="Arial"/>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Based on « system case studies »</a:t>
            </a:r>
            <a:endParaRPr b="1" lang="en-US" sz="2400" spc="-1" strike="noStrike">
              <a:solidFill>
                <a:srgbClr val="c0022b"/>
              </a:solidFill>
              <a:latin typeface="Arial"/>
            </a:endParaRPr>
          </a:p>
        </p:txBody>
      </p:sp>
      <p:grpSp>
        <p:nvGrpSpPr>
          <p:cNvPr id="307" name=""/>
          <p:cNvGrpSpPr/>
          <p:nvPr/>
        </p:nvGrpSpPr>
        <p:grpSpPr>
          <a:xfrm>
            <a:off x="879480" y="5040360"/>
            <a:ext cx="7245360" cy="793800"/>
            <a:chOff x="879480" y="5040360"/>
            <a:chExt cx="7245360" cy="793800"/>
          </a:xfrm>
        </p:grpSpPr>
        <p:sp>
          <p:nvSpPr>
            <p:cNvPr id="308" name=""/>
            <p:cNvSpPr/>
            <p:nvPr/>
          </p:nvSpPr>
          <p:spPr>
            <a:xfrm>
              <a:off x="4575240" y="5042160"/>
              <a:ext cx="3549600" cy="79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RCHAR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pace scale)</a:t>
              </a:r>
              <a:endParaRPr b="0" lang="en-US" sz="2000" spc="-1" strike="noStrike">
                <a:solidFill>
                  <a:srgbClr val="000000"/>
                </a:solidFill>
                <a:latin typeface="Arial"/>
              </a:endParaRPr>
            </a:p>
          </p:txBody>
        </p:sp>
        <p:sp>
          <p:nvSpPr>
            <p:cNvPr id="309" name=""/>
            <p:cNvSpPr/>
            <p:nvPr/>
          </p:nvSpPr>
          <p:spPr>
            <a:xfrm>
              <a:off x="879480" y="5040360"/>
              <a:ext cx="3549600" cy="792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RABLE CROP ROT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ime scale)</a:t>
              </a:r>
              <a:endParaRPr b="0" lang="en-US" sz="2000" spc="-1" strike="noStrike">
                <a:solidFill>
                  <a:srgbClr val="000000"/>
                </a:solidFill>
                <a:latin typeface="Arial"/>
              </a:endParaRPr>
            </a:p>
          </p:txBody>
        </p:sp>
      </p:gr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06">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3 – RESEARCH COMMUNITY</a:t>
            </a:r>
            <a:endParaRPr b="1" lang="en-US" sz="3000" spc="-1" strike="noStrike">
              <a:solidFill>
                <a:srgbClr val="7bc623"/>
              </a:solidFill>
              <a:latin typeface="Verdana"/>
            </a:endParaRPr>
          </a:p>
        </p:txBody>
      </p:sp>
      <p:sp>
        <p:nvSpPr>
          <p:cNvPr id="311" name=""/>
          <p:cNvSpPr/>
          <p:nvPr/>
        </p:nvSpPr>
        <p:spPr>
          <a:xfrm>
            <a:off x="1424160" y="1268280"/>
            <a:ext cx="7262640" cy="518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Build an integrated and sustainable research community</a:t>
            </a:r>
            <a:endParaRPr b="0" lang="en-US" sz="2000" spc="-1" strike="noStrike">
              <a:solidFill>
                <a:srgbClr val="000000"/>
              </a:solidFill>
              <a:latin typeface="Arial"/>
            </a:endParaRPr>
          </a:p>
          <a:p>
            <a:pPr marL="339480" indent="-3394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Supported by research tools built by the Network: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Virtual Laboratory (Infrastructure of the Network)</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uman Ressource Exchange (to promote knowledge exchang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rop Protection Network (to interact with other projects and network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dure-Information Centre (</a:t>
            </a:r>
            <a:r>
              <a:rPr b="0" lang="en-GB" sz="2000" spc="-1" strike="noStrike">
                <a:solidFill>
                  <a:srgbClr val="000000"/>
                </a:solidFill>
                <a:latin typeface="Arial"/>
              </a:rPr>
              <a:t>a European-level point of reference for recommendations and advice</a:t>
            </a:r>
            <a:r>
              <a:rPr b="0" lang="fr-FR"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Also supported by </a:t>
            </a:r>
            <a:r>
              <a:rPr b="1" lang="en-GB" sz="2000" spc="-1" strike="noStrike">
                <a:solidFill>
                  <a:srgbClr val="c0022b"/>
                </a:solidFill>
                <a:latin typeface="Arial"/>
              </a:rPr>
              <a:t>a common Research Agenda among Partners, identifying gaps in current knowledge and harmonising research programmes to cover unaddressed issu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research priorities are being defined through a foresight study examining how European crop protection might shape up in 2030</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11">
                                            <p:txEl>
                                              <p:pRg st="1" end="1"/>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11">
                                            <p:txEl>
                                              <p:pRg st="2" end="2"/>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11">
                                            <p:txEl>
                                              <p:pRg st="3" end="3"/>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11">
                                            <p:txEl>
                                              <p:pRg st="4" end="4"/>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11">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1">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8T19:39:40Z</dcterms:created>
  <dc:creator>Vincent TROILLARD</dc:creator>
  <dc:description/>
  <dc:language>en-US</dc:language>
  <cp:lastModifiedBy>Vincent TROILLARD</cp:lastModifiedBy>
  <dcterms:modified xsi:type="dcterms:W3CDTF">2008-06-11T08:52:21Z</dcterms:modified>
  <cp:revision>74</cp:revision>
  <dc:subject/>
  <dc:title>Reporting, Deliverables</dc:title>
</cp:coreProperties>
</file>